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C8DC-6357-4897-B9C4-A95F2C5640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F8B7-AE00-416A-84F5-14A1925438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95D-789A-4DB9-ACE1-B99F8A41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B1E2-50E8-4DF1-90DD-388EF4DD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FA8-8BDB-46F2-AB37-7B3EAC04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2B90-E72F-44B6-9881-26B0E72C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6114-2657-4E66-BB1D-DC5453FB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48B4-2AC4-40A4-A468-F079EDCD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6E8F-D666-42EE-BAF1-F7164AA8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C767-E8FF-4B07-BBC6-87D24F99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C8CC-E93A-41C8-B8B1-8FEE9A21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5C84-0C3E-47C2-B68F-228FF636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87B7-59E1-4B54-B72A-FEE4EF55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EE5-DC13-4127-9DFD-49F301E0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D2AE-0AB5-4BA6-91AC-3D46E576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988F-2647-4AD7-B6D5-EA0C490F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2F85-D887-494C-96A5-B7345F7F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5B63-6339-48BC-8B70-156CA0F9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4A68-2496-4E2A-8D8F-AF828DE1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F3AD-C9E0-4C86-9E20-134AA9F1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369A-8BA8-4C12-8241-521867D0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D38F-F169-455B-BA97-F225714A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CE7E-48C5-46BD-A247-093305BD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B25-62E9-41E5-B0F0-E5FCD12E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C3C0-EA44-46C5-9378-E6C84AC5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A1DD-386E-457D-92EE-94354C05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1653-4E48-4417-B1F0-6E7400999B1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31CE-9B18-449B-AA2C-BD7C842A035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27376-2560x1600"/>
          <p:cNvPicPr/>
          <p:nvPr/>
        </p:nvPicPr>
        <p:blipFill>
          <a:blip r:embed="rId1"/>
          <a:stretch/>
        </p:blipFill>
        <p:spPr>
          <a:xfrm>
            <a:off x="395280" y="404640"/>
            <a:ext cx="8458200" cy="60962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Arial"/>
              </a:rPr>
              <a:t>Путешествие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Arial"/>
              </a:rPr>
              <a:t>в осенний лес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435640" y="4653000"/>
            <a:ext cx="3168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оспитатель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ондарева Е. С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37000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1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424720" cy="5748120"/>
          </a:xfrm>
          <a:prstGeom prst="rect">
            <a:avLst/>
          </a:prstGeom>
          <a:ln w="0">
            <a:noFill/>
          </a:ln>
        </p:spPr>
      </p:pic>
      <p:sp>
        <p:nvSpPr>
          <p:cNvPr id="189" name="TextBox 2"/>
          <p:cNvSpPr/>
          <p:nvPr/>
        </p:nvSpPr>
        <p:spPr>
          <a:xfrm>
            <a:off x="2627280" y="18900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кажи ласков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97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3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853480" cy="6554880"/>
          </a:xfrm>
          <a:prstGeom prst="rect">
            <a:avLst/>
          </a:prstGeom>
          <a:ln w="0">
            <a:noFill/>
          </a:ln>
        </p:spPr>
      </p:pic>
      <p:sp>
        <p:nvSpPr>
          <p:cNvPr id="191" name="TextBox 4"/>
          <p:cNvSpPr/>
          <p:nvPr/>
        </p:nvSpPr>
        <p:spPr>
          <a:xfrm>
            <a:off x="468360" y="422100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листики осенни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ветках мы сидел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нул ветер- полетел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на землю тихо сел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Box 5"/>
          <p:cNvSpPr/>
          <p:nvPr/>
        </p:nvSpPr>
        <p:spPr>
          <a:xfrm>
            <a:off x="3059280" y="5299200"/>
            <a:ext cx="244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тер снова побежал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листочки все поднял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ружились, полетел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на землю тихо сел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97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Рисунок 1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569080" cy="66708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2"/>
          <p:cNvSpPr/>
          <p:nvPr/>
        </p:nvSpPr>
        <p:spPr>
          <a:xfrm>
            <a:off x="1387440" y="69228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Спасибо за внимание!!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97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5" descr="32529-2560x1600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3564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3" descr=""/>
          <p:cNvPicPr/>
          <p:nvPr/>
        </p:nvPicPr>
        <p:blipFill>
          <a:blip r:embed="rId1"/>
          <a:stretch/>
        </p:blipFill>
        <p:spPr>
          <a:xfrm>
            <a:off x="7920" y="23760"/>
            <a:ext cx="4276800" cy="43941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4" descr=""/>
          <p:cNvPicPr/>
          <p:nvPr/>
        </p:nvPicPr>
        <p:blipFill>
          <a:blip r:embed="rId2"/>
          <a:stretch/>
        </p:blipFill>
        <p:spPr>
          <a:xfrm>
            <a:off x="4427640" y="2117880"/>
            <a:ext cx="4716360" cy="4740120"/>
          </a:xfrm>
          <a:prstGeom prst="rect">
            <a:avLst/>
          </a:prstGeom>
          <a:ln w="0">
            <a:noFill/>
          </a:ln>
        </p:spPr>
      </p:pic>
    </p:spTree>
  </p:cSld>
  <p:transition spd="slow" advTm="97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4" descr="654206036"/>
          <p:cNvPicPr/>
          <p:nvPr/>
        </p:nvPicPr>
        <p:blipFill>
          <a:blip r:embed="rId1"/>
          <a:stretch/>
        </p:blipFill>
        <p:spPr>
          <a:xfrm>
            <a:off x="324000" y="260280"/>
            <a:ext cx="8389800" cy="619128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4" descr="88509_zlota_jesien_zolte_drzewa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927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Объект 3" descr=""/>
          <p:cNvPicPr/>
          <p:nvPr/>
        </p:nvPicPr>
        <p:blipFill>
          <a:blip r:embed="rId1"/>
          <a:stretch/>
        </p:blipFill>
        <p:spPr>
          <a:xfrm>
            <a:off x="322200" y="115920"/>
            <a:ext cx="8642520" cy="50562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179280" y="517212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ень наступил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ожд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енью часто идет дожд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сле дождя появляется много гриб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32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77440" cy="6507000"/>
          </a:xfrm>
          <a:prstGeom prst="rect">
            <a:avLst/>
          </a:prstGeom>
          <a:ln w="0">
            <a:noFill/>
          </a:ln>
        </p:spPr>
      </p:pic>
    </p:spTree>
  </p:cSld>
  <p:transition spd="slow" advTm="97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оставь слово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4" name="Рисунок 4" descr=""/>
          <p:cNvPicPr/>
          <p:nvPr/>
        </p:nvPicPr>
        <p:blipFill>
          <a:blip r:embed="rId1"/>
          <a:stretch/>
        </p:blipFill>
        <p:spPr>
          <a:xfrm>
            <a:off x="438120" y="1049400"/>
            <a:ext cx="8064360" cy="5040360"/>
          </a:xfrm>
          <a:prstGeom prst="rect">
            <a:avLst/>
          </a:prstGeom>
          <a:ln w="0">
            <a:noFill/>
          </a:ln>
        </p:spPr>
      </p:pic>
      <p:pic>
        <p:nvPicPr>
          <p:cNvPr id="185" name="12. Серебряный поток.mp3" descr=""/>
          <p:cNvPicPr/>
          <p:nvPr/>
        </p:nvPicPr>
        <p:blipFill>
          <a:blip r:embed="rId2"/>
          <a:stretch/>
        </p:blipFill>
        <p:spPr>
          <a:xfrm>
            <a:off x="162000" y="1587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97000">
    <p:split dir="out" orient="vert"/>
  </p:transition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2852640" y="3486240"/>
            <a:ext cx="2475000" cy="24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59259E-006 L 0.00173 -0.56343 E">
                                      <p:cBhvr>
                                        <p:cTn id="26" dur="3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3 -0.56343 L 0.00173 -0.00695 E">
                                      <p:cBhvr>
                                        <p:cTn id="29" dur="3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5.55556E-006 L -6.11111E-006 -0.55649 E">
                                      <p:cBhvr>
                                        <p:cTn id="32" dur="3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3 -0.56343 L 0.00173 -0.00695 E">
                                      <p:cBhvr>
                                        <p:cTn id="35" dur="3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04:37:36Z</dcterms:created>
  <dc:creator>учитель</dc:creator>
  <dc:description/>
  <dc:language>en-US</dc:language>
  <cp:lastModifiedBy>Пользователь Windows</cp:lastModifiedBy>
  <dcterms:modified xsi:type="dcterms:W3CDTF">2017-03-15T07:11:19Z</dcterms:modified>
  <cp:revision>29</cp:revision>
  <dc:subject/>
  <dc:title>Слайд 1</dc:title>
</cp:coreProperties>
</file>