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57B-5D1B-43E8-ACD1-2A0B7729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B62-0B03-4D5C-827E-0D706CD4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90A51-7DB7-4109-9087-900D6669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6F454-2BAA-452D-9FB9-6B55C8B2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B60B5-2278-47A1-A46B-91C67A70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612AA-5A48-44E4-9985-9F6AEBD5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91FAF-74D1-4924-948D-6189B2CD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275E5-0D11-4E7F-BFA6-5D3417A0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9CFC2-BCBF-4511-9BE9-A98B0CB5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60425-01EA-41DE-8FA1-2398FDF9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04E70-6A28-462C-BA75-3F3E171F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B2149-56D9-481C-BE63-404A898C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BE0C-4FEE-421A-8B9C-FFB58D98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83911-1B8A-43BA-AA01-7C336DF3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06DBA-26FE-49B2-88BA-53D7A6C2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5DBE3-3F63-42FC-AE32-D23CE067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05CB6-4918-41DE-9A26-09786CC6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59D82-9C18-4289-89AA-873292EF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711BF-4F1D-4869-A598-9B7BA608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EF7BD-B3A1-4F47-8887-D47C9D58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05B19-E555-429A-8C0C-FD60B44F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7A6D3-1348-4801-9A8C-A53C13B7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27D00-9EC2-4EAC-BA1C-FF330D9A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DCAA-ECA8-4520-8F45-1D022C9E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1D134-6D97-49E0-99E5-D6C10FB6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CAC84-97E4-4FC1-8D9B-8CF561B8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3D4B0-6927-415A-A816-C009F471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AD36F-E01E-47B4-B2B0-BE0BF21A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2EA0E-76CD-4007-BDA6-0D7B9709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EE1E2-EE2B-436A-82B4-37C53EE9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35CD8-4E48-4777-A58B-664B0FD6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1CD5E-9F43-4C2E-BC4B-E52F5B42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9C392-0734-46D8-B928-3DF118DC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9810F-6AAC-48BB-AF75-47C07580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8241-DC01-4DD8-AA70-91E8C00E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F241A-28DA-471E-AE4C-0A57815E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BFFAC-B259-48DD-9E7B-08DAF18E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5344A-8AE9-44B0-8862-2FBF6BD3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3FB25-46D6-47A9-B78C-6DB85675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83E90-21FF-4214-B955-CB1E8A71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BC947-B791-468E-B093-39A3FE35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22009-7D35-4A3F-87B0-A341B731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CEDFE-2668-44D3-92EB-0711F127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A8996-23CB-4CB9-BC6A-98F34485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1A11C-7194-491D-8919-71ED1D3B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EFE4-C488-4E1B-9657-A0A1C1F1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BC5E6-040A-4195-9972-FF082CD9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E5E1B-85CC-4E01-88B7-BB7F837C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7DD68-4E32-4D3A-BA82-66D58618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22D9E-3BDF-472E-894E-9448BD0A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0FA54-33AA-494C-B20D-40700F39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2455FB-BEF8-4711-89DC-F76C5967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A4CBCD-77D2-4AD9-B68F-A304C1AF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93E7D5-41BC-4C92-92DE-151B9690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039171-20AF-4578-AAAE-B43D6D2C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AB3D29-AB50-4D83-B914-2CB8C870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943D-58FD-44F6-B658-DE3A3CCC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CE768-625A-4867-A7C0-061FD1DB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3C88C4-A57C-4B13-8C0F-AB8DCDD2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0F859-5AEA-43E4-97FA-7DAD1891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5C9CCE-6011-4E3F-912C-5C66395C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361BE4-3D89-4B40-8EFE-8673E0DF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7ADB8F-E59E-4335-857F-23982C5A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C40734-F594-424B-9081-0EB42E6D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010168-B3E5-48DC-81F2-4F559441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71F739-5B90-4CDE-9F1F-FC3CAE08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1AC84D-9098-4F5F-B44D-41429099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B0AE-8491-44B4-933A-453EDA87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118F45-60E7-4851-88BF-158B723C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886F15-9133-42A3-8064-AAD1E2C8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4CD326-286F-4E2A-A3E3-E7CD523A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21A0F0-8030-41D8-A1D4-4D765685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21BF06-526B-4A5C-9BD9-85555321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9F33D4-46F9-49C9-86E6-19D95645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BEDA8E-04B7-4595-81B2-D3704497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4F694C-5419-4413-84F0-928821B6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0E326E-CCB7-46F5-939D-C3301EE0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C35A-41E3-4DF0-B94B-8448B3D9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6D6E-B1C0-4453-8138-BCDAA9E4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2A87-2144-4509-8FBB-7BEF7A9B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E261-03F4-4091-9D9E-824F6C49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7D8F-392B-4C47-9CDE-1C5A9456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B63F-4F4A-4E55-B6D8-E7C37305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E517-206C-4295-B737-C946D8A4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6A68-688B-4CC8-B2F7-8B5A1608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4834-C153-4A19-9936-B5BEBB8E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DF419-3A52-4100-A1F3-4C16DB41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28AB2-61B3-4C70-A6F0-8B6092B9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5B91E-9AA6-44D8-B179-6C32056A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0FE76-50A7-4DB7-96AC-D046254D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FCFD7-41CB-4B46-B99A-937CBAAD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E9D1-ECDD-4787-B9C3-5D293540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C0539-3027-40DB-9F21-59DADAA5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ABAC7-4F3A-4481-94D3-F0A19EE9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7F5BA-B828-4D1A-A0E2-F3AF44FD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1E104-C93F-4A19-AA23-C86716C1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31F34-E7FF-4CD4-8069-A9D9C6D0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F52CF-38C7-4EC6-82AE-B712C820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78E80-38F1-426A-A9BE-188315B2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8FF09-FCC8-4FBF-843E-44A8CFC8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20A3D-7FEF-4625-A48A-E52E994E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2522D-5825-49D5-A927-39E3844C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7917-361F-4260-BAF9-8D80E41B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7F893-361D-40AF-937B-D10995E1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495D7-D29D-4B5B-A1B8-9E619093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728ED-6F26-4AE8-81C4-F2A36108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E7AAC-3B63-490D-9D20-51147607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0B82D-3347-4F3B-AD91-1B578B22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D7CCB-2759-4A56-B1A2-90A5FC35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16845-B20F-40FC-A844-694D4A35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F08E8-DFC0-48BA-A92B-3FF77D73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7B4B5-6FFB-41E4-B676-909D1AEC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A0F9B-87BA-4149-91A5-5E69FDAF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65D5-317F-491E-8585-1D09D21F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D6AAF-CF23-4474-9005-0440A962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5620D-C0A3-40CD-A93C-E25DB940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1A660-77E6-4661-8D73-1C4F52A9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1D6BC-8868-42C4-B87F-5B6FDE17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B3123-873E-41DC-AFF6-5C447992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AF9D2-000F-4BA2-87B7-96340CF6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DFD13-50FF-4FFA-9A16-24311A16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BDE9B-67C6-456A-970C-4939226D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4CF06-1FA6-4E80-91AE-7AA4E8E7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A554E-CD6E-4F56-A882-EADFB70A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8F54-791C-483C-AD4B-BD6E7952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DB94A-FB35-40D6-A982-0421AEC8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36490-CE02-4408-A701-7C1B1C9D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77317-1676-41A7-A04C-6773C85F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BEB26-6D30-420E-B500-85F3DF73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47EF8-6FFB-4016-BFA9-679F20EA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8D93F-B3A6-4CF0-86BC-D2BAF9F0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AF20E-4DAB-4B52-8FAA-AD9D513C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42BEB-3198-4714-8075-5BF31BC9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5F1F6-8143-4CCA-8FBF-B00AE76C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33D23-0A8B-4299-B781-880F8DE0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4119-5871-4949-A6ED-D1951795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3ED6C-3298-478B-9B5A-4005BE79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34F9E-7EEE-478D-8862-9EC0A366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62424-0EFE-46EA-8198-67233D13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92FC3-B9BD-49BA-9FD8-12CDDC60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EBF3E-BA4F-4B94-B31E-544C0432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874A3-EAB7-45AB-B2D9-3A61BF22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AF43B-6136-40F6-AF5C-09F57A9B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E85D5-6315-4E97-B17C-247DDDFA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87B54-AFBE-4D75-9D12-8D450770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5969F-AE31-4B93-B64A-5912C705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0660-5C3D-4A6C-BA02-983B2C08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958E6-39E7-4E64-A287-6DF768A6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6BCBF-DB77-4E59-B20A-E7107167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BB7BB-8ECF-4E52-878D-2C5E6575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13277-B6F6-4D4C-82D6-A02F9F68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E407A-67FD-4FE4-B917-2897809A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E9C0E-C53A-4EAE-97F2-EBC705AA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0C090-187E-4DA2-96C7-7DB5A2E5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D95C6-B518-4035-862A-E2884CC8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9D017-E584-44B7-B12C-580AC971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FE9A6-B7C1-4E8C-9163-F52CD186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7A90-D7BD-42E1-9681-E9D3ED66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79331-72CE-46B3-B1B0-71C42E08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F193A-54EC-4A40-B31F-5EC1209E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752F6-4B87-4217-8B18-E4B5FBE4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A53A1-9106-43B7-AC92-2B672CF2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8DD76-9C53-4A6D-99D5-C1788AEE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5B1E6-9A35-48FE-A418-48288A83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65D20-907C-4279-A5C2-6D997318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4312A-D171-4FC6-9E20-A3374212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6C433-A227-404F-A258-04D17388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B35D0-811F-4E07-BC36-544D69FF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50D7-11C6-456C-A31C-3AD07921CBC0}" type="slidenum">
              <a:rPr b="0" lang="ru-RU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8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9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0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1E82-70B1-4A87-9534-4D3BB3F4795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63DD-25AA-4A7A-82D1-32C40EED9C90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4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5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6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F4C2-F37B-42B8-BE85-D6D0D3984F5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37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38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39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F656-7807-49E8-83AC-1FF42D6B0271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0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1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2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D144-1410-4C65-87E4-692B096B3627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7E3A-E207-45DD-99DE-6D6AA51FF8F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CE32-4012-416F-8E81-90C68E4B5060}" type="slidenum">
              <a:rPr b="0" lang="ru-RU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8BB5-059D-45E4-99BD-75D4BCC800A5}" type="slidenum">
              <a:rPr b="0" lang="ru-RU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6347-9304-48CE-A782-F4EFE2D90CDB}" type="slidenum">
              <a:rPr b="0" lang="ru-RU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D6D6-3E0E-47D3-A448-E4E52CDE41E0}" type="slidenum">
              <a:rPr b="0" lang="ru-RU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C64E-95BC-496E-8538-F6281333A61D}" type="slidenum">
              <a:rPr b="0" lang="ru-RU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Группа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60" name="Прямая соединительная линия 20"/>
            <p:cNvSpPr/>
            <p:nvPr/>
          </p:nvSpPr>
          <p:spPr>
            <a:xfrm>
              <a:off x="8580960" y="1217520"/>
              <a:ext cx="640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Прямая соединительная линия 23"/>
            <p:cNvSpPr/>
            <p:nvPr/>
          </p:nvSpPr>
          <p:spPr>
            <a:xfrm>
              <a:off x="8516520" y="1282680"/>
              <a:ext cx="90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Прямая соединительная линия 24"/>
            <p:cNvSpPr/>
            <p:nvPr/>
          </p:nvSpPr>
          <p:spPr>
            <a:xfrm flipV="1">
              <a:off x="8580960" y="1282320"/>
              <a:ext cx="640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Группа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64" name="Прямая соединительная линия 26"/>
            <p:cNvSpPr/>
            <p:nvPr/>
          </p:nvSpPr>
          <p:spPr>
            <a:xfrm>
              <a:off x="8733960" y="1370160"/>
              <a:ext cx="644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Прямая соединительная линия 27"/>
            <p:cNvSpPr/>
            <p:nvPr/>
          </p:nvSpPr>
          <p:spPr>
            <a:xfrm>
              <a:off x="8669520" y="1435320"/>
              <a:ext cx="910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Прямая соединительная линия 28"/>
            <p:cNvSpPr/>
            <p:nvPr/>
          </p:nvSpPr>
          <p:spPr>
            <a:xfrm flipV="1">
              <a:off x="8733960" y="1434960"/>
              <a:ext cx="644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68" name="Прямая соединительная линия 30"/>
            <p:cNvSpPr/>
            <p:nvPr/>
          </p:nvSpPr>
          <p:spPr>
            <a:xfrm>
              <a:off x="8385840" y="1473120"/>
              <a:ext cx="644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31"/>
            <p:cNvSpPr/>
            <p:nvPr/>
          </p:nvSpPr>
          <p:spPr>
            <a:xfrm>
              <a:off x="8321400" y="1538280"/>
              <a:ext cx="90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32"/>
            <p:cNvSpPr/>
            <p:nvPr/>
          </p:nvSpPr>
          <p:spPr>
            <a:xfrm flipV="1">
              <a:off x="8385840" y="1537920"/>
              <a:ext cx="644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2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3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4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7F03-43A3-49F9-9F8D-84A616602583}" type="slidenum">
              <a:rPr b="0" lang="ru-RU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5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6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7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DBA0-AA73-4653-A8FB-3383A193D9F5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https://vk.com/club89952188" TargetMode="External"/><Relationship Id="rId4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1071720" y="364320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«Мир спасёт не красота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а экологическая грамотность»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                                     </a:t>
            </a: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И.Д.Звере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70" name="Picture 2" descr="C:\Users\Елена\Desktop\2653467-025f5143a419f57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1" name="Заголовок 1" descr=""/>
          <p:cNvPicPr/>
          <p:nvPr/>
        </p:nvPicPr>
        <p:blipFill>
          <a:blip r:embed="rId2"/>
          <a:stretch/>
        </p:blipFill>
        <p:spPr>
          <a:xfrm>
            <a:off x="463680" y="2170080"/>
            <a:ext cx="8832600" cy="4395960"/>
          </a:xfrm>
          <a:prstGeom prst="rect">
            <a:avLst/>
          </a:prstGeom>
          <a:ln w="0">
            <a:noFill/>
          </a:ln>
        </p:spPr>
      </p:pic>
      <p:sp>
        <p:nvSpPr>
          <p:cNvPr id="672" name="TextBox 5"/>
          <p:cNvSpPr/>
          <p:nvPr/>
        </p:nvSpPr>
        <p:spPr>
          <a:xfrm>
            <a:off x="0" y="33336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ОУ «СРЕДНЯЯ ОБЩЕОБРАЗОВАТЕЛЬНАЯ ШКОЛА 5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1071720" y="364320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«Мир спасёт не красота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а экологическая грамотность»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                                     </a:t>
            </a: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И.Д.Звере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74" name="Picture 2" descr="C:\Users\Елена\Desktop\2653467-025f5143a419f57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5" name="Заголовок 6" descr=""/>
          <p:cNvPicPr/>
          <p:nvPr/>
        </p:nvPicPr>
        <p:blipFill>
          <a:blip r:embed="rId2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G:\для сайта\bnp.jpg"/>
          <p:cNvPicPr/>
          <p:nvPr/>
        </p:nvPicPr>
        <p:blipFill>
          <a:blip r:embed="rId3"/>
          <a:stretch/>
        </p:blipFill>
        <p:spPr>
          <a:xfrm>
            <a:off x="468360" y="189000"/>
            <a:ext cx="6659640" cy="4994280"/>
          </a:xfrm>
          <a:prstGeom prst="rect">
            <a:avLst/>
          </a:prstGeom>
          <a:ln w="0">
            <a:noFill/>
          </a:ln>
        </p:spPr>
      </p:pic>
      <p:sp>
        <p:nvSpPr>
          <p:cNvPr id="677" name="TextBox 8"/>
          <p:cNvSpPr/>
          <p:nvPr/>
        </p:nvSpPr>
        <p:spPr>
          <a:xfrm>
            <a:off x="3059280" y="5516640"/>
            <a:ext cx="5689440" cy="520560"/>
          </a:xfrm>
          <a:prstGeom prst="rect">
            <a:avLst/>
          </a:prstGeom>
          <a:solidFill>
            <a:srgbClr val="ffffff"/>
          </a:solidFill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 – 2015 учебный год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ст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1071720" y="364320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«Мир спасёт не красота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а экологическая грамотность»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                                     </a:t>
            </a: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И.Д.Звере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79" name="Picture 2" descr="C:\Users\Елена\Desktop\2653467-025f5143a419f57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2"/>
          <p:cNvSpPr>
            <a:spLocks noGrp="1"/>
          </p:cNvSpPr>
          <p:nvPr>
            <p:ph type="title"/>
          </p:nvPr>
        </p:nvSpPr>
        <p:spPr>
          <a:xfrm>
            <a:off x="914400" y="434340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81" name="Rectangle 1"/>
          <p:cNvSpPr/>
          <p:nvPr/>
        </p:nvSpPr>
        <p:spPr>
          <a:xfrm>
            <a:off x="179280" y="238680"/>
            <a:ext cx="8640720" cy="624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Цели и задачи Сетевого проек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- личностные –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гражданская идентичность в форме осознания  «я» как жителя области, гражданина Росс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- предметные –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ходить на карте страны свой регион, описывать природу экологическую обстановку родного  края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- метапредметные –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ланировать свои действия в соответствии с поставленной задачей, осуществлять расширенный поиск информации с помощью Интернет-ресурсов, библиотек, преобразовывать информацию из одной  формы в другую, координировать свою работу в группе, знать формы и правила межличностного общ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1071720" y="364320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«Мир спасёт не красота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а экологическая грамотность»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                                     </a:t>
            </a: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И.Д.Звере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83" name="Picture 2" descr="C:\Users\Елена\Desktop\2653467-025f5143a419f57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914400" y="434340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85" name="Rectangle 1"/>
          <p:cNvSpPr/>
          <p:nvPr/>
        </p:nvSpPr>
        <p:spPr>
          <a:xfrm>
            <a:off x="179280" y="451440"/>
            <a:ext cx="8640720" cy="606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7840" indent="-3826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основных природоведческих представлений и понятий о живой и неживой приро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ширение и углубление представлений о взаимосвязях в природе и месте человека в н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ние бережного отношения ко всему живому на Земле, любви к приро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влечение детей в разнообразные виды деятельности в природе и по её охра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навыков экологически грамотного, нравственного поведения в природе; развитие первоначальных географических представл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Box 5"/>
          <p:cNvSpPr/>
          <p:nvPr/>
        </p:nvSpPr>
        <p:spPr>
          <a:xfrm>
            <a:off x="900000" y="476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чи экологического разви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2" descr="C:\Users\Елена\Desktop\2653467-025f5143a419f57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8" name="Содержимое 4" descr=""/>
          <p:cNvPicPr/>
          <p:nvPr/>
        </p:nvPicPr>
        <p:blipFill>
          <a:blip r:embed="rId2"/>
          <a:stretch/>
        </p:blipFill>
        <p:spPr>
          <a:xfrm>
            <a:off x="-6480" y="1481040"/>
            <a:ext cx="10850760" cy="5913360"/>
          </a:xfrm>
          <a:prstGeom prst="rect">
            <a:avLst/>
          </a:prstGeom>
          <a:ln w="0">
            <a:noFill/>
          </a:ln>
        </p:spPr>
      </p:pic>
      <p:pic>
        <p:nvPicPr>
          <p:cNvPr id="689" name="Заголовок 1" descr=""/>
          <p:cNvPicPr/>
          <p:nvPr/>
        </p:nvPicPr>
        <p:blipFill>
          <a:blip r:embed="rId3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2" descr="C:\Users\Елена\Desktop\2653467-025f5143a419f57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1" name="Заголовок 1" descr=""/>
          <p:cNvPicPr/>
          <p:nvPr/>
        </p:nvPicPr>
        <p:blipFill>
          <a:blip r:embed="rId2"/>
          <a:stretch/>
        </p:blipFill>
        <p:spPr>
          <a:xfrm>
            <a:off x="92160" y="262080"/>
            <a:ext cx="8601120" cy="140796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чащиеся 1-5 классов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выход со страницы учителя – начальные классы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Жители город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чащиеся других шко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2" descr="C:\Users\Елена\Desktop\2653467-025f5143a419f57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4" name="Заголовок 1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 txBox="1"/>
          <p:nvPr/>
        </p:nvSpPr>
        <p:spPr>
          <a:xfrm>
            <a:off x="457200" y="188244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4\2015 уч.год – 22 чел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5\2016 уч.год – 43 чел.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6\2017 уч.год -  более 100 чел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96" name="Picture 3" descr="C:\Users\Пользователь\Desktop\2GA3uFRxiq0.jpg"/>
          <p:cNvPicPr/>
          <p:nvPr/>
        </p:nvPicPr>
        <p:blipFill>
          <a:blip r:embed="rId3"/>
          <a:stretch/>
        </p:blipFill>
        <p:spPr>
          <a:xfrm>
            <a:off x="5572080" y="3713040"/>
            <a:ext cx="3090960" cy="2863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2" descr="C:\Users\Елена\Desktop\2653467-025f5143a419f57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5400" spc="-1" strike="noStrike" u="sng">
              <a:solidFill>
                <a:srgbClr val="c00000"/>
              </a:solidFill>
              <a:uFillTx/>
              <a:latin typeface="Century Gothic"/>
            </a:endParaRPr>
          </a:p>
        </p:txBody>
      </p:sp>
      <p:pic>
        <p:nvPicPr>
          <p:cNvPr id="699" name="Picture 2" descr="C:\скрин\бур.png"/>
          <p:cNvPicPr/>
          <p:nvPr/>
        </p:nvPicPr>
        <p:blipFill>
          <a:blip r:embed="rId2"/>
          <a:stretch/>
        </p:blipFill>
        <p:spPr>
          <a:xfrm>
            <a:off x="0" y="0"/>
            <a:ext cx="9134640" cy="5877000"/>
          </a:xfrm>
          <a:prstGeom prst="rect">
            <a:avLst/>
          </a:prstGeom>
          <a:ln w="0">
            <a:noFill/>
          </a:ln>
        </p:spPr>
      </p:pic>
      <p:sp>
        <p:nvSpPr>
          <p:cNvPr id="700" name="Прямоугольник 6"/>
          <p:cNvSpPr/>
          <p:nvPr/>
        </p:nvSpPr>
        <p:spPr>
          <a:xfrm>
            <a:off x="1476360" y="5950080"/>
            <a:ext cx="6335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s://vk.com/club89952188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9:27:53Z</dcterms:created>
  <dc:creator>User</dc:creator>
  <dc:description/>
  <dc:language>en-US</dc:language>
  <cp:lastModifiedBy>Пользователь</cp:lastModifiedBy>
  <dcterms:modified xsi:type="dcterms:W3CDTF">2017-02-20T12:57:12Z</dcterms:modified>
  <cp:revision>52</cp:revision>
  <dc:subject/>
  <dc:title>Формирование экологической культуры младших школьников</dc:title>
</cp:coreProperties>
</file>