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7E0-3F7D-4783-BD82-D36992A2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2EF-2FFC-4D50-873E-171014DD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FBD90-0642-4C53-9AE0-2B83CE3A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7822-C521-4071-A6F4-6DBF7F20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F6FC2-4E46-4DFE-AA44-4C055B9D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6BE6F-49C0-451E-956E-B3A3B959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7AD8F-B871-479A-99FA-45FBB8DD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F49B2-5D86-4F6E-B8D0-94E9A84F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7FE09-A0D2-4630-AEB5-5767306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C4054-24E8-4182-9C04-96BC15FD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3A8C-B843-45B2-B82E-FFF2B8BD2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CB144-4075-4AF8-96A0-3DFBA50D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238-66DC-4A5A-9F35-404EE5C2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54684-B27E-41B0-827B-75CDE85D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82A0E-AB66-41F8-8964-3FA19F3D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7F832-7C01-465D-A1AD-A3D990DD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CEF21-45F4-45DD-A82F-74B3F989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EE949-52BB-447C-B077-870B097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463A7-DF59-47EA-BF77-642FD6C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5C28B-79B5-420B-8010-DC5024E5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EC99E-E1B3-491B-9CC1-371E97E6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21054-95FB-4504-BB18-1C63E413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66566-53EA-4AB1-BC02-3D222FAC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622-4FB3-4F5A-BBCB-3C50721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A6926-55DA-4BF8-B052-27625940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1F8DC-19C9-4065-815B-C3612758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B5D0F-CB1D-4CEC-8440-7ABF0FC4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855D8-35D8-490A-9071-53D9F540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50E7D-46D5-4B9D-926B-9DDAD36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6D70-38FD-4765-A57D-885CEEF7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BACC7-9B4A-45C3-AA17-107BF83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E0474-2BED-4A83-8E3A-EDA19A5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337E8-91C8-4248-B4C4-2575231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C881-3FA8-4C6D-9098-119C233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3DD5-ECAC-4A98-A309-FDA5F39F2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B7A5B-8947-46B7-8730-8876217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36750-1A51-4D0B-A6A0-AE4C623D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1E900-75F8-4F5E-8703-3FBA7B3E1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F4807-F330-4C4B-8BDB-0F3751A4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73524-9A33-42C2-8E09-F8CA5DA3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4DB8C-DC4E-446F-9038-19DC728B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80DC4-F03C-404C-BB09-FF34E2A9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7C444-7F79-441B-9A2C-8A9AF3F9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E1CAF-968D-43C3-8606-4357281D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240E5-D5C2-401D-9A5B-D9EB6145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09B3-9AA0-4F16-9BF7-1BD1271E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6F92B-76E1-409A-A252-979D308C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A9D8D-A352-401A-B5B0-9FA0264E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3FC28-858A-43BD-9E15-16D5D33D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4A19C-DE57-4367-B1AF-9839FC4C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C765C0-ADA2-46B9-B145-54CA607A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76FFA-FC61-4AE3-9686-E8C99A61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63EF2-98F9-4364-828A-E46F875D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FF1B0-E7D6-4136-BE57-02470A11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F62ED-1DFC-40FE-9D3E-D492DD78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B5FB8-B509-42A6-B555-AE18174B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ADEF-851C-4F21-8BD0-6C6D2619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4B3D-AF35-41C2-A1F1-C6144D8D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DC214-BC26-4B23-A919-9E095F75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976564-D808-437A-BBCA-8FA9344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C7CB1-DB06-40AF-AF68-1C7F98B9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98529-7B66-4420-884C-EDBFDA72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B9332-A70A-4C9E-AD74-0ABCE861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7E57B1-4D96-4C0C-B86D-5B3CAA25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84757-91CC-4978-B705-1363117B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EDF5E-A990-4EAE-843A-7952F5EC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99DD0-A61E-414D-A119-D7550265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DF39-5CA5-4FD8-8F50-9F689AA8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BF78DF-D36E-473E-B0D3-252CFC9C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7D3A6-0129-46CC-8B3D-7D4654E2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3B278-0E5F-48B1-8BD2-F21310A0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9E7E7-56B0-4D5D-830C-C1B1A39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37EF97-6F9C-45BB-85E7-18650B68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E4B41-2364-4269-A280-0D8487F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F2981-2D0F-4B3C-B0F8-93351CDE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E5385-96BC-4BB4-85DC-08B6C851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302BF-9DAA-428C-A236-52589FD6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0CEE-EF3C-43D1-B24D-9FDA2546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0706-BE5E-4DF5-BBA7-5EBD8E8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FD0B-8FCB-415C-BD42-DC32870A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66F-0854-46FB-B91F-8D2E3D41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6BAA-244B-4072-956D-56624343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A3A-76B1-421D-A036-5B9398E3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49C6-5722-4324-B4D7-1BC99BB0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E300-90D6-4D05-B609-C0D12518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D14C-BC1D-4836-B0E0-22E55E5D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99944-D5D4-457D-A29F-FA9E4D62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FD3FA-0D11-4646-9CA1-6EEE786D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ED514-7E7B-436C-AB49-28660B39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40F2-0D3C-4AF5-9D80-37B94381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1A3D-3852-46CB-937D-680D38D5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B93-0B16-4DDD-BA3D-3517CDBA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11DEE-6193-4A65-9AB8-4128A7E9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DE6B-F620-4D30-B42B-B94FBBB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370E-3689-4AD3-93C0-FFA10BF3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9DD9-4A5D-4232-A54E-7BE757B8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0FDC5-A193-48AD-A2BC-828F0E4A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10EF-B3DF-40D0-9494-B716F5D8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6E88-A437-426C-BCF3-50FDA9FF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A328-C370-4556-BC54-34EF5F8F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29DF4-7E97-490C-8200-3FFBC234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95AC4-3450-4899-9EC3-60F3417F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90B-A8C0-460B-9475-1C776C2E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EDE8-0F7B-46B5-8451-186E6C0E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8401F-BE95-4212-A23B-98F1F731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04677-883D-4274-90C5-59D8B2E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46EB-FB5A-4701-A55B-FE3C6A4C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71BA-28A0-43B3-BEBA-BE056271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9790B-831D-48B4-BEFD-A3C6B212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46CD-D984-4A43-830A-7E5DFE18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D52BF-0162-4380-B853-2AEB43BD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664F4-D744-43E8-AF34-98DF1C4F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142CB-EA94-4A8B-8D77-369669FE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CDD-2404-44E1-86CB-A4CA40F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0968B-90B3-44C3-A838-928C2A9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0BDCC-D39F-4E0C-B6B9-F11BB637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0D64-E2C7-4D21-AB05-67DB9070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B792F-F0D4-4B8A-AA3A-D24D148C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F4135-03A4-4636-B0E5-D6ACEFD1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F53AB-E122-4C98-87EE-8877DB5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3079-CCE6-49EE-82DF-7F9BA6E0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395C-41FD-4C28-B9FE-F043CF15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950EA-69F8-4EE6-B889-34190F16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22D5-CDBC-4B93-9D61-A7A134AC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DA93-B8B7-4944-B796-B26C05F9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81B37-E046-44F3-820D-A88493E5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94D80-26E4-4DB6-86C0-82D84AD6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76D82-A6B2-421C-A89A-06887CEE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D97C-FF47-4B8A-8F03-358F0682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C5C05-AEB3-46B6-8C22-DDBFA858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854D5-755E-462E-9900-5E1B6E2E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86133-96A3-423D-B998-80A5A7C7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1C540-4E7F-4219-8997-6704086F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16E3F-1D87-4F9F-A0B4-0FA8F7C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010B0-282F-454F-86C6-F85DAE7C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B76-59B9-404B-B8F9-86BDA51A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23A3D-4A47-4453-8650-50901A2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035A-BB47-4F01-B62C-DA6534D7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8B0B-4746-478C-B883-F7C268F1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FCC09-E820-48E3-9340-0A8D395C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8D942-0E3C-4A0C-A19F-4FFDED88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B83B6-AB8E-40B3-B2DC-4782D920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9C20-78B5-4047-AD00-DC702981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C8680-D895-4CA7-A69D-812F8E7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23EF8-A72F-4BE5-91D7-11771304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CFC4E-63DB-42AC-AABF-612731F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234-B21C-4B5E-A810-7A1249DA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04449-8288-4435-B924-C224C99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AAE56-1A65-4B03-9487-B14F4969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29A8-D7BA-4842-9326-FCC772CF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B99B9-AD17-4A12-9C5D-51D75611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24C69-82AA-440D-8512-DF6538A5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42BC0-49FD-48A3-B80A-3BEB25E4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113DB-55C8-40DC-A071-9D3D4C03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76C7F-C726-4013-9D11-A0818D5A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A5AC2-978D-4E67-83DE-59ED52DF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FB1FC-6832-4817-B639-34EE0563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0C0-911F-41BA-814A-BA8E29B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01F46-C1E5-4EAC-AB17-E179BBBD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8AF3B-2199-46DB-9B4B-8B53270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116F8-BAE5-40B8-A5A7-348D9103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1C1F1-464F-44AE-95D7-FE7C22A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3F72B-7A77-42FE-8538-16EDF327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D6E1-46ED-4FE1-BE22-6954245A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A30DA-288F-4437-8605-FE066E19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8C3CF-096F-4CF1-9699-7DB2A3D6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425F8-0A0F-40F8-A59B-53B8C98C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EA2B5-C73E-4912-8087-DA7EB1AC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53CC-4C4E-481F-9F72-5043C7729839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8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9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0D03-D63D-4C67-A219-BBCD0948D4D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DF97-70F1-47A1-BA89-2B20BF37C690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6F96-5062-4215-A693-501BCAA92C9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5A3F-554F-4002-B144-9A21CF0F7ED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07E3-0621-45D7-A892-AC9DC793A4EC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7534-8D07-4439-A18C-A4785123933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7191-EF62-47E0-B553-AA94C94B0AAF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DEFE-F0C2-49F8-BF9F-492F9921F957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FF5E-D9CC-4B83-BD0C-90AB3AD93683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0595-61FE-43C8-9A34-0DFA130AEB89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615E-03E2-4D56-B8A7-429D548D1C73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60" name="Прямая соединительная линия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64" name="Прямая соединительная линия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Прямая соединительная линия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68" name="Прямая соединительная линия 30"/>
            <p:cNvSpPr/>
            <p:nvPr/>
          </p:nvSpPr>
          <p:spPr>
            <a:xfrm>
              <a:off x="8385840" y="147312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32"/>
            <p:cNvSpPr/>
            <p:nvPr/>
          </p:nvSpPr>
          <p:spPr>
            <a:xfrm flipV="1">
              <a:off x="8385840" y="15379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0CF8-B51F-4171-B2FA-1384A212B77D}" type="slidenum">
              <a:rPr b="0" lang="ru-RU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444E-5795-4BBA-935B-137DBBB4DDE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s://vk.com/club89952188" TargetMode="External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0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Заголовок 1" descr=""/>
          <p:cNvPicPr/>
          <p:nvPr/>
        </p:nvPicPr>
        <p:blipFill>
          <a:blip r:embed="rId2"/>
          <a:stretch/>
        </p:blipFill>
        <p:spPr>
          <a:xfrm>
            <a:off x="463680" y="2170080"/>
            <a:ext cx="8832600" cy="4395960"/>
          </a:xfrm>
          <a:prstGeom prst="rect">
            <a:avLst/>
          </a:prstGeom>
          <a:ln w="0">
            <a:noFill/>
          </a:ln>
        </p:spPr>
      </p:pic>
      <p:sp>
        <p:nvSpPr>
          <p:cNvPr id="672" name="TextBox 5"/>
          <p:cNvSpPr/>
          <p:nvPr/>
        </p:nvSpPr>
        <p:spPr>
          <a:xfrm>
            <a:off x="0" y="333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ОУ «СРЕДНЯЯ ОБЩЕОБРАЗОВАТЕЛЬНАЯ ШКОЛА 5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4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5" name="Заголовок 6" descr=""/>
          <p:cNvPicPr/>
          <p:nvPr/>
        </p:nvPicPr>
        <p:blipFill>
          <a:blip r:embed="rId2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G:\для сайта\bnp.jpg"/>
          <p:cNvPicPr/>
          <p:nvPr/>
        </p:nvPicPr>
        <p:blipFill>
          <a:blip r:embed="rId3"/>
          <a:stretch/>
        </p:blipFill>
        <p:spPr>
          <a:xfrm>
            <a:off x="468360" y="189000"/>
            <a:ext cx="6659640" cy="4994280"/>
          </a:xfrm>
          <a:prstGeom prst="rect">
            <a:avLst/>
          </a:prstGeom>
          <a:ln w="0">
            <a:noFill/>
          </a:ln>
        </p:spPr>
      </p:pic>
      <p:sp>
        <p:nvSpPr>
          <p:cNvPr id="677" name="TextBox 8"/>
          <p:cNvSpPr/>
          <p:nvPr/>
        </p:nvSpPr>
        <p:spPr>
          <a:xfrm>
            <a:off x="3059280" y="5516640"/>
            <a:ext cx="5689440" cy="52056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– 2015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79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81" name="Rectangle 1"/>
          <p:cNvSpPr/>
          <p:nvPr/>
        </p:nvSpPr>
        <p:spPr>
          <a:xfrm>
            <a:off x="179280" y="238680"/>
            <a:ext cx="8640720" cy="624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Цели и задачи Сетевого проект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личнос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гражданская идентичность в форме осознания  «я» как жителя области, гражданина Росс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предме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аходить на карте страны свой регион, описывать природу экологическую обстановку родного  края;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- метапредметные –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планировать свои действия в соответствии с поставленной задачей, осуществлять расширенный поиск информации с помощью Интернет-ресурсов, библиотек, преобразовывать информацию из одной  формы в другую, координировать свою работу в группе, знать формы и правила межличностного общ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1071720" y="364320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«Мир спасёт не красота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а экологическая грамотность»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                                     </a:t>
            </a:r>
            <a:r>
              <a:rPr b="0" i="1" lang="ru-RU" sz="3000" spc="-1" strike="noStrike">
                <a:solidFill>
                  <a:srgbClr val="ffffff"/>
                </a:solidFill>
                <a:latin typeface="Monotype Corsiva"/>
              </a:rPr>
              <a:t>И.Д.Звере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83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85" name="Rectangle 1"/>
          <p:cNvSpPr/>
          <p:nvPr/>
        </p:nvSpPr>
        <p:spPr>
          <a:xfrm>
            <a:off x="179280" y="451440"/>
            <a:ext cx="8640720" cy="606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7840" indent="-3826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основных природоведческих представлений и понятий о живой и неживой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ширение и углубление представлений о взаимосвязях в природе и месте человека в н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ие бережного отношения ко всему живому на Земле, любви к природ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влечение детей в разнообразные виды деятельности в природе и по её охра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навыков экологически грамотного, нравственного поведения в природе; развитие первоначальных географических представл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Box 5"/>
          <p:cNvSpPr/>
          <p:nvPr/>
        </p:nvSpPr>
        <p:spPr>
          <a:xfrm>
            <a:off x="900000" y="476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 экологического 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8" name="Содержимое 4" descr=""/>
          <p:cNvPicPr/>
          <p:nvPr/>
        </p:nvPicPr>
        <p:blipFill>
          <a:blip r:embed="rId2"/>
          <a:stretch/>
        </p:blipFill>
        <p:spPr>
          <a:xfrm>
            <a:off x="-6480" y="1481040"/>
            <a:ext cx="10850760" cy="5913360"/>
          </a:xfrm>
          <a:prstGeom prst="rect">
            <a:avLst/>
          </a:prstGeom>
          <a:ln w="0">
            <a:noFill/>
          </a:ln>
        </p:spPr>
      </p:pic>
      <p:pic>
        <p:nvPicPr>
          <p:cNvPr id="689" name="Заголовок 1" descr=""/>
          <p:cNvPicPr/>
          <p:nvPr/>
        </p:nvPicPr>
        <p:blipFill>
          <a:blip r:embed="rId3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1" name="Заголовок 1" descr=""/>
          <p:cNvPicPr/>
          <p:nvPr/>
        </p:nvPicPr>
        <p:blipFill>
          <a:blip r:embed="rId2"/>
          <a:stretch/>
        </p:blipFill>
        <p:spPr>
          <a:xfrm>
            <a:off x="92160" y="262080"/>
            <a:ext cx="8601120" cy="1407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щиеся 1-5 классов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выход со страницы учителя – начальные классы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Жители город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чащиеся других шко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 txBox="1"/>
          <p:nvPr/>
        </p:nvSpPr>
        <p:spPr>
          <a:xfrm>
            <a:off x="457200" y="188244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4\2015 уч.год – 22 че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5\2016 уч.год – 43 чел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6\2017 уч.год -  более 100 чел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96" name="Picture 3" descr="C:\Users\Пользователь\Desktop\2GA3uFRxiq0.jpg"/>
          <p:cNvPicPr/>
          <p:nvPr/>
        </p:nvPicPr>
        <p:blipFill>
          <a:blip r:embed="rId3"/>
          <a:stretch/>
        </p:blipFill>
        <p:spPr>
          <a:xfrm>
            <a:off x="5572080" y="3713040"/>
            <a:ext cx="30909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icture 2" descr="C:\Users\Елена\Desktop\2653467-025f5143a419f57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5400" spc="-1" strike="noStrike" u="sng">
              <a:solidFill>
                <a:srgbClr val="c00000"/>
              </a:solidFill>
              <a:uFillTx/>
              <a:latin typeface="Century Gothic"/>
            </a:endParaRPr>
          </a:p>
        </p:txBody>
      </p:sp>
      <p:pic>
        <p:nvPicPr>
          <p:cNvPr id="699" name="Picture 2" descr="C:\скрин\бур.png"/>
          <p:cNvPicPr/>
          <p:nvPr/>
        </p:nvPicPr>
        <p:blipFill>
          <a:blip r:embed="rId2"/>
          <a:stretch/>
        </p:blipFill>
        <p:spPr>
          <a:xfrm>
            <a:off x="0" y="0"/>
            <a:ext cx="9134640" cy="587700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6"/>
          <p:cNvSpPr/>
          <p:nvPr/>
        </p:nvSpPr>
        <p:spPr>
          <a:xfrm>
            <a:off x="1476360" y="5950080"/>
            <a:ext cx="6335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vk.com/club89952188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9:27:53Z</dcterms:created>
  <dc:creator>User</dc:creator>
  <dc:description/>
  <dc:language>en-US</dc:language>
  <cp:lastModifiedBy>Пользователь</cp:lastModifiedBy>
  <dcterms:modified xsi:type="dcterms:W3CDTF">2017-02-20T12:57:12Z</dcterms:modified>
  <cp:revision>52</cp:revision>
  <dc:subject/>
  <dc:title>Формирование экологической культуры младших школьников</dc:title>
</cp:coreProperties>
</file>