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C7D1-4A3F-407A-A6F9-B4BFC2BB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A14F-FD6F-475C-A62A-F0204BE9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5B89B-05DC-49EE-B4C4-830D1774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27131-803E-4E6E-BAAA-60918329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A766F-8FCC-49B9-9561-7D3C6F67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826E1-DA56-42BF-9EC3-BB9AB63E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2AA9A-994E-4493-A361-A7A23D24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FE45F-052D-4560-BE30-F463125E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3D7B3-5879-4A7D-8EC8-7F24516B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0543C-C43B-4480-B8A3-F34F1879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9AEC2-0EE7-4F98-9344-5AF90542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2614F-B8AB-4E9A-873B-5E75797C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DF01-0A2B-41C3-B942-E6F44DD4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02A41-40E7-4F51-809E-B2F35D87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910B0-C2FE-43DC-A493-BC9D15C9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994A1-419D-4F95-B0D2-9A22D7C0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216FD-CD4B-485A-ABEE-F952A7BB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926B7-2383-4AEE-A27F-15F31391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D2193-7CB4-458B-BAEE-00CB492C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9A2BC-3362-482B-B2F5-688527B2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FFE8A-AAD1-4988-9898-602E24E0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7363C-17F3-49D4-B2C9-CE75C865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6E986-BFDF-4320-8796-112E663A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191B-D48D-4459-A597-357B7CA8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B5E36-0A75-4164-BD59-1EA0016A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6A353-E1A7-4589-A1C3-20376F90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CA255-6635-489D-98A9-FB7C8ECA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B177F-58FA-4284-97AA-9A3C61E6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C29A5-0B23-4F33-9671-5CA6111C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48924-1319-4D27-99D5-98A50B8A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F7A2D-582A-4F1B-A027-1128C7FB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57372-CAF0-451D-9F7B-FF290F89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9ABC9-FB09-4809-A3C7-BE50F8A5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C5DD6-5CA7-4C56-ADCE-C7BCBF23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A979-3731-4C61-9E41-2A35C537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28160-4E16-414E-B8DE-FC8FE019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83DE7-97EC-44EC-8051-29161110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49554-2FCF-4ADA-8491-53634E90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7E2AD-CD5C-44DA-A7B0-EE4E694A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3FC37-CCE8-490A-A463-BC905260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0D5E6-66EE-4139-9EC9-FD675EC5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F6545-66A6-4109-BD06-9D1F5F20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AD6EF-F1BF-46F2-99B6-3FA3999B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DD387-3B0F-42B6-80E5-09CAC38B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81963-2FB9-496B-8EAD-9E089306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6945-1DF5-4F0D-8B0F-4BD86832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208CE-F46F-4116-AFCD-9560D13F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F19C3-635F-4F44-995A-41AE0D7B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4DE96-A3A1-4F63-8406-C09CD5EB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6FB74-6DB5-4891-A623-85A2FD539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2F0C2-36BB-448C-BD7F-1833014D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B77FAF-63D2-4970-A669-A3487BEC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861705-7495-4501-9909-FAB3E73A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AD67FA-1240-4FCF-A192-3CAAAFFA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65718C-74C9-43AD-B91B-09265D6A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278C92-93F4-4E73-9874-DDA631D6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D09F-07C9-4B2A-808C-5FF9DA6A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DFDCDF-BA3B-4AD7-BFD6-A8AFD810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525F50-80DD-4B29-8980-329C733A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1B1D54-4638-4C53-9B82-F736ADC5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37E0EB-4C53-4AB7-A175-1479513A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3F486D-1487-4029-AE17-02C5FE13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D0297D-543B-48FE-BF8E-8F8EF9CE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165575-6F47-436B-8A2D-E8D9198D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0702D7-2DAE-4DFC-A521-8F6B9234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3CD822-2C69-40D1-81C2-CC5134E4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13BA77-7009-4861-958A-4A0EAA2B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0535-F40F-431E-B080-050EC771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6BAF56-7A4A-4173-8A81-2327AFD0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711493-65DB-431E-8B16-C743979D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8E2B77-0572-4597-8606-7AC3DD9E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2F5811-A65D-4E95-831A-81DC61F3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BDCD1D-B05F-4BC8-8A00-E6D523D1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410A8D-547B-4878-A5F1-BD986541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C499B9-DDC9-4FDD-B346-20E1AAC4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2CF0D4-95A4-4470-BEF3-40EFB2C3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ADD559-FD6D-43BA-BB2E-57156FBD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77C2-7A63-445D-80EF-C79FF2CB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09B7-643F-49FB-B80E-8CC4EFD8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B3A7-ED2E-449D-9F0A-062D13A1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2F74-E8D1-468D-8C65-82F237BA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3B95-7ADC-470B-A4E3-7738D789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11CA-D749-4967-B823-5296418A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9CD6-6445-421D-B46A-24913474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D35E-3996-44D3-98A4-0BC88C04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D990-F5F1-4CEE-B52F-2D8F84F3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968AE-3396-42BB-9ECD-9E9F8D7C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9B5DB-9449-4233-BBA2-9B69907A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87194-FE0E-4655-AE09-E4AEAD87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4E7D3-E70E-4476-840D-D882467C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A98E4-9F5E-4E4B-8ADC-B3577ABC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CC84-DDEA-4820-9BAE-009D0852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896A6-1A32-432C-94CE-5F920F92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75E74-D9B4-4D93-8E06-D6AE3ABD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3FDB1-3913-4750-A931-D18AD61D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DB827-ED00-4BDE-9174-EBC55DFC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CF8F8-B347-4197-A338-B269C37F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6F995-42BA-4919-8220-F6835641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E2A6E-1EBD-4A5E-803E-AB757F78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A8E77-C004-443A-8712-6B459838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E418F-7C40-4C8E-9B65-F2B77F76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A2CB5-25A3-499B-AE52-F5DD2F96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8F0E-D396-466F-9AA4-EEBCDABE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344B5-0A6D-474F-9581-B0325FF1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6C7FB-FB4F-425B-9369-D01791C4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D1C17-AC2A-4805-8F3F-0ACECBAF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AE886-0EA5-46CC-988C-4FBD011F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A7207-AE1E-42E1-A5BB-BC0DEB03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CDAB7-C17F-4930-A6C7-5F44C8BE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32DF0-C9AE-4E1A-896C-BA7DB720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FD23B-87B1-4703-9029-F969FC75F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31AE0-33E0-4319-89BE-38977FDF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35093-4DD5-42E6-8CD5-8E4071F7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F677-566D-478D-BF54-E989E5D9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BC308-A3AB-4F73-B62C-06E519E4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5B7A9-7EB3-47E7-87DD-2FA9489A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5D0EA-72F2-4E3F-881D-E4F0B0FB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F44E5-5C82-4760-BE02-D6808901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9AC3E-9B83-4616-9E8C-A67E9980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C8548-339F-4A00-9B75-1D61DF37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F602A-E09E-4545-B28F-EEFEB30E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02A87-A10C-447E-9C49-974B9C9A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9E8F3-487C-4095-97D7-F5E1608F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ADAE2-99FC-47E6-B077-6C19C7D4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37C6-5CE5-4A6A-8839-A1CB4C44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09E38-A53A-488D-A20E-77DA31DD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8C00E-C0EA-40AF-AB62-38864016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8AA5F-D4A3-4615-8149-85C08027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6F530-0786-409B-A43A-1813E119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FE006-864F-473D-BD88-EE00846F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E1784-B65C-4156-BD0F-4DEE247C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89843-43E4-4C85-8CB8-940E6AC4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143AC-1D6A-4369-8299-4113AAA9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2148F-42E2-48FD-A06C-7FFB7422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24C73-1368-4B85-8F05-6646E418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954D-E794-44F8-9929-69D4F585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BAAE6-84E0-4421-B3FC-20E6B159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3E360-70A3-466E-A744-D90CE123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3D634-1DBF-4A79-8D97-68AA0BA8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8FFAE-B812-4F39-9DB9-73AB4B96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3BF28-C89F-49DA-9341-3E9F6B65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AF4D6-67B7-4395-A71E-6BBEC184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0E255-9549-459B-A2AE-505FCBFA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44156-0E7E-45B9-A7CB-B4CF5CFF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F0274-95A5-4CE0-967A-D917E154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73C6B-4AE0-4999-B150-D1F79B41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C341-F705-4146-9FE9-0B2EB074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8B10A-F59A-4A24-992E-EF7C5A2D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4E4C1-2E56-4725-A601-80D37789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E1B98-C164-4D49-B196-208B1C5E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39570-6653-4285-9B20-9D9F7BDA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A9985-10CC-4FE7-A773-19B4820E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BCB8A-7949-4BD4-A902-F7A22E50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85663-91D1-4626-8E62-2AFE1765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FD119-7C41-49AC-8847-B5A166DA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F0568-6B90-41F7-B559-0E7A2573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3B82B-AC2F-47F7-8FD1-D08463E0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0C2C-7134-4116-9A9E-830E9DB7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341E2-EB34-4CE2-96AD-3626A317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90894-1477-4BE2-AF6F-54991041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39441-3783-4635-BAB7-DF568203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73AC0-5799-445E-B8DE-72DB6E67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6AF3E-2090-47A9-A5E6-D7A15B75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3339A-6ECE-4D76-AD0F-243A74EA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3D142-B3E5-4FBC-B5AE-4B4243EE6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52F0E-5BF2-4F03-A4A8-593C0096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7D54E-C1E6-49E4-8F00-ADA27A01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E7381-7684-4151-B8E9-DEEBD08E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7648-B60E-400D-8943-E0A31CAD2688}" type="slidenum">
              <a:rPr b="0" lang="ru-RU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8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9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0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DA42-1858-4C44-8481-1557BF6BE83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1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2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3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BA79-CF27-4537-B9C1-32E47058CBD2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4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5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6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378C-92B7-4AF0-9336-A98E2713DFB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37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38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39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1DC2-D1EC-459D-AE49-A17CC8F68033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0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1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2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5921-750D-4A2D-9983-5EDB80A6B3A7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F616-74BB-4509-99CC-6F5798AFCE1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402A-B35E-4901-A993-D994CE6E4DD5}" type="slidenum">
              <a:rPr b="0" lang="ru-RU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C27D-E589-4076-A5B0-5FB0F1522E0C}" type="slidenum">
              <a:rPr b="0" lang="ru-RU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D1B6-245B-4D4C-BC30-D79199662B3F}" type="slidenum">
              <a:rPr b="0" lang="ru-RU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1AEA-FF3E-423C-A427-090451B330A0}" type="slidenum">
              <a:rPr b="0" lang="ru-RU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EF0C-00E3-4727-A0B8-12773036A157}" type="slidenum">
              <a:rPr b="0" lang="ru-RU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Группа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60" name="Прямая соединительная линия 20"/>
            <p:cNvSpPr/>
            <p:nvPr/>
          </p:nvSpPr>
          <p:spPr>
            <a:xfrm>
              <a:off x="8580960" y="1217520"/>
              <a:ext cx="640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Прямая соединительная линия 23"/>
            <p:cNvSpPr/>
            <p:nvPr/>
          </p:nvSpPr>
          <p:spPr>
            <a:xfrm>
              <a:off x="8516520" y="1282680"/>
              <a:ext cx="90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Прямая соединительная линия 24"/>
            <p:cNvSpPr/>
            <p:nvPr/>
          </p:nvSpPr>
          <p:spPr>
            <a:xfrm flipV="1">
              <a:off x="8580960" y="1282320"/>
              <a:ext cx="640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Группа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64" name="Прямая соединительная линия 26"/>
            <p:cNvSpPr/>
            <p:nvPr/>
          </p:nvSpPr>
          <p:spPr>
            <a:xfrm>
              <a:off x="8733960" y="1370160"/>
              <a:ext cx="644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Прямая соединительная линия 27"/>
            <p:cNvSpPr/>
            <p:nvPr/>
          </p:nvSpPr>
          <p:spPr>
            <a:xfrm>
              <a:off x="8669520" y="1435320"/>
              <a:ext cx="910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Прямая соединительная линия 28"/>
            <p:cNvSpPr/>
            <p:nvPr/>
          </p:nvSpPr>
          <p:spPr>
            <a:xfrm flipV="1">
              <a:off x="8733960" y="1434960"/>
              <a:ext cx="644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Группа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68" name="Прямая соединительная линия 30"/>
            <p:cNvSpPr/>
            <p:nvPr/>
          </p:nvSpPr>
          <p:spPr>
            <a:xfrm>
              <a:off x="8385840" y="1473120"/>
              <a:ext cx="644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Прямая соединительная линия 31"/>
            <p:cNvSpPr/>
            <p:nvPr/>
          </p:nvSpPr>
          <p:spPr>
            <a:xfrm>
              <a:off x="8321400" y="1538280"/>
              <a:ext cx="90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Прямая соединительная линия 32"/>
            <p:cNvSpPr/>
            <p:nvPr/>
          </p:nvSpPr>
          <p:spPr>
            <a:xfrm flipV="1">
              <a:off x="8385840" y="1537920"/>
              <a:ext cx="644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2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3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4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ACC9-C789-40A7-9290-BB1F20FCF393}" type="slidenum">
              <a:rPr b="0" lang="ru-RU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5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6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7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5F65-F5BF-42C0-8066-27346B541378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https://vk.com/club89952188" TargetMode="External"/><Relationship Id="rId4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1071720" y="364320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«Мир спасёт не красота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а экологическая грамотность»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                                     </a:t>
            </a: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И.Д.Звере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70" name="Picture 2" descr="C:\Users\Елена\Desktop\2653467-025f5143a419f57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1" name="Заголовок 1" descr=""/>
          <p:cNvPicPr/>
          <p:nvPr/>
        </p:nvPicPr>
        <p:blipFill>
          <a:blip r:embed="rId2"/>
          <a:stretch/>
        </p:blipFill>
        <p:spPr>
          <a:xfrm>
            <a:off x="463680" y="2170080"/>
            <a:ext cx="8832600" cy="4395960"/>
          </a:xfrm>
          <a:prstGeom prst="rect">
            <a:avLst/>
          </a:prstGeom>
          <a:ln w="0">
            <a:noFill/>
          </a:ln>
        </p:spPr>
      </p:pic>
      <p:sp>
        <p:nvSpPr>
          <p:cNvPr id="672" name="TextBox 5"/>
          <p:cNvSpPr/>
          <p:nvPr/>
        </p:nvSpPr>
        <p:spPr>
          <a:xfrm>
            <a:off x="0" y="33336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ОУ «СРЕДНЯЯ ОБЩЕОБРАЗОВАТЕЛЬНАЯ ШКОЛА 5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1071720" y="364320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«Мир спасёт не красота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а экологическая грамотность»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                                     </a:t>
            </a: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И.Д.Звере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74" name="Picture 2" descr="C:\Users\Елена\Desktop\2653467-025f5143a419f57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5" name="Заголовок 6" descr=""/>
          <p:cNvPicPr/>
          <p:nvPr/>
        </p:nvPicPr>
        <p:blipFill>
          <a:blip r:embed="rId2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G:\для сайта\bnp.jpg"/>
          <p:cNvPicPr/>
          <p:nvPr/>
        </p:nvPicPr>
        <p:blipFill>
          <a:blip r:embed="rId3"/>
          <a:stretch/>
        </p:blipFill>
        <p:spPr>
          <a:xfrm>
            <a:off x="468360" y="189000"/>
            <a:ext cx="6659640" cy="4994280"/>
          </a:xfrm>
          <a:prstGeom prst="rect">
            <a:avLst/>
          </a:prstGeom>
          <a:ln w="0">
            <a:noFill/>
          </a:ln>
        </p:spPr>
      </p:pic>
      <p:sp>
        <p:nvSpPr>
          <p:cNvPr id="677" name="TextBox 8"/>
          <p:cNvSpPr/>
          <p:nvPr/>
        </p:nvSpPr>
        <p:spPr>
          <a:xfrm>
            <a:off x="3059280" y="5516640"/>
            <a:ext cx="5689440" cy="520560"/>
          </a:xfrm>
          <a:prstGeom prst="rect">
            <a:avLst/>
          </a:prstGeom>
          <a:solidFill>
            <a:srgbClr val="ffffff"/>
          </a:solidFill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 – 2015 учебный год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ст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1071720" y="364320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«Мир спасёт не красота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а экологическая грамотность»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                                     </a:t>
            </a: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И.Д.Звере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79" name="Picture 2" descr="C:\Users\Елена\Desktop\2653467-025f5143a419f57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2"/>
          <p:cNvSpPr>
            <a:spLocks noGrp="1"/>
          </p:cNvSpPr>
          <p:nvPr>
            <p:ph type="title"/>
          </p:nvPr>
        </p:nvSpPr>
        <p:spPr>
          <a:xfrm>
            <a:off x="914400" y="4343400"/>
            <a:ext cx="77724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81" name="Rectangle 1"/>
          <p:cNvSpPr/>
          <p:nvPr/>
        </p:nvSpPr>
        <p:spPr>
          <a:xfrm>
            <a:off x="179280" y="238680"/>
            <a:ext cx="8640720" cy="624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Цели и задачи Сетевого проек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- личностные –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гражданская идентичность в форме осознания  «я» как жителя области, гражданина Росс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- предметные –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ходить на карте страны свой регион, описывать природу экологическую обстановку родного  края;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- метапредметные –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планировать свои действия в соответствии с поставленной задачей, осуществлять расширенный поиск информации с помощью Интернет-ресурсов, библиотек, преобразовывать информацию из одной  формы в другую, координировать свою работу в группе, знать формы и правила межличностного общ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1071720" y="364320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«Мир спасёт не красота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а экологическая грамотность»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                                     </a:t>
            </a: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И.Д.Звере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83" name="Picture 2" descr="C:\Users\Елена\Desktop\2653467-025f5143a419f57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914400" y="4343400"/>
            <a:ext cx="77724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85" name="Rectangle 1"/>
          <p:cNvSpPr/>
          <p:nvPr/>
        </p:nvSpPr>
        <p:spPr>
          <a:xfrm>
            <a:off x="179280" y="451440"/>
            <a:ext cx="8640720" cy="606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7840" indent="-3826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основных природоведческих представлений и понятий о живой и неживой приро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ширение и углубление представлений о взаимосвязях в природе и месте человека в н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ние бережного отношения ко всему живому на Земле, любви к приро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влечение детей в разнообразные виды деятельности в природе и по её охра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навыков экологически грамотного, нравственного поведения в природе; развитие первоначальных географических представл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Box 5"/>
          <p:cNvSpPr/>
          <p:nvPr/>
        </p:nvSpPr>
        <p:spPr>
          <a:xfrm>
            <a:off x="900000" y="476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ачи экологического разви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2" descr="C:\Users\Елена\Desktop\2653467-025f5143a419f57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8" name="Содержимое 4" descr=""/>
          <p:cNvPicPr/>
          <p:nvPr/>
        </p:nvPicPr>
        <p:blipFill>
          <a:blip r:embed="rId2"/>
          <a:stretch/>
        </p:blipFill>
        <p:spPr>
          <a:xfrm>
            <a:off x="-6480" y="1481040"/>
            <a:ext cx="10850760" cy="5913360"/>
          </a:xfrm>
          <a:prstGeom prst="rect">
            <a:avLst/>
          </a:prstGeom>
          <a:ln w="0">
            <a:noFill/>
          </a:ln>
        </p:spPr>
      </p:pic>
      <p:pic>
        <p:nvPicPr>
          <p:cNvPr id="689" name="Заголовок 1" descr=""/>
          <p:cNvPicPr/>
          <p:nvPr/>
        </p:nvPicPr>
        <p:blipFill>
          <a:blip r:embed="rId3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2" descr="C:\Users\Елена\Desktop\2653467-025f5143a419f57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1" name="Заголовок 1" descr=""/>
          <p:cNvPicPr/>
          <p:nvPr/>
        </p:nvPicPr>
        <p:blipFill>
          <a:blip r:embed="rId2"/>
          <a:stretch/>
        </p:blipFill>
        <p:spPr>
          <a:xfrm>
            <a:off x="92160" y="262080"/>
            <a:ext cx="8601120" cy="140796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чащиеся 1-5 классов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выход со страницы учителя – начальные классы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Жители город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чащиеся других шко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2" descr="C:\Users\Елена\Desktop\2653467-025f5143a419f57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4" name="Заголовок 1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 txBox="1"/>
          <p:nvPr/>
        </p:nvSpPr>
        <p:spPr>
          <a:xfrm>
            <a:off x="457200" y="188244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4\2015 уч.год – 22 чел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5\2016 уч.год – 43 чел.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6\2017 уч.год -  более 100 чел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96" name="Picture 3" descr="C:\Users\Пользователь\Desktop\2GA3uFRxiq0.jpg"/>
          <p:cNvPicPr/>
          <p:nvPr/>
        </p:nvPicPr>
        <p:blipFill>
          <a:blip r:embed="rId3"/>
          <a:stretch/>
        </p:blipFill>
        <p:spPr>
          <a:xfrm>
            <a:off x="5572080" y="3713040"/>
            <a:ext cx="3090960" cy="2863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icture 2" descr="C:\Users\Елена\Desktop\2653467-025f5143a419f57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5400" spc="-1" strike="noStrike" u="sng">
              <a:solidFill>
                <a:srgbClr val="c00000"/>
              </a:solidFill>
              <a:uFillTx/>
              <a:latin typeface="Century Gothic"/>
            </a:endParaRPr>
          </a:p>
        </p:txBody>
      </p:sp>
      <p:pic>
        <p:nvPicPr>
          <p:cNvPr id="699" name="Picture 2" descr="C:\скрин\бур.png"/>
          <p:cNvPicPr/>
          <p:nvPr/>
        </p:nvPicPr>
        <p:blipFill>
          <a:blip r:embed="rId2"/>
          <a:stretch/>
        </p:blipFill>
        <p:spPr>
          <a:xfrm>
            <a:off x="0" y="0"/>
            <a:ext cx="9134640" cy="5877000"/>
          </a:xfrm>
          <a:prstGeom prst="rect">
            <a:avLst/>
          </a:prstGeom>
          <a:ln w="0">
            <a:noFill/>
          </a:ln>
        </p:spPr>
      </p:pic>
      <p:sp>
        <p:nvSpPr>
          <p:cNvPr id="700" name="Прямоугольник 6"/>
          <p:cNvSpPr/>
          <p:nvPr/>
        </p:nvSpPr>
        <p:spPr>
          <a:xfrm>
            <a:off x="1476360" y="5950080"/>
            <a:ext cx="6335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s://vk.com/club89952188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9:27:53Z</dcterms:created>
  <dc:creator>User</dc:creator>
  <dc:description/>
  <dc:language>en-US</dc:language>
  <cp:lastModifiedBy>Пользователь</cp:lastModifiedBy>
  <dcterms:modified xsi:type="dcterms:W3CDTF">2017-02-20T12:57:12Z</dcterms:modified>
  <cp:revision>52</cp:revision>
  <dc:subject/>
  <dc:title>Формирование экологической культуры младших школьников</dc:title>
</cp:coreProperties>
</file>