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jpeg" ContentType="image/jpeg"/>
  <Override PartName="/ppt/media/image17.jpeg" ContentType="image/jpeg"/>
  <Override PartName="/ppt/media/chimes.wav" ContentType="audio/x-wav"/>
  <Override PartName="/ppt/media/image2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25.png" ContentType="image/png"/>
  <Override PartName="/ppt/media/image31.jpeg" ContentType="image/jpeg"/>
  <Override PartName="/ppt/media/image6.png" ContentType="image/png"/>
  <Override PartName="/ppt/media/image14.wmf" ContentType="image/x-wmf"/>
  <Override PartName="/ppt/media/wind.wav" ContentType="audio/x-wav"/>
  <Override PartName="/ppt/media/image10.jpeg" ContentType="image/jpeg"/>
  <Override PartName="/ppt/media/image26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0.png" ContentType="image/png"/>
  <Override PartName="/ppt/media/voltage.wav" ContentType="audio/x-wav"/>
  <Override PartName="/ppt/media/image28.wmf" ContentType="image/x-wmf"/>
  <Override PartName="/ppt/media/applause.wav" ContentType="audio/x-wav"/>
  <Override PartName="/ppt/media/image27.wmf" ContentType="image/x-wmf"/>
  <Override PartName="/ppt/media/camera.wav" ContentType="audio/x-wav"/>
  <Override PartName="/ppt/media/image22.png" ContentType="image/png"/>
  <Override PartName="/ppt/media/image4.png" ContentType="image/png"/>
  <Override PartName="/ppt/media/image16.jpeg" ContentType="image/jpeg"/>
  <Override PartName="/ppt/media/image5.wmf" ContentType="image/x-wmf"/>
  <Override PartName="/ppt/media/laser.wav" ContentType="audio/x-wav"/>
  <Override PartName="/ppt/media/image1.jpeg" ContentType="image/jpeg"/>
  <Override PartName="/ppt/media/drumroll.wav" ContentType="audio/x-wav"/>
  <Override PartName="/ppt/media/image9.jpeg" ContentType="image/jpeg"/>
  <Override PartName="/ppt/media/image11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FAC-E6EF-47FD-847E-DADA4767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73F-38C7-42E4-9452-21D41D85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10D-BE2B-43E0-939B-15F1C877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DD6-4948-4D66-86EB-4D155973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0B0-127E-42DB-A538-A530322F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70C9-7B11-4C1C-B279-492B642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ED49-9E6F-45A1-B181-5062C211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C872-F37F-4291-8577-D8750A07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51AF-34A7-4B97-8041-C564C0BC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CF4E-9087-4550-8F5E-8A36F489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3BA7-CEA3-4418-BE09-D3C9664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131-8FD7-4A12-A34F-86EF8D87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5681-A150-4018-AE06-1244B0A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663-10E5-491A-95D8-BB5A8F51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21CF-42E3-4F1B-A2A6-C3EDB65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16D9-7560-4909-8E3A-B94612C2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ED24-A6FF-4687-9B9D-AED2968D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5F7-4E34-43F5-BC31-69E6287D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6B4-181B-4493-9423-BF03DA71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400-F35C-4F45-B8A5-9D738CC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28D-CE94-4795-A089-EE34D50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421-15F5-413C-853D-F8B647D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336-86A5-45BE-B070-E6D006D6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746-6130-4DDC-8792-B5B8D1F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2A54-A72B-4862-A976-41DFC9BB2F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320"/>
              <a:ext cx="3622320" cy="6134040"/>
              <a:chOff x="5407920" y="58320"/>
              <a:chExt cx="3622320" cy="61340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69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1960"/>
              <a:ext cx="892800" cy="825840"/>
              <a:chOff x="5649120" y="29196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2400"/>
                <a:ext cx="250920" cy="3006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5269-7AC1-4A38-B41B-85EE44BDCD6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65280" y="928440"/>
            <a:ext cx="75787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Спортивная виктори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r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5715000" cy="428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называется акробатика на лыжах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9" descr="http://35region.cherinfo.ru/u/pages/2011/12/29/0cc7d3f84a23c7a9d80a2b65f71679a6.png"/>
          <p:cNvPicPr/>
          <p:nvPr/>
        </p:nvPicPr>
        <p:blipFill>
          <a:blip r:embed="rId1"/>
          <a:stretch/>
        </p:blipFill>
        <p:spPr>
          <a:xfrm>
            <a:off x="5072040" y="2332080"/>
            <a:ext cx="38577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фристай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5" descr="http://www.insnow.ru/upload/iblock/7b7/7b7464aee026393af4244e144dd6500e.png"/>
          <p:cNvPicPr/>
          <p:nvPr/>
        </p:nvPicPr>
        <p:blipFill>
          <a:blip r:embed="rId1"/>
          <a:stretch/>
        </p:blipFill>
        <p:spPr>
          <a:xfrm>
            <a:off x="5357880" y="285768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http://s1.n1.by/sites/default/files/imagecache/full/20110212_raubichi.jpg"/>
          <p:cNvPicPr/>
          <p:nvPr/>
        </p:nvPicPr>
        <p:blipFill>
          <a:blip r:embed="rId2"/>
          <a:stretch/>
        </p:blipFill>
        <p:spPr>
          <a:xfrm>
            <a:off x="189000" y="1857240"/>
            <a:ext cx="486864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7572600" cy="56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называется спортивный снаряд, которым спортсмены играют клюшками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7" descr="http://ic.pics.livejournal.com/pernatik_kar/24292298/9922/9922_original.png"/>
          <p:cNvPicPr/>
          <p:nvPr/>
        </p:nvPicPr>
        <p:blipFill>
          <a:blip r:embed="rId1"/>
          <a:stretch/>
        </p:blipFill>
        <p:spPr>
          <a:xfrm>
            <a:off x="6715080" y="3166920"/>
            <a:ext cx="242892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шайб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2" descr="C:\Documents and Settings\Олег\Local Settings\Temporary Internet Files\Content.IE5\OZY00KCZ\MC900407912[1].wmf"/>
          <p:cNvPicPr/>
          <p:nvPr/>
        </p:nvPicPr>
        <p:blipFill>
          <a:blip r:embed="rId1"/>
          <a:stretch/>
        </p:blipFill>
        <p:spPr>
          <a:xfrm>
            <a:off x="2357280" y="1785960"/>
            <a:ext cx="4857840" cy="404496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542916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Где пройдет  </a:t>
            </a:r>
            <a:br>
              <a:rPr sz="6000"/>
            </a:b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Олимпиада в 2014 году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214960" y="2075040"/>
            <a:ext cx="3429000" cy="4505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оч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2" descr="http://europansion.ru/uploads/posts/2012-07/1343733098_screenshot-9437.jpg"/>
          <p:cNvPicPr/>
          <p:nvPr/>
        </p:nvPicPr>
        <p:blipFill>
          <a:blip r:embed="rId1"/>
          <a:stretch/>
        </p:blipFill>
        <p:spPr>
          <a:xfrm>
            <a:off x="549360" y="1214280"/>
            <a:ext cx="359388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phototag.ru/show/409068_416648/m2"/>
          <p:cNvPicPr/>
          <p:nvPr/>
        </p:nvPicPr>
        <p:blipFill>
          <a:blip r:embed="rId2"/>
          <a:stretch/>
        </p:blipFill>
        <p:spPr>
          <a:xfrm>
            <a:off x="4786200" y="121428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http://building-galaxy.ru/images/modules/photoalbums/68/gallery/img_1276252684_3.jpg"/>
          <p:cNvPicPr/>
          <p:nvPr/>
        </p:nvPicPr>
        <p:blipFill>
          <a:blip r:embed="rId3"/>
          <a:stretch/>
        </p:blipFill>
        <p:spPr>
          <a:xfrm>
            <a:off x="2357280" y="3857760"/>
            <a:ext cx="44388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4786200" cy="428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В каком виде спорта натирают лед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3" name="Picture 2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5143680" y="2071800"/>
            <a:ext cx="3571560" cy="4711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керлинг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7" descr="C:\Documents and Settings\Олег\Local Settings\Temporary Internet Files\Content.IE5\TMT6MFP9\MC900318726[1].wmf"/>
          <p:cNvPicPr/>
          <p:nvPr/>
        </p:nvPicPr>
        <p:blipFill>
          <a:blip r:embed="rId1"/>
          <a:stretch/>
        </p:blipFill>
        <p:spPr>
          <a:xfrm>
            <a:off x="4214880" y="1714680"/>
            <a:ext cx="4411440" cy="4071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Documents and Settings\Олег\Local Settings\Temporary Internet Files\Content.IE5\OZY00KCZ\dglxasset[2].aspx"/>
          <p:cNvPicPr/>
          <p:nvPr/>
        </p:nvPicPr>
        <p:blipFill>
          <a:blip r:embed="rId2"/>
          <a:stretch/>
        </p:blipFill>
        <p:spPr>
          <a:xfrm>
            <a:off x="428760" y="1928880"/>
            <a:ext cx="329544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920" y="1499760"/>
            <a:ext cx="6286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колько олимпийских колец переплетены между собой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Picture 5" descr="http://olympteka.ru/images/simbols/mascots/big/w2014.gif"/>
          <p:cNvPicPr/>
          <p:nvPr/>
        </p:nvPicPr>
        <p:blipFill>
          <a:blip r:embed="rId1"/>
          <a:stretch/>
        </p:blipFill>
        <p:spPr>
          <a:xfrm>
            <a:off x="5715000" y="335772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5 колец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Picture 6" descr="http://www.blogspan.net/wp-content/uploads/Olympic_flage.png"/>
          <p:cNvPicPr/>
          <p:nvPr/>
        </p:nvPicPr>
        <p:blipFill>
          <a:blip r:embed="rId1"/>
          <a:stretch/>
        </p:blipFill>
        <p:spPr>
          <a:xfrm>
            <a:off x="1214280" y="1571760"/>
            <a:ext cx="6755040" cy="4500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557208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Что надо делать по утрам, чтобы быть бодрым и здоровым?</a:t>
            </a: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0" y="3143160"/>
            <a:ext cx="2858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26" descr="http://sdelanounas.ru/i/a/w/aW1nMTUubm5tLnJ1L2MvNi83LzQvMS84MjQzZjhlN2QwZDQ5OGU5NWQ5YzUyNzEwMTcuanBn.jpg"/>
          <p:cNvPicPr/>
          <p:nvPr/>
        </p:nvPicPr>
        <p:blipFill>
          <a:blip r:embed="rId1"/>
          <a:stretch/>
        </p:blipFill>
        <p:spPr>
          <a:xfrm>
            <a:off x="5857920" y="2857680"/>
            <a:ext cx="311292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47149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Вид спорта на доске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http://12ballov.ru/tw_files2/urls_7/25/d-24802/24802_html_m35304b6e.png"/>
          <p:cNvPicPr/>
          <p:nvPr/>
        </p:nvPicPr>
        <p:blipFill>
          <a:blip r:embed="rId1"/>
          <a:stretch/>
        </p:blipFill>
        <p:spPr>
          <a:xfrm>
            <a:off x="4572000" y="3119400"/>
            <a:ext cx="4214880" cy="351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ноуборд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Picture 3" descr="C:\Documents and Settings\Олег\Local Settings\Temporary Internet Files\Content.IE5\OZY00KCZ\MC900318772[1].wmf"/>
          <p:cNvPicPr/>
          <p:nvPr/>
        </p:nvPicPr>
        <p:blipFill>
          <a:blip r:embed="rId1"/>
          <a:stretch/>
        </p:blipFill>
        <p:spPr>
          <a:xfrm>
            <a:off x="4357800" y="1714680"/>
            <a:ext cx="4221000" cy="40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Documents and Settings\Олег\Local Settings\Temporary Internet Files\Content.IE5\X6Z4HOSB\dglxasset[1].png"/>
          <p:cNvPicPr/>
          <p:nvPr/>
        </p:nvPicPr>
        <p:blipFill>
          <a:blip r:embed="rId2"/>
          <a:stretch/>
        </p:blipFill>
        <p:spPr>
          <a:xfrm>
            <a:off x="285840" y="1500120"/>
            <a:ext cx="3500280" cy="42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528660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Дорожка лыжника?  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4" descr="http://sdelanounas.ru/i/a/w/aW1nMTUubm5tLnJ1L2MvNi83LzQvMS84MjQzZjhlN2QwZDQ5OGU5NWQ5YzUyNzEwMTcuanBn.jpg"/>
          <p:cNvPicPr/>
          <p:nvPr/>
        </p:nvPicPr>
        <p:blipFill>
          <a:blip r:embed="rId1"/>
          <a:stretch/>
        </p:blipFill>
        <p:spPr>
          <a:xfrm>
            <a:off x="5634000" y="2500200"/>
            <a:ext cx="329580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wind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лыжня 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2" descr="C:\Documents and Settings\Олег\Local Settings\Temporary Internet Files\Content.IE5\X6Z4HOSB\MC900212995[1].wmf"/>
          <p:cNvPicPr/>
          <p:nvPr/>
        </p:nvPicPr>
        <p:blipFill>
          <a:blip r:embed="rId1"/>
          <a:stretch/>
        </p:blipFill>
        <p:spPr>
          <a:xfrm>
            <a:off x="1785960" y="1785960"/>
            <a:ext cx="533556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voltag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514332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Детский зимний транспорт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1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643720" y="2286000"/>
            <a:ext cx="326700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анк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2" descr="C:\Documents and Settings\Олег\Local Settings\Temporary Internet Files\Content.IE5\OZY00KCZ\dglxasset[1].aspx"/>
          <p:cNvPicPr/>
          <p:nvPr/>
        </p:nvPicPr>
        <p:blipFill>
          <a:blip r:embed="rId1"/>
          <a:stretch/>
        </p:blipFill>
        <p:spPr>
          <a:xfrm>
            <a:off x="4724280" y="1928880"/>
            <a:ext cx="365760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Олег\Local Settings\Temporary Internet Files\Content.IE5\TMT6MFP9\dglxasset[1].aspx"/>
          <p:cNvPicPr/>
          <p:nvPr/>
        </p:nvPicPr>
        <p:blipFill>
          <a:blip r:embed="rId2"/>
          <a:stretch/>
        </p:blipFill>
        <p:spPr>
          <a:xfrm>
            <a:off x="552600" y="2000160"/>
            <a:ext cx="391464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3" name="drumroll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02960"/>
            <a:ext cx="6357960" cy="375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ие бывают олимпийские медали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Picture 9" descr="http://35region.cherinfo.ru/u/pages/2011/12/29/0cc7d3f84a23c7a9d80a2b65f71679a6.png"/>
          <p:cNvPicPr/>
          <p:nvPr/>
        </p:nvPicPr>
        <p:blipFill>
          <a:blip r:embed="rId1"/>
          <a:stretch/>
        </p:blipFill>
        <p:spPr>
          <a:xfrm>
            <a:off x="5072040" y="2332080"/>
            <a:ext cx="38577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8648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золотые,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серебряные,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бронзовые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Picture 4" descr="http://www.magyarhirlap.hu/sites/default/files/styles/szovegbe_agyazott_teljes_szelesseg/public/ermek.jpg?itok=7zKFhXpK"/>
          <p:cNvPicPr/>
          <p:nvPr/>
        </p:nvPicPr>
        <p:blipFill>
          <a:blip r:embed="rId1"/>
          <a:stretch/>
        </p:blipFill>
        <p:spPr>
          <a:xfrm>
            <a:off x="785880" y="3357720"/>
            <a:ext cx="748188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0" name="Рисунок 2" descr="http://puls-m.com/wp-content/uploads/2013/09/%D1%81%D0%BE%D1%87%D0%B8.png"/>
          <p:cNvPicPr/>
          <p:nvPr/>
        </p:nvPicPr>
        <p:blipFill>
          <a:blip r:embed="rId1"/>
          <a:stretch/>
        </p:blipFill>
        <p:spPr>
          <a:xfrm>
            <a:off x="857160" y="428760"/>
            <a:ext cx="750096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пасибо за внимание!!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2" name="Picture 6" descr="http://school10.centerstart.ru/sites/default/files/u9/26281_5efbb65a__5efbb65a_middle.jpg"/>
          <p:cNvPicPr/>
          <p:nvPr/>
        </p:nvPicPr>
        <p:blipFill>
          <a:blip r:embed="rId1"/>
          <a:stretch/>
        </p:blipFill>
        <p:spPr>
          <a:xfrm>
            <a:off x="1857240" y="2286000"/>
            <a:ext cx="550080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71440" y="356760"/>
            <a:ext cx="550044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зарядку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14" descr="C:\Documents and Settings\Олег\Local Settings\Temporary Internet Files\Content.IE5\OZY00KCZ\MC900429961[1].wmf"/>
          <p:cNvPicPr/>
          <p:nvPr/>
        </p:nvPicPr>
        <p:blipFill>
          <a:blip r:embed="rId1"/>
          <a:stretch/>
        </p:blipFill>
        <p:spPr>
          <a:xfrm>
            <a:off x="344520" y="2214720"/>
            <a:ext cx="3870360" cy="3571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Documents and Settings\Олег\Local Settings\Temporary Internet Files\Content.IE5\2TWF3INS\MC900389120[1].wmf"/>
          <p:cNvPicPr/>
          <p:nvPr/>
        </p:nvPicPr>
        <p:blipFill>
          <a:blip r:embed="rId2"/>
          <a:stretch/>
        </p:blipFill>
        <p:spPr>
          <a:xfrm>
            <a:off x="5000760" y="2143080"/>
            <a:ext cx="3622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6072120" cy="478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зовут спортсмена, катающегося на коньках под музыку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7" descr="http://ic.pics.livejournal.com/pernatik_kar/24292298/9922/9922_original.png"/>
          <p:cNvPicPr/>
          <p:nvPr/>
        </p:nvPicPr>
        <p:blipFill>
          <a:blip r:embed="rId1"/>
          <a:stretch/>
        </p:blipFill>
        <p:spPr>
          <a:xfrm>
            <a:off x="6429240" y="3286080"/>
            <a:ext cx="219564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фигурист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4" descr="C:\Documents and Settings\Олег\Local Settings\Temporary Internet Files\Content.IE5\TMT6MFP9\MC900398303[1].wmf"/>
          <p:cNvPicPr/>
          <p:nvPr/>
        </p:nvPicPr>
        <p:blipFill>
          <a:blip r:embed="rId1"/>
          <a:stretch/>
        </p:blipFill>
        <p:spPr>
          <a:xfrm>
            <a:off x="2428920" y="1928880"/>
            <a:ext cx="435780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557208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колько команд играют в хоккей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429160" y="2143080"/>
            <a:ext cx="331632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2 команды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5" descr="C:\Documents and Settings\Олег\Local Settings\Temporary Internet Files\Content.IE5\2TWF3INS\MC900432175[1].wmf"/>
          <p:cNvPicPr/>
          <p:nvPr/>
        </p:nvPicPr>
        <p:blipFill>
          <a:blip r:embed="rId1"/>
          <a:stretch/>
        </p:blipFill>
        <p:spPr>
          <a:xfrm>
            <a:off x="857160" y="2143080"/>
            <a:ext cx="3071880" cy="3395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Documents and Settings\Олег\Local Settings\Temporary Internet Files\Content.IE5\X6Z4HOSB\MC900432173[1].wmf"/>
          <p:cNvPicPr/>
          <p:nvPr/>
        </p:nvPicPr>
        <p:blipFill>
          <a:blip r:embed="rId2"/>
          <a:stretch/>
        </p:blipFill>
        <p:spPr>
          <a:xfrm>
            <a:off x="5143680" y="221472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521496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зовут людей, которые зимой купаются в проруби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7" descr="http://design-for-business.ru/storage/upload/2011/Analitics/Recenzii/Sochi/1fef8486925df53860b61fc6b06d0682.jpg"/>
          <p:cNvPicPr/>
          <p:nvPr/>
        </p:nvPicPr>
        <p:blipFill>
          <a:blip r:embed="rId1"/>
          <a:stretch/>
        </p:blipFill>
        <p:spPr>
          <a:xfrm>
            <a:off x="5500800" y="3000240"/>
            <a:ext cx="34606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морж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6" descr="http://www.chastnik.ru/wp-content/uploads/2011/01/182.jpg"/>
          <p:cNvPicPr/>
          <p:nvPr/>
        </p:nvPicPr>
        <p:blipFill>
          <a:blip r:embed="rId1"/>
          <a:stretch/>
        </p:blipFill>
        <p:spPr>
          <a:xfrm>
            <a:off x="1214280" y="185724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7:45:03Z</dcterms:created>
  <dc:creator>WiZaRd</dc:creator>
  <dc:description/>
  <dc:language>en-US</dc:language>
  <cp:lastModifiedBy>НВК</cp:lastModifiedBy>
  <dcterms:modified xsi:type="dcterms:W3CDTF">2017-03-15T16:58:34Z</dcterms:modified>
  <cp:revision>32</cp:revision>
  <dc:subject/>
  <dc:title>Слайд 1</dc:title>
</cp:coreProperties>
</file>