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jpeg" ContentType="image/jpeg"/>
  <Override PartName="/ppt/media/image17.jpeg" ContentType="image/jpeg"/>
  <Override PartName="/ppt/media/chimes.wav" ContentType="audio/x-wav"/>
  <Override PartName="/ppt/media/image2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25.png" ContentType="image/png"/>
  <Override PartName="/ppt/media/image31.jpeg" ContentType="image/jpeg"/>
  <Override PartName="/ppt/media/image6.png" ContentType="image/png"/>
  <Override PartName="/ppt/media/image14.wmf" ContentType="image/x-wmf"/>
  <Override PartName="/ppt/media/wind.wav" ContentType="audio/x-wav"/>
  <Override PartName="/ppt/media/image10.jpeg" ContentType="image/jpeg"/>
  <Override PartName="/ppt/media/image26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0.png" ContentType="image/png"/>
  <Override PartName="/ppt/media/voltage.wav" ContentType="audio/x-wav"/>
  <Override PartName="/ppt/media/image28.wmf" ContentType="image/x-wmf"/>
  <Override PartName="/ppt/media/applause.wav" ContentType="audio/x-wav"/>
  <Override PartName="/ppt/media/image27.wmf" ContentType="image/x-wmf"/>
  <Override PartName="/ppt/media/camera.wav" ContentType="audio/x-wav"/>
  <Override PartName="/ppt/media/image22.png" ContentType="image/png"/>
  <Override PartName="/ppt/media/image4.png" ContentType="image/png"/>
  <Override PartName="/ppt/media/image16.jpeg" ContentType="image/jpeg"/>
  <Override PartName="/ppt/media/image5.wmf" ContentType="image/x-wmf"/>
  <Override PartName="/ppt/media/laser.wav" ContentType="audio/x-wav"/>
  <Override PartName="/ppt/media/image1.jpeg" ContentType="image/jpeg"/>
  <Override PartName="/ppt/media/drumroll.wav" ContentType="audio/x-wav"/>
  <Override PartName="/ppt/media/image9.jpeg" ContentType="image/jpeg"/>
  <Override PartName="/ppt/media/image11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058-0C73-43BE-B243-3D44E034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773-FDDA-46BB-A3C2-360F0D60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ECD-ECE8-479E-8DE0-D1A0DF2A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F02-4843-4501-B831-70A38B65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1C78-6E8B-481B-947B-FC084E26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5329-7DC4-4892-A806-1FECAE47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7BCA-0DC3-4438-AC71-FD2E995C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510-1862-4978-8FB7-A225A75E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AD6-A3B7-46E2-8FAD-50BDC847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558C-61B4-4DE0-AC89-DA632987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440F-F0F1-4ED2-A476-68FD7A0A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9DC-114C-4746-B99A-AABB6D48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F2C3-214B-4992-A70D-9079F78C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31D0-03D0-4A83-ADD7-B38F6E84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3736-BEA5-48AA-9069-E92910BD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EE4C-A7F8-48C8-B6BD-E6A6525C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A68A-E807-4BC6-AF44-2FC0B6E1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1EF-A1A6-48B8-9012-A0212D22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00F-0649-444D-A0B1-E6EBD38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CAB-437C-4EFB-9381-07DF80E1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B1D-B5E5-400E-807D-FCC080E2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1DD-F031-4A42-9DCA-3587C9D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FFD-D653-48F1-80B6-F1C927A3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CB2-8668-4A80-81A0-2C1030E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4D0F-9D89-46FF-AA6E-27352A53748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320"/>
              <a:ext cx="3622320" cy="6134040"/>
              <a:chOff x="5407920" y="58320"/>
              <a:chExt cx="3622320" cy="61340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69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760"/>
                <a:ext cx="523440" cy="326772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1960"/>
              <a:ext cx="892800" cy="825840"/>
              <a:chOff x="5649120" y="29196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168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2400"/>
                <a:ext cx="250920" cy="3006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8094-3188-4770-A6C3-7CD57806DE2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65280" y="928440"/>
            <a:ext cx="75787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Спортивная виктори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r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5715000" cy="428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называется акробатика на лыжах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9" descr="http://35region.cherinfo.ru/u/pages/2011/12/29/0cc7d3f84a23c7a9d80a2b65f71679a6.png"/>
          <p:cNvPicPr/>
          <p:nvPr/>
        </p:nvPicPr>
        <p:blipFill>
          <a:blip r:embed="rId1"/>
          <a:stretch/>
        </p:blipFill>
        <p:spPr>
          <a:xfrm>
            <a:off x="5072040" y="2332080"/>
            <a:ext cx="385776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фристай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5" descr="http://www.insnow.ru/upload/iblock/7b7/7b7464aee026393af4244e144dd6500e.png"/>
          <p:cNvPicPr/>
          <p:nvPr/>
        </p:nvPicPr>
        <p:blipFill>
          <a:blip r:embed="rId1"/>
          <a:stretch/>
        </p:blipFill>
        <p:spPr>
          <a:xfrm>
            <a:off x="5357880" y="285768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http://s1.n1.by/sites/default/files/imagecache/full/20110212_raubichi.jpg"/>
          <p:cNvPicPr/>
          <p:nvPr/>
        </p:nvPicPr>
        <p:blipFill>
          <a:blip r:embed="rId2"/>
          <a:stretch/>
        </p:blipFill>
        <p:spPr>
          <a:xfrm>
            <a:off x="189000" y="1857240"/>
            <a:ext cx="4868640" cy="3286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7572600" cy="56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называется спортивный снаряд, которым спортсмены играют клюшками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7" descr="http://ic.pics.livejournal.com/pernatik_kar/24292298/9922/9922_original.png"/>
          <p:cNvPicPr/>
          <p:nvPr/>
        </p:nvPicPr>
        <p:blipFill>
          <a:blip r:embed="rId1"/>
          <a:stretch/>
        </p:blipFill>
        <p:spPr>
          <a:xfrm>
            <a:off x="6715080" y="3166920"/>
            <a:ext cx="2428920" cy="3476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шайб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2" descr="C:\Documents and Settings\Олег\Local Settings\Temporary Internet Files\Content.IE5\OZY00KCZ\MC900407912[1].wmf"/>
          <p:cNvPicPr/>
          <p:nvPr/>
        </p:nvPicPr>
        <p:blipFill>
          <a:blip r:embed="rId1"/>
          <a:stretch/>
        </p:blipFill>
        <p:spPr>
          <a:xfrm>
            <a:off x="2357280" y="1785960"/>
            <a:ext cx="4857840" cy="404496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714240"/>
            <a:ext cx="542916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Где пройдет  </a:t>
            </a:r>
            <a:br>
              <a:rPr sz="6000"/>
            </a:b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Олимпиада в 2014 году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214960" y="2075040"/>
            <a:ext cx="3429000" cy="4505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оч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2" descr="http://europansion.ru/uploads/posts/2012-07/1343733098_screenshot-9437.jpg"/>
          <p:cNvPicPr/>
          <p:nvPr/>
        </p:nvPicPr>
        <p:blipFill>
          <a:blip r:embed="rId1"/>
          <a:stretch/>
        </p:blipFill>
        <p:spPr>
          <a:xfrm>
            <a:off x="549360" y="1214280"/>
            <a:ext cx="3593880" cy="25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phototag.ru/show/409068_416648/m2"/>
          <p:cNvPicPr/>
          <p:nvPr/>
        </p:nvPicPr>
        <p:blipFill>
          <a:blip r:embed="rId2"/>
          <a:stretch/>
        </p:blipFill>
        <p:spPr>
          <a:xfrm>
            <a:off x="4786200" y="1214280"/>
            <a:ext cx="4114800" cy="2571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http://building-galaxy.ru/images/modules/photoalbums/68/gallery/img_1276252684_3.jpg"/>
          <p:cNvPicPr/>
          <p:nvPr/>
        </p:nvPicPr>
        <p:blipFill>
          <a:blip r:embed="rId3"/>
          <a:stretch/>
        </p:blipFill>
        <p:spPr>
          <a:xfrm>
            <a:off x="2357280" y="3857760"/>
            <a:ext cx="443880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400" y="1000080"/>
            <a:ext cx="4786200" cy="428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В каком виде спорта натирают лед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3" name="Picture 2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5143680" y="2071800"/>
            <a:ext cx="3571560" cy="4711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керлинг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Picture 7" descr="C:\Documents and Settings\Олег\Local Settings\Temporary Internet Files\Content.IE5\TMT6MFP9\MC900318726[1].wmf"/>
          <p:cNvPicPr/>
          <p:nvPr/>
        </p:nvPicPr>
        <p:blipFill>
          <a:blip r:embed="rId1"/>
          <a:stretch/>
        </p:blipFill>
        <p:spPr>
          <a:xfrm>
            <a:off x="4214880" y="1714680"/>
            <a:ext cx="4411440" cy="4071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Documents and Settings\Олег\Local Settings\Temporary Internet Files\Content.IE5\OZY00KCZ\dglxasset[2].aspx"/>
          <p:cNvPicPr/>
          <p:nvPr/>
        </p:nvPicPr>
        <p:blipFill>
          <a:blip r:embed="rId2"/>
          <a:stretch/>
        </p:blipFill>
        <p:spPr>
          <a:xfrm>
            <a:off x="428760" y="1928880"/>
            <a:ext cx="329544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3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920" y="1499760"/>
            <a:ext cx="6286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колько олимпийских колец переплетены между собой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8" name="Picture 5" descr="http://olympteka.ru/images/simbols/mascots/big/w2014.gif"/>
          <p:cNvPicPr/>
          <p:nvPr/>
        </p:nvPicPr>
        <p:blipFill>
          <a:blip r:embed="rId1"/>
          <a:stretch/>
        </p:blipFill>
        <p:spPr>
          <a:xfrm>
            <a:off x="5715000" y="335772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5 колец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Picture 6" descr="http://www.blogspan.net/wp-content/uploads/Olympic_flage.png"/>
          <p:cNvPicPr/>
          <p:nvPr/>
        </p:nvPicPr>
        <p:blipFill>
          <a:blip r:embed="rId1"/>
          <a:stretch/>
        </p:blipFill>
        <p:spPr>
          <a:xfrm>
            <a:off x="1214280" y="1571760"/>
            <a:ext cx="6755040" cy="4500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557208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Что надо делать по утрам, чтобы быть бодрым и здоровым?</a:t>
            </a: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0" y="3143160"/>
            <a:ext cx="2858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26" descr="http://sdelanounas.ru/i/a/w/aW1nMTUubm5tLnJ1L2MvNi83LzQvMS84MjQzZjhlN2QwZDQ5OGU5NWQ5YzUyNzEwMTcuanBn.jpg"/>
          <p:cNvPicPr/>
          <p:nvPr/>
        </p:nvPicPr>
        <p:blipFill>
          <a:blip r:embed="rId1"/>
          <a:stretch/>
        </p:blipFill>
        <p:spPr>
          <a:xfrm>
            <a:off x="5857920" y="2857680"/>
            <a:ext cx="311292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47149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Вид спорта на доске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4" descr="http://12ballov.ru/tw_files2/urls_7/25/d-24802/24802_html_m35304b6e.png"/>
          <p:cNvPicPr/>
          <p:nvPr/>
        </p:nvPicPr>
        <p:blipFill>
          <a:blip r:embed="rId1"/>
          <a:stretch/>
        </p:blipFill>
        <p:spPr>
          <a:xfrm>
            <a:off x="4572000" y="3119400"/>
            <a:ext cx="4214880" cy="3517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ноуборд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Picture 3" descr="C:\Documents and Settings\Олег\Local Settings\Temporary Internet Files\Content.IE5\OZY00KCZ\MC900318772[1].wmf"/>
          <p:cNvPicPr/>
          <p:nvPr/>
        </p:nvPicPr>
        <p:blipFill>
          <a:blip r:embed="rId1"/>
          <a:stretch/>
        </p:blipFill>
        <p:spPr>
          <a:xfrm>
            <a:off x="4357800" y="1714680"/>
            <a:ext cx="4221000" cy="40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Documents and Settings\Олег\Local Settings\Temporary Internet Files\Content.IE5\X6Z4HOSB\dglxasset[1].png"/>
          <p:cNvPicPr/>
          <p:nvPr/>
        </p:nvPicPr>
        <p:blipFill>
          <a:blip r:embed="rId2"/>
          <a:stretch/>
        </p:blipFill>
        <p:spPr>
          <a:xfrm>
            <a:off x="285840" y="1500120"/>
            <a:ext cx="3500280" cy="427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drum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528660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Дорожка лыжника?  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Picture 4" descr="http://sdelanounas.ru/i/a/w/aW1nMTUubm5tLnJ1L2MvNi83LzQvMS84MjQzZjhlN2QwZDQ5OGU5NWQ5YzUyNzEwMTcuanBn.jpg"/>
          <p:cNvPicPr/>
          <p:nvPr/>
        </p:nvPicPr>
        <p:blipFill>
          <a:blip r:embed="rId1"/>
          <a:stretch/>
        </p:blipFill>
        <p:spPr>
          <a:xfrm>
            <a:off x="5634000" y="2500200"/>
            <a:ext cx="329580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wind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лыжня 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Picture 2" descr="C:\Documents and Settings\Олег\Local Settings\Temporary Internet Files\Content.IE5\X6Z4HOSB\MC900212995[1].wmf"/>
          <p:cNvPicPr/>
          <p:nvPr/>
        </p:nvPicPr>
        <p:blipFill>
          <a:blip r:embed="rId1"/>
          <a:stretch/>
        </p:blipFill>
        <p:spPr>
          <a:xfrm>
            <a:off x="1785960" y="1785960"/>
            <a:ext cx="533556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voltag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514332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Детский зимний транспорт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1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643720" y="2286000"/>
            <a:ext cx="326700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анк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2" descr="C:\Documents and Settings\Олег\Local Settings\Temporary Internet Files\Content.IE5\OZY00KCZ\dglxasset[1].aspx"/>
          <p:cNvPicPr/>
          <p:nvPr/>
        </p:nvPicPr>
        <p:blipFill>
          <a:blip r:embed="rId1"/>
          <a:stretch/>
        </p:blipFill>
        <p:spPr>
          <a:xfrm>
            <a:off x="4724280" y="1928880"/>
            <a:ext cx="365760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Олег\Local Settings\Temporary Internet Files\Content.IE5\TMT6MFP9\dglxasset[1].aspx"/>
          <p:cNvPicPr/>
          <p:nvPr/>
        </p:nvPicPr>
        <p:blipFill>
          <a:blip r:embed="rId2"/>
          <a:stretch/>
        </p:blipFill>
        <p:spPr>
          <a:xfrm>
            <a:off x="552600" y="2000160"/>
            <a:ext cx="391464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3" name="drumroll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02960"/>
            <a:ext cx="6357960" cy="375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ие бывают олимпийские медали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Picture 9" descr="http://35region.cherinfo.ru/u/pages/2011/12/29/0cc7d3f84a23c7a9d80a2b65f71679a6.png"/>
          <p:cNvPicPr/>
          <p:nvPr/>
        </p:nvPicPr>
        <p:blipFill>
          <a:blip r:embed="rId1"/>
          <a:stretch/>
        </p:blipFill>
        <p:spPr>
          <a:xfrm>
            <a:off x="5072040" y="2332080"/>
            <a:ext cx="385776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8648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золотые,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серебряные,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бронзовые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Picture 4" descr="http://www.magyarhirlap.hu/sites/default/files/styles/szovegbe_agyazott_teljes_szelesseg/public/ermek.jpg?itok=7zKFhXpK"/>
          <p:cNvPicPr/>
          <p:nvPr/>
        </p:nvPicPr>
        <p:blipFill>
          <a:blip r:embed="rId1"/>
          <a:stretch/>
        </p:blipFill>
        <p:spPr>
          <a:xfrm>
            <a:off x="785880" y="3357720"/>
            <a:ext cx="748188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0" name="Рисунок 2" descr="http://puls-m.com/wp-content/uploads/2013/09/%D1%81%D0%BE%D1%87%D0%B8.png"/>
          <p:cNvPicPr/>
          <p:nvPr/>
        </p:nvPicPr>
        <p:blipFill>
          <a:blip r:embed="rId1"/>
          <a:stretch/>
        </p:blipFill>
        <p:spPr>
          <a:xfrm>
            <a:off x="857160" y="428760"/>
            <a:ext cx="750096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1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пасибо за внимание!!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2" name="Picture 6" descr="http://school10.centerstart.ru/sites/default/files/u9/26281_5efbb65a__5efbb65a_middle.jpg"/>
          <p:cNvPicPr/>
          <p:nvPr/>
        </p:nvPicPr>
        <p:blipFill>
          <a:blip r:embed="rId1"/>
          <a:stretch/>
        </p:blipFill>
        <p:spPr>
          <a:xfrm>
            <a:off x="1857240" y="2286000"/>
            <a:ext cx="550080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71440" y="356760"/>
            <a:ext cx="550044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зарядку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14" descr="C:\Documents and Settings\Олег\Local Settings\Temporary Internet Files\Content.IE5\OZY00KCZ\MC900429961[1].wmf"/>
          <p:cNvPicPr/>
          <p:nvPr/>
        </p:nvPicPr>
        <p:blipFill>
          <a:blip r:embed="rId1"/>
          <a:stretch/>
        </p:blipFill>
        <p:spPr>
          <a:xfrm>
            <a:off x="344520" y="2214720"/>
            <a:ext cx="3870360" cy="3571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Documents and Settings\Олег\Local Settings\Temporary Internet Files\Content.IE5\2TWF3INS\MC900389120[1].wmf"/>
          <p:cNvPicPr/>
          <p:nvPr/>
        </p:nvPicPr>
        <p:blipFill>
          <a:blip r:embed="rId2"/>
          <a:stretch/>
        </p:blipFill>
        <p:spPr>
          <a:xfrm>
            <a:off x="5000760" y="2143080"/>
            <a:ext cx="3622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6072120" cy="478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зовут спортсмена, катающегося на коньках под музыку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7" descr="http://ic.pics.livejournal.com/pernatik_kar/24292298/9922/9922_original.png"/>
          <p:cNvPicPr/>
          <p:nvPr/>
        </p:nvPicPr>
        <p:blipFill>
          <a:blip r:embed="rId1"/>
          <a:stretch/>
        </p:blipFill>
        <p:spPr>
          <a:xfrm>
            <a:off x="6429240" y="3286080"/>
            <a:ext cx="219564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фигурист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4" descr="C:\Documents and Settings\Олег\Local Settings\Temporary Internet Files\Content.IE5\TMT6MFP9\MC900398303[1].wmf"/>
          <p:cNvPicPr/>
          <p:nvPr/>
        </p:nvPicPr>
        <p:blipFill>
          <a:blip r:embed="rId1"/>
          <a:stretch/>
        </p:blipFill>
        <p:spPr>
          <a:xfrm>
            <a:off x="2428920" y="1928880"/>
            <a:ext cx="435780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557208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колько команд играют в хоккей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429160" y="2143080"/>
            <a:ext cx="331632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2 команды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5" descr="C:\Documents and Settings\Олег\Local Settings\Temporary Internet Files\Content.IE5\2TWF3INS\MC900432175[1].wmf"/>
          <p:cNvPicPr/>
          <p:nvPr/>
        </p:nvPicPr>
        <p:blipFill>
          <a:blip r:embed="rId1"/>
          <a:stretch/>
        </p:blipFill>
        <p:spPr>
          <a:xfrm>
            <a:off x="857160" y="2143080"/>
            <a:ext cx="3071880" cy="3395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C:\Documents and Settings\Олег\Local Settings\Temporary Internet Files\Content.IE5\X6Z4HOSB\MC900432173[1].wmf"/>
          <p:cNvPicPr/>
          <p:nvPr/>
        </p:nvPicPr>
        <p:blipFill>
          <a:blip r:embed="rId2"/>
          <a:stretch/>
        </p:blipFill>
        <p:spPr>
          <a:xfrm>
            <a:off x="5143680" y="221472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521496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зовут людей, которые зимой купаются в проруби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7" descr="http://design-for-business.ru/storage/upload/2011/Analitics/Recenzii/Sochi/1fef8486925df53860b61fc6b06d0682.jpg"/>
          <p:cNvPicPr/>
          <p:nvPr/>
        </p:nvPicPr>
        <p:blipFill>
          <a:blip r:embed="rId1"/>
          <a:stretch/>
        </p:blipFill>
        <p:spPr>
          <a:xfrm>
            <a:off x="5500800" y="3000240"/>
            <a:ext cx="34606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морж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6" descr="http://www.chastnik.ru/wp-content/uploads/2011/01/182.jpg"/>
          <p:cNvPicPr/>
          <p:nvPr/>
        </p:nvPicPr>
        <p:blipFill>
          <a:blip r:embed="rId1"/>
          <a:stretch/>
        </p:blipFill>
        <p:spPr>
          <a:xfrm>
            <a:off x="1214280" y="185724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7:45:03Z</dcterms:created>
  <dc:creator>WiZaRd</dc:creator>
  <dc:description/>
  <dc:language>en-US</dc:language>
  <cp:lastModifiedBy>НВК</cp:lastModifiedBy>
  <dcterms:modified xsi:type="dcterms:W3CDTF">2017-03-15T16:58:34Z</dcterms:modified>
  <cp:revision>32</cp:revision>
  <dc:subject/>
  <dc:title>Слайд 1</dc:title>
</cp:coreProperties>
</file>