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8C3-0148-441F-BB7C-C09FA20389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DE3-A118-4109-A169-275D607FD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C2A-4C5E-400B-9854-3FE8C954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3E3-BB83-487A-929D-E3A4583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74C-0583-4288-B3F6-2A4B700E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9E6-104F-45DF-AEA0-3E70A842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5E75-9A18-4AF5-93F8-F36EE69C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3FE2-4C36-418F-83BF-F3409C05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C3CD-41EA-4778-83F7-2FFDE5C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CDA-F89B-4764-94BD-44D8E07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0255-15CD-4E2C-966C-D40B232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155D-AA26-4233-8B61-A736BF8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B475-763A-4574-9096-07F8CB8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DD8-A180-4E6C-BBFF-9D995B9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E96C-3C02-4525-A1AE-5B9FC68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930C-CFEF-49CC-BE83-38C02F7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7B51-132F-494C-B9F4-5F0D795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DF9-3E83-47B5-8631-B61FD2C2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CD36-92CF-4C73-BA90-8D13E9C6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E644F-E700-4083-BC86-2B6C1403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E308A-70D3-4EE9-8581-063E24A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B016-4B34-4B3A-96BD-76B6566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DE2B3-04FD-427E-8E85-ECB600CC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C44F8-84A7-4EE6-A373-18F520CA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ECB-BE22-40FA-BEFA-D8DCD07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7C2F6-2A9D-4C28-91E8-F531344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02077-37CA-41D7-AEC7-E67C8D8E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49314-9EA7-4458-9483-B04AD6B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F4338-7419-4686-A552-E77666F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D9AC8-601F-4C53-9990-8FD47AF6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A7C7-B5FF-4CA9-9A0C-6542AB04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93E5B-4802-4844-85F7-EE9FA3B4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9817-4B1F-4F67-A726-A2C7CFD3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58385-485E-46A4-8111-D607448A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15EF-A6E9-4902-85C8-26CA87B9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C1E-EBBA-4792-96AA-A93F9F34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498A-C519-467C-97EA-647D0639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AB68-FC4D-485D-B7DE-9C6969C6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C17F-02E2-44FB-9FEA-7220195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9470-85F5-4262-BE13-3A4214C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06AC-2EC3-4238-BBAE-D6970F6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B792-7BFB-4281-BDC2-5439A39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05F3-8909-4E97-8812-1ED3872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44BA-80E0-48CE-9B14-01446689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670C-1DB1-48F2-AB60-32906EF9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3BAC0-7D71-4677-982F-93165C62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91B-9E15-4BD5-8A36-781BA60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2F30C-19B8-4E8D-8D6F-7B667FAD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3D3E4-2592-45B6-BCE2-CD20EC8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C52C7-AF21-44BF-9D09-9DFACB2E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5BB88-48EC-45B7-81DE-CF2A2D5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DBA70-6299-4CE4-B5FE-4C9537A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17418-3959-48F3-9C41-01B235D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46C95-EE15-4C15-9438-F5517BA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F664A-52DA-4D4F-AD85-EBCCBAE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E50B2-5A85-463F-8A05-922C5545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F0174-8C72-4406-8510-A1A747A2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E37-1783-46BD-BE2B-A02ED9C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D0C2C-C6C2-42DC-A8F3-6F20B49B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FD0F2-A6F5-4644-91F4-0579F91F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70324-0011-438B-97C2-E04AE33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62F7C-6BA6-4EEE-8C09-6F218AB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AD77C-3E25-4A67-BCE4-8D921B3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4733A-6210-401B-A7A4-B9FFC7F5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3C6D6-E963-4417-9411-3F3DC350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785BA-6350-4602-BCFF-22AA42F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3D8BD-CE37-4995-8103-3174AB8D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D9B60-8482-401B-BF9F-3B44440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DF2-8DFF-4354-9929-4D26ED0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CEE4B-46C5-4093-B4EA-0C39462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E6AE9-04A2-4131-9EC6-601BE7C2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D48E2-4D11-426D-8564-965992B3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9EECF-F8FD-4458-AF67-61069047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BADE7-12F3-4A6B-A61E-A9B3AE39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7B2AF-0623-4FF2-AAE3-1D4B4F1B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594CC-ED6D-4825-B66E-1C9CAFE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52D57-4B11-4D83-89E6-AD73440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5B6CC-5272-41D5-A3EB-D7E78BF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BD2EE-9746-4C33-91B9-D19F843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857-3DD1-4514-A72D-4FFBD388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64A8E-F4FF-4DD3-BF65-1C1F0FD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8DAE2-0760-4CF9-8F25-F0F386A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03B20-E156-46EC-A6F1-B295925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F9244-4FB8-4207-A988-C4267E7A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1D231-E3AF-4DEA-BE44-F175AC22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872-69A1-4D5F-9950-693F9D5C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5687-297E-4B9E-9EC7-606998BF26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129-F8B7-4AE9-898C-1DC13740D2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8F35-4BAB-4F68-8415-BE07B3624A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F926-1A3F-405D-8292-9F9F23F696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681-3A0B-4F39-A731-9CD21B64F5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DA9-AE9F-41A3-B386-84E6889C3A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1775-4BF0-4E0E-97E8-277D31DFFF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14560" y="2428560"/>
            <a:ext cx="712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ПЕДАГОГИЧЕСКИЙ ПРОЕК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ВОСПИТАНИЕ  ДУХОВНОСТИ, ПАТРИОТИЗМА  МЛАДШИХ ШКОЛЬНИКОВ СРЕДСТВАМИ НАРОДНЫХ ТРАДИЦИЙ ЧЕРЕЗ УРОЧНУЮ И ВНЕУРОЧНУЮ ДЕЯТЕЛЬНОСТЬ»     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357720" y="4857840"/>
            <a:ext cx="564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ВТОР: БОЧАРОВА НЕЛЯ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зьмодемьяновского филиа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БОУ 2-Гавриловской сош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авриловский район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НЕНИЕ ИКТ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77" name="Прямоугольник 3"/>
          <p:cNvGrpSpPr/>
          <p:nvPr/>
        </p:nvGrpSpPr>
        <p:grpSpPr>
          <a:xfrm>
            <a:off x="523800" y="950760"/>
            <a:ext cx="8302680" cy="1517760"/>
            <a:chOff x="523800" y="950760"/>
            <a:chExt cx="8302680" cy="1517760"/>
          </a:xfrm>
        </p:grpSpPr>
        <p:pic>
          <p:nvPicPr>
            <p:cNvPr id="378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523800" y="950760"/>
              <a:ext cx="83026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85880" y="1214280"/>
              <a:ext cx="778680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Информационно-коммуникационные техн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рямоугольник 6"/>
          <p:cNvGrpSpPr/>
          <p:nvPr/>
        </p:nvGrpSpPr>
        <p:grpSpPr>
          <a:xfrm>
            <a:off x="324000" y="2249640"/>
            <a:ext cx="3924000" cy="1358640"/>
            <a:chOff x="324000" y="2249640"/>
            <a:chExt cx="3924000" cy="1358640"/>
          </a:xfrm>
        </p:grpSpPr>
        <p:pic>
          <p:nvPicPr>
            <p:cNvPr id="38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24000" y="2249640"/>
              <a:ext cx="39240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71680" y="2500200"/>
              <a:ext cx="34290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нтернет-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рямоугольник 7"/>
          <p:cNvGrpSpPr/>
          <p:nvPr/>
        </p:nvGrpSpPr>
        <p:grpSpPr>
          <a:xfrm>
            <a:off x="4108320" y="2176560"/>
            <a:ext cx="3498840" cy="1431720"/>
            <a:chOff x="4108320" y="2176560"/>
            <a:chExt cx="3498840" cy="1431720"/>
          </a:xfrm>
        </p:grpSpPr>
        <p:pic>
          <p:nvPicPr>
            <p:cNvPr id="3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108320" y="2176560"/>
              <a:ext cx="34988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357800" y="2428920"/>
              <a:ext cx="30002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лектронные носи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Прямая со стрелкой 11"/>
          <p:cNvCxnSpPr/>
          <p:nvPr/>
        </p:nvCxnSpPr>
        <p:spPr>
          <a:xfrm flipH="1">
            <a:off x="2177640" y="2213640"/>
            <a:ext cx="1037520" cy="2862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391" name="Прямая со стрелкой 20"/>
          <p:cNvCxnSpPr/>
          <p:nvPr/>
        </p:nvCxnSpPr>
        <p:spPr>
          <a:xfrm>
            <a:off x="5857920" y="2214360"/>
            <a:ext cx="1000800" cy="2149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grpSp>
        <p:nvGrpSpPr>
          <p:cNvPr id="392" name="Прямоугольник 27"/>
          <p:cNvGrpSpPr/>
          <p:nvPr/>
        </p:nvGrpSpPr>
        <p:grpSpPr>
          <a:xfrm>
            <a:off x="-109440" y="3462480"/>
            <a:ext cx="2931840" cy="1719000"/>
            <a:chOff x="-109440" y="3462480"/>
            <a:chExt cx="2931840" cy="1719000"/>
          </a:xfrm>
        </p:grpSpPr>
        <p:pic>
          <p:nvPicPr>
            <p:cNvPr id="393" name="Прямоугольник 27" descr=""/>
            <p:cNvPicPr/>
            <p:nvPr/>
          </p:nvPicPr>
          <p:blipFill>
            <a:blip r:embed="rId4"/>
            <a:stretch/>
          </p:blipFill>
          <p:spPr>
            <a:xfrm>
              <a:off x="-109440" y="3462480"/>
              <a:ext cx="293184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42920" y="3714840"/>
              <a:ext cx="24289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амо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браз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28"/>
          <p:cNvGrpSpPr/>
          <p:nvPr/>
        </p:nvGrpSpPr>
        <p:grpSpPr>
          <a:xfrm>
            <a:off x="2462040" y="3535200"/>
            <a:ext cx="2146320" cy="1646280"/>
            <a:chOff x="2462040" y="3535200"/>
            <a:chExt cx="2146320" cy="1646280"/>
          </a:xfrm>
        </p:grpSpPr>
        <p:pic>
          <p:nvPicPr>
            <p:cNvPr id="396" name="Прямоугольник 28" descr=""/>
            <p:cNvPicPr/>
            <p:nvPr/>
          </p:nvPicPr>
          <p:blipFill>
            <a:blip r:embed="rId5"/>
            <a:stretch/>
          </p:blipFill>
          <p:spPr>
            <a:xfrm>
              <a:off x="2462040" y="3535200"/>
              <a:ext cx="2146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14760" y="3786120"/>
              <a:ext cx="1643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троль</a:t>
              </a:r>
              <a:r>
                <a:rPr b="0" lang="ru-RU" sz="24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29"/>
          <p:cNvGrpSpPr/>
          <p:nvPr/>
        </p:nvGrpSpPr>
        <p:grpSpPr>
          <a:xfrm>
            <a:off x="4322880" y="3535200"/>
            <a:ext cx="2286000" cy="1646280"/>
            <a:chOff x="4322880" y="3535200"/>
            <a:chExt cx="2286000" cy="1646280"/>
          </a:xfrm>
        </p:grpSpPr>
        <p:pic>
          <p:nvPicPr>
            <p:cNvPr id="399" name="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4322880" y="3535200"/>
              <a:ext cx="22860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572000" y="3786120"/>
              <a:ext cx="1785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ренажёры: загадк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тесты, игры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16"/>
          <p:cNvGrpSpPr/>
          <p:nvPr/>
        </p:nvGrpSpPr>
        <p:grpSpPr>
          <a:xfrm>
            <a:off x="6394320" y="3535200"/>
            <a:ext cx="2640240" cy="1573200"/>
            <a:chOff x="6394320" y="3535200"/>
            <a:chExt cx="2640240" cy="1573200"/>
          </a:xfrm>
        </p:grpSpPr>
        <p:pic>
          <p:nvPicPr>
            <p:cNvPr id="402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6394320" y="3535200"/>
              <a:ext cx="264024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643800" y="3786120"/>
              <a:ext cx="21430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Учебная информ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ик 17"/>
          <p:cNvGrpSpPr/>
          <p:nvPr/>
        </p:nvGrpSpPr>
        <p:grpSpPr>
          <a:xfrm>
            <a:off x="176040" y="5108400"/>
            <a:ext cx="4572000" cy="1785960"/>
            <a:chOff x="176040" y="5108400"/>
            <a:chExt cx="4572000" cy="1785960"/>
          </a:xfrm>
        </p:grpSpPr>
        <p:pic>
          <p:nvPicPr>
            <p:cNvPr id="405" name="Прямоугольник 17" descr=""/>
            <p:cNvPicPr/>
            <p:nvPr/>
          </p:nvPicPr>
          <p:blipFill>
            <a:blip r:embed="rId8"/>
            <a:stretch/>
          </p:blipFill>
          <p:spPr>
            <a:xfrm>
              <a:off x="176040" y="5108400"/>
              <a:ext cx="4572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8760" y="5357880"/>
              <a:ext cx="40719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нциклопедические статьи,  исторический и справочный материал,  материалы для уроков и внеклассной раб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Прямоугольник 19"/>
          <p:cNvGrpSpPr/>
          <p:nvPr/>
        </p:nvGrpSpPr>
        <p:grpSpPr>
          <a:xfrm>
            <a:off x="5248440" y="5108400"/>
            <a:ext cx="3359160" cy="1785960"/>
            <a:chOff x="5248440" y="5108400"/>
            <a:chExt cx="3359160" cy="1785960"/>
          </a:xfrm>
        </p:grpSpPr>
        <p:pic>
          <p:nvPicPr>
            <p:cNvPr id="408" name="Прямоугольник 19" descr=""/>
            <p:cNvPicPr/>
            <p:nvPr/>
          </p:nvPicPr>
          <p:blipFill>
            <a:blip r:embed="rId9"/>
            <a:stretch/>
          </p:blipFill>
          <p:spPr>
            <a:xfrm>
              <a:off x="5248440" y="5108400"/>
              <a:ext cx="3359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500800" y="5357880"/>
              <a:ext cx="28573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ллюстративный и видеоматери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0" name="Прямая со стрелкой 22"/>
          <p:cNvCxnSpPr/>
          <p:nvPr/>
        </p:nvCxnSpPr>
        <p:spPr>
          <a:xfrm>
            <a:off x="3143160" y="3357720"/>
            <a:ext cx="19296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1" name="Прямая со стрелкой 31"/>
          <p:cNvCxnSpPr/>
          <p:nvPr/>
        </p:nvCxnSpPr>
        <p:spPr>
          <a:xfrm flipH="1">
            <a:off x="1499400" y="3357720"/>
            <a:ext cx="107244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2" name="Прямая со стрелкой 35"/>
          <p:cNvCxnSpPr/>
          <p:nvPr/>
        </p:nvCxnSpPr>
        <p:spPr>
          <a:xfrm flipH="1">
            <a:off x="2214360" y="3357720"/>
            <a:ext cx="307224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3" name="Прямая со стрелкой 39"/>
          <p:cNvCxnSpPr/>
          <p:nvPr/>
        </p:nvCxnSpPr>
        <p:spPr>
          <a:xfrm flipH="1">
            <a:off x="3642480" y="3357720"/>
            <a:ext cx="21438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4" name="Прямая со стрелкой 43"/>
          <p:cNvCxnSpPr/>
          <p:nvPr/>
        </p:nvCxnSpPr>
        <p:spPr>
          <a:xfrm flipH="1">
            <a:off x="5357160" y="3357720"/>
            <a:ext cx="78660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5" name="Прямая со стрелкой 49"/>
          <p:cNvCxnSpPr/>
          <p:nvPr/>
        </p:nvCxnSpPr>
        <p:spPr>
          <a:xfrm>
            <a:off x="6929280" y="3357720"/>
            <a:ext cx="501120" cy="35784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6" name="Прямая со стрелкой 53"/>
          <p:cNvCxnSpPr/>
          <p:nvPr/>
        </p:nvCxnSpPr>
        <p:spPr>
          <a:xfrm flipH="1">
            <a:off x="3857040" y="4786200"/>
            <a:ext cx="321516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7" name="Прямая со стрелкой 57"/>
          <p:cNvCxnSpPr/>
          <p:nvPr/>
        </p:nvCxnSpPr>
        <p:spPr>
          <a:xfrm flipH="1">
            <a:off x="6928560" y="4786200"/>
            <a:ext cx="42948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8" name="Прямая со стрелкой 30"/>
          <p:cNvCxnSpPr/>
          <p:nvPr/>
        </p:nvCxnSpPr>
        <p:spPr>
          <a:xfrm>
            <a:off x="3857400" y="3357720"/>
            <a:ext cx="3143880" cy="42912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cxnSp>
        <p:nvCxnSpPr>
          <p:cNvPr id="419" name="Прямая со стрелкой 33"/>
          <p:cNvCxnSpPr/>
          <p:nvPr/>
        </p:nvCxnSpPr>
        <p:spPr>
          <a:xfrm flipH="1">
            <a:off x="3857040" y="4786200"/>
            <a:ext cx="3215160" cy="572400"/>
          </a:xfrm>
          <a:prstGeom prst="straightConnector1">
            <a:avLst/>
          </a:prstGeom>
          <a:ln w="38160">
            <a:solidFill>
              <a:srgbClr val="595d63"/>
            </a:solidFill>
            <a:miter/>
            <a:tailEnd len="med" type="arrow" w="med"/>
          </a:ln>
        </p:spPr>
      </p:cxnSp>
      <p:pic>
        <p:nvPicPr>
          <p:cNvPr id="420" name="Прямоугольник 34" descr=""/>
          <p:cNvPicPr/>
          <p:nvPr/>
        </p:nvPicPr>
        <p:blipFill>
          <a:blip r:embed="rId10"/>
          <a:stretch/>
        </p:blipFill>
        <p:spPr>
          <a:xfrm>
            <a:off x="7473960" y="2408400"/>
            <a:ext cx="1481040" cy="895320"/>
          </a:xfrm>
          <a:prstGeom prst="rect">
            <a:avLst/>
          </a:prstGeom>
          <a:ln w="0">
            <a:noFill/>
          </a:ln>
        </p:spPr>
      </p:pic>
      <p:cxnSp>
        <p:nvCxnSpPr>
          <p:cNvPr id="421" name="Прямая со стрелкой 37"/>
          <p:cNvCxnSpPr/>
          <p:nvPr/>
        </p:nvCxnSpPr>
        <p:spPr>
          <a:xfrm>
            <a:off x="7715160" y="2214720"/>
            <a:ext cx="286560" cy="14328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1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Социальные партнёр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У ДОД «Школа искусств» ( с. 2-я Гавриловк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ната-музей «Истории села Козьмодемьянов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блиоте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Школы Гавриловского 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ДО «Троп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Исполнители проект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лектив педагог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нический коллекти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циальные партнёр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entury Schoolbook"/>
              </a:rPr>
              <a:t>Целевая аудитор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ладшие и средние обучающие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0" y="0"/>
            <a:ext cx="87152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СПОЛЬЗУЕМЫ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Личностно ориентиров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Здоровьесберег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гров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блемно-развивающие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Технология сотру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нформацио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2" descr="DSC00550.JPG"/>
          <p:cNvPicPr/>
          <p:nvPr/>
        </p:nvPicPr>
        <p:blipFill>
          <a:blip r:embed="rId1"/>
          <a:stretch/>
        </p:blipFill>
        <p:spPr>
          <a:xfrm>
            <a:off x="4929120" y="414324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" descr="SDC10159.JPG"/>
          <p:cNvPicPr/>
          <p:nvPr/>
        </p:nvPicPr>
        <p:blipFill>
          <a:blip r:embed="rId2"/>
          <a:stretch/>
        </p:blipFill>
        <p:spPr>
          <a:xfrm>
            <a:off x="285840" y="4572000"/>
            <a:ext cx="37591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2" descr="Фото000.jpg"/>
          <p:cNvPicPr/>
          <p:nvPr/>
        </p:nvPicPr>
        <p:blipFill>
          <a:blip r:embed="rId1"/>
          <a:stretch/>
        </p:blipFill>
        <p:spPr>
          <a:xfrm>
            <a:off x="5357880" y="1500120"/>
            <a:ext cx="3214800" cy="50720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"/>
          <p:cNvSpPr/>
          <p:nvPr/>
        </p:nvSpPr>
        <p:spPr>
          <a:xfrm>
            <a:off x="0" y="285840"/>
            <a:ext cx="914400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Методы работ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Исследователь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Деятельно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ек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оиск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развивающ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«мозгового штурм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тод с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  <a:ea typeface="Arial"/>
              </a:rPr>
              <a:t>ОСНОВОПОЛОГАЮЩИЕСЯ ПРИНЦИПЫ ПОСТРОЕНИЯ ПРОЕКТА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85480" y="1785960"/>
            <a:ext cx="864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ддержание интереса к познавательной актив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ёт познавательной активности в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гляднос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 непрерывности духовного, нравственного, патриотического воспитания и образования личности на всех этапах жизне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 дифференцированного подхода к организации мероприятий и уроков по развитию духовных, нравственных, патриотических качеств  личности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208080"/>
            <a:ext cx="8796600" cy="20178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2" descr="DSC00561.JPG"/>
          <p:cNvPicPr/>
          <p:nvPr/>
        </p:nvPicPr>
        <p:blipFill>
          <a:blip r:embed="rId2"/>
          <a:stretch/>
        </p:blipFill>
        <p:spPr>
          <a:xfrm>
            <a:off x="4500720" y="2714760"/>
            <a:ext cx="4214520" cy="385740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C:\Documents and Settings\user\Мои документы\Мои рисунки\фото 2010\102_PANA\P1020031.JPG"/>
          <p:cNvPicPr/>
          <p:nvPr/>
        </p:nvPicPr>
        <p:blipFill>
          <a:blip r:embed="rId3"/>
          <a:stretch/>
        </p:blipFill>
        <p:spPr>
          <a:xfrm>
            <a:off x="428760" y="1857240"/>
            <a:ext cx="371448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7" descr="P1000821.JPG"/>
          <p:cNvPicPr/>
          <p:nvPr/>
        </p:nvPicPr>
        <p:blipFill>
          <a:blip r:embed="rId1"/>
          <a:stretch/>
        </p:blipFill>
        <p:spPr>
          <a:xfrm>
            <a:off x="0" y="1643040"/>
            <a:ext cx="4130640" cy="26290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4" descr="P1000826.JPG"/>
          <p:cNvPicPr/>
          <p:nvPr/>
        </p:nvPicPr>
        <p:blipFill>
          <a:blip r:embed="rId2"/>
          <a:stretch/>
        </p:blipFill>
        <p:spPr>
          <a:xfrm>
            <a:off x="4643280" y="1143000"/>
            <a:ext cx="4334040" cy="535788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" descr=""/>
          <p:cNvPicPr/>
          <p:nvPr/>
        </p:nvPicPr>
        <p:blipFill>
          <a:blip r:embed="rId3"/>
          <a:stretch/>
        </p:blipFill>
        <p:spPr>
          <a:xfrm>
            <a:off x="-6480" y="-79200"/>
            <a:ext cx="9156960" cy="11030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>
            <a:off x="864360" y="1071720"/>
            <a:ext cx="2459160" cy="825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ория се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4505040" y="1071720"/>
            <a:ext cx="4313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знавательно-развлекательная и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«Мой дом род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6" descr="P1000846.JPG"/>
          <p:cNvPicPr/>
          <p:nvPr/>
        </p:nvPicPr>
        <p:blipFill>
          <a:blip r:embed="rId4"/>
          <a:stretch/>
        </p:blipFill>
        <p:spPr>
          <a:xfrm>
            <a:off x="571680" y="4214880"/>
            <a:ext cx="3892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img973"/>
          <p:cNvPicPr/>
          <p:nvPr/>
        </p:nvPicPr>
        <p:blipFill>
          <a:blip r:embed="rId1"/>
          <a:stretch/>
        </p:blipFill>
        <p:spPr>
          <a:xfrm>
            <a:off x="357120" y="1143000"/>
            <a:ext cx="4143600" cy="2449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img975"/>
          <p:cNvPicPr/>
          <p:nvPr/>
        </p:nvPicPr>
        <p:blipFill>
          <a:blip r:embed="rId2"/>
          <a:stretch/>
        </p:blipFill>
        <p:spPr>
          <a:xfrm>
            <a:off x="4714920" y="3929040"/>
            <a:ext cx="4248000" cy="277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img983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643280" y="11430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img974"/>
          <p:cNvPicPr/>
          <p:nvPr/>
        </p:nvPicPr>
        <p:blipFill>
          <a:blip r:embed="rId4"/>
          <a:stretch/>
        </p:blipFill>
        <p:spPr>
          <a:xfrm>
            <a:off x="214200" y="3857760"/>
            <a:ext cx="4273560" cy="280512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9" descr=""/>
          <p:cNvPicPr/>
          <p:nvPr/>
        </p:nvPicPr>
        <p:blipFill>
          <a:blip r:embed="rId5"/>
          <a:stretch/>
        </p:blipFill>
        <p:spPr>
          <a:xfrm>
            <a:off x="-23760" y="-128520"/>
            <a:ext cx="9313920" cy="19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F:\фот пр\img703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928800"/>
            <a:ext cx="4929480" cy="331452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2" descr=""/>
          <p:cNvPicPr/>
          <p:nvPr/>
        </p:nvPicPr>
        <p:blipFill>
          <a:blip r:embed="rId2"/>
          <a:stretch/>
        </p:blipFill>
        <p:spPr>
          <a:xfrm>
            <a:off x="712800" y="-219240"/>
            <a:ext cx="7870680" cy="1200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777 081"/>
          <p:cNvPicPr/>
          <p:nvPr/>
        </p:nvPicPr>
        <p:blipFill>
          <a:blip r:embed="rId3"/>
          <a:stretch/>
        </p:blipFill>
        <p:spPr>
          <a:xfrm>
            <a:off x="4429080" y="3643200"/>
            <a:ext cx="4500720" cy="321480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5441040" y="1000080"/>
            <a:ext cx="273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ь по но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83560" y="4500720"/>
            <a:ext cx="390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в памя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со м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ибшие в бо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Щипач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285840" y="64296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е материалов работы на школьном и районном сай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ие  в работе школьного и районного методического объединения учителей  начальных клас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педагогическую обществ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едрение в практику учителей общеобразовательных учреждений района и шко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66600"/>
            <a:ext cx="8607600" cy="10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АКТУАЛЬНОСТЬ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420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циональная культура 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, получить духовную поддержку и жизненную опо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хранение истории  определяет будущее нашего народа. Через народное творчество ребенок может развиваться, может проявлять свои умения, фантаз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уальность изучения народного творчества  выходит далеко за рамки только искусства. Говоря об экологии природы, мы  одновременно говорим  и об экологии народного искусства, экологии фольклора и с полным основанием можем говорить об экологии духов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Прямоугольник 1" descr=""/>
          <p:cNvPicPr/>
          <p:nvPr/>
        </p:nvPicPr>
        <p:blipFill>
          <a:blip r:embed="rId1"/>
          <a:stretch/>
        </p:blipFill>
        <p:spPr>
          <a:xfrm>
            <a:off x="1566720" y="-42840"/>
            <a:ext cx="6083280" cy="1116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2"/>
          <p:cNvSpPr/>
          <p:nvPr/>
        </p:nvSpPr>
        <p:spPr>
          <a:xfrm>
            <a:off x="285840" y="100008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реализации проек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повысить степень самостоятельности,  познавательной    мотивированности учащихся младших кла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ить учащихся к богатству и разнообразию народной культуры, куль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влечь в систему общешкольных мероприятий всех субъектов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овать Программу экспериментального курса для учащихся 1-4 классов «Приобщение учащихся младших классов к богатству и разнообразию народной культуры, куль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культуру поведения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воспита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олнить багаж знаний учащихся по истории литературы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ть значимые ценные ориентиры: бережное отношение к родному краю, народным традициям и обычаям родного 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сить качество знаний и успеваемост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1352520"/>
            <a:ext cx="708120" cy="145728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2" descr=""/>
          <p:cNvPicPr/>
          <p:nvPr/>
        </p:nvPicPr>
        <p:blipFill>
          <a:blip r:embed="rId2"/>
          <a:stretch/>
        </p:blipFill>
        <p:spPr>
          <a:xfrm>
            <a:off x="-225360" y="1206360"/>
            <a:ext cx="9405720" cy="37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АНАЛИЗ ПРОБЛЕ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1000080"/>
            <a:ext cx="87152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нижение общей культуры подрастающего поколения, необходимость возрождения национальных традиц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изкая мотивация на учебу и, в том числе, на изучение культурного наследия русского наро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сутствие целостной и целенаправленной системы формирования культурных ценностей у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изис семейного воспитания детей, связанный с отъездом родителей на заработ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даленность культурных центр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-158760"/>
            <a:ext cx="8008920" cy="9810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42920" y="1000080"/>
            <a:ext cx="8501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объективной потребностью общества в создании условий  свободного духовно-патриотического саморазвития личности каждого ребенка – и фактическим отсутствием системного  и технологического решения данного вопроса в практике непосредственной работы с детьми младшего 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обстоятельным теоретическим анализом и обоснованием эффективности технологий, методик и практикой реализации духовно-патриотического воспитания  в образ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необходимостью углубленной, систематической работы по духовно-патриотическому воспитанию младших школьников и существующей поверхностной, эпизодической практикой этой работы в начальной школе, ее ограниченностью рамками 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значительным воспитательным потенциалом народных традиций и их недостаточной востребованностью, научно-методической обоснованностью  организации духовно-патриотического воспитания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entury Schoolbook"/>
              </a:rPr>
              <a:t>ЦЕЛЬ ПРОЕКТА: 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14200" y="107172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Определение форм, методов, приёмов, позволяющих воспитывать высоконравственную личность, способную любить, уважать и продолжать традиции и обычаи своего народа, своей Родины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4200" y="7142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явить информацию в содержании предметов, в обучении которых могут отразиться народные тради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ть и сохранить традиции посредством воспитательной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систему мероприятий, позволяющих воспитать духовно-патриотические качества младших школь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редством вовлечения младших школьников в исследовательскую деятельность пробудить интерес к истории своего края, его прошл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ить связь между прошлыми и настоящими традиция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ть представление о народной культуре через урочную и внеурочную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ГИПОТЕЗА: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142640"/>
            <a:ext cx="8001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мы будем использовать такие формы, приемы, методы в изучении культурного наследия русского народа, как яркие эмоциональные беседы, опытно-поисковая работа,  театрализованные представления, уроки-практикумы,  интеграцию мероприятий и уроков,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это будет способствовать развитию патриотического и нравственного воспитания, повышению интереса младших школьников к познанию культурного наследия русского народ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1" descr=""/>
          <p:cNvPicPr/>
          <p:nvPr/>
        </p:nvPicPr>
        <p:blipFill>
          <a:blip r:embed="rId1"/>
          <a:stretch/>
        </p:blipFill>
        <p:spPr>
          <a:xfrm>
            <a:off x="-109440" y="-171360"/>
            <a:ext cx="9313920" cy="1098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>
            <a:off x="357120" y="1000080"/>
            <a:ext cx="828684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духовно-нравственной личности, способной любить, уважать свой народ, свою Род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поколения ценителей и хранителей традиций народного искусства с высоким уровнем познавательной активности способных к самовыражению через твор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чебно-методических материалов, фотоматериалов, информационного банка данных  о народных мастерах родного края, о ветеранах Великой Отечествен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2"/>
          <p:cNvSpPr/>
          <p:nvPr/>
        </p:nvSpPr>
        <p:spPr>
          <a:xfrm>
            <a:off x="142920" y="142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ФОРМЫ ПРЕДОСТАВЛЕНИЯ РЕЗУЛЬТА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357120" y="857160"/>
            <a:ext cx="8072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С ЗНАТАКОВ РОДНОГО КР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А-КОНКУРС «ЮНЫЙ УМЕЛЕЦ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ИССЛЕДОВАТЕЛЬСКАЯ РАБОТА(РЕФЕРАТ, СООБЩЕНИЕ, ПРЕЗЕНТАЦИЯ С ИСПОЛЬЗОВАНИЕМ ИКТ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ВАТЕЛЬНАЯ ИГРА «Когда-то на Руси…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-ПРАЗДНИК «Ярмар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в комнату-музей «История села Козьмодемьянов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И НАРОДНОГО КАЛЕНД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5:41:36Z</dcterms:created>
  <dc:creator>User</dc:creator>
  <dc:description/>
  <dc:language>en-US</dc:language>
  <cp:lastModifiedBy>Треугольник</cp:lastModifiedBy>
  <dcterms:modified xsi:type="dcterms:W3CDTF">2017-03-16T16:39:27Z</dcterms:modified>
  <cp:revision>21</cp:revision>
  <dc:subject/>
  <dc:title>  ПЕДАГОГИЧЕСКИЙ ПРОЕКТ     «ВОСПИТАНИЕ  ДУХОВНОСТИ, ПАТРИОТИЗМА  МЛАДШИХ ШКОЛЬНИКОВ СРЕДСТВАМИ НАРОДНЫХ ТРАДИЦИЙ ЧЕРЕЗ УРОЧНУЮ И НЕУРОЧНУЮ  ДЕЯТЕЛЬНОСТЬ»      </dc:title>
</cp:coreProperties>
</file>