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FA0-C29A-415F-A408-541E6C496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4B4-4324-4991-BBB3-AFDB683E2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749-0E69-43AC-9891-A594A4B9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00A-12F4-4375-9842-41F83E4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16A-5222-4240-9DDA-E5ED05D4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E59-8373-4FFB-8495-A921EB9C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1A3F-7AD3-4481-9C52-F89F198F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DC4-CF40-4041-9309-6E661E93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82D2-AC45-4533-B264-88916F7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109-02F9-4B25-BEB6-78C6DB7E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2762-279E-42A1-B8D2-4106D85E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C3B8-CAC0-4DE1-8811-174B6DBB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882-9466-4B46-B35E-A606F44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5E7-99B9-4480-A530-82BE0D6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890-AC95-46B1-8C52-C8A735D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76F1-5F16-4F47-BECD-43A3AEF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139F-3BFC-4A9A-857A-A2457D6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222-4DB6-4314-BA53-789A128D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8D3-5863-4BC3-B60E-A17CC13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06A4-FA3E-430D-9013-A4443DCC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AE681-678C-42AA-AF7A-8A9F266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4772E-1CB4-4D48-A7D7-78C8D5F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405CB-ED20-48ED-868F-5516972F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186DB-39D3-47A5-90A2-16C4DFB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341-68DD-4C6A-8572-76B047E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FC238-92AB-496B-80FD-00F7966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B2EAD-20B1-4547-895D-5DBD86D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6E485-9D08-41D7-B5A2-CD0C58B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7853-0C3D-4047-BD1A-FB35DD7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427DA-2A70-4FAF-B118-3BC2B6A2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C71D5-192D-4D48-90F7-CBB6394E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3BB68-1433-4C7C-A6C9-94CB7A17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289D-695A-4DBE-9F87-C5F34B31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C67A-C0AB-4F27-9F1A-43AADAC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ECFE-F2DD-44E6-8B11-E8EE004D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DB2-2148-42B4-BF4B-66BA367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F598B-B985-4F04-BD25-F9D38059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F6BC-1A87-4D8A-B961-A8DDA9B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3AE9-42A9-4599-BAA7-688299A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847C-1649-41C1-916F-2AC4CE2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B2AD-9612-492F-AAF9-2F53717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5601-D549-43B0-88A4-80DFB4A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5FDA-B571-4A4C-81BE-BF6412E1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55D4-A7BD-46EB-86CA-A771A850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67D9-316C-463F-A2AC-2C6F9E62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DF85F-870A-4DC9-B65D-92CA8C5D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F85-1248-4DC7-9D71-A0EDBC9D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00F09-7DC8-4FD4-B1FD-54B4C09B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EF755-C55B-4001-B77A-3DCBDF6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80CF6-6198-4A74-BF61-19AC0F3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F3BB6-61BF-4A12-8BDA-8A26CAF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70091-B6A1-47C8-AE05-362BB28A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C6ACE-E1EE-4B6B-B4F7-BBC4C88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D542C-CE70-4CF8-B4ED-2E102EF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6E7E1-BE66-4C82-8D1F-7098837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45666-5922-4718-8248-A8185957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A6F9B-170E-404A-A0AE-91517DFB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D5B-95FB-4FB5-BF00-94D4643F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37A4E-2B45-4187-AC3E-7808BA20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480AC-942A-4A8D-B644-7B1A375B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FCBD5-D5FD-4DA6-8A15-F68F11A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94530-0A4C-45C4-B237-C3B3E58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FDEE5-2541-4596-8B7C-C94F379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91380-304C-45B8-872C-C61BC0C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AF5EC-8B0C-439B-A3A3-9A98762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AF1F6-99A2-4D8B-B0A3-8204C38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1C6FA-1624-4378-A0C0-DE58B8B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B1852-F41D-48DE-9CA9-2F7346E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BD5-E9CE-4FC4-92EA-B681749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24C6B-69BF-40AC-8094-6C1A139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4BAC7-FB85-40AA-8D71-BED40B00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361BE-A15E-4D4C-A534-F50D709D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A4AA3-8AF9-4924-84F1-438B780C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1FE56-EAFD-44EF-A043-EB552A1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C1332-4D65-450D-8969-B916CE29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17070-8CAD-4426-AE1D-638AACC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D68AB-99CC-4299-824F-2B0A832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BEE40-FB83-4E5F-BF50-E628D34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AFD02-9BA8-44FB-A553-BBE16C1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7BA-00AB-480E-97CA-5476269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A3C10-01E7-4212-9D02-D6BB8D1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334E9-C8CB-48FE-9D36-4250910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BF411-663E-4E14-90BF-3ACC600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955B1-BC20-43AE-A23A-DB1D8086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18DA5-C57F-4357-A61D-5EE55461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EA2-1A85-4A6F-B2D8-476F3DA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F98-6FDB-4642-BD0D-5B0BAAE00A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A6F-3BD5-447A-B8EE-7850C8D1E4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D9CE-3635-4D7E-8A0B-1DF44C63D5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E403-79AD-4594-84DC-C198DC5F8B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498-3832-4D75-B3ED-C14237E744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1CC4-29AE-4CE8-A0F4-CFD8186CC6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C46-39E6-4907-89AA-8713861EC2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14560" y="2428560"/>
            <a:ext cx="712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ПЕДАГОГИЧЕСКИЙ ПРОЕК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ВОСПИТАНИЕ  ДУХОВНОСТИ, ПАТРИОТИЗМА  МЛАДШИХ ШКОЛЬНИКОВ СРЕДСТВАМИ НАРОДНЫХ ТРАДИЦИЙ ЧЕРЕЗ УРОЧНУЮ И ВНЕУРОЧНУЮ ДЕЯТЕЛЬНОСТЬ»     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357720" y="4857840"/>
            <a:ext cx="564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ВТОР: БОЧАРОВА НЕЛЯ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зьмодемьяновского филиа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БОУ 2-Гавриловской сош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авриловский район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ИКТ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77" name="Прямоугольник 3"/>
          <p:cNvGrpSpPr/>
          <p:nvPr/>
        </p:nvGrpSpPr>
        <p:grpSpPr>
          <a:xfrm>
            <a:off x="523800" y="950760"/>
            <a:ext cx="8302680" cy="1517760"/>
            <a:chOff x="523800" y="950760"/>
            <a:chExt cx="8302680" cy="1517760"/>
          </a:xfrm>
        </p:grpSpPr>
        <p:pic>
          <p:nvPicPr>
            <p:cNvPr id="37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523800" y="950760"/>
              <a:ext cx="83026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85880" y="1214280"/>
              <a:ext cx="77868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Информационно-коммуникационные техн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рямоугольник 6"/>
          <p:cNvGrpSpPr/>
          <p:nvPr/>
        </p:nvGrpSpPr>
        <p:grpSpPr>
          <a:xfrm>
            <a:off x="324000" y="2249640"/>
            <a:ext cx="3924000" cy="1358640"/>
            <a:chOff x="324000" y="2249640"/>
            <a:chExt cx="3924000" cy="1358640"/>
          </a:xfrm>
        </p:grpSpPr>
        <p:pic>
          <p:nvPicPr>
            <p:cNvPr id="38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24000" y="2249640"/>
              <a:ext cx="39240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71680" y="2500200"/>
              <a:ext cx="34290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нтернет-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рямоугольник 7"/>
          <p:cNvGrpSpPr/>
          <p:nvPr/>
        </p:nvGrpSpPr>
        <p:grpSpPr>
          <a:xfrm>
            <a:off x="4108320" y="2176560"/>
            <a:ext cx="3498840" cy="1431720"/>
            <a:chOff x="4108320" y="2176560"/>
            <a:chExt cx="3498840" cy="1431720"/>
          </a:xfrm>
        </p:grpSpPr>
        <p:pic>
          <p:nvPicPr>
            <p:cNvPr id="3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108320" y="2176560"/>
              <a:ext cx="34988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357800" y="2428920"/>
              <a:ext cx="30002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лектронные носи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Прямая со стрелкой 11"/>
          <p:cNvCxnSpPr/>
          <p:nvPr/>
        </p:nvCxnSpPr>
        <p:spPr>
          <a:xfrm flipH="1">
            <a:off x="2177640" y="2213640"/>
            <a:ext cx="1037520" cy="2862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391" name="Прямая со стрелкой 20"/>
          <p:cNvCxnSpPr/>
          <p:nvPr/>
        </p:nvCxnSpPr>
        <p:spPr>
          <a:xfrm>
            <a:off x="5857920" y="2214360"/>
            <a:ext cx="1000800" cy="2149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grpSp>
        <p:nvGrpSpPr>
          <p:cNvPr id="392" name="Прямоугольник 27"/>
          <p:cNvGrpSpPr/>
          <p:nvPr/>
        </p:nvGrpSpPr>
        <p:grpSpPr>
          <a:xfrm>
            <a:off x="-109440" y="3462480"/>
            <a:ext cx="2931840" cy="1719000"/>
            <a:chOff x="-109440" y="3462480"/>
            <a:chExt cx="2931840" cy="1719000"/>
          </a:xfrm>
        </p:grpSpPr>
        <p:pic>
          <p:nvPicPr>
            <p:cNvPr id="393" name="Прямоугольник 27" descr=""/>
            <p:cNvPicPr/>
            <p:nvPr/>
          </p:nvPicPr>
          <p:blipFill>
            <a:blip r:embed="rId4"/>
            <a:stretch/>
          </p:blipFill>
          <p:spPr>
            <a:xfrm>
              <a:off x="-109440" y="3462480"/>
              <a:ext cx="293184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42920" y="3714840"/>
              <a:ext cx="24289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амо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браз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28"/>
          <p:cNvGrpSpPr/>
          <p:nvPr/>
        </p:nvGrpSpPr>
        <p:grpSpPr>
          <a:xfrm>
            <a:off x="2462040" y="3535200"/>
            <a:ext cx="2146320" cy="1646280"/>
            <a:chOff x="2462040" y="3535200"/>
            <a:chExt cx="2146320" cy="1646280"/>
          </a:xfrm>
        </p:grpSpPr>
        <p:pic>
          <p:nvPicPr>
            <p:cNvPr id="396" name="Прямоугольник 28" descr=""/>
            <p:cNvPicPr/>
            <p:nvPr/>
          </p:nvPicPr>
          <p:blipFill>
            <a:blip r:embed="rId5"/>
            <a:stretch/>
          </p:blipFill>
          <p:spPr>
            <a:xfrm>
              <a:off x="2462040" y="3535200"/>
              <a:ext cx="2146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14760" y="3786120"/>
              <a:ext cx="1643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троль</a:t>
              </a:r>
              <a:r>
                <a:rPr b="0" lang="ru-RU" sz="24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29"/>
          <p:cNvGrpSpPr/>
          <p:nvPr/>
        </p:nvGrpSpPr>
        <p:grpSpPr>
          <a:xfrm>
            <a:off x="4322880" y="3535200"/>
            <a:ext cx="2286000" cy="1646280"/>
            <a:chOff x="4322880" y="3535200"/>
            <a:chExt cx="2286000" cy="1646280"/>
          </a:xfrm>
        </p:grpSpPr>
        <p:pic>
          <p:nvPicPr>
            <p:cNvPr id="399" name="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4322880" y="3535200"/>
              <a:ext cx="22860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572000" y="3786120"/>
              <a:ext cx="1785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ренажёры: загадк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есты, игры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16"/>
          <p:cNvGrpSpPr/>
          <p:nvPr/>
        </p:nvGrpSpPr>
        <p:grpSpPr>
          <a:xfrm>
            <a:off x="6394320" y="3535200"/>
            <a:ext cx="2640240" cy="1573200"/>
            <a:chOff x="6394320" y="3535200"/>
            <a:chExt cx="2640240" cy="1573200"/>
          </a:xfrm>
        </p:grpSpPr>
        <p:pic>
          <p:nvPicPr>
            <p:cNvPr id="402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6394320" y="3535200"/>
              <a:ext cx="264024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643800" y="3786120"/>
              <a:ext cx="21430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чеб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ик 17"/>
          <p:cNvGrpSpPr/>
          <p:nvPr/>
        </p:nvGrpSpPr>
        <p:grpSpPr>
          <a:xfrm>
            <a:off x="176040" y="5108400"/>
            <a:ext cx="4572000" cy="1785960"/>
            <a:chOff x="176040" y="5108400"/>
            <a:chExt cx="4572000" cy="1785960"/>
          </a:xfrm>
        </p:grpSpPr>
        <p:pic>
          <p:nvPicPr>
            <p:cNvPr id="405" name="Прямоугольник 17" descr=""/>
            <p:cNvPicPr/>
            <p:nvPr/>
          </p:nvPicPr>
          <p:blipFill>
            <a:blip r:embed="rId8"/>
            <a:stretch/>
          </p:blipFill>
          <p:spPr>
            <a:xfrm>
              <a:off x="176040" y="5108400"/>
              <a:ext cx="4572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8760" y="5357880"/>
              <a:ext cx="40719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нциклопедические статьи,  исторический и справочный материал,  материалы для уроков и внеклассной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Прямоугольник 19"/>
          <p:cNvGrpSpPr/>
          <p:nvPr/>
        </p:nvGrpSpPr>
        <p:grpSpPr>
          <a:xfrm>
            <a:off x="5248440" y="5108400"/>
            <a:ext cx="3359160" cy="1785960"/>
            <a:chOff x="5248440" y="5108400"/>
            <a:chExt cx="3359160" cy="1785960"/>
          </a:xfrm>
        </p:grpSpPr>
        <p:pic>
          <p:nvPicPr>
            <p:cNvPr id="408" name="Прямоугольник 19" descr=""/>
            <p:cNvPicPr/>
            <p:nvPr/>
          </p:nvPicPr>
          <p:blipFill>
            <a:blip r:embed="rId9"/>
            <a:stretch/>
          </p:blipFill>
          <p:spPr>
            <a:xfrm>
              <a:off x="5248440" y="5108400"/>
              <a:ext cx="3359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500800" y="535788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ллюстративный и видеоматери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0" name="Прямая со стрелкой 22"/>
          <p:cNvCxnSpPr/>
          <p:nvPr/>
        </p:nvCxnSpPr>
        <p:spPr>
          <a:xfrm>
            <a:off x="3143160" y="3357720"/>
            <a:ext cx="19296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1" name="Прямая со стрелкой 31"/>
          <p:cNvCxnSpPr/>
          <p:nvPr/>
        </p:nvCxnSpPr>
        <p:spPr>
          <a:xfrm flipH="1">
            <a:off x="1499400" y="3357720"/>
            <a:ext cx="107244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2" name="Прямая со стрелкой 35"/>
          <p:cNvCxnSpPr/>
          <p:nvPr/>
        </p:nvCxnSpPr>
        <p:spPr>
          <a:xfrm flipH="1">
            <a:off x="2214360" y="3357720"/>
            <a:ext cx="307224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3" name="Прямая со стрелкой 39"/>
          <p:cNvCxnSpPr/>
          <p:nvPr/>
        </p:nvCxnSpPr>
        <p:spPr>
          <a:xfrm flipH="1">
            <a:off x="3642480" y="3357720"/>
            <a:ext cx="21438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4" name="Прямая со стрелкой 43"/>
          <p:cNvCxnSpPr/>
          <p:nvPr/>
        </p:nvCxnSpPr>
        <p:spPr>
          <a:xfrm flipH="1">
            <a:off x="5357160" y="3357720"/>
            <a:ext cx="7866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5" name="Прямая со стрелкой 49"/>
          <p:cNvCxnSpPr/>
          <p:nvPr/>
        </p:nvCxnSpPr>
        <p:spPr>
          <a:xfrm>
            <a:off x="6929280" y="3357720"/>
            <a:ext cx="50112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6" name="Прямая со стрелкой 53"/>
          <p:cNvCxnSpPr/>
          <p:nvPr/>
        </p:nvCxnSpPr>
        <p:spPr>
          <a:xfrm flipH="1">
            <a:off x="3857040" y="4786200"/>
            <a:ext cx="321516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7" name="Прямая со стрелкой 57"/>
          <p:cNvCxnSpPr/>
          <p:nvPr/>
        </p:nvCxnSpPr>
        <p:spPr>
          <a:xfrm flipH="1">
            <a:off x="6928560" y="4786200"/>
            <a:ext cx="42948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8" name="Прямая со стрелкой 30"/>
          <p:cNvCxnSpPr/>
          <p:nvPr/>
        </p:nvCxnSpPr>
        <p:spPr>
          <a:xfrm>
            <a:off x="3857400" y="3357720"/>
            <a:ext cx="314388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9" name="Прямая со стрелкой 33"/>
          <p:cNvCxnSpPr/>
          <p:nvPr/>
        </p:nvCxnSpPr>
        <p:spPr>
          <a:xfrm flipH="1">
            <a:off x="3857040" y="4786200"/>
            <a:ext cx="321516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pic>
        <p:nvPicPr>
          <p:cNvPr id="420" name="Прямоугольник 34" descr=""/>
          <p:cNvPicPr/>
          <p:nvPr/>
        </p:nvPicPr>
        <p:blipFill>
          <a:blip r:embed="rId10"/>
          <a:stretch/>
        </p:blipFill>
        <p:spPr>
          <a:xfrm>
            <a:off x="7473960" y="2408400"/>
            <a:ext cx="1481040" cy="895320"/>
          </a:xfrm>
          <a:prstGeom prst="rect">
            <a:avLst/>
          </a:prstGeom>
          <a:ln w="0">
            <a:noFill/>
          </a:ln>
        </p:spPr>
      </p:pic>
      <p:cxnSp>
        <p:nvCxnSpPr>
          <p:cNvPr id="421" name="Прямая со стрелкой 37"/>
          <p:cNvCxnSpPr/>
          <p:nvPr/>
        </p:nvCxnSpPr>
        <p:spPr>
          <a:xfrm>
            <a:off x="7715160" y="2214720"/>
            <a:ext cx="286560" cy="1432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1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Социальные партнёр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У ДОД «Школа искусств» ( с. 2-я Гавриловк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ната-музей «Истории села Козьмодемьянов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блиоте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колы Гавриловского 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ДО «Троп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Исполнители проект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лектив педагог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нический коллекти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ые партнёр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entury Schoolbook"/>
              </a:rPr>
              <a:t>Целевая аудито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ладшие и средние обучающие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0" y="0"/>
            <a:ext cx="87152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СПОЛЬЗУЕМЫ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Личностно 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Здоровьесберег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гров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блемно-развивающие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Технология сотру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" descr="DSC00550.JPG"/>
          <p:cNvPicPr/>
          <p:nvPr/>
        </p:nvPicPr>
        <p:blipFill>
          <a:blip r:embed="rId1"/>
          <a:stretch/>
        </p:blipFill>
        <p:spPr>
          <a:xfrm>
            <a:off x="4929120" y="414324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" descr="SDC10159.JPG"/>
          <p:cNvPicPr/>
          <p:nvPr/>
        </p:nvPicPr>
        <p:blipFill>
          <a:blip r:embed="rId2"/>
          <a:stretch/>
        </p:blipFill>
        <p:spPr>
          <a:xfrm>
            <a:off x="285840" y="4572000"/>
            <a:ext cx="37591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2" descr="Фото000.jpg"/>
          <p:cNvPicPr/>
          <p:nvPr/>
        </p:nvPicPr>
        <p:blipFill>
          <a:blip r:embed="rId1"/>
          <a:stretch/>
        </p:blipFill>
        <p:spPr>
          <a:xfrm>
            <a:off x="5357880" y="1500120"/>
            <a:ext cx="3214800" cy="50720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"/>
          <p:cNvSpPr/>
          <p:nvPr/>
        </p:nvSpPr>
        <p:spPr>
          <a:xfrm>
            <a:off x="0" y="285840"/>
            <a:ext cx="914400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Методы работ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сследователь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Деятельно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ек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иск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развивающ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«мозгового штур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с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ОСНОВОПОЛОГАЮЩИЕСЯ ПРИНЦИПЫ ПОСТРОЕНИЯ ПРОЕКТА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85480" y="178596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держание интереса к познавательной актив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ёт познавательной активности в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гляднос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 непрерывности духовного, нравственного, патриотического воспитания и образования личности на всех этапах жизне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 дифференцированного подхода к организации мероприятий и уроков по развитию духовных, нравственных, патриотических качеств  личности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208080"/>
            <a:ext cx="8796600" cy="20178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2" descr="DSC00561.JPG"/>
          <p:cNvPicPr/>
          <p:nvPr/>
        </p:nvPicPr>
        <p:blipFill>
          <a:blip r:embed="rId2"/>
          <a:stretch/>
        </p:blipFill>
        <p:spPr>
          <a:xfrm>
            <a:off x="4500720" y="2714760"/>
            <a:ext cx="4214520" cy="38574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C:\Documents and Settings\user\Мои документы\Мои рисунки\фото 2010\102_PANA\P1020031.JPG"/>
          <p:cNvPicPr/>
          <p:nvPr/>
        </p:nvPicPr>
        <p:blipFill>
          <a:blip r:embed="rId3"/>
          <a:stretch/>
        </p:blipFill>
        <p:spPr>
          <a:xfrm>
            <a:off x="428760" y="1857240"/>
            <a:ext cx="371448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7" descr="P1000821.JPG"/>
          <p:cNvPicPr/>
          <p:nvPr/>
        </p:nvPicPr>
        <p:blipFill>
          <a:blip r:embed="rId1"/>
          <a:stretch/>
        </p:blipFill>
        <p:spPr>
          <a:xfrm>
            <a:off x="0" y="1643040"/>
            <a:ext cx="4130640" cy="26290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4" descr="P1000826.JPG"/>
          <p:cNvPicPr/>
          <p:nvPr/>
        </p:nvPicPr>
        <p:blipFill>
          <a:blip r:embed="rId2"/>
          <a:stretch/>
        </p:blipFill>
        <p:spPr>
          <a:xfrm>
            <a:off x="4643280" y="1143000"/>
            <a:ext cx="4334040" cy="535788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" descr=""/>
          <p:cNvPicPr/>
          <p:nvPr/>
        </p:nvPicPr>
        <p:blipFill>
          <a:blip r:embed="rId3"/>
          <a:stretch/>
        </p:blipFill>
        <p:spPr>
          <a:xfrm>
            <a:off x="-6480" y="-79200"/>
            <a:ext cx="9156960" cy="11030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>
            <a:off x="864360" y="1071720"/>
            <a:ext cx="2459160" cy="825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ория се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4505040" y="1071720"/>
            <a:ext cx="4313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знавательно-развлекательн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«Мой дом род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6" descr="P1000846.JPG"/>
          <p:cNvPicPr/>
          <p:nvPr/>
        </p:nvPicPr>
        <p:blipFill>
          <a:blip r:embed="rId4"/>
          <a:stretch/>
        </p:blipFill>
        <p:spPr>
          <a:xfrm>
            <a:off x="571680" y="4214880"/>
            <a:ext cx="3892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img973"/>
          <p:cNvPicPr/>
          <p:nvPr/>
        </p:nvPicPr>
        <p:blipFill>
          <a:blip r:embed="rId1"/>
          <a:stretch/>
        </p:blipFill>
        <p:spPr>
          <a:xfrm>
            <a:off x="357120" y="1143000"/>
            <a:ext cx="4143600" cy="2449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img975"/>
          <p:cNvPicPr/>
          <p:nvPr/>
        </p:nvPicPr>
        <p:blipFill>
          <a:blip r:embed="rId2"/>
          <a:stretch/>
        </p:blipFill>
        <p:spPr>
          <a:xfrm>
            <a:off x="4714920" y="3929040"/>
            <a:ext cx="4248000" cy="277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mg983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643280" y="11430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img974"/>
          <p:cNvPicPr/>
          <p:nvPr/>
        </p:nvPicPr>
        <p:blipFill>
          <a:blip r:embed="rId4"/>
          <a:stretch/>
        </p:blipFill>
        <p:spPr>
          <a:xfrm>
            <a:off x="214200" y="3857760"/>
            <a:ext cx="4273560" cy="280512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9" descr=""/>
          <p:cNvPicPr/>
          <p:nvPr/>
        </p:nvPicPr>
        <p:blipFill>
          <a:blip r:embed="rId5"/>
          <a:stretch/>
        </p:blipFill>
        <p:spPr>
          <a:xfrm>
            <a:off x="-23760" y="-128520"/>
            <a:ext cx="9313920" cy="19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F:\фот пр\img703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928800"/>
            <a:ext cx="4929480" cy="331452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2" descr=""/>
          <p:cNvPicPr/>
          <p:nvPr/>
        </p:nvPicPr>
        <p:blipFill>
          <a:blip r:embed="rId2"/>
          <a:stretch/>
        </p:blipFill>
        <p:spPr>
          <a:xfrm>
            <a:off x="712800" y="-219240"/>
            <a:ext cx="7870680" cy="1200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777 081"/>
          <p:cNvPicPr/>
          <p:nvPr/>
        </p:nvPicPr>
        <p:blipFill>
          <a:blip r:embed="rId3"/>
          <a:stretch/>
        </p:blipFill>
        <p:spPr>
          <a:xfrm>
            <a:off x="4429080" y="3643200"/>
            <a:ext cx="4500720" cy="32148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5441040" y="1000080"/>
            <a:ext cx="273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ь по но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83560" y="4500720"/>
            <a:ext cx="39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в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со м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ибшие в б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Щипач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285840" y="64296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е материалов работы на школьном и районном сай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ие  в работе школьного и районного методического объединения учителей  начальных клас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педагогическую обществ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едрение в практику учителей общеобразовательных учреждений района и шко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66600"/>
            <a:ext cx="860760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АКТУАЛЬНОСТЬ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420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циональная культура 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, получить духовную поддержку и жизненную опо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хранение истории  определяет будущее нашего народа. Через народное творчество ребенок может развиваться, может проявлять свои умения, фантаз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изучения народного творчества  выходит далеко за рамки только искусства. Говоря об экологии природы, мы  одновременно говорим  и об экологии народного искусства, экологии фольклора и с полным основанием можем говорить об экологии духов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Прямоугольник 1" descr=""/>
          <p:cNvPicPr/>
          <p:nvPr/>
        </p:nvPicPr>
        <p:blipFill>
          <a:blip r:embed="rId1"/>
          <a:stretch/>
        </p:blipFill>
        <p:spPr>
          <a:xfrm>
            <a:off x="1566720" y="-42840"/>
            <a:ext cx="6083280" cy="1116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285840" y="100008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реализации проек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повысить степень самостоятельности,  познавательной    мотивированности учащихся младших кла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ить учащихся к богатству и разнообразию народной культуры, куль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лечь в систему общешкольных мероприятий всех субъектов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овать Программу экспериментального курса для учащихся 1-4 классов «Приобщение учащихся младших классов к богатству и разнообразию народной культуры, куль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культуру поведения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воспит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олнить багаж знаний учащихся по истории литера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ть значимые ценные ориентиры: бережное отношение к родному краю, народным традициям и обычаям родного 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качество знаний и успеваемост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1352520"/>
            <a:ext cx="708120" cy="145728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2" descr=""/>
          <p:cNvPicPr/>
          <p:nvPr/>
        </p:nvPicPr>
        <p:blipFill>
          <a:blip r:embed="rId2"/>
          <a:stretch/>
        </p:blipFill>
        <p:spPr>
          <a:xfrm>
            <a:off x="-225360" y="1206360"/>
            <a:ext cx="9405720" cy="37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АНАЛИЗ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00008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нижение общей культуры подрастающего поколения, необходимость возрождения национальных традиц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изкая мотивация на учебу и, в том числе, на изучение культурного наследия русского наро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сутствие целостной и целенаправленной системы формирования культурных ценностей у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изис семейного воспитания детей, связанный с отъездом родителей на заработ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даленность культурных центр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58760"/>
            <a:ext cx="8008920" cy="9810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42920" y="1000080"/>
            <a:ext cx="8501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объективной потребностью общества в создании условий  свободного духовно-патриотического саморазвития личности каждого ребенка – и фактическим отсутствием системного  и технологического решения данного вопроса в практике непосредственной работы с детьми младшего 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обстоятельным теоретическим анализом и обоснованием эффективности технологий, методик и практикой реализации духовно-патриотического воспитания  в обра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необходимостью углубленной, систематической работы по духовно-патриотическому воспитанию младших школьников и существующей поверхностной, эпизодической практикой этой работы в начальной школе, ее ограниченностью рамками 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значительным воспитательным потенциалом народных традиций и их недостаточной востребованностью, научно-методической обоснованностью  организации духовно-патриотического воспитания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entury Schoolbook"/>
              </a:rPr>
              <a:t>ЦЕЛЬ ПРОЕКТА: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14200" y="107172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Определение форм, методов, приёмов, позволяющих воспитывать высоконравственную личность, способную любить, уважать и продолжать традиции и обычаи своего народа, своей Родины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420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вить информацию в содержании предметов, в обучении которых могут отразиться народные тради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ь и сохранить традиции посредством воспитательн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систему мероприятий, позволяющих воспитать духовно-патриотические качества младших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редством вовлечения младших школьников в исследовательскую деятельность пробудить интерес к истории своего края, его прошл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ить связь между прошлыми и настоящими традиция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ть представление о народной культуре через урочную и внеурочную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ГИПОТЕЗА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142640"/>
            <a:ext cx="8001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мы будем использовать такие формы, приемы, методы в изучении культурного наследия русского народа, как яркие эмоциональные беседы, опытно-поисковая работа,  театрализованные представления, уроки-практикумы,  интеграцию мероприятий и уроков,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это будет способствовать развитию патриотического и нравственного воспитания, повышению интереса младших школьников к познанию культурного наследия русского народ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1" descr=""/>
          <p:cNvPicPr/>
          <p:nvPr/>
        </p:nvPicPr>
        <p:blipFill>
          <a:blip r:embed="rId1"/>
          <a:stretch/>
        </p:blipFill>
        <p:spPr>
          <a:xfrm>
            <a:off x="-109440" y="-171360"/>
            <a:ext cx="9313920" cy="1098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>
            <a:off x="357120" y="1000080"/>
            <a:ext cx="828684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духовно-нравственной личности, способной любить, уважать свой народ, свою Род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поколения ценителей и хранителей традиций народного искусства с высоким уровнем познавательной активности способных к самовыражению через твор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чебно-методических материалов, фотоматериалов, информационного банка данных  о народных мастерах родного края, о ветеранах Великой Отечествен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2"/>
          <p:cNvSpPr/>
          <p:nvPr/>
        </p:nvSpPr>
        <p:spPr>
          <a:xfrm>
            <a:off x="142920" y="142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ФОРМЫ ПРЕДОСТАВЛЕНИЯ РЕЗУЛЬТА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357120" y="857160"/>
            <a:ext cx="8072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ЗНАТАКОВ РОДНОГО КР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А-КОНКУРС «ЮНЫЙ УМЕЛЕЦ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ИССЛЕДОВАТЕЛЬСКАЯ РАБОТА(РЕФЕРАТ, СООБЩЕНИЕ, ПРЕЗЕНТАЦИЯ С ИСПОЛЬЗОВАНИЕМ ИКТ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ИГРА «Когда-то на Руси…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-ПРАЗДНИК «Ярмар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в комнату-музей «История села Козьмодемьянов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И НАРОДНОГО КАЛЕНД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5:41:36Z</dcterms:created>
  <dc:creator>User</dc:creator>
  <dc:description/>
  <dc:language>en-US</dc:language>
  <cp:lastModifiedBy>Треугольник</cp:lastModifiedBy>
  <dcterms:modified xsi:type="dcterms:W3CDTF">2017-03-16T16:39:27Z</dcterms:modified>
  <cp:revision>21</cp:revision>
  <dc:subject/>
  <dc:title>  ПЕДАГОГИЧЕСКИЙ ПРОЕКТ     «ВОСПИТАНИЕ  ДУХОВНОСТИ, ПАТРИОТИЗМА  МЛАДШИХ ШКОЛЬНИКОВ СРЕДСТВАМИ НАРОДНЫХ ТРАДИЦИЙ ЧЕРЕЗ УРОЧНУЮ И НЕУРОЧНУЮ  ДЕЯТЕЛЬНОСТЬ»      </dc:title>
</cp:coreProperties>
</file>