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3.png" ContentType="image/png"/>
  <Override PartName="/ppt/media/image37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0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17.png" ContentType="image/png"/>
  <Override PartName="/ppt/media/image3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892C-27F4-47B1-8FE8-CE7292CE7B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0C60-4FC0-414B-832B-07C49E8C1B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3FF-0827-46AB-91F9-3DD4A806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687-4D3A-4419-9E74-D14A5D8C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FFE-4319-4ECB-B773-86FEBECC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5CA-9B19-4C9E-96BC-508B36C3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75EC-67EB-4C0D-8CA3-AA3C7BD4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5368-579A-4BAC-9EB5-CC78B1C6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5FBB-9EF9-45DE-AB39-16D53850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6A2E-8EED-4C24-8A47-380861B0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605E-9498-4BA4-890A-0B0AE037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1D10-C99D-4125-AF35-63839B6B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B00C-3B9E-4C1F-AB3C-58E271B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8C6-B279-45B3-9E14-A6EF32DF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8274-41D9-43D7-86B9-EE9B8CD4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C1B8-A2CA-481E-8FFB-D2FCA585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0968-FFD1-44ED-93BC-6BFFEBDD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7D98-10BD-4CD2-811A-31A0B20D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B665-29EF-4FF7-A8FC-D5ED3965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875B-6C03-4166-8782-26286142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0B0E-353D-4052-BA8B-05D7E4E8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A1F5-8546-4A44-862D-090D13A5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D9D1-3A67-4911-90D4-C3A076D4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B38F-D759-4162-A41D-517FEAE8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CDB-6D7E-4D60-B2EF-AEF0556C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6363-5EEF-41E4-A47D-8968205D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7FEF-7E27-4031-B7EA-597CCC61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9FBB-6BFB-4924-A9B7-0B7591C3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55924-B331-4F52-93A2-280FA21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1B05-01FC-41F1-8C16-44C853D6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64D2-D4DD-4539-A29B-47192DCA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A1E9B-2C95-4790-90D8-376FDFEB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14C2-39E2-4A31-85ED-FA253612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6DDD-1506-4B17-A202-D8F0D32A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631A-04F4-4E2E-B2D3-DA670F6B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7F2-FE8D-4446-9800-E2CBF5F6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5E2F-927F-4FFC-B5E1-1EA6B97F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D4AD-709F-4670-B4CB-9E68E95B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F0617-D7A2-45E8-BB13-97F09E1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23B6-9AE9-460B-B020-74AC5F5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8DD3-53AE-430E-82E2-08094BE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8926-B16E-42BA-8C3A-2B3D442C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210F-0392-49AC-8FFA-7C110C30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8621-1ACB-4E26-A807-BE65AD2D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4AF7F-E441-432D-A293-882298AD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5909-5242-4800-8D35-B3D3865E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E87-8275-4574-AEB6-DA609EB8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C85B5-3231-47EB-B3F4-24651841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75282-FCBD-4C06-9A24-AB805119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BEF3-ABF3-40F2-898E-B48F2E6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2A6AB-6943-41D4-9D71-C2DAB957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728EA-63FF-44C5-8339-1341C55F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86386-135D-46B9-9431-76A166AC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FC860-39CF-44F6-8A62-D89C8A3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E4E9-045A-42C9-A0CC-A6D8B2D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4979-8EFD-486B-A264-59FCA5D9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BDCD-6B99-49A7-B243-821F4058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565-71CA-4222-8FE8-37CFD155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DF82-8C14-4409-9882-6B8929F3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69F-3CF8-4218-8017-7980F3E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676-0FA1-46E9-B390-0BAE04D2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8B7-27D5-44B5-8A93-51AC80B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8C71-D3F7-44E3-902D-62F4FA466FF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A1CA-D3EF-4ED8-A784-DA0922B46C1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A432-1690-4949-B4BD-62B1F2F04A0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3A6F-9583-4034-97EC-91A2869253F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B95E-AD05-46B2-9E07-24AF74A1D10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Monotype Corsiva"/>
              </a:rPr>
              <a:t>Здравствуй, Школа!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571400"/>
            <a:ext cx="8183520" cy="414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Быть готовым к школе – не значит уметь читать, писать и считать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ыть готовым к школе –  значит быть готовым всему этому научиться»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енгер Л.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1720" y="533520"/>
            <a:ext cx="7439040" cy="752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Готовы ли родители к школе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00280" y="1571400"/>
            <a:ext cx="5010480" cy="471492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ртвовать своим личным временем  и некоторыми привыч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держивать свои эмо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кричать, не унижать и не обиж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равнивать своего ребенка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наказывать ребенка без пр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гда встречать ребенка из школы с улыб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щедрым на похвалу за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Содержимое 8" descr="5972282e64cbt.jpg"/>
          <p:cNvPicPr/>
          <p:nvPr/>
        </p:nvPicPr>
        <p:blipFill>
          <a:blip r:embed="rId1"/>
          <a:stretch/>
        </p:blipFill>
        <p:spPr>
          <a:xfrm>
            <a:off x="571680" y="1714680"/>
            <a:ext cx="2714400" cy="4071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99680" y="1857240"/>
            <a:ext cx="4714920" cy="4572000"/>
          </a:xfrm>
          <a:prstGeom prst="rect">
            <a:avLst/>
          </a:prstGeom>
          <a:solidFill>
            <a:srgbClr val="dfd7e7"/>
          </a:solidFill>
          <a:ln w="9360">
            <a:solidFill>
              <a:srgbClr val="f9b26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Я» (имя, фамилия, пол, возраст, место проживания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я семья (Ф. И. О. родителей, состав семьи, профессии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кружающий мир (животные и растения, времена года и явления природы, люди и техника и т. д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Заголовок 8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8223120" cy="14446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7" descr="65662.jpg"/>
          <p:cNvPicPr/>
          <p:nvPr/>
        </p:nvPicPr>
        <p:blipFill>
          <a:blip r:embed="rId2"/>
          <a:stretch/>
        </p:blipFill>
        <p:spPr>
          <a:xfrm>
            <a:off x="5643720" y="2071800"/>
            <a:ext cx="2786040" cy="421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78920" y="1480680"/>
            <a:ext cx="5472360" cy="4805640"/>
          </a:xfrm>
          <a:prstGeom prst="rect">
            <a:avLst/>
          </a:prstGeom>
          <a:solidFill>
            <a:srgbClr val="c4e1f2"/>
          </a:soli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ловая последовательность в пределах 2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ожение и вычитание в пределах 1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нятие «больше – меньше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геометрические фигу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ировка в пространст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мерение предметов при помощи линей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вета и их оттен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93040" cy="1071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9785947433432.jpg"/>
          <p:cNvPicPr/>
          <p:nvPr/>
        </p:nvPicPr>
        <p:blipFill>
          <a:blip r:embed="rId2"/>
          <a:stretch/>
        </p:blipFill>
        <p:spPr>
          <a:xfrm>
            <a:off x="5715000" y="1500120"/>
            <a:ext cx="292896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785600"/>
            <a:ext cx="4829040" cy="442908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составлять рассказ по картин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казывать содержание известной сказ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казывать связные истории из своей жиз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уж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вот  умение бегло читать или писать письменными буквами – совершенно не обязательно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553240" cy="13050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9785947433449.jpg"/>
          <p:cNvPicPr/>
          <p:nvPr/>
        </p:nvPicPr>
        <p:blipFill>
          <a:blip r:embed="rId2"/>
          <a:stretch/>
        </p:blipFill>
        <p:spPr>
          <a:xfrm>
            <a:off x="5857920" y="2428920"/>
            <a:ext cx="3071880" cy="41972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3532_russian_schools_02.jpg"/>
          <p:cNvPicPr/>
          <p:nvPr/>
        </p:nvPicPr>
        <p:blipFill>
          <a:blip r:embed="rId3"/>
          <a:stretch/>
        </p:blipFill>
        <p:spPr>
          <a:xfrm rot="559200">
            <a:off x="5722920" y="43128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42680"/>
            <a:ext cx="4829040" cy="478620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интеллектуальные функции </a:t>
            </a:r>
            <a:r>
              <a:rPr b="1" i="1" lang="ru-RU" sz="2000" spc="-1" strike="noStrike">
                <a:solidFill>
                  <a:srgbClr val="771f28"/>
                </a:solidFill>
                <a:latin typeface="Verdana"/>
              </a:rPr>
              <a:t>(внимание, память и мышление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жны достичь определенного уровня развития – стать произвольными, т. е. сознательно управляем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щему школьнику необходимо уметь определенное время работать, сосредоточившись на задан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412120" cy="12430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b661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0800" y="1785960"/>
            <a:ext cx="348120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56760" y="1785960"/>
            <a:ext cx="5357880" cy="464328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1f28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771f28"/>
                </a:solidFill>
                <a:latin typeface="Verdana"/>
              </a:rPr>
              <a:t>Ребенку важно научиться владеть собственными пальчиками – ведь теперь он будет учиться пис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 ему нужно уме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ьно держать ручк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оваться ножниц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совать и лепи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водить контуры и заштриховывать фигу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93040" cy="12747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3" descr="1232699973_1_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29200" y="2286000"/>
            <a:ext cx="2928960" cy="4143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big_school.gif"/>
          <p:cNvPicPr/>
          <p:nvPr/>
        </p:nvPicPr>
        <p:blipFill>
          <a:blip r:embed="rId3"/>
          <a:stretch/>
        </p:blipFill>
        <p:spPr>
          <a:xfrm>
            <a:off x="6215040" y="0"/>
            <a:ext cx="183852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Желание учиться, идти в школ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тремление узнавать ново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крепляйте положительное отношение ребенка к школ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икогда не запугивайте ребенка, рассказывая о школ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c4e1f2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тем</a:t>
            </a: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, чт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ребенок выполнял правила иг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е  ребенка устанавливать причинно-следственные связ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йте вместе с ним логические задачи: загадки, ребусы, кроссворд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и общении с ребенком называйте его друзей по име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Не критикуйте сверстников ребенка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иглашайте друзей ребенка в гости, участвуйте в игр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857840"/>
            <a:ext cx="8183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Первая заповедь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Родившийся ребенок в семье должен быть всегда желанным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Содержимое 3" descr="бабка и дедка.jpg"/>
          <p:cNvPicPr/>
          <p:nvPr/>
        </p:nvPicPr>
        <p:blipFill>
          <a:blip r:embed="rId1"/>
          <a:stretch/>
        </p:blipFill>
        <p:spPr>
          <a:xfrm>
            <a:off x="1617840" y="530280"/>
            <a:ext cx="595440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c4e1f2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ывайте с ребенком совместную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обсуждайте при нем взросл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яйте ему правила общения с учителем и другими взрослыми людь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1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ртфель первоклассн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3280" y="121392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нал: 3 ручки с синей пастой, 2 простых карандаша, ластик, точилка, линейка 20 с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тради в клетку, в широкую линейку в пап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ветные карандаши (12 цветов, хорош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пка для труда: цветная бумага, цветной картон, белый картон, клей-карандаш, ножницы, пластилин, доска для работы с пластилином, салфетка для рук, клеёнка на парту, линейка 30 с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пка для рисования: альбом для рисования, краски акварельные и гуашевые, набор кисточ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ладки для книг, веер букв и циф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изкультура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157176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лая футболка, чёрные велосипедки или шор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ртивный костю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оссов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ыжи с удобными креплениями в чех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пальный костюм, шапочка для купания, жидкое мыло, мочалка, полотенце, резиновые тап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358040" cy="1214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7" name="Содержимое 4" descr="8c2e29e827a6t.jpg"/>
          <p:cNvPicPr/>
          <p:nvPr/>
        </p:nvPicPr>
        <p:blipFill>
          <a:blip r:embed="rId1"/>
          <a:stretch/>
        </p:blipFill>
        <p:spPr>
          <a:xfrm>
            <a:off x="2571840" y="228600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785840"/>
            <a:ext cx="81835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Вторая заповедь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е оставляйте маленьких детей без присмотра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Содержимое 3" descr="колобок убежал.jpg"/>
          <p:cNvPicPr/>
          <p:nvPr/>
        </p:nvPicPr>
        <p:blipFill>
          <a:blip r:embed="rId1"/>
          <a:stretch/>
        </p:blipFill>
        <p:spPr>
          <a:xfrm>
            <a:off x="1654200" y="530280"/>
            <a:ext cx="588168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7858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Третья заповедь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учите ребенка общаться с окружающим миром.</a:t>
            </a:r>
            <a:br>
              <a:rPr sz="32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Содержимое 3" descr="волк и колобок.jpg"/>
          <p:cNvPicPr/>
          <p:nvPr/>
        </p:nvPicPr>
        <p:blipFill>
          <a:blip r:embed="rId1"/>
          <a:stretch/>
        </p:blipFill>
        <p:spPr>
          <a:xfrm>
            <a:off x="1641600" y="530280"/>
            <a:ext cx="590688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786200"/>
            <a:ext cx="8183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поведь четвертая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учите ребенка распознавать добро и зло, истинные намерения людей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3" descr="лиса и колобок.jpg"/>
          <p:cNvPicPr/>
          <p:nvPr/>
        </p:nvPicPr>
        <p:blipFill>
          <a:blip r:embed="rId1"/>
          <a:stretch/>
        </p:blipFill>
        <p:spPr>
          <a:xfrm>
            <a:off x="3265560" y="719280"/>
            <a:ext cx="26575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071600"/>
            <a:ext cx="8183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поведь пятая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Научите ребенка самостоятельно с честью и достоинством, без ущерба для жизни, выходить их сложных жизненных ситуаций.</a:t>
            </a:r>
            <a:br>
              <a:rPr sz="32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Содержимое 3" descr="колобок.jpg"/>
          <p:cNvPicPr/>
          <p:nvPr/>
        </p:nvPicPr>
        <p:blipFill>
          <a:blip r:embed="rId1"/>
          <a:stretch/>
        </p:blipFill>
        <p:spPr>
          <a:xfrm>
            <a:off x="3071880" y="714240"/>
            <a:ext cx="3060720" cy="31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отовность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714480" y="1785960"/>
            <a:ext cx="5072040" cy="4572000"/>
          </a:xfrm>
          <a:prstGeom prst="rect">
            <a:avLst/>
          </a:prstGeom>
          <a:solidFill>
            <a:srgbClr val="f3eade"/>
          </a:solidFill>
          <a:ln w="936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Интеллектуальная, мотивационная, волевая, коммуникативна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Физ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Здоровье, моторика рук, движения, возрас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Специальн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Чтение, счет, учебные у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C:\Program Files\Microsoft Office\CLIPART\PUB60COR\AN00790_.WMF"/>
          <p:cNvPicPr/>
          <p:nvPr/>
        </p:nvPicPr>
        <p:blipFill>
          <a:blip r:embed="rId1"/>
          <a:stretch/>
        </p:blipFill>
        <p:spPr>
          <a:xfrm>
            <a:off x="285840" y="1785960"/>
            <a:ext cx="3286080" cy="4286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10000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Возраст поступления в школ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13880" y="2071440"/>
            <a:ext cx="364356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в 1 класс поступают дети, достигшие 6 лет и 6 месяц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авное отличие – у шестилетнего ребенка переход от игровой деятельности к учебной идет медленне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denznanij_az.jpg"/>
          <p:cNvPicPr/>
          <p:nvPr/>
        </p:nvPicPr>
        <p:blipFill>
          <a:blip r:embed="rId1"/>
          <a:stretch/>
        </p:blipFill>
        <p:spPr>
          <a:xfrm>
            <a:off x="4714920" y="1714680"/>
            <a:ext cx="3286080" cy="2357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6.jpg"/>
          <p:cNvPicPr/>
          <p:nvPr/>
        </p:nvPicPr>
        <p:blipFill>
          <a:blip r:embed="rId2"/>
          <a:stretch/>
        </p:blipFill>
        <p:spPr>
          <a:xfrm>
            <a:off x="5143680" y="4357800"/>
            <a:ext cx="34290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429680" cy="1071360"/>
          </a:xfrm>
          <a:prstGeom prst="rect">
            <a:avLst/>
          </a:prstGeom>
          <a:gradFill rotWithShape="0">
            <a:gsLst>
              <a:gs pos="0">
                <a:srgbClr val="c4b7d4"/>
              </a:gs>
              <a:gs pos="100000">
                <a:srgbClr val="efecf4"/>
              </a:gs>
            </a:gsLst>
            <a:lin ang="16200000"/>
          </a:gradFill>
          <a:ln w="9360">
            <a:solidFill>
              <a:srgbClr val="5e457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Адаптация ребенка к школ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15080" y="2071440"/>
            <a:ext cx="179568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856880"/>
            <a:ext cx="6072120" cy="42865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социальная позиция ребенка: он становится учени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сходит смена ведущ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его социальное окружение. Успешность зависит от позиции сред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сдерживания двигательной актив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никновение специфических реакций: страхи, срывы, повышенная слезливость, затормож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Рисунок 5" descr="i.jpg"/>
          <p:cNvPicPr/>
          <p:nvPr/>
        </p:nvPicPr>
        <p:blipFill>
          <a:blip r:embed="rId1"/>
          <a:stretch/>
        </p:blipFill>
        <p:spPr>
          <a:xfrm>
            <a:off x="6715080" y="1857240"/>
            <a:ext cx="1928880" cy="42865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deti0000.gif"/>
          <p:cNvPicPr/>
          <p:nvPr/>
        </p:nvPicPr>
        <p:blipFill>
          <a:blip r:embed="rId2"/>
          <a:stretch/>
        </p:blipFill>
        <p:spPr>
          <a:xfrm>
            <a:off x="500040" y="285840"/>
            <a:ext cx="1714680" cy="166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3:54:02Z</dcterms:created>
  <dc:creator>User</dc:creator>
  <dc:description/>
  <dc:language>en-US</dc:language>
  <cp:lastModifiedBy>1</cp:lastModifiedBy>
  <dcterms:modified xsi:type="dcterms:W3CDTF">2017-03-21T11:59:12Z</dcterms:modified>
  <cp:revision>143</cp:revision>
  <dc:subject/>
  <dc:title>Готовность к школе</dc:title>
</cp:coreProperties>
</file>