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37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217-26AB-4471-B227-041853DB5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606-5EC0-48B0-9C37-E27BDB849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9D0-CC68-4F6C-A4F2-5DB69856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A65-C82B-40AF-9AC6-3DB51B33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D3C-B8D9-43A4-945E-A0FDCB70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96A-EAAD-4A00-A02D-1DBB4AFF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618-12C9-4CDE-990E-F198037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BDDE-47C3-4AF9-A246-0872FED7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99F-9AB3-4C33-B83D-0CDB9715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181-C521-4934-A855-AD7256F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2E2F-939A-4143-9B96-6B78BC9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4EF-A210-437C-92B8-5CA7AA6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5ACA-A4D2-4C3D-B3B1-E80058F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BAF-9F78-4B05-8C13-E9ED92BF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87D-3ACF-47CA-B2F3-0732512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36B3-716A-471B-B6BD-72E013C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6A0-A544-4D7D-9D12-049119D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84C8-BC33-4AB4-BBE1-9C4571A2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1404-7D2C-4659-BDFC-DCB3BBAC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161F-1009-438D-A1CF-D2CDB846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2160-C966-47CD-80F9-9D5DC1BE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21A8-0002-477D-9B51-470198CF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18B5-D6B3-4AF6-9E71-DF558D6B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14CD-1036-4CBE-9897-40DEB6D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503-93BB-493C-B8FF-3CD6638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C463-9A81-4F89-8C8C-2E87A95C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EDEC-0385-40FD-A626-86EDE27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CE58-6D5C-4A96-B6CF-4A0DB66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7D0E-9D77-47EB-863A-DEE8768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0C12-681B-4CB3-9554-FF13726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0EF0-3790-4B01-B240-EC8FC11B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9FE6-3C85-4FE2-8BE7-DD78199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3C4D-FC11-4282-88F2-6C4E404C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D709-452C-4A7D-9FBE-0CF598F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69DB-14B1-4016-97D5-4FEB9121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E8A-C9EF-40C9-BAA9-7096C2E0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E85B1-F5F6-4236-8D18-0CDFD6E9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E54E-D855-4B6F-AB57-41E22705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7ABA-770E-48C2-9466-90E8076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C205-B54C-4879-AAFD-E161B9C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0A72-1AE3-4CFD-BFA8-EBD0294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75B3-A1E1-4AB0-9514-305FA91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2DA6-BC2A-4CE5-B3B7-24BB6F9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12A4-DA83-4A46-9496-0C2D958B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64D47-72B8-4396-94DF-2980EE62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052E3-CE25-43BF-A655-236561E6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790-4B40-46C4-9FF8-45474225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598E-0D81-4717-80CC-D0A7E21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B8C85-A0B6-4518-B40D-5815E7C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EB8D-2FD9-4815-9ADA-A980DA42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D07B-F8FE-4E85-8517-7952786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17DD-2860-403C-8562-7564F18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EF5C-5F0A-419C-A99E-EF35AEE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9FEA-CFF8-43E5-B96B-C58AF3D7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DDDDF-2B5F-40DB-B862-2070F8B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3088-2D3E-4587-ABB3-21B82E27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5EF7-6DF9-461E-8BCF-C671B137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06A-3E51-4A83-B4EA-C4FAD89E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126F-CEA2-49C1-9952-241CCAF2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280-8B17-45B0-A5FB-41C84F5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8DE-D826-4A1D-B1E7-2E5C370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3AE-CFE0-42AA-BC78-C06E754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153-1600-4349-AB1C-C0130978BB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13B-0A94-442F-88B1-3D2BB37DD6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D1C-D6E8-4E97-A269-75730077E5E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38F3-8B1C-4AE9-B17C-B73F161008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3AD-8541-45BD-BF61-1E41AE527E3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Monotype Corsiva"/>
              </a:rPr>
              <a:t>Здравствуй, Школа!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571400"/>
            <a:ext cx="818352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Быть готовым к школе – не значит уметь читать, писать и считать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ыть готовым к школе –  значит быть готовым всему этому научиться»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енгер Л.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fd7e7"/>
          </a:solidFill>
          <a:ln w="9360">
            <a:solidFill>
              <a:srgbClr val="f9b2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Я» (имя, фамилия, пол, возраст, место проживания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я семья (Ф. И. О. родителей, состав семьи, профессии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Заголовок 8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c4e1f2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интеллектуальные функции </a:t>
            </a:r>
            <a:r>
              <a:rPr b="1" i="1" lang="ru-RU" sz="2000" spc="-1" strike="noStrike">
                <a:solidFill>
                  <a:srgbClr val="771f28"/>
                </a:solidFill>
                <a:latin typeface="Verdana"/>
              </a:rPr>
              <a:t>(внимание, память и мышлени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Желание учиться, идти в школ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тремление узнавать ново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крепляйте положительное отношение ребенка к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когда не запугивайте ребенка, рассказывая о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тем</a:t>
            </a: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85784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Перв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одившийся ребенок в семье должен быть всегда желан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Содержимое 3" descr="бабка и дедка.jpg"/>
          <p:cNvPicPr/>
          <p:nvPr/>
        </p:nvPicPr>
        <p:blipFill>
          <a:blip r:embed="rId1"/>
          <a:stretch/>
        </p:blipFill>
        <p:spPr>
          <a:xfrm>
            <a:off x="1617840" y="530280"/>
            <a:ext cx="595440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ртфель первоклассн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121392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ал: 3 ручки с синей пастой, 2 простых карандаша, ластик, точилка, линейка 2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тради в клетку, в широкую линейку в пап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ные карандаши (12 цветов, хорош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труда: цветная бумага, цветной картон, белый картон, клей-карандаш, ножницы, пластилин, доска для работы с пластилином, салфетка для рук, клеёнка на парту, линейка 3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рисования: альбом для рисования, краски акварельные и гуашевые, набор кист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ладки для книг, веер букв 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зкультур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лая футболка, чёрные велосипедки или шор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ртивный костю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оссов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ыжи с удобными креплениями в чех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пальный костюм, шапочка для купания, жидкое мыло, мочалка, полотенце, резиновые тап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7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тор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е оставляйте маленьких детей без присмотра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Содержимое 3" descr="колобок убежал.jpg"/>
          <p:cNvPicPr/>
          <p:nvPr/>
        </p:nvPicPr>
        <p:blipFill>
          <a:blip r:embed="rId1"/>
          <a:stretch/>
        </p:blipFill>
        <p:spPr>
          <a:xfrm>
            <a:off x="1654200" y="530280"/>
            <a:ext cx="58816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Треть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общаться с окружающим миром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волк и колобок.jpg"/>
          <p:cNvPicPr/>
          <p:nvPr/>
        </p:nvPicPr>
        <p:blipFill>
          <a:blip r:embed="rId1"/>
          <a:stretch/>
        </p:blipFill>
        <p:spPr>
          <a:xfrm>
            <a:off x="1641600" y="530280"/>
            <a:ext cx="59068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78620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четвертая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распознавать добро и зло, истинные намерения людей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лиса и колобок.jpg"/>
          <p:cNvPicPr/>
          <p:nvPr/>
        </p:nvPicPr>
        <p:blipFill>
          <a:blip r:embed="rId1"/>
          <a:stretch/>
        </p:blipFill>
        <p:spPr>
          <a:xfrm>
            <a:off x="3265560" y="71928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071600"/>
            <a:ext cx="8183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пятая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Научите ребенка самостоятельно с честью и достоинством, без ущерба для жизни, выходить их сложных жизненных ситуаций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колобок.jpg"/>
          <p:cNvPicPr/>
          <p:nvPr/>
        </p:nvPicPr>
        <p:blipFill>
          <a:blip r:embed="rId1"/>
          <a:stretch/>
        </p:blipFill>
        <p:spPr>
          <a:xfrm>
            <a:off x="3071880" y="714240"/>
            <a:ext cx="30607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раст поступления в школ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13880" y="2071440"/>
            <a:ext cx="36435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в 1 класс поступают дети, достигшие 6 лет и 6 месяц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отличие – у шестилетнего ребенка переход от игровой деятельности к учебной идет медленн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denznanij_az.jpg"/>
          <p:cNvPicPr/>
          <p:nvPr/>
        </p:nvPicPr>
        <p:blipFill>
          <a:blip r:embed="rId1"/>
          <a:stretch/>
        </p:blipFill>
        <p:spPr>
          <a:xfrm>
            <a:off x="4714920" y="171468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6.jpg"/>
          <p:cNvPicPr/>
          <p:nvPr/>
        </p:nvPicPr>
        <p:blipFill>
          <a:blip r:embed="rId2"/>
          <a:stretch/>
        </p:blipFill>
        <p:spPr>
          <a:xfrm>
            <a:off x="5143680" y="435780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1</cp:lastModifiedBy>
  <dcterms:modified xsi:type="dcterms:W3CDTF">2017-03-21T11:59:12Z</dcterms:modified>
  <cp:revision>143</cp:revision>
  <dc:subject/>
  <dc:title>Готовность к школе</dc:title>
</cp:coreProperties>
</file>