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3.png" ContentType="image/png"/>
  <Override PartName="/ppt/media/image37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0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17.png" ContentType="image/png"/>
  <Override PartName="/ppt/media/image3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F5B-03EF-4E37-9558-8A8F84B328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A5FC-CDC1-446D-9B9C-89B6F6C6F8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A9C-C8BD-4341-BC2C-D9717281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4A0-B484-4718-85AF-422593EA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5C9-2846-4F30-A1DE-8D4FB78C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DCE-386E-497E-85D8-86479F0B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A261-DF91-413E-A51C-0C669FB5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5C12-4570-4FE8-AB61-DB981C76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1400-2EF2-41AD-BFAE-FE2D4798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FD52-7C81-453E-B10D-2984499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0435-7B26-4D67-9E80-F3BE46CF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C9F7-63DD-4E45-BD5A-ADF56D15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A018-529F-47B1-A612-64776F80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385-EFEF-4505-9A10-BE6610E0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A3EF-73FA-4217-B1AA-BAF70A4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948B-7990-4B8D-89B4-DF6DA59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B021-371B-4F50-90C3-F5D22DFE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D630-1A01-44C4-91F8-D214B81F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4C9B-4BA9-42DE-9E1A-2E71AD2D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76C4-50BF-49A9-B112-D5EC6F57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370D-D59C-4F0E-860A-5CC8B74B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FD66-98FD-49D7-82BC-7D9457F2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1E89-CCEF-4E2E-BB70-71A87DC5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8CD1-67F6-42B1-8D24-EEDF44DD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10B-077F-4C91-83FF-88A76BFA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8EED-BFDE-4F04-88D2-1A876670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12EE-027F-4AF2-B0CF-89D9447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0DCC-14B6-412F-8ACC-4B6ED2A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F40D-54AA-498B-95D2-3CA0EB7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D4FE-AC93-4937-A42C-9DD05426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63C4-089E-4823-9F3A-4D7A2D6F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114D-80A4-4874-88C4-FEC31AC3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8DD3-7325-433E-A3CC-1CC6A6F5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C5894-0309-4092-B67E-1EF3D9DF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B2C7-6E25-4E26-A172-B4FB5EAB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E03-58AB-4EE1-87BB-72877807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3525-C094-49BF-805B-F057CAF7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F61C-CB7C-4F8F-ABEA-BC9C5CC6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49288-8B02-4D33-A4C8-31C185E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4091-9813-43BD-945F-6D6E85A2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21BC-E1AC-461F-8AC1-440713F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69721-5464-4404-84E3-888547B5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B545-622C-447D-8E1F-4B853B32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9733-7A92-4F69-93DB-55D9CF49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3BE4-123B-4C2E-9FAE-1604B01B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BC6AE-C46B-4471-B592-C323F2C6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BB5-2B02-49E4-B7C0-DF5C4C26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DD7FF-21AF-4F30-8B16-CA9BDD7F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1EA6B-F7CA-41AD-A2B7-9D292057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983F8-70BD-4A94-99AC-BABD6AB7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92566-3B6E-42A7-BF37-DBCEEFF3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3E051-D1C6-4AB8-8E9E-854F9B39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FDBDD-866C-42F3-BBE1-AAFF050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BC35E-B08E-44AC-99ED-5075CEF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7A41-B8C3-45B4-9714-24CE499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5F542-3408-4445-AA32-1687B4A3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4FAE-8ACE-4151-B716-1DFEF842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FD4-719E-484A-B147-5B1670EC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2DD4-0385-46D8-97CF-C8BAC33A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A41-6A03-4662-BB5F-37B662C1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85E-8468-4FDA-AFAD-194D110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140-42A7-407C-B5C1-E3842EB0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5DD6-2334-4A9E-856F-82CDE0B254D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F3A1-42D6-4F45-8017-3C554FE6C2C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AB5D-D5BE-4DAE-A10C-2FC3F6C9F1B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60F0-5026-4109-9DF9-433BEEFDDBD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A33-F75C-4F6E-9801-7E1240C7E90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Monotype Corsiva"/>
              </a:rPr>
              <a:t>Здравствуй, Школа!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571400"/>
            <a:ext cx="8183520" cy="414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Быть готовым к школе – не значит уметь читать, писать и считать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ыть готовым к школе –  значит быть готовым всему этому научиться»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енгер Л.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1720" y="533520"/>
            <a:ext cx="7439040" cy="752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Готовы ли родители к школе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00280" y="1571400"/>
            <a:ext cx="5010480" cy="471492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ртвовать своим личным временем  и некоторыми привыч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держивать свои эмо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кричать, не унижать и не обиж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равнивать своего ребенка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наказывать ребенка без пр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гда встречать ребенка из школы с улыб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щедрым на похвалу за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Содержимое 8" descr="5972282e64cbt.jpg"/>
          <p:cNvPicPr/>
          <p:nvPr/>
        </p:nvPicPr>
        <p:blipFill>
          <a:blip r:embed="rId1"/>
          <a:stretch/>
        </p:blipFill>
        <p:spPr>
          <a:xfrm>
            <a:off x="571680" y="1714680"/>
            <a:ext cx="2714400" cy="4071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99680" y="1857240"/>
            <a:ext cx="4714920" cy="4572000"/>
          </a:xfrm>
          <a:prstGeom prst="rect">
            <a:avLst/>
          </a:prstGeom>
          <a:solidFill>
            <a:srgbClr val="dfd7e7"/>
          </a:solidFill>
          <a:ln w="9360">
            <a:solidFill>
              <a:srgbClr val="f9b26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Я» (имя, фамилия, пол, возраст, место проживания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я семья (Ф. И. О. родителей, состав семьи, профессии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кружающий мир (животные и растения, времена года и явления природы, люди и техника и т. д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Заголовок 8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8223120" cy="14446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7" descr="65662.jpg"/>
          <p:cNvPicPr/>
          <p:nvPr/>
        </p:nvPicPr>
        <p:blipFill>
          <a:blip r:embed="rId2"/>
          <a:stretch/>
        </p:blipFill>
        <p:spPr>
          <a:xfrm>
            <a:off x="5643720" y="2071800"/>
            <a:ext cx="2786040" cy="421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78920" y="1480680"/>
            <a:ext cx="5472360" cy="4805640"/>
          </a:xfrm>
          <a:prstGeom prst="rect">
            <a:avLst/>
          </a:prstGeom>
          <a:solidFill>
            <a:srgbClr val="c4e1f2"/>
          </a:soli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ловая последовательность в пределах 2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ожение и вычитание в пределах 1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нятие «больше – меньше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геометрические фигу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ировка в пространст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мерение предметов при помощи линей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вета и их оттен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93040" cy="1071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9785947433432.jpg"/>
          <p:cNvPicPr/>
          <p:nvPr/>
        </p:nvPicPr>
        <p:blipFill>
          <a:blip r:embed="rId2"/>
          <a:stretch/>
        </p:blipFill>
        <p:spPr>
          <a:xfrm>
            <a:off x="5715000" y="1500120"/>
            <a:ext cx="292896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785600"/>
            <a:ext cx="4829040" cy="442908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составлять рассказ по картин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казывать содержание известной сказ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казывать связные истории из своей жиз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уж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вот  умение бегло читать или писать письменными буквами – совершенно не обязательно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553240" cy="13050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9785947433449.jpg"/>
          <p:cNvPicPr/>
          <p:nvPr/>
        </p:nvPicPr>
        <p:blipFill>
          <a:blip r:embed="rId2"/>
          <a:stretch/>
        </p:blipFill>
        <p:spPr>
          <a:xfrm>
            <a:off x="5857920" y="2428920"/>
            <a:ext cx="3071880" cy="41972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3532_russian_schools_02.jpg"/>
          <p:cNvPicPr/>
          <p:nvPr/>
        </p:nvPicPr>
        <p:blipFill>
          <a:blip r:embed="rId3"/>
          <a:stretch/>
        </p:blipFill>
        <p:spPr>
          <a:xfrm rot="559200">
            <a:off x="5722920" y="43128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42680"/>
            <a:ext cx="4829040" cy="478620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интеллектуальные функции </a:t>
            </a:r>
            <a:r>
              <a:rPr b="1" i="1" lang="ru-RU" sz="2000" spc="-1" strike="noStrike">
                <a:solidFill>
                  <a:srgbClr val="771f28"/>
                </a:solidFill>
                <a:latin typeface="Verdana"/>
              </a:rPr>
              <a:t>(внимание, память и мышление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жны достичь определенного уровня развития – стать произвольными, т. е. сознательно управляем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щему школьнику необходимо уметь определенное время работать, сосредоточившись на задан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412120" cy="12430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b661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0800" y="1785960"/>
            <a:ext cx="348120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56760" y="1785960"/>
            <a:ext cx="5357880" cy="4643280"/>
          </a:xfrm>
          <a:prstGeom prst="rect">
            <a:avLst/>
          </a:prstGeom>
          <a:solidFill>
            <a:srgbClr val="d9ead5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1f28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771f28"/>
                </a:solidFill>
                <a:latin typeface="Verdana"/>
              </a:rPr>
              <a:t>Ребенку важно научиться владеть собственными пальчиками – ведь теперь он будет учиться пис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 ему нужно уме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ьно держать ручк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оваться ножниц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совать и лепи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водить контуры и заштриховывать фигу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93040" cy="12747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3" descr="1232699973_1_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29200" y="2286000"/>
            <a:ext cx="2928960" cy="4143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big_school.gif"/>
          <p:cNvPicPr/>
          <p:nvPr/>
        </p:nvPicPr>
        <p:blipFill>
          <a:blip r:embed="rId3"/>
          <a:stretch/>
        </p:blipFill>
        <p:spPr>
          <a:xfrm>
            <a:off x="6215040" y="0"/>
            <a:ext cx="183852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Желание учиться, идти в школ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тремление узнавать ново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крепляйте положительное отношение ребенка к школ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икогда не запугивайте ребенка, рассказывая о школ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c4e1f2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тем</a:t>
            </a: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, чт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ребенок выполнял правила иг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е  ребенка устанавливать причинно-следственные связ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йте вместе с ним логические задачи: загадки, ребусы, кроссворд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и общении с ребенком называйте его друзей по име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Не критикуйте сверстников ребенка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иглашайте друзей ребенка в гости, участвуйте в игр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857840"/>
            <a:ext cx="8183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Первая заповедь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Родившийся ребенок в семье должен быть всегда желанным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Содержимое 3" descr="бабка и дедка.jpg"/>
          <p:cNvPicPr/>
          <p:nvPr/>
        </p:nvPicPr>
        <p:blipFill>
          <a:blip r:embed="rId1"/>
          <a:stretch/>
        </p:blipFill>
        <p:spPr>
          <a:xfrm>
            <a:off x="1617840" y="530280"/>
            <a:ext cx="595440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c4e1f2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ывайте с ребенком совместную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обсуждайте при нем взросл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яйте ему правила общения с учителем и другими взрослыми людь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1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ртфель первоклассн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3280" y="121392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нал: 3 ручки с синей пастой, 2 простых карандаша, ластик, точилка, линейка 20 с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тради в клетку, в широкую линейку в пап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ветные карандаши (12 цветов, хорош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пка для труда: цветная бумага, цветной картон, белый картон, клей-карандаш, ножницы, пластилин, доска для работы с пластилином, салфетка для рук, клеёнка на парту, линейка 30 с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пка для рисования: альбом для рисования, краски акварельные и гуашевые, набор кисточ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ладки для книг, веер букв и циф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изкультура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157176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лая футболка, чёрные велосипедки или шор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ртивный костю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оссов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ыжи с удобными креплениями в чех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пальный костюм, шапочка для купания, жидкое мыло, мочалка, полотенце, резиновые тап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358040" cy="1214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7" name="Содержимое 4" descr="8c2e29e827a6t.jpg"/>
          <p:cNvPicPr/>
          <p:nvPr/>
        </p:nvPicPr>
        <p:blipFill>
          <a:blip r:embed="rId1"/>
          <a:stretch/>
        </p:blipFill>
        <p:spPr>
          <a:xfrm>
            <a:off x="2571840" y="228600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785840"/>
            <a:ext cx="81835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Вторая заповедь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е оставляйте маленьких детей без присмотра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Содержимое 3" descr="колобок убежал.jpg"/>
          <p:cNvPicPr/>
          <p:nvPr/>
        </p:nvPicPr>
        <p:blipFill>
          <a:blip r:embed="rId1"/>
          <a:stretch/>
        </p:blipFill>
        <p:spPr>
          <a:xfrm>
            <a:off x="1654200" y="530280"/>
            <a:ext cx="588168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7858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Третья заповедь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учите ребенка общаться с окружающим миром.</a:t>
            </a:r>
            <a:br>
              <a:rPr sz="32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Содержимое 3" descr="волк и колобок.jpg"/>
          <p:cNvPicPr/>
          <p:nvPr/>
        </p:nvPicPr>
        <p:blipFill>
          <a:blip r:embed="rId1"/>
          <a:stretch/>
        </p:blipFill>
        <p:spPr>
          <a:xfrm>
            <a:off x="1641600" y="530280"/>
            <a:ext cx="590688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786200"/>
            <a:ext cx="8183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поведь четвертая: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учите ребенка распознавать добро и зло, истинные намерения людей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3" descr="лиса и колобок.jpg"/>
          <p:cNvPicPr/>
          <p:nvPr/>
        </p:nvPicPr>
        <p:blipFill>
          <a:blip r:embed="rId1"/>
          <a:stretch/>
        </p:blipFill>
        <p:spPr>
          <a:xfrm>
            <a:off x="3265560" y="719280"/>
            <a:ext cx="26575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071600"/>
            <a:ext cx="8183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поведь пятая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Научите ребенка самостоятельно с честью и достоинством, без ущерба для жизни, выходить их сложных жизненных ситуаций.</a:t>
            </a:r>
            <a:br>
              <a:rPr sz="32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Содержимое 3" descr="колобок.jpg"/>
          <p:cNvPicPr/>
          <p:nvPr/>
        </p:nvPicPr>
        <p:blipFill>
          <a:blip r:embed="rId1"/>
          <a:stretch/>
        </p:blipFill>
        <p:spPr>
          <a:xfrm>
            <a:off x="3071880" y="714240"/>
            <a:ext cx="3060720" cy="31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отовность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714480" y="1785960"/>
            <a:ext cx="5072040" cy="4572000"/>
          </a:xfrm>
          <a:prstGeom prst="rect">
            <a:avLst/>
          </a:prstGeom>
          <a:solidFill>
            <a:srgbClr val="f3eade"/>
          </a:solidFill>
          <a:ln w="936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Интеллектуальная, мотивационная, волевая, коммуникативна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Физ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Здоровье, моторика рук, движения, возрас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Специальн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Чтение, счет, учебные у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C:\Program Files\Microsoft Office\CLIPART\PUB60COR\AN00790_.WMF"/>
          <p:cNvPicPr/>
          <p:nvPr/>
        </p:nvPicPr>
        <p:blipFill>
          <a:blip r:embed="rId1"/>
          <a:stretch/>
        </p:blipFill>
        <p:spPr>
          <a:xfrm>
            <a:off x="285840" y="1785960"/>
            <a:ext cx="3286080" cy="4286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10000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Возраст поступления в школ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13880" y="2071440"/>
            <a:ext cx="364356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в 1 класс поступают дети, достигшие 6 лет и 6 месяц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авное отличие – у шестилетнего ребенка переход от игровой деятельности к учебной идет медленне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denznanij_az.jpg"/>
          <p:cNvPicPr/>
          <p:nvPr/>
        </p:nvPicPr>
        <p:blipFill>
          <a:blip r:embed="rId1"/>
          <a:stretch/>
        </p:blipFill>
        <p:spPr>
          <a:xfrm>
            <a:off x="4714920" y="1714680"/>
            <a:ext cx="3286080" cy="2357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6.jpg"/>
          <p:cNvPicPr/>
          <p:nvPr/>
        </p:nvPicPr>
        <p:blipFill>
          <a:blip r:embed="rId2"/>
          <a:stretch/>
        </p:blipFill>
        <p:spPr>
          <a:xfrm>
            <a:off x="5143680" y="4357800"/>
            <a:ext cx="34290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429680" cy="1071360"/>
          </a:xfrm>
          <a:prstGeom prst="rect">
            <a:avLst/>
          </a:prstGeom>
          <a:gradFill rotWithShape="0">
            <a:gsLst>
              <a:gs pos="0">
                <a:srgbClr val="c4b7d4"/>
              </a:gs>
              <a:gs pos="100000">
                <a:srgbClr val="efecf4"/>
              </a:gs>
            </a:gsLst>
            <a:lin ang="16200000"/>
          </a:gradFill>
          <a:ln w="9360">
            <a:solidFill>
              <a:srgbClr val="5e457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Адаптация ребенка к школ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15080" y="2071440"/>
            <a:ext cx="179568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856880"/>
            <a:ext cx="6072120" cy="42865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социальная позиция ребенка: он становится учени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сходит смена ведущ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его социальное окружение. Успешность зависит от позиции сред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сдерживания двигательной актив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никновение специфических реакций: страхи, срывы, повышенная слезливость, затормож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Рисунок 5" descr="i.jpg"/>
          <p:cNvPicPr/>
          <p:nvPr/>
        </p:nvPicPr>
        <p:blipFill>
          <a:blip r:embed="rId1"/>
          <a:stretch/>
        </p:blipFill>
        <p:spPr>
          <a:xfrm>
            <a:off x="6715080" y="1857240"/>
            <a:ext cx="1928880" cy="42865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deti0000.gif"/>
          <p:cNvPicPr/>
          <p:nvPr/>
        </p:nvPicPr>
        <p:blipFill>
          <a:blip r:embed="rId2"/>
          <a:stretch/>
        </p:blipFill>
        <p:spPr>
          <a:xfrm>
            <a:off x="500040" y="285840"/>
            <a:ext cx="1714680" cy="166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3:54:02Z</dcterms:created>
  <dc:creator>User</dc:creator>
  <dc:description/>
  <dc:language>en-US</dc:language>
  <cp:lastModifiedBy>1</cp:lastModifiedBy>
  <dcterms:modified xsi:type="dcterms:W3CDTF">2017-03-21T11:59:12Z</dcterms:modified>
  <cp:revision>143</cp:revision>
  <dc:subject/>
  <dc:title>Готовность к школе</dc:title>
</cp:coreProperties>
</file>