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5.png" ContentType="image/png"/>
  <Override PartName="/ppt/media/image35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11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6.jpeg" ContentType="image/jpe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764-0F51-44CA-9802-D2BEA071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A4E5-7597-4E39-8A84-0D9C84E9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F2F6-3268-4AB2-AC7C-9F2C5EC7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B451-ABA2-4634-AF25-89756350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8F55-C828-42F9-BA76-075E2652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12D9-44B1-42C8-ACA9-DDDB036F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5680-7ADA-472E-9431-2A7D7A6E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E256-136E-4D00-BC0F-495BDDA4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361D-DE95-4EC1-919A-E96E9BFF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EC70-332B-48C1-A949-AC40EB16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9090-6D44-43FE-AB3D-2F546B84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C5D-C67A-4DC7-A4DC-1F65517B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8FBC-B7B0-4EC4-8A6B-19D5396F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2171-AC86-4670-9B91-6E370398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2EBD-46A7-4D18-A7B1-8388EA93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5ED8-D8B7-42C0-A5A8-F5521D75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FECC-8A34-4617-AE45-C5CE7BEB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FB20C-29C3-4490-B802-8953E929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17711-AD4E-40DC-983C-A3FDFDBB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51238-2F11-46CB-822D-B0A8CE1A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D8CEC-4957-45FD-A9E8-043644B6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E0954-CBD1-4EC2-838A-6877B97F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69DB-246B-4AE5-A0F7-9BEEB926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A9CFA-9E92-4E9F-B319-5B012144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01BE6-9284-480B-8A2B-72006513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052BF-2556-4DF9-A346-2026CDA2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8D1DC-85CE-466E-AB82-BC548221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4F944-8367-449C-B132-5DF8E659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E1A82-7DDD-4510-83FA-8A3B0ADE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97D1D-FC8D-434A-9518-E29F8073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296E2-C4BD-40FA-B416-1139F5F8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54AB0-B567-48A3-A03B-244786FC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060D6-9D05-4C24-8A9D-AE9EA712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2D0-77F2-441B-80AB-A135216F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7D16C-E999-4B23-A4F9-78071D8A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76132-0FBB-4FCD-94EE-2DEA6E34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59A0A-0631-4092-BF46-30288658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2B3D4-7F2F-4464-A478-B96F9FB1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C4268-8592-45D4-BB7F-3D877B26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2DE55-D780-423A-B595-B6B658B2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AA983-411A-4D0C-BDD8-AB113456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67130-1EAC-4F7E-AF6A-741A27B5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9086C-7E8E-4FE6-B227-DD66BA99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B433E-93DA-4398-80DB-B151B557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F170-7F95-47E2-9991-E45C0193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EAB26-EA63-4BE5-AD94-59FBE314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8ADF0-B2EF-4151-A9C4-E995FD07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397FF-3842-4AA5-8C77-3CCC41EF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0A69C-8009-452C-A0E5-80655DCD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78FB6-D862-4F05-8EF5-EAFA4031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81334-043D-4EB0-A786-BEA5547B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23610-5EAC-4C78-8B0B-B66B8B6A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81FB2-AEDD-40F3-8AB8-C0EFE1F3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AEE16-59F0-4FC2-AA7A-A2063F61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2EE4F-81C2-4203-83DD-BCD6CFF2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BAF2-FE45-45B9-A8F9-A4062311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504B1-963E-4770-98E6-1A5F3666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D978-83BC-48A9-9D7C-94F27381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B70F-BE12-4D82-B0FA-021B6263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721-9043-4CF3-9874-191311F8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D016-2D3F-42DE-AEE5-FD30F6806D3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FB50-B213-4C5B-9205-555C674979BD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66D9-BAB2-4664-B33D-54F039DF954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2D70-1DC5-47D1-AD0F-B38DA1596E0B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8982-D656-42F8-B512-6324F13D2ED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www.nd.ru/images/products/265649/265649_screenshot_big_06.jpg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4432320" cy="1762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2" name="Picture 2" descr="C:\Documents and Settings\ф\Рабочий стол\Оля К\Дет сад\Магнетизм\74057878_3640123_1817magnet.jpg"/>
          <p:cNvPicPr/>
          <p:nvPr/>
        </p:nvPicPr>
        <p:blipFill>
          <a:blip r:embed="rId2"/>
          <a:stretch/>
        </p:blipFill>
        <p:spPr>
          <a:xfrm>
            <a:off x="3071880" y="2928960"/>
            <a:ext cx="560232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Documents and Settings\ф\Рабочий стол\Оля К\Дет сад\Магнетизм\walker_magnetics.jpg"/>
          <p:cNvPicPr/>
          <p:nvPr/>
        </p:nvPicPr>
        <p:blipFill>
          <a:blip r:embed="rId2"/>
          <a:stretch/>
        </p:blipFill>
        <p:spPr>
          <a:xfrm>
            <a:off x="2286000" y="1644480"/>
            <a:ext cx="339084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>
            <a:off x="1219320" y="2128680"/>
            <a:ext cx="571500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768240" y="1857240"/>
            <a:ext cx="62326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ф\Рабочий стол\Оля К\Дет сад\Магнетизм\compas8-01.jpg"/>
          <p:cNvPicPr/>
          <p:nvPr/>
        </p:nvPicPr>
        <p:blipFill>
          <a:blip r:embed="rId2"/>
          <a:stretch/>
        </p:blipFill>
        <p:spPr>
          <a:xfrm>
            <a:off x="1928880" y="1643040"/>
            <a:ext cx="45003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7302600" cy="1150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C:\Documents and Settings\ф\Рабочий стол\Оля К\Личные разработки\Магнетизм\622px-M_tic.jpg"/>
          <p:cNvPicPr/>
          <p:nvPr/>
        </p:nvPicPr>
        <p:blipFill>
          <a:blip r:embed="rId2"/>
          <a:stretch/>
        </p:blipFill>
        <p:spPr>
          <a:xfrm>
            <a:off x="1560600" y="1609560"/>
            <a:ext cx="503244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Картинка 70 из 12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6000" y="1609560"/>
            <a:ext cx="64612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126560" cy="901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Documents and Settings\ф\Рабочий стол\Оля К\Дет сад\Магнетизм\5649090.jpg"/>
          <p:cNvPicPr/>
          <p:nvPr/>
        </p:nvPicPr>
        <p:blipFill>
          <a:blip r:embed="rId2"/>
          <a:stretch/>
        </p:blipFill>
        <p:spPr>
          <a:xfrm>
            <a:off x="1176480" y="1353960"/>
            <a:ext cx="611028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365040" y="317520"/>
            <a:ext cx="7456680" cy="974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ф\Рабочий стол\Оля К\Дет сад\Магнетизм\66789035_DSC02496.jpg"/>
          <p:cNvPicPr/>
          <p:nvPr/>
        </p:nvPicPr>
        <p:blipFill>
          <a:blip r:embed="rId2"/>
          <a:stretch/>
        </p:blipFill>
        <p:spPr>
          <a:xfrm>
            <a:off x="1257480" y="1609560"/>
            <a:ext cx="56386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ф\Рабочий стол\Оля К\Дет сад\Магнетизм\catalog_image_22.jpg"/>
          <p:cNvPicPr/>
          <p:nvPr/>
        </p:nvPicPr>
        <p:blipFill>
          <a:blip r:embed="rId2"/>
          <a:stretch/>
        </p:blipFill>
        <p:spPr>
          <a:xfrm>
            <a:off x="1071720" y="1785960"/>
            <a:ext cx="5715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Documents and Settings\ф\Рабочий стол\Оля К\Дет сад\Магнетизм\f20110317111658-b0518155519__lg5000_l_lge.jpg"/>
          <p:cNvPicPr/>
          <p:nvPr/>
        </p:nvPicPr>
        <p:blipFill>
          <a:blip r:embed="rId2"/>
          <a:stretch/>
        </p:blipFill>
        <p:spPr>
          <a:xfrm>
            <a:off x="1285920" y="1982880"/>
            <a:ext cx="542916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Documents and Settings\ф\Рабочий стол\Оля К\Дет сад\Магнетизм\prod_352.jpg"/>
          <p:cNvPicPr/>
          <p:nvPr/>
        </p:nvPicPr>
        <p:blipFill>
          <a:blip r:embed="rId2"/>
          <a:stretch/>
        </p:blipFill>
        <p:spPr>
          <a:xfrm>
            <a:off x="1643040" y="1714680"/>
            <a:ext cx="501984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C:\Documents and Settings\ф\Рабочий стол\Оля К\Дет сад\Магнетизм\SHURE%20SM%2058.jpg"/>
          <p:cNvPicPr/>
          <p:nvPr/>
        </p:nvPicPr>
        <p:blipFill>
          <a:blip r:embed="rId2"/>
          <a:stretch/>
        </p:blipFill>
        <p:spPr>
          <a:xfrm>
            <a:off x="1763640" y="1609560"/>
            <a:ext cx="462600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C:\Documents and Settings\ф\Рабочий стол\Оля К\Дет сад\Магнетизм\winner_001_CB1AC8C834464B9BA5D48F1F617280AA.jpg"/>
          <p:cNvPicPr/>
          <p:nvPr/>
        </p:nvPicPr>
        <p:blipFill>
          <a:blip r:embed="rId2"/>
          <a:stretch/>
        </p:blipFill>
        <p:spPr>
          <a:xfrm>
            <a:off x="1695600" y="16527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Documents and Settings\ф\Рабочий стол\Оля К\Дет сад\Магнетизм\x_8d65433d.jpg"/>
          <p:cNvPicPr/>
          <p:nvPr/>
        </p:nvPicPr>
        <p:blipFill>
          <a:blip r:embed="rId2"/>
          <a:stretch/>
        </p:blipFill>
        <p:spPr>
          <a:xfrm>
            <a:off x="785880" y="1643040"/>
            <a:ext cx="4143240" cy="2440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C:\Documents and Settings\ф\Рабочий стол\Оля К\Дет сад\Магнетизм\x_db0145a7.jpg"/>
          <p:cNvPicPr/>
          <p:nvPr/>
        </p:nvPicPr>
        <p:blipFill>
          <a:blip r:embed="rId3"/>
          <a:stretch/>
        </p:blipFill>
        <p:spPr>
          <a:xfrm>
            <a:off x="3571920" y="4071960"/>
            <a:ext cx="436068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я</dc:creator>
  <dc:description/>
  <dc:language>en-US</dc:language>
  <cp:lastModifiedBy>Мария</cp:lastModifiedBy>
  <dcterms:modified xsi:type="dcterms:W3CDTF">2016-01-14T09:01:28Z</dcterms:modified>
  <cp:revision>6</cp:revision>
  <dc:subject/>
  <dc:title>Волшебный магнит</dc:title>
</cp:coreProperties>
</file>