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7993-203B-4CB5-904B-5F05EED28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E17F-1A75-4B13-A75D-31D1562B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6865-50ED-45AF-ACCC-4E72750F9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D66-F66A-4252-85CA-5C30A80A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97AB2-82D5-4F68-9842-BDBCCA23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7F8D-C5BB-4162-B1CE-51851C63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1D7A-46F6-4E0A-A018-47817678E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96FF6-6210-4009-8448-7ED5EA51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1727-1B34-424C-A8AF-9BE378B8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0DFC9-5938-4AE3-831E-75FBFC95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D621-85FD-4E97-8A95-05FE17B6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D151-0EB6-43D1-8684-ABC8A64D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F4343-B093-4299-9E71-7AA010495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295B-3748-466C-8F0E-6D02C436D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9754-AC68-48B7-BE01-15339DB1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46DE-8E0A-4E06-BC30-0F6FBBAF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1C25A-0092-4A55-9E2E-A56CD2E45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BAD2-9304-4921-9854-B709BB8EB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CD0F-E212-48EC-ACA0-507CEDD9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9A6-3390-4687-A94A-EDE95808B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0619-C224-49B9-B5ED-698D382F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D92-8C40-477D-823B-C72AC534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DBA-6398-4E56-9F35-F7F84268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0EC2-C0D3-4CF9-B3CA-79B23945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0924-96F1-412D-A712-9C0CB1D8D0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E4EA-5CE7-4940-BF20-1F5B9A33DA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5"/>
          <p:cNvSpPr/>
          <p:nvPr/>
        </p:nvSpPr>
        <p:spPr>
          <a:xfrm>
            <a:off x="468360" y="1341360"/>
            <a:ext cx="2448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86d1ec"/>
                </a:solidFill>
                <a:latin typeface="Tahoma"/>
              </a:rPr>
              <a:t>Марат Нәби улы Кәрим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7" descr="PICT0181"/>
          <p:cNvPicPr/>
          <p:nvPr/>
        </p:nvPicPr>
        <p:blipFill>
          <a:blip r:embed="rId1"/>
          <a:srcRect l="57338" t="0" r="0" b="27089"/>
          <a:stretch/>
        </p:blipFill>
        <p:spPr>
          <a:xfrm>
            <a:off x="4211640" y="620640"/>
            <a:ext cx="3673440" cy="4608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8"/>
          <p:cNvSpPr/>
          <p:nvPr/>
        </p:nvSpPr>
        <p:spPr>
          <a:xfrm>
            <a:off x="826920" y="378936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6d1ec"/>
                </a:solidFill>
                <a:latin typeface="Tahoma"/>
              </a:rPr>
              <a:t>( 193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Хикәйәләр йыйынтыҡтары</a:t>
            </a:r>
            <a:r>
              <a:rPr b="0" lang="be-BY" sz="4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Алланың ҡашҡа тәкәһе”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Һөйгәнеңә үҙең яҙ”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Көлкөлө хикәйәләр”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Ҡыҙым кейәүгә сыға”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Ялған һуҡмаҡ”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9640" y="404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Мәскәүҙә рус телендә “Весенние почки”, “Министр по делам редиски” исемле китаптары донъя күрҙе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Марат Кәримов </a:t>
            </a:r>
            <a:r>
              <a:rPr b="0" lang="ru-RU" sz="3600" spc="-1" strike="noStrike">
                <a:solidFill>
                  <a:srgbClr val="ffffff"/>
                </a:solidFill>
                <a:latin typeface="a_Helver Bashkir"/>
              </a:rPr>
              <a:t>2003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 йылда </a:t>
            </a:r>
            <a:r>
              <a:rPr b="0" lang="be-BY" sz="3600" spc="-1" strike="noStrike">
                <a:solidFill>
                  <a:srgbClr val="ff9900"/>
                </a:solidFill>
                <a:latin typeface="a_Helver Bashkir"/>
              </a:rPr>
              <a:t>Башҡортостандың халыҡ шағиры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 тигән маҡтаулы исемгә лайыҡ бул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11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 algn="ctr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ffffff"/>
                </a:solidFill>
                <a:latin typeface="a_Helver Bashkir"/>
              </a:rPr>
              <a:t>Һүҙлек эше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Фасылдар – времена год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Мәғәнә – смысл,     асыл – су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Елбәҙәк – ветре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Сөйөргә – мет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Йәйләү – кочевь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Табын – застоль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Бәхәс – спор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Хәсрәт – гор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Хәстәр – забота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Ҡырпаҡ – крупчат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2800" spc="-1" strike="noStrike">
                <a:solidFill>
                  <a:srgbClr val="ffffff"/>
                </a:solidFill>
                <a:latin typeface="a_Helver Bashkir"/>
              </a:rPr>
              <a:t>Әрһеҙ әжәл – пронырливая смер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1187280" y="134136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755640" y="549360"/>
            <a:ext cx="7056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ffff"/>
                </a:solidFill>
                <a:latin typeface="a_Helver Bashkir"/>
              </a:rPr>
              <a:t>Марат Нәби улы Кәримов </a:t>
            </a:r>
            <a:r>
              <a:rPr b="0" lang="ru-RU" sz="4400" spc="-1" strike="noStrike">
                <a:solidFill>
                  <a:srgbClr val="ffffff"/>
                </a:solidFill>
                <a:latin typeface="a_Helver Bashkir"/>
              </a:rPr>
              <a:t>1930 </a:t>
            </a:r>
            <a:r>
              <a:rPr b="0" lang="be-BY" sz="4400" spc="-1" strike="noStrike">
                <a:solidFill>
                  <a:srgbClr val="ffffff"/>
                </a:solidFill>
                <a:latin typeface="a_Helver Bashkir"/>
              </a:rPr>
              <a:t>йылда Башҡортостандың Ейәнсура районы Күгәрсен ауылында тыуған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Схема 1" descr=""/>
          <p:cNvPicPr/>
          <p:nvPr/>
        </p:nvPicPr>
        <p:blipFill>
          <a:blip r:embed="rId1"/>
          <a:stretch/>
        </p:blipFill>
        <p:spPr>
          <a:xfrm>
            <a:off x="-12600" y="-12600"/>
            <a:ext cx="8991360" cy="6767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j0301252"/>
          <p:cNvPicPr/>
          <p:nvPr/>
        </p:nvPicPr>
        <p:blipFill>
          <a:blip r:embed="rId1"/>
          <a:stretch/>
        </p:blipFill>
        <p:spPr>
          <a:xfrm>
            <a:off x="4140360" y="476280"/>
            <a:ext cx="4824360" cy="460836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179280" y="1628640"/>
            <a:ext cx="47516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9900"/>
                </a:solidFill>
                <a:latin typeface="a_Helver(15%) Bashkir"/>
              </a:rPr>
              <a:t>1947 йылда </a:t>
            </a:r>
            <a:r>
              <a:rPr b="0" lang="be-BY" sz="4800" spc="-1" strike="noStrike">
                <a:solidFill>
                  <a:srgbClr val="ff9900"/>
                </a:solidFill>
                <a:latin typeface="a_Helver(15%) Bashkir"/>
              </a:rPr>
              <a:t>тыуған ауылында балалар уҡыта башла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j0233070"/>
          <p:cNvPicPr/>
          <p:nvPr/>
        </p:nvPicPr>
        <p:blipFill>
          <a:blip r:embed="rId1"/>
          <a:stretch/>
        </p:blipFill>
        <p:spPr>
          <a:xfrm>
            <a:off x="4356000" y="836640"/>
            <a:ext cx="4608720" cy="525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684360" y="1916280"/>
            <a:ext cx="3456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_Helver(15%) Bashkir"/>
              </a:rPr>
              <a:t>1950 – 1953 </a:t>
            </a:r>
            <a:r>
              <a:rPr b="0" lang="be-BY" sz="4400" spc="-1" strike="noStrike">
                <a:solidFill>
                  <a:srgbClr val="ffffff"/>
                </a:solidFill>
                <a:latin typeface="a_Helver(15%) Bashkir"/>
              </a:rPr>
              <a:t>йылдарҙа Совет Армияһында хеҙмәт итә</a:t>
            </a:r>
            <a:r>
              <a:rPr b="0" lang="ru-RU" sz="4400" spc="-1" strike="noStrike">
                <a:solidFill>
                  <a:srgbClr val="ffffff"/>
                </a:solidFill>
                <a:latin typeface="a_Helver(15%) Bashkir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4" descr="j0292020"/>
          <p:cNvPicPr/>
          <p:nvPr/>
        </p:nvPicPr>
        <p:blipFill>
          <a:blip r:embed="rId1"/>
          <a:stretch/>
        </p:blipFill>
        <p:spPr>
          <a:xfrm>
            <a:off x="5580000" y="476280"/>
            <a:ext cx="3240000" cy="307008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684360" y="260280"/>
            <a:ext cx="50400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9900"/>
                </a:solidFill>
                <a:latin typeface="a_Helver(15%) Bashkir"/>
              </a:rPr>
              <a:t>Армиянан ҡайтҡас, “Ленинсы” гәзитендә эшләй. “Һәнәк” журналында фельетондар бүлеге мөдире вазифаһын башҡа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218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_Helver Bashkir"/>
              </a:rPr>
              <a:t>1959 – 1961 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йылдарҙа Мәскәүҙә Юғары әҙәби курстарҙа уҡы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1964 – 1968  йылдарҙа “Пионер” журналын етәкләй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аҙаҡ ун йыл буйы “Һәнәк” журналының баш мөхәррире булып эшлә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53964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_Helver Bashkir"/>
              </a:rPr>
              <a:t>Марат К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әримовтың тәүге шиғырҙары </a:t>
            </a:r>
            <a:r>
              <a:rPr b="0" lang="ru-RU" sz="3600" spc="-1" strike="noStrike">
                <a:solidFill>
                  <a:srgbClr val="ffffff"/>
                </a:solidFill>
                <a:latin typeface="a_Helver Bashkir"/>
              </a:rPr>
              <a:t>1948 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йылдарҙа уҡ күренә башлай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“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Бөрөләр” исемле тәүге йыйынтығы </a:t>
            </a:r>
            <a:r>
              <a:rPr b="0" lang="ru-RU" sz="3600" spc="-1" strike="noStrike">
                <a:solidFill>
                  <a:srgbClr val="ffffff"/>
                </a:solidFill>
                <a:latin typeface="a_Helver Bashkir"/>
              </a:rPr>
              <a:t>1956</a:t>
            </a:r>
            <a:r>
              <a:rPr b="0" lang="be-BY" sz="3600" spc="-1" strike="noStrike">
                <a:solidFill>
                  <a:srgbClr val="ffffff"/>
                </a:solidFill>
                <a:latin typeface="a_Helver Bashkir"/>
              </a:rPr>
              <a:t> йылда донъя күрә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mb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Йырҙың дауамы”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Яңы йондоҙ күрҙем”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Йәшлегем – йәшнәр көнөм”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Тормош - ғашиҡтарға”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Яҡты донъям”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“</a:t>
            </a:r>
            <a:r>
              <a:rPr b="0" lang="be-BY" sz="4000" spc="-1" strike="noStrike">
                <a:solidFill>
                  <a:srgbClr val="ffffff"/>
                </a:solidFill>
                <a:latin typeface="a_Helver(15%) Bashkir"/>
              </a:rPr>
              <a:t>Ете көнөм – ете моң”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1332000" y="765000"/>
            <a:ext cx="59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ffffff"/>
                </a:solidFill>
                <a:latin typeface="a_Helver(15%) Bashkir"/>
              </a:rPr>
              <a:t>Шиғри китаптары 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2:10:00Z</dcterms:created>
  <dc:creator>Admin</dc:creator>
  <dc:description/>
  <dc:language>en-US</dc:language>
  <cp:lastModifiedBy>Дом</cp:lastModifiedBy>
  <dcterms:modified xsi:type="dcterms:W3CDTF">2017-03-12T11:40:04Z</dcterms:modified>
  <cp:revision>7</cp:revision>
  <dc:subject/>
  <dc:title>Слайд 1</dc:title>
</cp:coreProperties>
</file>