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D7A-9C9B-4DAF-AC1B-014AB0A5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DE6-D7A5-490D-AAC0-555B5FA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0CE-FB7C-4AE4-9C18-0A57D0B2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522-4B6D-4D7D-9480-F1530193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1861-A2D1-4158-BE21-E629E5CB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25F-FFA3-4219-BA85-F35AD7C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6909-6CAA-4A4E-9EE6-00980FDC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00F3-62A9-47BC-922E-66D0133C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A08F-8673-473D-9EEE-A76452B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A71-D909-4752-BB07-1ACFF5D7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E24F-AAF3-43B1-9C06-FEB6A0E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1C5-9084-407E-9B77-68A68D8B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3D92-F880-4E3D-A1BC-1CED88D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1F3-F037-4ED0-A5AE-538DC6E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60A-C0FA-4BEA-80F9-7BA07BFE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B9D3-A4CA-4F93-8998-2F452D52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D453-9234-4750-9A3C-95176A23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46F-7A88-471A-9044-E391B75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A93-086E-4393-8082-327D6DE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702-F99F-4237-9077-C17FEE11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34C-9E47-487D-960A-C1A5F87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764-B3F0-4448-80A4-E2E99D32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6C3-2876-4C99-9977-5C5469F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4CF-243A-47CB-86BA-054EC70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544-260E-41F7-B8C6-E21480238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375-F105-45DD-9E6C-E23FD1706C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68360" y="1341360"/>
            <a:ext cx="24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86d1ec"/>
                </a:solidFill>
                <a:latin typeface="Tahoma"/>
              </a:rPr>
              <a:t>Марат Нәби улы Кәри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PICT0181"/>
          <p:cNvPicPr/>
          <p:nvPr/>
        </p:nvPicPr>
        <p:blipFill>
          <a:blip r:embed="rId1"/>
          <a:srcRect l="57338" t="0" r="0" b="27089"/>
          <a:stretch/>
        </p:blipFill>
        <p:spPr>
          <a:xfrm>
            <a:off x="4211640" y="620640"/>
            <a:ext cx="3673440" cy="460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826920" y="378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d1ec"/>
                </a:solidFill>
                <a:latin typeface="Tahoma"/>
              </a:rPr>
              <a:t>( 19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Хикәйәләр йыйынтыҡтары</a:t>
            </a:r>
            <a:r>
              <a:rPr b="0" lang="be-BY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лланың ҡашҡа тәкәһе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Һөйгәнеңә үҙең яҙ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Көлкөлө хикәйәләр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Ҡыҙым кейәүгә сыға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Ялған һуҡмаҡ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әскәүҙә рус телендә “Весенние почки”, “Министр по делам редиски” исемле китаптары донъя күрҙ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арат Кәримов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2003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</a:t>
            </a:r>
            <a:r>
              <a:rPr b="0" lang="be-BY" sz="3600" spc="-1" strike="noStrike">
                <a:solidFill>
                  <a:srgbClr val="ff9900"/>
                </a:solidFill>
                <a:latin typeface="a_Helver Bashkir"/>
              </a:rPr>
              <a:t>Башҡортостандың халыҡ шағиры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тигән маҡтаулы исемгә лайыҡ бул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ffffff"/>
                </a:solidFill>
                <a:latin typeface="a_Helver Bashkir"/>
              </a:rPr>
              <a:t>Һүҙлек эш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Фасылдар – времена го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Мәғәнә – смысл,     асыл – су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Елбәҙәк – ветре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Сөйөргә – мет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Йәйләү – кочев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Табын – застол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Бәхәс – спо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рәт – гор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тәр – заб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Ҡырпаҡ – крупчат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Әрһеҙ әжәл – пронырливая смер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187280" y="1341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55640" y="549360"/>
            <a:ext cx="705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Марат Нәби улы Кәримов </a:t>
            </a:r>
            <a:r>
              <a:rPr b="0" lang="ru-RU" sz="4400" spc="-1" strike="noStrike">
                <a:solidFill>
                  <a:srgbClr val="ffffff"/>
                </a:solidFill>
                <a:latin typeface="a_Helver Bashkir"/>
              </a:rPr>
              <a:t>1930 </a:t>
            </a: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йылда Башҡортостандың Ейәнсура районы Күгәрсен ауылында тыуған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хема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991360" cy="676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j0301252"/>
          <p:cNvPicPr/>
          <p:nvPr/>
        </p:nvPicPr>
        <p:blipFill>
          <a:blip r:embed="rId1"/>
          <a:stretch/>
        </p:blipFill>
        <p:spPr>
          <a:xfrm>
            <a:off x="4140360" y="476280"/>
            <a:ext cx="4824360" cy="4608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79280" y="1628640"/>
            <a:ext cx="475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_Helver(15%) Bashkir"/>
              </a:rPr>
              <a:t>1947 йылда </a:t>
            </a:r>
            <a:r>
              <a:rPr b="0" lang="be-BY" sz="4800" spc="-1" strike="noStrike">
                <a:solidFill>
                  <a:srgbClr val="ff9900"/>
                </a:solidFill>
                <a:latin typeface="a_Helver(15%) Bashkir"/>
              </a:rPr>
              <a:t>тыуған ауылында балалар уҡыта башла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j0233070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84360" y="1916280"/>
            <a:ext cx="345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1950 – 1953 </a:t>
            </a: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йылдарҙа Совет Армияһында хеҙмәт итә</a:t>
            </a: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2020"/>
          <p:cNvPicPr/>
          <p:nvPr/>
        </p:nvPicPr>
        <p:blipFill>
          <a:blip r:embed="rId1"/>
          <a:stretch/>
        </p:blipFill>
        <p:spPr>
          <a:xfrm>
            <a:off x="5580000" y="476280"/>
            <a:ext cx="3240000" cy="307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84360" y="260280"/>
            <a:ext cx="5040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9900"/>
                </a:solidFill>
                <a:latin typeface="a_Helver(15%) Bashkir"/>
              </a:rPr>
              <a:t>Армиянан ҡайтҡас, “Ленинсы” гәзитендә эшләй. “Һәнәк” журналында фельетондар бүлеге мөдире вазифаһын башҡ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9 – 1961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Мәскәүҙә Юғары әҙәби курстарҙа уҡы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1964 – 1968  йылдарҙа “Пионер” журналын етәклә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ҙаҡ ун йыл буйы “Һәнәк” журналының баш мөхәррире булып эшлә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Марат К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әримовтың тәүге шиғырҙар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48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уҡ күренә башла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Бөрөләр” исемле тәүге йыйынтығ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6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донъя күрә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ырҙың дауамы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ңы йондоҙ күрҙе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әшлегем – йәшнәр көнө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Тормош - ғашиҡтарға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ҡты донъя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Ете көнөм – ете моң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332000" y="76500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Шиғри китаптар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2:10:00Z</dcterms:created>
  <dc:creator>Admin</dc:creator>
  <dc:description/>
  <dc:language>en-US</dc:language>
  <cp:lastModifiedBy>Дом</cp:lastModifiedBy>
  <dcterms:modified xsi:type="dcterms:W3CDTF">2017-03-12T11:40:04Z</dcterms:modified>
  <cp:revision>7</cp:revision>
  <dc:subject/>
  <dc:title>Слайд 1</dc:title>
</cp:coreProperties>
</file>