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45E-E302-4806-9448-EBC1A0A1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972-BF40-43A2-9A96-DD377626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03393-ED59-424B-84C3-8BD82D00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D0E6F-5382-41E6-BAF1-5EEA0EAE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5C693-B7B6-4A5A-BF53-9A452D3C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439A4-4F6F-4A6E-9877-C55F156A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3412E-5AA1-4CBD-A604-96CED1E9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9CF9D-FFA3-46EF-B7D2-B64EABCA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36643-2F47-4C03-85F8-2213EC33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6494F-6EFF-4E45-BD95-12AB461D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6D159-012F-411A-9D1D-AB3F8728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B1E-AF02-4060-9F6F-6FD3DF00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DE2-FFD1-45B1-979C-2B36A184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360F-6991-4978-A0A4-B68CC612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E647-7804-495C-AB16-1E768140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3656-B8BA-4BDE-82FC-06C95B9A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A794-0122-4411-AD61-78AC3B87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2DEA-D19C-4DDF-97BF-40D7C8CF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9AA7-347E-4EC6-A8B8-CDB9E4B9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7A98-5EFA-4737-B1F8-09F4AF38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689-C986-4F85-B434-092FB5BF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5717-DAE9-4181-81C3-316D3525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69CC-476B-4FDF-BF95-524B669F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EFEF-937B-4C2C-81FF-1132D384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E391-3FDE-4805-B0CC-AD931CD1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B816-05D2-451D-B777-89E16CE0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9A382-5D45-4143-8099-BAF03DCB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D61D9-BB33-4365-AD8B-645FFE55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84577-B1C7-49A3-B1A5-DDCA0039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16185-3A25-4FB5-8DD2-AE63A15B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AF85F-C682-4DB5-A033-135BB674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0B9-1F6A-42C1-8B57-57C34681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DEF66-DD15-4B6E-A0EB-54C107BD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E2599-D266-44F6-8BA5-E4B415E4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A9371-BC93-4B29-B046-BF7174C4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41C10-5199-46CB-B5C4-B5850790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6D7E4-17C1-43A0-B778-4F0E3414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390CB-EE92-48E1-8CD8-C6FB1314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77052-E102-480B-A84D-69238F15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621A6-71F6-45B6-A682-3F6EA37F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8F87D-BB37-492A-9086-06504B96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3D16D-C396-4F86-97D4-B1357592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99F-A04A-41D6-8B41-9FDFCB98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2190D-3185-485E-A07E-32D4D240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812EF-3C50-431C-A191-3B450C56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26086-AC96-4C5C-B389-FA84527F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5D5A4-680F-44C4-934C-835AFF19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53C9C-F5CA-444D-A874-FA4CF60B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DBF66-537E-4D05-9CDE-82522F89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EFA89-C0A0-46A3-8EFB-1516FAE4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AE6EC-9599-4B67-8DCA-EE71BC0D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B1D98-66E9-4815-AFAB-05EB2EB7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3A679-3EFA-45BE-8AA0-3966A97B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1F6-BADA-4221-81E2-0A0771BE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68E22-42D3-45E8-BD58-6906C720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A8E23-95D1-43B7-A7F0-D85CE666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53C10-42E9-4040-95A6-6A29472E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AC984-BD36-4CAE-B683-5E91DE00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3EBB0-8170-461E-B001-38014D69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CD7B7-D57B-4A31-9DE9-180AFB05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B72C7-522B-486B-83FB-B14474CB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703A2-15D6-4EF0-AE85-84C769FE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66C91-41BE-48F7-B400-765FDB13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016E9-D69B-4041-9A02-9B3AFBCC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929-7B8F-48DD-86BB-2BFEB056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C470-438B-4AE6-B341-6D362521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87460-B1CA-44E5-B0AE-7E9659D3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930E8-C532-480A-A9C6-2C77AD5E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CE4F1-BC08-4FC5-B110-4B8A32D7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8D965-29D4-4F9F-B27A-A825D5F1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0C4A1-F2A5-45BF-B521-0B9E8B7C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E70A6-6647-4A08-A429-5423F04B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B0DFD-9B56-4DC6-9BE9-3A1926C9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928D3-42A8-438D-A8F5-36AB1466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B995B-7F07-4A96-A90A-F05F94B4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8C8-5085-42E9-ADD0-EDBB45BD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74DBB-8DA4-4E01-A136-83811603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31BC6-CF75-4FF1-ADCC-BCEE2C8E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540FC-9398-42A6-8384-BDA0A0E0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E250D-C2E5-4833-BD50-68ADFA34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902F6-C6B2-4DC2-9A9D-89CE01B5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4111E-1ADA-4DC8-8787-807CE456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865D4-9142-4C5A-9D14-4D8835F1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C8FFC-B36C-4770-BF90-FF55A079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49810-E5EB-4A73-89D1-3BDE7D4D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99B7A-CE5D-4A13-AC72-11653E2F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747-814A-4530-B90D-E407A878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E99CE-32C1-458E-8D1C-D95E36D9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B2530-ABED-40FA-AC45-AAA79C40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2E8D9-AB72-456E-8D7F-3E7F8A85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30015-E124-4757-B11D-AF53E6F9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41304-7369-4181-A084-729B4C69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7BB0D-0D20-4C1D-A834-88DA4AA5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DF21D-8747-4D9C-A6B5-661DB29C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6B076-05E4-4992-B797-0C41A262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C08E9-7803-4682-A7C4-A38B0730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A2E6A-29B7-4CD8-AD3D-F0216D28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52A-2D88-4F70-B0DD-2A41813E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525AF-C02E-488C-9114-3C95D535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E1B91-8A2D-4702-80C4-62856DE8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86208-EBCC-4E64-B841-3D72339E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B91A1-2899-41B6-ADF2-3468A135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249C4-0AEA-4685-8905-D8A3D1A7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66836-AA1B-4595-9BEF-8ECA0B32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1F380-2EE8-4BE4-B5FA-20436EA3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97F88-7BA0-45D0-A023-CCE2F4C2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6F77B-B251-40D8-A0B9-93DFBD6B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095DC-E714-4586-8312-BC95F5E7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27A5-E7A8-4116-8D53-C197DA666E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43B4-E989-436F-9918-5EB7E28AC5B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E23F-225E-4013-9520-0CF15DD1C4F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F04A-5A35-41B6-AF76-3683B9A63E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6500-F428-4FB7-96BF-3EF69604CA4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E81C-AAA1-4811-A0A3-12CB915E038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97BB-9B7F-445F-8907-B42BE8CC7E5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8C7C-CDDD-4CD7-8336-0D0EDD4F381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4EAD-FD11-4ED6-98BA-1547FA61F2A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218960" y="152388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Franklin Gothic Book"/>
              </a:rPr>
              <a:t>Мастер-клас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Franklin Gothic Book"/>
              </a:rPr>
              <a:t>«Нетрадиционные подходы к заучиванию стихотворений в детском саду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22860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е г. Когалыма «Берёзка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5791320" y="464832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АДОУ «Берёзка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ина А.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3657600" y="59436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огалым 2015 год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4" descr="4"/>
          <p:cNvPicPr/>
          <p:nvPr/>
        </p:nvPicPr>
        <p:blipFill>
          <a:blip r:embed="rId1"/>
          <a:stretch/>
        </p:blipFill>
        <p:spPr>
          <a:xfrm>
            <a:off x="1447920" y="533520"/>
            <a:ext cx="6476760" cy="60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IMG_0003_NEW_0003"/>
          <p:cNvPicPr/>
          <p:nvPr/>
        </p:nvPicPr>
        <p:blipFill>
          <a:blip r:embed="rId1"/>
          <a:stretch/>
        </p:blipFill>
        <p:spPr>
          <a:xfrm>
            <a:off x="1905120" y="990720"/>
            <a:ext cx="59436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5" descr="1"/>
          <p:cNvPicPr/>
          <p:nvPr/>
        </p:nvPicPr>
        <p:blipFill>
          <a:blip r:embed="rId1"/>
          <a:stretch/>
        </p:blipFill>
        <p:spPr>
          <a:xfrm>
            <a:off x="1447920" y="990720"/>
            <a:ext cx="647676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2"/>
          <p:cNvPicPr/>
          <p:nvPr/>
        </p:nvPicPr>
        <p:blipFill>
          <a:blip r:embed="rId1"/>
          <a:stretch/>
        </p:blipFill>
        <p:spPr>
          <a:xfrm>
            <a:off x="1143000" y="685800"/>
            <a:ext cx="6705720" cy="49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3"/>
          <p:cNvPicPr/>
          <p:nvPr/>
        </p:nvPicPr>
        <p:blipFill>
          <a:blip r:embed="rId1"/>
          <a:stretch/>
        </p:blipFill>
        <p:spPr>
          <a:xfrm>
            <a:off x="1143000" y="838080"/>
            <a:ext cx="678168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4"/>
          <p:cNvPicPr/>
          <p:nvPr/>
        </p:nvPicPr>
        <p:blipFill>
          <a:blip r:embed="rId1"/>
          <a:stretch/>
        </p:blipFill>
        <p:spPr>
          <a:xfrm>
            <a:off x="1295280" y="914400"/>
            <a:ext cx="6705720" cy="48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IMG_0002_NEW"/>
          <p:cNvPicPr/>
          <p:nvPr/>
        </p:nvPicPr>
        <p:blipFill>
          <a:blip r:embed="rId1"/>
          <a:stretch/>
        </p:blipFill>
        <p:spPr>
          <a:xfrm>
            <a:off x="1351080" y="380880"/>
            <a:ext cx="2862000" cy="52578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4267080" y="13716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ЕЛЬ И ЁЖИ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Ель на ёжика похож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Ёж в иголках, ёлка тоже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Подарил утятам ёжи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Восемь маленьких сапож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5" descr="2"/>
          <p:cNvPicPr/>
          <p:nvPr/>
        </p:nvPicPr>
        <p:blipFill>
          <a:blip r:embed="rId1"/>
          <a:stretch/>
        </p:blipFill>
        <p:spPr>
          <a:xfrm>
            <a:off x="2295360" y="90360"/>
            <a:ext cx="4553280" cy="667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5" descr="snegovik"/>
          <p:cNvPicPr/>
          <p:nvPr/>
        </p:nvPicPr>
        <p:blipFill>
          <a:blip r:embed="rId1"/>
          <a:stretch/>
        </p:blipFill>
        <p:spPr>
          <a:xfrm>
            <a:off x="1523880" y="1066680"/>
            <a:ext cx="6500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>
            <a:off x="877320" y="1051200"/>
            <a:ext cx="7389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«Снеговик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Давай, дружок, смелей, дружок,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Кати по снегу свой снежок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Дети идут по кругу, изображая, что катят перед собой снежок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Он превратился в толстый к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Останавливаются, рисуют двумя руками в воздухе ком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И станет ком снеговик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Рисуют в воздухе снеговика из трех кругов разного размера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Его улыбка так свет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Показывают на лице улыбку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Два глаза шляпа нос мет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Показывают глаза, прикрывают голову ладошкой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оказывают нос, держат воображаемую метлу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Но солнце припечет слег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Медленно приседают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Увы. И нет снегови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Пожимают плечами, разводят руками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95280" y="533520"/>
            <a:ext cx="662940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1018800" y="505080"/>
            <a:ext cx="397080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«Зимние забавы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Мы идем с тобой на лыжах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Снег холодный лыжи лиж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А потом на коньках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Но упали мы. 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А потом снежки лепил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А потом снежки катил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А потом без сил упал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И домой мы побежал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110120" y="3826080"/>
            <a:ext cx="34696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«Самолет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Руки в стороны - в пол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Отправляем самол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Правое крыло вперед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Левое крыло вперед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Полетел наш самол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2432520" y="1495800"/>
            <a:ext cx="4278600" cy="38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Comic Sans MS"/>
              </a:rPr>
              <a:t>«Дни недел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В понедельник я стирал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А во вторник подмета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В среду с медом пек калач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А в четверг играл я в мяч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В пятницу посуду мыл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А в субботу торт купи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В воскресенье отдыхал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Сказки добрые чита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Franklin Gothic Book"/>
              </a:rPr>
              <a:t>Спасибо за сотрудничество!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2"/>
          <p:cNvPicPr/>
          <p:nvPr/>
        </p:nvPicPr>
        <p:blipFill>
          <a:blip r:embed="rId1"/>
          <a:stretch/>
        </p:blipFill>
        <p:spPr>
          <a:xfrm>
            <a:off x="1600200" y="380880"/>
            <a:ext cx="5664240" cy="56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3"/>
          <p:cNvPicPr/>
          <p:nvPr/>
        </p:nvPicPr>
        <p:blipFill>
          <a:blip r:embed="rId1"/>
          <a:stretch/>
        </p:blipFill>
        <p:spPr>
          <a:xfrm>
            <a:off x="2057400" y="914400"/>
            <a:ext cx="519120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4"/>
          <p:cNvPicPr/>
          <p:nvPr/>
        </p:nvPicPr>
        <p:blipFill>
          <a:blip r:embed="rId1"/>
          <a:stretch/>
        </p:blipFill>
        <p:spPr>
          <a:xfrm>
            <a:off x="2343240" y="1062000"/>
            <a:ext cx="445752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IMG_0003_NEW_0004"/>
          <p:cNvPicPr/>
          <p:nvPr/>
        </p:nvPicPr>
        <p:blipFill>
          <a:blip r:embed="rId1"/>
          <a:stretch/>
        </p:blipFill>
        <p:spPr>
          <a:xfrm>
            <a:off x="1066680" y="789120"/>
            <a:ext cx="6934320" cy="46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2"/>
          <p:cNvPicPr/>
          <p:nvPr/>
        </p:nvPicPr>
        <p:blipFill>
          <a:blip r:embed="rId1"/>
          <a:stretch/>
        </p:blipFill>
        <p:spPr>
          <a:xfrm>
            <a:off x="1371600" y="457200"/>
            <a:ext cx="6338880" cy="61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1"/>
          <p:cNvPicPr/>
          <p:nvPr/>
        </p:nvPicPr>
        <p:blipFill>
          <a:blip r:embed="rId1"/>
          <a:stretch/>
        </p:blipFill>
        <p:spPr>
          <a:xfrm>
            <a:off x="1676520" y="304920"/>
            <a:ext cx="6027480" cy="61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3"/>
          <p:cNvPicPr/>
          <p:nvPr/>
        </p:nvPicPr>
        <p:blipFill>
          <a:blip r:embed="rId1"/>
          <a:stretch/>
        </p:blipFill>
        <p:spPr>
          <a:xfrm>
            <a:off x="1752480" y="457200"/>
            <a:ext cx="5715000" cy="54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11:04:43Z</dcterms:created>
  <dc:creator>борис грунь</dc:creator>
  <dc:description/>
  <dc:language>en-US</dc:language>
  <cp:lastModifiedBy>xxx</cp:lastModifiedBy>
  <dcterms:modified xsi:type="dcterms:W3CDTF">2017-04-02T13:18:1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