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FC3-10B0-4DD2-A250-F633CE17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92F-6F14-40AE-A8CB-C13A179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1C16-D8DF-491C-9A9F-B88FEA9B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53DA-51DA-4E9F-89C7-B95EB34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AC301-0435-46F1-B41A-987BF11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FBBC6-4344-4DDD-B9AF-AC2FA37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FE83-A75E-4295-8453-73FA321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4445A-3753-40FB-BE7E-E5EB206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88306-204A-47DC-86F2-CEEB663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FEDA9-79E6-4CA8-9D5C-E352671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44AC-DFF8-4BCD-BD53-C797C84C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C35-9603-4FE9-839A-294A5280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E4E-B779-4B54-8E03-C9DCE174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E48-DCCE-4994-8435-3DBE5D5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7A14-B09C-4FA0-9551-0E3B1ED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3BD-F71F-44EC-A0E4-2F88EA60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8EFD-C430-4A46-97D4-9C56AFDF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3F0-6671-4CDB-94E3-EA7782E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5A1-9A9C-419A-B3EF-5AAF8790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ADF8-CAA5-4736-A04A-5BCA65DA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F8C-3AB1-49C5-91C8-EBE7B4B0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414B-02B5-4F58-837C-6ADB8E5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73B-9FA9-4F86-B9D8-1958980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141-A791-46F5-9AC5-D271F429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B5D-A494-4E17-9B31-013D4E16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BE56-6F4A-43E2-A931-FDEC9FF9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6FEB-5F51-4496-A59B-0CD29660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E584-67D6-41A2-9935-FDA0300E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AE5D-02AF-4DA2-ABD8-2343A96B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CEB5-3C3C-4A3B-B53A-CD8A85F1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944F-44C3-4065-8344-73D8CBB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A5B-8E8A-41C4-879B-4EB9EB3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CB1E-9CAD-4F38-97EC-0D956BAD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4262-C11E-4C7F-86D0-78A2B60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6845-7CE5-4A83-B937-EFD7254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7A57-D4CC-4585-B060-8F97777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A80F-AD24-4BAE-9D9B-64BC2C3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F718-04A8-4A2C-A740-846748ED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6D40-386A-49EB-917D-8C1A1C9E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9E369-B470-4DB4-8A37-030684D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F83D-6E47-49FA-A00B-233831A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8F25-1734-416E-876F-917CE9E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CB0-8D8C-4ECE-B6CF-13D433E5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1C37-713C-450E-AA11-30729814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7475-2913-4C38-9833-7E46750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2A15-A41D-4F03-9DCB-414D8D61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CECA-DF10-482D-A140-EEBE0BB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C8BD-33EE-422C-8BE8-B7192C8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6C6D-6A54-4C03-84CB-5F69180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1781-BC2A-4347-88A8-9AECD07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B15F-58B2-46EC-B332-9E665B4C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2A8E-05CA-4C8A-AC28-FAA65070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43CEC-1F70-4DEA-A7B1-98852976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559-DE9B-4BBC-8482-D3536DB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6C47-DDCB-4E9C-9744-F916C7E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AC9C-E726-49CF-BDA3-FF19E31C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E1DF-B731-43E6-B5F8-EA4E9794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D212-7055-4D63-9A1A-FBE8AE15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19FB-5569-43B5-9963-4BE693B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8714-4C7A-4836-9B22-595436A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03F3-82B5-423E-A67F-1D38D47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8E43-2EBE-43C8-AE8E-066FCE6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63F4-657E-4276-AD75-9FBDB7C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3635-8626-4596-AF9D-DFF42541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815-1097-4851-8BEB-30E0173F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7037-3F29-4141-9477-2F623127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544B-7754-4D9C-9A6A-AC071874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5841-B25E-4339-A4E1-BB395A15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E426-1352-449A-A8C4-93944DF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AEB8-4A24-4960-824C-97C76F8B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B8A5-3E1D-46B4-9118-1B293A8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8DD2-266B-4A8E-BA9E-DDB4009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35AD-7F9A-4F5A-B51E-ED7659BD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3E63-8C72-4A4E-9025-2F89D57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5569D-A508-458F-BB96-F54A745B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7B6-65E4-4009-82EE-281C6FE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C3CA-011D-4A45-8641-94AC4B9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6003-643B-42E1-8A00-FEACA334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75814-C7C3-4B29-BD9C-6C65676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8D73-0F82-459F-B44B-B254BD78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895C-F88F-4C79-BECD-17DB58C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4782-449D-4620-963C-5C879DF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9D64-5B8B-48D5-823F-09470FC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AEC4-B247-4CA0-B706-9A3E63A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8FC2-83EE-4EA3-8775-3E30750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DEC2-2348-4443-B16D-D4FE7BB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1A8-D16E-436F-A347-06F59B0C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85F6-AFC4-4764-9265-A68275E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C38E-A004-4A13-981D-050E478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C4E2-64E8-4804-9CBB-67163E78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3212-929B-46AE-9547-24520D10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3AE8F-9A0E-4397-ABD1-C72FA267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8797-97D5-4947-A5F2-BECAC8D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5DFAF-5398-4287-9549-89E2130E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ED22-E8E9-4B9B-89EE-AFE5FE9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2D75-12E3-49E0-9B1C-07D393B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E246-CFA5-4BB4-8E92-7576C981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75C-05D7-4B84-8149-C523B31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2E85-041E-4383-993C-579148D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EF48-7AD8-4192-BFA1-00A29F36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8087-5412-4544-80DC-361CE9F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3104D-5012-4CBF-8506-662078D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F965E-7EDD-4F6E-9386-9E5AACB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73B4E-3AEE-4C46-9E4D-4E31CC22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D9FD-391B-43C7-82C0-7B879F8F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77148-3D6E-4CAC-B849-3522FD21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A5171-C644-4C38-80C9-2DC9BCCD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6099F-F962-407D-9147-FC454039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A2A-B518-4698-BFC0-112E4E1B1F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EA0-A703-42C1-9E83-AE3F2F8B56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4FE-3714-46C0-8AE1-72AD150C97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80E-9C4A-43F1-9342-2DF53E1AC1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F16-B9A3-4295-96BD-711F9F8321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2838-DA4D-40EB-A10F-0E04712D6B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0E3F-5855-402B-9D61-D33B695794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E6E-D58B-4491-896B-45B96F9231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F3B-313E-4C6B-822C-250B5C69FA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Мастер-клас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«Нетрадиционные подходы к заучиванию стихотворений в детском саду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г. Когалыма «Берёзк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791320" y="4648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АДОУ «Берёзка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ина А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6576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галым 2015 год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4"/>
          <p:cNvPicPr/>
          <p:nvPr/>
        </p:nvPicPr>
        <p:blipFill>
          <a:blip r:embed="rId1"/>
          <a:stretch/>
        </p:blipFill>
        <p:spPr>
          <a:xfrm>
            <a:off x="1447920" y="533520"/>
            <a:ext cx="647676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G_0003_NEW_0003"/>
          <p:cNvPicPr/>
          <p:nvPr/>
        </p:nvPicPr>
        <p:blipFill>
          <a:blip r:embed="rId1"/>
          <a:stretch/>
        </p:blipFill>
        <p:spPr>
          <a:xfrm>
            <a:off x="1905120" y="99072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1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2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3"/>
          <p:cNvPicPr/>
          <p:nvPr/>
        </p:nvPicPr>
        <p:blipFill>
          <a:blip r:embed="rId1"/>
          <a:stretch/>
        </p:blipFill>
        <p:spPr>
          <a:xfrm>
            <a:off x="1143000" y="838080"/>
            <a:ext cx="67816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4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IMG_0002_NEW"/>
          <p:cNvPicPr/>
          <p:nvPr/>
        </p:nvPicPr>
        <p:blipFill>
          <a:blip r:embed="rId1"/>
          <a:stretch/>
        </p:blipFill>
        <p:spPr>
          <a:xfrm>
            <a:off x="1351080" y="380880"/>
            <a:ext cx="2862000" cy="52578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4267080" y="13716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ЛЬ И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Ель на ёжика похож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Ёж в иголках, ёлка тож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Подарил утятам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осемь маленьких сапож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"/>
          <p:cNvPicPr/>
          <p:nvPr/>
        </p:nvPicPr>
        <p:blipFill>
          <a:blip r:embed="rId1"/>
          <a:stretch/>
        </p:blipFill>
        <p:spPr>
          <a:xfrm>
            <a:off x="2295360" y="90360"/>
            <a:ext cx="4553280" cy="667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snegovik"/>
          <p:cNvPicPr/>
          <p:nvPr/>
        </p:nvPicPr>
        <p:blipFill>
          <a:blip r:embed="rId1"/>
          <a:stretch/>
        </p:blipFill>
        <p:spPr>
          <a:xfrm>
            <a:off x="1523880" y="1066680"/>
            <a:ext cx="6500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877320" y="1051200"/>
            <a:ext cx="738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Снеговик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авай, дружок, смелей, дружок,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ати по снегу свой снежок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Дети идут по кругу, изображая, что катят перед собой снежок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н превратился в толстый 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Останавливаются, рисуют двумя руками в воздухе ко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 станет ком снегови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Рисуют в воздухе снеговика из трех кругов разного размер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Его улыбка так св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на лице улыбк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ва глаза шляпа нос м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глаза, прикрывают голову ладошкой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казывают нос, держат воображаемую метл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о солнце припечет слег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Медленно приседаю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вы. И нет снегов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жимают плечами, разводят рукам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533520"/>
            <a:ext cx="66294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1018800" y="505080"/>
            <a:ext cx="39708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Зимние забав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Мы идем с тобой на лыж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Снег холодный лыжи ли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на коньк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Но упали мы. 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леп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кат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без сил упа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И домой мы побежа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110120" y="3826080"/>
            <a:ext cx="3469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Самолет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Руки в стороны - в по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Отправляем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ра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Ле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олетел наш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2432520" y="1495800"/>
            <a:ext cx="4278600" cy="38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omic Sans MS"/>
              </a:rPr>
              <a:t>«Дни недел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онедельник я стир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о вторник подме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среду с медом пек кала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четверг играл я в мя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ятницу посуду мы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субботу торт куп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воскресенье отдых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Сказки добрые чи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Book"/>
              </a:rPr>
              <a:t>Спасибо за сотрудничество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2"/>
          <p:cNvPicPr/>
          <p:nvPr/>
        </p:nvPicPr>
        <p:blipFill>
          <a:blip r:embed="rId1"/>
          <a:stretch/>
        </p:blipFill>
        <p:spPr>
          <a:xfrm>
            <a:off x="1600200" y="380880"/>
            <a:ext cx="566424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"/>
          <p:cNvPicPr/>
          <p:nvPr/>
        </p:nvPicPr>
        <p:blipFill>
          <a:blip r:embed="rId1"/>
          <a:stretch/>
        </p:blipFill>
        <p:spPr>
          <a:xfrm>
            <a:off x="2057400" y="914400"/>
            <a:ext cx="51912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"/>
          <p:cNvPicPr/>
          <p:nvPr/>
        </p:nvPicPr>
        <p:blipFill>
          <a:blip r:embed="rId1"/>
          <a:stretch/>
        </p:blipFill>
        <p:spPr>
          <a:xfrm>
            <a:off x="2343240" y="1062000"/>
            <a:ext cx="44575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IMG_0003_NEW_0004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"/>
          <p:cNvPicPr/>
          <p:nvPr/>
        </p:nvPicPr>
        <p:blipFill>
          <a:blip r:embed="rId1"/>
          <a:stretch/>
        </p:blipFill>
        <p:spPr>
          <a:xfrm>
            <a:off x="1371600" y="457200"/>
            <a:ext cx="633888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1"/>
          <p:cNvPicPr/>
          <p:nvPr/>
        </p:nvPicPr>
        <p:blipFill>
          <a:blip r:embed="rId1"/>
          <a:stretch/>
        </p:blipFill>
        <p:spPr>
          <a:xfrm>
            <a:off x="1676520" y="304920"/>
            <a:ext cx="60274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1:04:43Z</dcterms:created>
  <dc:creator>борис грунь</dc:creator>
  <dc:description/>
  <dc:language>en-US</dc:language>
  <cp:lastModifiedBy>xxx</cp:lastModifiedBy>
  <dcterms:modified xsi:type="dcterms:W3CDTF">2017-04-02T13:18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