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58CE-75A9-428A-8355-20BA013B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D82D-114D-40FE-954D-90997231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E4D94-1A43-4EFB-B9FC-68DB54B6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D5DA1-99E3-44ED-AA97-88F86EE1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8258B-1F68-462D-BF6A-71C61972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0C6CD-1D63-4E9B-804D-198181A5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D61B2-B09E-48D8-AD58-EA3D3C0E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2A33A-C034-49E3-A144-CFF6CCCE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2EFE5-C193-4230-81EB-2997D083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D938F-496F-4B38-943B-0C155DAF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C8683-2B91-46E6-BE4E-3D4D890E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113D-BCA4-40AA-AE4B-249F1C55A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47F9-8211-450C-9803-3485A470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3596-66C2-40BE-A608-8FF67405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F3E7-CAC9-48F2-8186-91981097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0081-6D71-46A0-B704-799ACBF5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1EC5-72C2-4B40-AA59-295AC704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970B-96DB-4C45-91DE-6F571D4D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FA25-3280-497D-8F60-93A1D4DF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4C29-8566-4F75-9EF1-0B1BF677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019A-1CA1-45AA-AF76-3FBEA6F0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9A82-DC34-4561-83C3-817DD040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ADF0-5907-45EA-8F01-BD863AA0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1B3C-7323-4368-B36E-442B1FD7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77D5-EAA3-4265-8A0B-A639EAE9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82ED-A46C-4679-B058-7E29D8E3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E8772-A22F-4814-A38A-E68F78B9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BDB59-E5C3-42E7-883D-4F2A3276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9344F-79DC-4A77-A0AD-6A949BFF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647FE-7AB6-47AD-8581-3C1A47C3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D067B-0057-443F-AD80-515D844B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37E3-12B2-46FD-813A-3C9CE314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47563-47B3-4164-91FF-60CD6E59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EB386-1E30-4C94-92BC-EE3987B3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92A08-159E-4477-9D25-15D7BF8A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E931F-1F19-499A-8DE8-F3956378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91F8B-270D-463A-9CA0-8ED625DD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7A701-B341-440C-AA74-5B3C2D7E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93EE6-6F7C-4218-AE9B-6967484A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5C3B8-3E8F-41BE-8A02-7EBB1180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ECB67-5ABA-4C40-9087-AEF00D49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8CC67-DEEA-4BB0-B352-67D99EC2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B46B-2FC3-4967-90C1-832EE76C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D6154-6893-474D-8BAE-80A039D9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8CA01-DB9B-43FC-A71B-113CB070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E9BAD-637C-4E48-B58A-E70C1501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CEE50-5763-43CA-BF73-506AC126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DF7B9-4E81-4680-A74C-1C47F362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D8AE1-5AAE-44B7-BA9C-09A45D2C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E0DEA-AAF8-48EC-9749-8B2E52B0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87914-6F7D-44F6-9492-CF8527C0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AF4E0-7865-4AFD-B5AF-9C3A081F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DBEB0-762D-4B9D-BCAC-2D194F1B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540B-604A-423A-86EE-8DF97F5D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EE74E-7614-42DE-AD37-CA018007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5B439-8FD1-41F6-AC75-AD2DA2D1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06B84-55F1-47F8-9BB6-7388DA58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D8B41-51E0-47BA-83D6-A5A0E831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F5CCC-DE92-4975-88F2-655D4424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C1214-BE45-42DA-9F56-DDE84327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F45F6-B29A-4D4D-A6EE-C1777616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F2383-3850-49D6-950D-88E1982A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F169E-DA0C-4A71-AC6B-D5581F2A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C9ABF-BA4C-4A10-88AB-13FAFBC4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7268-E0A3-41CB-9529-D38B7652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BD34A-C9D8-478C-AE2B-EEC92D1A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5EF77-6739-4022-AAB4-297ECA39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ACC46-2FC9-465C-BD0A-7C7CDF14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33519-5625-4D57-9000-F9C1DB6C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8F479-0364-484D-9F8F-447DE366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30F1D-8281-4C6E-A751-3CDCC168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50DCA-C4FF-4CF5-80B5-ADC91F10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694C6-F42A-427F-B68E-42DA1210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2EB80-46D2-4B4B-9B7E-86142907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7B6F7-84DC-45C5-8CA4-04487D1F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A08A-42A7-46AC-BBE7-220EB2F7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F1142-79BC-453E-9BA9-17D42514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D36BD-7473-4406-81BD-0F247E37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D9290-DF46-48C1-93F4-00F7838A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2391D-E094-471B-AEDA-415AC27F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C2037-6FF3-4823-A0D0-0B8466B9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E8CA2-405B-451B-AD93-262DA801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8A3CF-BDDE-47FF-BA2C-F005EE24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F68F7-5496-49F6-BE78-6B4E9C35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C7194-238F-4903-AD69-B6F7B9A4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43CD9-26C9-4763-9292-F1B7105F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B2EC-4370-4308-9E9F-B71147CF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32867-7D3A-418C-B129-4FA163FD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0B700-E042-4858-8752-1E92F6D4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A6621-AE5C-4114-97FD-E65EA6E6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2BC62-0727-4F3B-ADB2-FBA5582D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59B25-01CF-4103-82D9-251FE15C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AD6AB-5C04-493C-93EF-DB3B26AB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97134-C330-49E3-BE55-ABC8033C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EC98B-F53C-4E08-B363-3C4CA33D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9B6A7-56B5-4550-810E-3B7A10BB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52CFA-5DC5-4746-9517-0F8594A8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978F-133A-4158-A093-7A0582CF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96774-5C70-461F-BFAB-188267C0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BA6A0-59DD-4D82-B39B-8C552FF2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017E1-1A5E-43D7-908E-0AD18C15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FB801-1371-42A5-9C48-BF5156AF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D61AA-216E-4F0C-9A1D-FDFE2E5C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D6DC9-949E-4C14-864C-3270197B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01F8E-FB44-47C7-8173-81DB9030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8DDB3-E7CC-4ACA-976D-83444F5D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FE5FA-3FEA-4BA6-AAC5-02990A79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48001-0CCC-4A54-91D5-73F6F1DC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8617-9C74-4423-B40C-20734504C49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014F-1B46-4E1B-AA70-DDEFC2704FD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A2A2-7235-4C5B-B591-20C5D32790E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9EE4-4CF2-4A56-AC63-9B0598D35C7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D82F-27DF-4DBF-8A4B-74B4BFA9DB7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4152-D951-485B-93D9-F7C00C28FC2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26AA-5098-4DCA-AE80-999E93AD575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A03D-1469-435D-9594-1686DFBC651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CBD7-1FF9-486E-85D6-2BC189ADCCE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218960" y="152388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Franklin Gothic Book"/>
              </a:rPr>
              <a:t>Мастер-класс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0033cc"/>
                </a:solidFill>
                <a:latin typeface="Franklin Gothic Book"/>
              </a:rPr>
              <a:t>«Нетрадиционные подходы к заучиванию стихотворений в детском саду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TextBox 4"/>
          <p:cNvSpPr/>
          <p:nvPr/>
        </p:nvSpPr>
        <p:spPr>
          <a:xfrm>
            <a:off x="228600" y="228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е г. Когалыма «Берёзка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TextBox 6"/>
          <p:cNvSpPr/>
          <p:nvPr/>
        </p:nvSpPr>
        <p:spPr>
          <a:xfrm>
            <a:off x="5791320" y="464832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ель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МАДОУ «Берёзка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мина А.А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TextBox 7"/>
          <p:cNvSpPr/>
          <p:nvPr/>
        </p:nvSpPr>
        <p:spPr>
          <a:xfrm>
            <a:off x="3657600" y="59436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огалым 2015 год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4" descr="4"/>
          <p:cNvPicPr/>
          <p:nvPr/>
        </p:nvPicPr>
        <p:blipFill>
          <a:blip r:embed="rId1"/>
          <a:stretch/>
        </p:blipFill>
        <p:spPr>
          <a:xfrm>
            <a:off x="1447920" y="533520"/>
            <a:ext cx="6476760" cy="60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IMG_0003_NEW_0003"/>
          <p:cNvPicPr/>
          <p:nvPr/>
        </p:nvPicPr>
        <p:blipFill>
          <a:blip r:embed="rId1"/>
          <a:stretch/>
        </p:blipFill>
        <p:spPr>
          <a:xfrm>
            <a:off x="1905120" y="990720"/>
            <a:ext cx="59436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5" descr="1"/>
          <p:cNvPicPr/>
          <p:nvPr/>
        </p:nvPicPr>
        <p:blipFill>
          <a:blip r:embed="rId1"/>
          <a:stretch/>
        </p:blipFill>
        <p:spPr>
          <a:xfrm>
            <a:off x="1447920" y="990720"/>
            <a:ext cx="6476760" cy="45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4" descr="2"/>
          <p:cNvPicPr/>
          <p:nvPr/>
        </p:nvPicPr>
        <p:blipFill>
          <a:blip r:embed="rId1"/>
          <a:stretch/>
        </p:blipFill>
        <p:spPr>
          <a:xfrm>
            <a:off x="1143000" y="685800"/>
            <a:ext cx="6705720" cy="497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4" descr="3"/>
          <p:cNvPicPr/>
          <p:nvPr/>
        </p:nvPicPr>
        <p:blipFill>
          <a:blip r:embed="rId1"/>
          <a:stretch/>
        </p:blipFill>
        <p:spPr>
          <a:xfrm>
            <a:off x="1143000" y="838080"/>
            <a:ext cx="6781680" cy="47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" descr="4"/>
          <p:cNvPicPr/>
          <p:nvPr/>
        </p:nvPicPr>
        <p:blipFill>
          <a:blip r:embed="rId1"/>
          <a:stretch/>
        </p:blipFill>
        <p:spPr>
          <a:xfrm>
            <a:off x="1295280" y="914400"/>
            <a:ext cx="6705720" cy="480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4" descr="IMG_0002_NEW"/>
          <p:cNvPicPr/>
          <p:nvPr/>
        </p:nvPicPr>
        <p:blipFill>
          <a:blip r:embed="rId1"/>
          <a:stretch/>
        </p:blipFill>
        <p:spPr>
          <a:xfrm>
            <a:off x="1351080" y="380880"/>
            <a:ext cx="2862000" cy="525780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5"/>
          <p:cNvSpPr/>
          <p:nvPr/>
        </p:nvSpPr>
        <p:spPr>
          <a:xfrm>
            <a:off x="4267080" y="13716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ЕЛЬ И ЁЖИ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44e"/>
                </a:solidFill>
                <a:latin typeface="Arial"/>
              </a:rPr>
              <a:t>Ель на ёжика похожа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44e"/>
                </a:solidFill>
                <a:latin typeface="Arial"/>
              </a:rPr>
              <a:t>Ёж в иголках, ёлка тоже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44e"/>
                </a:solidFill>
                <a:latin typeface="Arial"/>
              </a:rPr>
              <a:t>Подарил утятам ёжи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44e"/>
                </a:solidFill>
                <a:latin typeface="Arial"/>
              </a:rPr>
              <a:t>Восемь маленьких сапоже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5" descr="2"/>
          <p:cNvPicPr/>
          <p:nvPr/>
        </p:nvPicPr>
        <p:blipFill>
          <a:blip r:embed="rId1"/>
          <a:stretch/>
        </p:blipFill>
        <p:spPr>
          <a:xfrm>
            <a:off x="2295360" y="90360"/>
            <a:ext cx="4553280" cy="667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5" descr="snegovik"/>
          <p:cNvPicPr/>
          <p:nvPr/>
        </p:nvPicPr>
        <p:blipFill>
          <a:blip r:embed="rId1"/>
          <a:stretch/>
        </p:blipFill>
        <p:spPr>
          <a:xfrm>
            <a:off x="1523880" y="1066680"/>
            <a:ext cx="6500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4"/>
          <p:cNvSpPr/>
          <p:nvPr/>
        </p:nvSpPr>
        <p:spPr>
          <a:xfrm>
            <a:off x="877320" y="1051200"/>
            <a:ext cx="7389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«Снеговик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Давай, дружок, смелей, дружок,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Кати по снегу свой снежок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(Дети идут по кругу, изображая, что катят перед собой снежок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Он превратился в толстый ко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(Останавливаются, рисуют двумя руками в воздухе ком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И станет ком снеговико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(Рисуют в воздухе снеговика из трех кругов разного размера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Его улыбка так светл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(Показывают на лице улыбку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Два глаза шляпа нос метл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(Показывают глаза, прикрывают голову ладошкой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показывают нос, держат воображаемую метлу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Но солнце припечет слег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(Медленно приседают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Увы. И нет снегови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(Пожимают плечами, разводят руками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295280" y="533520"/>
            <a:ext cx="6629400" cy="59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4"/>
          <p:cNvSpPr/>
          <p:nvPr/>
        </p:nvSpPr>
        <p:spPr>
          <a:xfrm>
            <a:off x="1018800" y="505080"/>
            <a:ext cx="397080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«Зимние забавы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Мы идем с тобой на лыжах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Снег холодный лыжи лиже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А потом на коньках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Но упали мы. А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А потом снежки лепили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А потом снежки катили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А потом без сил упали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И домой мы побежал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110120" y="3826080"/>
            <a:ext cx="34696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«Самолет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Руки в стороны - в пол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Отправляем самоле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Правое крыло вперед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Левое крыло вперед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Полетел наш самоле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4"/>
          <p:cNvSpPr/>
          <p:nvPr/>
        </p:nvSpPr>
        <p:spPr>
          <a:xfrm>
            <a:off x="2432520" y="1495800"/>
            <a:ext cx="4278600" cy="38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Comic Sans MS"/>
              </a:rPr>
              <a:t>«Дни недели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В понедельник я стирал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А во вторник подмета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В среду с медом пек калач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А в четверг играл я в мяч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В пятницу посуду мыл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А в субботу торт купи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В воскресенье отдыхал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Сказки добрые чита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Franklin Gothic Book"/>
              </a:rPr>
              <a:t>Спасибо за сотрудничество!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4" descr="2"/>
          <p:cNvPicPr/>
          <p:nvPr/>
        </p:nvPicPr>
        <p:blipFill>
          <a:blip r:embed="rId1"/>
          <a:stretch/>
        </p:blipFill>
        <p:spPr>
          <a:xfrm>
            <a:off x="1600200" y="380880"/>
            <a:ext cx="5664240" cy="56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4" descr="3"/>
          <p:cNvPicPr/>
          <p:nvPr/>
        </p:nvPicPr>
        <p:blipFill>
          <a:blip r:embed="rId1"/>
          <a:stretch/>
        </p:blipFill>
        <p:spPr>
          <a:xfrm>
            <a:off x="2057400" y="914400"/>
            <a:ext cx="5191200" cy="51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4"/>
          <p:cNvPicPr/>
          <p:nvPr/>
        </p:nvPicPr>
        <p:blipFill>
          <a:blip r:embed="rId1"/>
          <a:stretch/>
        </p:blipFill>
        <p:spPr>
          <a:xfrm>
            <a:off x="2343240" y="1062000"/>
            <a:ext cx="445752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4" descr="IMG_0003_NEW_0004"/>
          <p:cNvPicPr/>
          <p:nvPr/>
        </p:nvPicPr>
        <p:blipFill>
          <a:blip r:embed="rId1"/>
          <a:stretch/>
        </p:blipFill>
        <p:spPr>
          <a:xfrm>
            <a:off x="1066680" y="789120"/>
            <a:ext cx="6934320" cy="46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2"/>
          <p:cNvPicPr/>
          <p:nvPr/>
        </p:nvPicPr>
        <p:blipFill>
          <a:blip r:embed="rId1"/>
          <a:stretch/>
        </p:blipFill>
        <p:spPr>
          <a:xfrm>
            <a:off x="1371600" y="457200"/>
            <a:ext cx="6338880" cy="610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1"/>
          <p:cNvPicPr/>
          <p:nvPr/>
        </p:nvPicPr>
        <p:blipFill>
          <a:blip r:embed="rId1"/>
          <a:stretch/>
        </p:blipFill>
        <p:spPr>
          <a:xfrm>
            <a:off x="1676520" y="304920"/>
            <a:ext cx="6027480" cy="61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3"/>
          <p:cNvPicPr/>
          <p:nvPr/>
        </p:nvPicPr>
        <p:blipFill>
          <a:blip r:embed="rId1"/>
          <a:stretch/>
        </p:blipFill>
        <p:spPr>
          <a:xfrm>
            <a:off x="1752480" y="457200"/>
            <a:ext cx="5715000" cy="5448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9T11:04:43Z</dcterms:created>
  <dc:creator>борис грунь</dc:creator>
  <dc:description/>
  <dc:language>en-US</dc:language>
  <cp:lastModifiedBy>xxx</cp:lastModifiedBy>
  <dcterms:modified xsi:type="dcterms:W3CDTF">2017-04-02T13:18:1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