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824-0284-4864-84F5-057A0901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232-D062-48E2-BC34-6E6F88C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983F-1AFC-4B93-B374-FDBFA04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C626-4368-4776-89FC-1CE9A64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74A4A-D9A6-4360-BF51-5E80072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4D13C-A118-4798-AF97-B461DDCF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B5F1-94DF-4456-91D7-4878689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69486-ED68-4CB0-9AFD-D7D70F2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D6476-C4B2-474D-842C-3614D9D3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24CBE-94B9-407F-91A6-F072D460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09D73-AC27-4D13-8F2A-B766AE82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4B0BE-58C2-41CC-9573-82A135AA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1BF-B59B-425D-BB16-ECB05ED1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5025-1EA0-4D78-9EEC-127618AB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7E1D3-0CDA-4B95-9F09-7DFDF079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49A49-6258-4A6E-87B1-A9BB3ABB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FB0B0-3C29-4328-AF32-A0324081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06964-E9E7-4350-9CCB-7983C41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82208-B373-4BA3-8629-E14A24C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8B72E-4920-41FE-A868-A93C9DE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B588-2EE3-4078-85B1-42450D3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617F7-C2B5-4C23-87C0-C78DF13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1D0DD-5AC0-4389-8FDE-EAFF8CB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494-7EEE-4156-B042-C0170F0B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106EE-1B79-4652-9B86-18C4EF68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F7F-E2B4-48FB-B952-A62401A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476-27BF-48C3-9F50-56E946B7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975-9D4D-4E3C-98A5-B9FA0AC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D94F-A9EE-416B-9DCB-701AA525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645D-9EA8-4348-8088-5A455A3A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094F-0743-4B26-AA21-89BDB89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4E0E-0EBC-4FCE-AF8A-421A0C0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1E4-A9DA-4A50-A7DE-7520AC2C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AD7-058D-4782-BD70-2303FF7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1AAE-8296-45DE-9167-DA9E8172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B653-0D53-4B23-93C6-8146FC1C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92A9-005C-4A62-A4C0-586BF5F2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F91E-5F1A-4822-8CCB-4E929084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7B80-E90D-4B11-B339-F011AA40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AD7E-E249-4009-96BF-199EBC8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AD15-571F-49D7-98AE-429B362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4523-BDB9-4761-B39E-D3AA2A1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DD6A-C1D5-43F2-A2DA-90907EE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A02-F2B9-4C8B-9D51-2F3FAA55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418D-9CD2-4C04-AD5E-8F24511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6B78-346F-4BEC-9CC4-ADE8357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6253-3975-4310-9F18-D85C1B5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59C6-6AD1-4D74-9A61-99ACC9A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04D3-2AE5-48CD-950B-0E429BB9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0898-4A1E-4BC1-A28D-D3883F56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7AA1-19D7-460D-8644-F9502F9F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4D51-85A3-4525-AC5D-78919B37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F14E-C454-469E-AA9F-0F915FD6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E754-ABE3-4553-9E8A-417AABCC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750-0CF9-4701-BB59-E7E31C4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257F-19BB-4C3E-A656-F838D1E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3521-C951-4D57-B0F3-D13FFE3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4C7A-36F1-4FD5-8DB0-8EC43C49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31F3-4BE0-4E83-8591-76ABFA4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9415-F447-4BCB-AE8D-CCF67C3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332C-1D4A-4E36-AF0A-00C0728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89B4-6E69-4096-8D57-2758F88C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DB79-8624-4DF2-BEF3-19AFE16B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CBAD-08E0-4F4F-BEA3-60E0F7B5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B7F7-6573-4DBB-95E0-E7C8560C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999-22FE-4872-971B-36D7E96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37AD-88AC-466A-97E7-5A785EA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8217-1AD3-4A6C-AA11-457C60D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DA35-8C3D-47F8-A7A7-D5CA13A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B2AD-5F70-414D-852A-DBC22DE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32A4-3EED-4BEA-B2ED-992CD98E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18650-12DC-460C-8502-7CA152F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FCDD-D7E3-4B2F-90CE-697E614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CC4B-615F-4623-B244-D40DF45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6B8A-1496-4E9C-92AA-7CF15CA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FDCC-B912-42A8-8D62-06697FF7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E58-E43C-4735-B53F-E7BC2732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945C-22BC-4DFB-A000-086B8CE6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1ACF1-E630-43BC-A57A-AC2AD17E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9D69-2435-4DB3-895B-2A692FA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08C5-0F7B-48B1-9B6F-57B35763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BA92-092C-474C-A9EE-C984168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86C2-3A50-48C3-AC11-963A875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DF48-62FC-4CE0-9E33-C1DEE88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769F-8810-4898-B35B-0C775BD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C812-1433-484E-8D25-950FF97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46C3-AA61-48AE-B008-37B68F3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F44-5AE7-4E6A-A724-17934A9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62D40-A721-43C7-B9CF-D5667DD5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A45A-2D2A-423D-898E-B7A40163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05D2-3635-46FC-919F-D87F5A8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70E7-384E-4BC3-87C5-B80BE3F1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C9C5-E06D-44F8-BA60-0628D69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175F-9ADF-4828-B184-44F976F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A9EB-8CCA-4DCF-8104-16A2757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AD10-093F-4DC1-A60A-4E4492B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3171-9D39-43F5-9AEC-2B2515B1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5F94-5300-4797-B7D6-20C5487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B26-C780-47E6-AEFF-549F363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AEC8-56F9-4B6B-8B63-7FFDA9B7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B117C-5C12-4AFC-8854-0B5AD45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D9F23-8222-4B7E-B06B-0C9E786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7DC3-309F-447E-9403-A1388D69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7EBA-F5C0-49B0-84CE-B0AF0277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3B586-C249-4090-A710-19E250A6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76818-6D9A-44A6-9967-48A17A6D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1DFA-7CBC-486F-8DA0-B8593007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0B7E-0424-4E70-904B-1528CA1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4BBC-9B8E-465F-B599-980C615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873-A058-43AB-9925-554DE4A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3D88-87FD-4A17-A149-DB1F5EF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53C6-33DF-4BE8-9877-29410C2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B5A5A-B5DC-45FF-A468-CF55B48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1E09-0A22-4832-B380-FF10F4F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426A7-B8AE-4173-88FB-B3B0F01C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57F8-6248-4C1E-BB31-C7F801A3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0B254-0320-463A-8A02-87561CE3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F249-34A7-4BD3-9332-FA27AFE1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08525-E6C6-460F-8532-DB64C47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D3DA0-6E29-4E81-AEC7-24B6596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2DF-FBF7-45A0-A348-E6942FD08D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FC45-725C-4752-92E8-AEAA34EEAFD0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EE06-C08C-48AB-B6A2-5F457133B9DD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5D6-6126-4EE4-A6D5-51DFFF1304BD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F6B-5832-4BDF-9DD5-2C8262AB9DF7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EF7-4274-4B0A-823F-53696D94DAC4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B32F-EE7F-4ABD-8781-1F908D1E5818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CBC-085E-49E2-AB84-B47AAE2C56AD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78CD-A9B9-4FB5-A97C-6E1D33F87F83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513-C04B-41A0-8929-3DB4253A5B52}" type="slidenum">
              <a:rPr b="0" lang="es-E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700360" y="907560"/>
            <a:ext cx="60832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b758e2"/>
                </a:solidFill>
                <a:latin typeface="Arial"/>
              </a:rPr>
              <a:t>Мастер - класс </a:t>
            </a:r>
            <a:br>
              <a:rPr sz="3200"/>
            </a:br>
            <a:r>
              <a:rPr b="1" lang="ru-RU" sz="3200" spc="-1" strike="noStrike">
                <a:solidFill>
                  <a:srgbClr val="b758e2"/>
                </a:solidFill>
                <a:latin typeface="Arial"/>
              </a:rPr>
              <a:t>учителя начальных классов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b6bcf"/>
                </a:solidFill>
                <a:latin typeface="Arial"/>
              </a:rPr>
              <a:t>Самохваловой </a:t>
            </a:r>
            <a:br>
              <a:rPr sz="3600"/>
            </a:br>
            <a:r>
              <a:rPr b="1" lang="ru-RU" sz="3600" spc="-1" strike="noStrike">
                <a:solidFill>
                  <a:srgbClr val="6b6bcf"/>
                </a:solidFill>
                <a:latin typeface="Arial"/>
              </a:rPr>
              <a:t>Галины Тимофее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C:\Users\и\Desktop\Новая папка (2)\IMG_3958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ФОРМИРОВАНИЕ </a:t>
            </a: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универсальных учебных действий 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В ПРОЦЕССЕ РАБОТЫ НАД ПРОЕКТОМ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1"/>
          <a:srcRect l="0" t="0" r="6171" b="3855"/>
          <a:stretch/>
        </p:blipFill>
        <p:spPr>
          <a:xfrm rot="1921800">
            <a:off x="312840" y="302760"/>
            <a:ext cx="1736640" cy="18147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2"/>
          <a:stretch/>
        </p:blipFill>
        <p:spPr>
          <a:xfrm>
            <a:off x="189000" y="4330800"/>
            <a:ext cx="1996920" cy="1811160"/>
          </a:xfrm>
          <a:prstGeom prst="rect">
            <a:avLst/>
          </a:prstGeom>
          <a:ln w="0">
            <a:noFill/>
          </a:ln>
        </p:spPr>
      </p:pic>
      <p:sp>
        <p:nvSpPr>
          <p:cNvPr id="445" name="TextBox 7"/>
          <p:cNvSpPr/>
          <p:nvPr/>
        </p:nvSpPr>
        <p:spPr>
          <a:xfrm>
            <a:off x="-79200" y="43624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Формулирова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108000" y="3538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0" descr=""/>
          <p:cNvPicPr/>
          <p:nvPr/>
        </p:nvPicPr>
        <p:blipFill>
          <a:blip r:embed="rId3"/>
          <a:stretch/>
        </p:blipFill>
        <p:spPr>
          <a:xfrm>
            <a:off x="2500200" y="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448" name="TextBox 8"/>
          <p:cNvSpPr/>
          <p:nvPr/>
        </p:nvSpPr>
        <p:spPr>
          <a:xfrm rot="4353000">
            <a:off x="3285720" y="260964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1" descr=""/>
          <p:cNvPicPr/>
          <p:nvPr/>
        </p:nvPicPr>
        <p:blipFill>
          <a:blip r:embed="rId4"/>
          <a:stretch/>
        </p:blipFill>
        <p:spPr>
          <a:xfrm>
            <a:off x="5032440" y="31680"/>
            <a:ext cx="1816200" cy="1968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"/>
          <p:cNvPicPr/>
          <p:nvPr/>
        </p:nvPicPr>
        <p:blipFill>
          <a:blip r:embed="rId5"/>
          <a:stretch/>
        </p:blipFill>
        <p:spPr>
          <a:xfrm rot="523200">
            <a:off x="6733800" y="23760"/>
            <a:ext cx="2444760" cy="24685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"/>
          <p:cNvPicPr/>
          <p:nvPr/>
        </p:nvPicPr>
        <p:blipFill>
          <a:blip r:embed="rId6"/>
          <a:stretch/>
        </p:blipFill>
        <p:spPr>
          <a:xfrm>
            <a:off x="6689880" y="450864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"/>
          <p:cNvPicPr/>
          <p:nvPr/>
        </p:nvPicPr>
        <p:blipFill>
          <a:blip r:embed="rId7"/>
          <a:stretch/>
        </p:blipFill>
        <p:spPr>
          <a:xfrm>
            <a:off x="3432240" y="4362480"/>
            <a:ext cx="2235240" cy="20192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1"/>
          <p:cNvSpPr/>
          <p:nvPr/>
        </p:nvSpPr>
        <p:spPr>
          <a:xfrm rot="4278000">
            <a:off x="1061640" y="282744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2"/>
          <p:cNvSpPr/>
          <p:nvPr/>
        </p:nvSpPr>
        <p:spPr>
          <a:xfrm rot="17578200">
            <a:off x="-613440" y="2949840"/>
            <a:ext cx="21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4"/>
          <p:cNvSpPr/>
          <p:nvPr/>
        </p:nvSpPr>
        <p:spPr>
          <a:xfrm>
            <a:off x="2465640" y="476280"/>
            <a:ext cx="2446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.Информационн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нали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5008680" y="47484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5198"/>
                </a:solidFill>
                <a:latin typeface="Times New Roman"/>
                <a:ea typeface="Times New Roman"/>
              </a:rPr>
              <a:t>4.Формирование групп по интер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 rot="4525200">
            <a:off x="5539320" y="268632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3576240" y="47116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Рефлексив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очный 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8"/>
          <p:cNvSpPr/>
          <p:nvPr/>
        </p:nvSpPr>
        <p:spPr>
          <a:xfrm>
            <a:off x="7101000" y="9349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5198"/>
                </a:solidFill>
                <a:latin typeface="Times New Roman"/>
                <a:ea typeface="Times New Roman"/>
              </a:rPr>
              <a:t>5.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5198"/>
                </a:solidFill>
                <a:latin typeface="Times New Roman"/>
                <a:ea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 rot="4218600">
            <a:off x="6781320" y="27946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2"/>
          <p:cNvSpPr/>
          <p:nvPr/>
        </p:nvSpPr>
        <p:spPr>
          <a:xfrm>
            <a:off x="7088400" y="4997520"/>
            <a:ext cx="125532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6.Защи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6"/>
          <p:cNvSpPr/>
          <p:nvPr/>
        </p:nvSpPr>
        <p:spPr>
          <a:xfrm rot="4338000">
            <a:off x="2814840" y="2646360"/>
            <a:ext cx="1499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ичностн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низ 29"/>
          <p:cNvSpPr/>
          <p:nvPr/>
        </p:nvSpPr>
        <p:spPr>
          <a:xfrm rot="8914200">
            <a:off x="3935160" y="3466800"/>
            <a:ext cx="131760" cy="9777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низ 30"/>
          <p:cNvSpPr/>
          <p:nvPr/>
        </p:nvSpPr>
        <p:spPr>
          <a:xfrm rot="8761800">
            <a:off x="7109640" y="3668040"/>
            <a:ext cx="135000" cy="9795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" descr=""/>
          <p:cNvPicPr/>
          <p:nvPr/>
        </p:nvPicPr>
        <p:blipFill>
          <a:blip r:embed="rId8"/>
          <a:stretch/>
        </p:blipFill>
        <p:spPr>
          <a:xfrm rot="20494200">
            <a:off x="2435040" y="3611520"/>
            <a:ext cx="603000" cy="8971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"/>
          <p:cNvSpPr/>
          <p:nvPr/>
        </p:nvSpPr>
        <p:spPr>
          <a:xfrm rot="4260600">
            <a:off x="495720" y="342000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обще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Franklin Gothic Medium"/>
              </a:rPr>
              <a:t>ЧТО МОЖНО СДЕЛАТЬ ИЗ ОСЕННИХ ЛИСТЬЕВ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8" name="Объект 3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26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4"/>
          <p:cNvSpPr/>
          <p:nvPr/>
        </p:nvSpPr>
        <p:spPr>
          <a:xfrm>
            <a:off x="1660320" y="18446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"/>
          <p:cNvSpPr/>
          <p:nvPr/>
        </p:nvSpPr>
        <p:spPr>
          <a:xfrm>
            <a:off x="4069080" y="191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б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6672960" y="19112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Работа с бросовым</a:t>
            </a: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 материалом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бумажная салф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179064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0" y="177336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58e2"/>
                </a:solidFill>
                <a:latin typeface="Arial"/>
              </a:rPr>
              <a:t>Теоретические аспекты проект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тория бума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к появилась бумажная салфе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пользование салфетки помимо её прямого назна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оект. Гвоздика к празд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tretch/>
        </p:blipFill>
        <p:spPr>
          <a:xfrm>
            <a:off x="3400560" y="2060640"/>
            <a:ext cx="2419200" cy="1828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3"/>
          <a:stretch/>
        </p:blipFill>
        <p:spPr>
          <a:xfrm rot="20042400">
            <a:off x="701280" y="2714400"/>
            <a:ext cx="2419560" cy="18288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4"/>
          <a:stretch/>
        </p:blipFill>
        <p:spPr>
          <a:xfrm rot="1410600">
            <a:off x="6208200" y="2682720"/>
            <a:ext cx="24195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1"/>
          <p:cNvSpPr/>
          <p:nvPr/>
        </p:nvSpPr>
        <p:spPr>
          <a:xfrm>
            <a:off x="1979640" y="1628640"/>
            <a:ext cx="487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Таким образом, выполняя любую проектную работу в начальной школе, независимо от возраста и продолжительности проекта, 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зна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егуляти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ммуникати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личност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универсальные учеб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alina</cp:lastModifiedBy>
  <dcterms:modified xsi:type="dcterms:W3CDTF">2017-04-07T16:53:47Z</dcterms:modified>
  <cp:revision>744</cp:revision>
  <dc:subject/>
  <dc:title>Diapositiva 1</dc:title>
</cp:coreProperties>
</file>