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673-282F-4015-B0CF-94963C67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E48-4DD1-48A2-BA5D-127ACEE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E48-64FB-4F33-8B8E-1C55FCA2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1C2-1D4B-4150-AE11-D7330380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E54-2C8B-4EE8-9033-A7BD5189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CF8-F804-40F6-BBE3-D97A1F0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2CB-859B-41A1-9C63-5D00C0D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3C6-1955-44C3-AB8C-146F787F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E38-73F1-4685-969C-56DED61E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BAF-0F76-4CFC-8CCF-DBD7D04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A90-0D0A-4C55-82CD-71F2725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B40-092F-4BED-AA92-B6A2C0E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FEAE49-7D63-47A1-8456-871183BBDE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85920" y="4714920"/>
            <a:ext cx="64008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урока  технологии в 5 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1 кате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ковой Н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428760" y="1928880"/>
            <a:ext cx="846108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25560">
                  <a:solidFill>
                    <a:srgbClr val="762700"/>
                  </a:solidFill>
                  <a:prstDash val="lgDash"/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шинные швы</a:t>
            </a:r>
            <a:endParaRPr b="0" lang="en-US" sz="1800" spc="1" strike="noStrike">
              <a:ln w="25560">
                <a:solidFill>
                  <a:srgbClr val="762700"/>
                </a:solidFill>
                <a:prstDash val="lgDash"/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36360" y="28584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Первомайская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майского района , Тамб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й корпус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ворите 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6480" y="3940200"/>
            <a:ext cx="3238560" cy="18288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36480" y="1420920"/>
            <a:ext cx="3238560" cy="1800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ж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111640" y="3968640"/>
            <a:ext cx="3238560" cy="180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ж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ч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11640" y="1420920"/>
            <a:ext cx="3238560" cy="1800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285840" y="83448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осы спрятать под косы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ул должен стоять против и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деть за машиной прямо , на всей поверхности стула, слегка наклонив корпус и голову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тояние от глаз до изделия должно быть 30-4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торожно обращаться с педалью, нажимать на нее плавно, без рывков..Не держать пальцы рук около лапки швейной машины во избежание прокола игл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класть ножницы и другие инструменты около вращающихся часте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неисправности в работе швейной машины работу прекратить и сообщить учи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получении травмы немедленно сообщить учител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0" y="142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ика безопаснос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785520" y="285840"/>
            <a:ext cx="75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Физкультми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554480"/>
            <a:ext cx="464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и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и кверху поднимае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потом их отпуска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потом их развер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к себе скорей прижм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потом быстрей, быстр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пай, хлопай весе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F:\Новая папка\r_2Po82St4JQzMzIh.gif"/>
          <p:cNvPicPr/>
          <p:nvPr/>
        </p:nvPicPr>
        <p:blipFill>
          <a:blip r:embed="rId1"/>
          <a:stretch/>
        </p:blipFill>
        <p:spPr>
          <a:xfrm>
            <a:off x="4714920" y="1428840"/>
            <a:ext cx="442908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57120" y="714240"/>
            <a:ext cx="8786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приходят сами по себе умения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ложите старание и терп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ованность, трудолюбие,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могут овладеть технологическими приемами  и получить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928880" y="142920"/>
            <a:ext cx="497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Практическа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726840" y="128592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чной ш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013000" y="1143000"/>
            <a:ext cx="365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Шов  вподгиб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 закрытым сре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5"/>
          <p:cNvSpPr/>
          <p:nvPr/>
        </p:nvSpPr>
        <p:spPr>
          <a:xfrm>
            <a:off x="4429080" y="1258920"/>
            <a:ext cx="15840" cy="559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6" descr="http://dagaz.ucoz.ru/5klass/6au.png"/>
          <p:cNvPicPr/>
          <p:nvPr/>
        </p:nvPicPr>
        <p:blipFill>
          <a:blip r:embed="rId1"/>
          <a:stretch/>
        </p:blipFill>
        <p:spPr>
          <a:xfrm>
            <a:off x="5143680" y="2643120"/>
            <a:ext cx="32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http://dagaz.ucoz.ru/5klass/6au.png"/>
          <p:cNvPicPr/>
          <p:nvPr/>
        </p:nvPicPr>
        <p:blipFill>
          <a:blip r:embed="rId2"/>
          <a:stretch/>
        </p:blipFill>
        <p:spPr>
          <a:xfrm>
            <a:off x="5000760" y="4714920"/>
            <a:ext cx="3278160" cy="1449360"/>
          </a:xfrm>
          <a:prstGeom prst="rect">
            <a:avLst/>
          </a:prstGeom>
          <a:ln w="0">
            <a:noFill/>
          </a:ln>
        </p:spPr>
      </p:pic>
      <p:grpSp>
        <p:nvGrpSpPr>
          <p:cNvPr id="130" name="Блок-схема: данные 8"/>
          <p:cNvGrpSpPr/>
          <p:nvPr/>
        </p:nvGrpSpPr>
        <p:grpSpPr>
          <a:xfrm>
            <a:off x="841320" y="2840040"/>
            <a:ext cx="2389320" cy="1824120"/>
            <a:chOff x="841320" y="2840040"/>
            <a:chExt cx="2389320" cy="1824120"/>
          </a:xfrm>
        </p:grpSpPr>
        <p:pic>
          <p:nvPicPr>
            <p:cNvPr id="131" name="Блок-схема: данные 8" descr=""/>
            <p:cNvPicPr/>
            <p:nvPr/>
          </p:nvPicPr>
          <p:blipFill>
            <a:blip r:embed="rId3"/>
            <a:stretch/>
          </p:blipFill>
          <p:spPr>
            <a:xfrm>
              <a:off x="841320" y="2840040"/>
              <a:ext cx="23893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328760" y="2857680"/>
              <a:ext cx="141444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Блок-схема: данные 9"/>
          <p:cNvSpPr/>
          <p:nvPr/>
        </p:nvSpPr>
        <p:spPr>
          <a:xfrm>
            <a:off x="928800" y="2714760"/>
            <a:ext cx="2500200" cy="1857240"/>
          </a:xfrm>
          <a:prstGeom prst="flowChartInputOutpu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 flipH="1">
            <a:off x="1499760" y="2714760"/>
            <a:ext cx="500040" cy="1857240"/>
          </a:xfrm>
          <a:prstGeom prst="line">
            <a:avLst/>
          </a:prstGeom>
          <a:ln w="57240">
            <a:solidFill>
              <a:srgbClr val="0066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8"/>
          <p:cNvSpPr/>
          <p:nvPr/>
        </p:nvSpPr>
        <p:spPr>
          <a:xfrm flipV="1">
            <a:off x="785880" y="5571720"/>
            <a:ext cx="306216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20"/>
          <p:cNvSpPr/>
          <p:nvPr/>
        </p:nvSpPr>
        <p:spPr>
          <a:xfrm flipV="1">
            <a:off x="785880" y="5857920"/>
            <a:ext cx="30621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22"/>
          <p:cNvSpPr/>
          <p:nvPr/>
        </p:nvSpPr>
        <p:spPr>
          <a:xfrm flipH="1">
            <a:off x="1643040" y="5429160"/>
            <a:ext cx="1440" cy="57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ие швы мы с вами  сегодня выполня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 какими терминами вы сегодня познаком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143000" y="28584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Контрольные  вопрос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785960" y="285840"/>
            <a:ext cx="557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Рефлекс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Улыбающееся лицо 2"/>
          <p:cNvSpPr/>
          <p:nvPr/>
        </p:nvSpPr>
        <p:spPr>
          <a:xfrm>
            <a:off x="5429160" y="2143080"/>
            <a:ext cx="2714760" cy="2643120"/>
          </a:xfrm>
          <a:prstGeom prst="smileyFace">
            <a:avLst>
              <a:gd name="adj" fmla="val -4652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Улыбающееся лицо 3"/>
          <p:cNvSpPr/>
          <p:nvPr/>
        </p:nvSpPr>
        <p:spPr>
          <a:xfrm>
            <a:off x="1071720" y="2143080"/>
            <a:ext cx="2786040" cy="271476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285920" y="285840"/>
            <a:ext cx="70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313920" y="1789200"/>
            <a:ext cx="82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название машинных швов по таблице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е стр.70-7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8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D:\рисунки\FastStone BMP File.bmp"/>
          <p:cNvPicPr/>
          <p:nvPr/>
        </p:nvPicPr>
        <p:blipFill>
          <a:blip r:embed="rId1"/>
          <a:stretch/>
        </p:blipFill>
        <p:spPr>
          <a:xfrm>
            <a:off x="2143080" y="500040"/>
            <a:ext cx="53578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14200" y="200520"/>
            <a:ext cx="87868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 Молодичка – невеличка, а весь мир одевает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 Одной мне скучно, как всегда, куда она – туда и я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 «Семь раз отмерь, один отрежь» - гласит пословица в народе, а что же резать будем   мы сегодня на уроке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 Два конца, два коль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редине гвоздь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 Идет пароход, то взад, то впере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за ним такая глад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 морщинки не видать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поляне шерстяной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яшет тонконожка —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-под туфельки стальной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олзает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ёжка. </a:t>
            </a: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C:\Users\Наталья\Desktop\Безымянный1.png"/>
          <p:cNvPicPr/>
          <p:nvPr/>
        </p:nvPicPr>
        <p:blipFill>
          <a:blip r:embed="rId1"/>
          <a:stretch/>
        </p:blipFill>
        <p:spPr>
          <a:xfrm>
            <a:off x="4286160" y="5072040"/>
            <a:ext cx="1857600" cy="147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eka-shop96.ru/uploadedFiles/eshopimages/big/Brother-SOMFORT-25.jpg"/>
          <p:cNvPicPr/>
          <p:nvPr/>
        </p:nvPicPr>
        <p:blipFill>
          <a:blip r:embed="rId2"/>
          <a:stretch/>
        </p:blipFill>
        <p:spPr>
          <a:xfrm>
            <a:off x="6286680" y="4854600"/>
            <a:ext cx="2666880" cy="200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ttp://www.photl.com/images/photos/2010/05/17/2315/wm266628tt.jpg"/>
          <p:cNvPicPr/>
          <p:nvPr/>
        </p:nvPicPr>
        <p:blipFill>
          <a:blip r:embed="rId3"/>
          <a:stretch/>
        </p:blipFill>
        <p:spPr>
          <a:xfrm>
            <a:off x="2286000" y="5572080"/>
            <a:ext cx="1571760" cy="1022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g-fotki.yandex.ru/get/6444/154375804.0/0_86440_4b5117f6_M.jpg"/>
          <p:cNvPicPr/>
          <p:nvPr/>
        </p:nvPicPr>
        <p:blipFill>
          <a:blip r:embed="rId4"/>
          <a:stretch/>
        </p:blipFill>
        <p:spPr>
          <a:xfrm>
            <a:off x="6500880" y="3143160"/>
            <a:ext cx="2359080" cy="141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Наталья\Рабочий стол\Новая  папка\ДДТ\ИЗО и ДПИ\Презентации\Безымянный11.JPG"/>
          <p:cNvPicPr/>
          <p:nvPr/>
        </p:nvPicPr>
        <p:blipFill>
          <a:blip r:embed="rId5"/>
          <a:stretch/>
        </p:blipFill>
        <p:spPr>
          <a:xfrm rot="2480400">
            <a:off x="4714920" y="3286080"/>
            <a:ext cx="152856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Вышивка шелковыми лентами."/>
          <p:cNvPicPr/>
          <p:nvPr/>
        </p:nvPicPr>
        <p:blipFill>
          <a:blip r:embed="rId6"/>
          <a:stretch/>
        </p:blipFill>
        <p:spPr>
          <a:xfrm>
            <a:off x="5500800" y="2000160"/>
            <a:ext cx="30384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81200" y="420840"/>
            <a:ext cx="7796160" cy="2865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285840" y="3929040"/>
            <a:ext cx="471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mic Sans MS"/>
              </a:rPr>
              <a:t>Наша цель: </a:t>
            </a: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Приобретение  умений и навыков выполнения машинных ш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Содержимое 4" descr="http://igolo4ka1.ru/wp-content/uploads/2012/02/222.jpg"/>
          <p:cNvPicPr/>
          <p:nvPr/>
        </p:nvPicPr>
        <p:blipFill>
          <a:blip r:embed="rId2"/>
          <a:stretch/>
        </p:blipFill>
        <p:spPr>
          <a:xfrm>
            <a:off x="5214960" y="342900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407960" y="360360"/>
            <a:ext cx="6328080" cy="901800"/>
          </a:xfrm>
          <a:prstGeom prst="rect">
            <a:avLst/>
          </a:prstGeom>
          <a:ln w="0">
            <a:noFill/>
          </a:ln>
        </p:spPr>
      </p:pic>
      <p:pic>
        <p:nvPicPr>
          <p:cNvPr id="57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1146240" y="1219320"/>
            <a:ext cx="3060720" cy="933480"/>
          </a:xfrm>
          <a:prstGeom prst="rect">
            <a:avLst/>
          </a:prstGeom>
          <a:ln w="0">
            <a:noFill/>
          </a:ln>
        </p:spPr>
      </p:pic>
      <p:pic>
        <p:nvPicPr>
          <p:cNvPr id="58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2481120" y="2189160"/>
            <a:ext cx="3822840" cy="614520"/>
          </a:xfrm>
          <a:prstGeom prst="rect">
            <a:avLst/>
          </a:prstGeom>
          <a:ln w="0">
            <a:noFill/>
          </a:ln>
        </p:spPr>
      </p:pic>
      <p:pic>
        <p:nvPicPr>
          <p:cNvPr id="59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5194440" y="1365120"/>
            <a:ext cx="2681280" cy="57960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7" descr=""/>
          <p:cNvPicPr/>
          <p:nvPr/>
        </p:nvPicPr>
        <p:blipFill>
          <a:blip r:embed="rId5"/>
          <a:stretch/>
        </p:blipFill>
        <p:spPr>
          <a:xfrm>
            <a:off x="480960" y="2981160"/>
            <a:ext cx="3468600" cy="68292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8" descr=""/>
          <p:cNvPicPr/>
          <p:nvPr/>
        </p:nvPicPr>
        <p:blipFill>
          <a:blip r:embed="rId6"/>
          <a:stretch/>
        </p:blipFill>
        <p:spPr>
          <a:xfrm>
            <a:off x="4913280" y="2981160"/>
            <a:ext cx="3749760" cy="68292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9" descr=""/>
          <p:cNvPicPr/>
          <p:nvPr/>
        </p:nvPicPr>
        <p:blipFill>
          <a:blip r:embed="rId7"/>
          <a:stretch/>
        </p:blipFill>
        <p:spPr>
          <a:xfrm>
            <a:off x="554040" y="3938760"/>
            <a:ext cx="890640" cy="26208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10" descr=""/>
          <p:cNvPicPr/>
          <p:nvPr/>
        </p:nvPicPr>
        <p:blipFill>
          <a:blip r:embed="rId8"/>
          <a:stretch/>
        </p:blipFill>
        <p:spPr>
          <a:xfrm>
            <a:off x="2766960" y="3981600"/>
            <a:ext cx="951120" cy="246852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11" descr=""/>
          <p:cNvPicPr/>
          <p:nvPr/>
        </p:nvPicPr>
        <p:blipFill>
          <a:blip r:embed="rId9"/>
          <a:stretch/>
        </p:blipFill>
        <p:spPr>
          <a:xfrm>
            <a:off x="5187960" y="3822840"/>
            <a:ext cx="974880" cy="271116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12" descr=""/>
          <p:cNvPicPr/>
          <p:nvPr/>
        </p:nvPicPr>
        <p:blipFill>
          <a:blip r:embed="rId10"/>
          <a:stretch/>
        </p:blipFill>
        <p:spPr>
          <a:xfrm>
            <a:off x="7461360" y="3816360"/>
            <a:ext cx="969840" cy="270036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3"/>
          <p:cNvSpPr/>
          <p:nvPr/>
        </p:nvSpPr>
        <p:spPr>
          <a:xfrm rot="874200">
            <a:off x="458280" y="466200"/>
            <a:ext cx="785880" cy="1471680"/>
          </a:xfrm>
          <a:custGeom>
            <a:avLst/>
            <a:gdLst>
              <a:gd name="textAreaLeft" fmla="*/ 105120 w 785880"/>
              <a:gd name="textAreaRight" fmla="*/ 680760 w 785880"/>
              <a:gd name="textAreaTop" fmla="*/ 291600 h 1471680"/>
              <a:gd name="textAreaBottom" fmla="*/ 1092240 h 14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62" stAng="-5400000" swAng="-5400000"/>
                <a:lnTo>
                  <a:pt x="0" y="11747"/>
                </a:lnTo>
                <a:arcTo wR="21600" hR="8562" stAng="10800000" swAng="-3415241"/>
                <a:lnTo>
                  <a:pt x="16200" y="21328"/>
                </a:lnTo>
                <a:lnTo>
                  <a:pt x="21600" y="18717"/>
                </a:lnTo>
                <a:lnTo>
                  <a:pt x="16200" y="15561"/>
                </a:lnTo>
                <a:lnTo>
                  <a:pt x="16200" y="16852"/>
                </a:lnTo>
                <a:arcTo wR="21600" hR="8562" stAng="7384759" swAng="3157768"/>
                <a:lnTo>
                  <a:pt x="377" y="10154"/>
                </a:lnTo>
                <a:arcTo wR="21600" hR="8562" stAng="-10542527" swAng="5142527"/>
                <a:close/>
              </a:path>
              <a:path fill="darkenLess" w="21600" h="21600">
                <a:moveTo>
                  <a:pt x="21600" y="0"/>
                </a:moveTo>
                <a:arcTo wR="21600" hR="8562" stAng="-5400000" swAng="-5400000"/>
                <a:lnTo>
                  <a:pt x="0" y="8562"/>
                </a:lnTo>
                <a:arcTo wR="21600" hR="8562" stAng="10800000" swAng="-257473"/>
                <a:lnTo>
                  <a:pt x="377" y="10154"/>
                </a:lnTo>
                <a:arcTo wR="21600" hR="8562" stAng="-10542527" swAng="5142527"/>
                <a:close/>
              </a:path>
            </a:pathLst>
          </a:cu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Выгнутая влево стрелка 14"/>
          <p:cNvSpPr/>
          <p:nvPr/>
        </p:nvSpPr>
        <p:spPr>
          <a:xfrm flipH="1" rot="21051600">
            <a:off x="7826040" y="490320"/>
            <a:ext cx="904680" cy="1471320"/>
          </a:xfrm>
          <a:custGeom>
            <a:avLst/>
            <a:gdLst>
              <a:gd name="textAreaLeft" fmla="*/ 120960 w 904680"/>
              <a:gd name="textAreaRight" fmla="*/ 783720 w 904680"/>
              <a:gd name="textAreaTop" fmla="*/ 280080 h 1471320"/>
              <a:gd name="textAreaBottom" fmla="*/ 1090080 h 14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23" stAng="-5400000" swAng="-5400000"/>
                <a:lnTo>
                  <a:pt x="0" y="11892"/>
                </a:lnTo>
                <a:arcTo wR="21600" hR="8223" stAng="10800000" swAng="-3351122"/>
                <a:lnTo>
                  <a:pt x="16200" y="21339"/>
                </a:lnTo>
                <a:lnTo>
                  <a:pt x="21600" y="18280"/>
                </a:lnTo>
                <a:lnTo>
                  <a:pt x="16200" y="14698"/>
                </a:lnTo>
                <a:lnTo>
                  <a:pt x="16200" y="16184"/>
                </a:lnTo>
                <a:arcTo wR="21600" hR="8223" stAng="7448878" swAng="3052357"/>
                <a:lnTo>
                  <a:pt x="544" y="10057"/>
                </a:lnTo>
                <a:arcTo wR="21600" hR="8223" stAng="-10501235" swAng="5101235"/>
                <a:close/>
              </a:path>
              <a:path fill="darkenLess" w="21600" h="21600">
                <a:moveTo>
                  <a:pt x="21600" y="0"/>
                </a:moveTo>
                <a:arcTo wR="21600" hR="8223" stAng="-5400000" swAng="-5400000"/>
                <a:lnTo>
                  <a:pt x="0" y="8223"/>
                </a:lnTo>
                <a:arcTo wR="21600" hR="8223" stAng="10800000" swAng="-298765"/>
                <a:lnTo>
                  <a:pt x="544" y="10057"/>
                </a:lnTo>
                <a:arcTo wR="21600" hR="8223" stAng="-10501235" swAng="5101235"/>
                <a:close/>
              </a:path>
            </a:pathLst>
          </a:cu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трелка вниз 15"/>
          <p:cNvSpPr/>
          <p:nvPr/>
        </p:nvSpPr>
        <p:spPr>
          <a:xfrm>
            <a:off x="4572000" y="1214280"/>
            <a:ext cx="484200" cy="1000440"/>
          </a:xfrm>
          <a:prstGeom prst="downArrow">
            <a:avLst>
              <a:gd name="adj1" fmla="val 43917"/>
              <a:gd name="adj2" fmla="val 50019"/>
            </a:avLst>
          </a:pr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Двойная стрелка влево/вверх 16"/>
          <p:cNvSpPr/>
          <p:nvPr/>
        </p:nvSpPr>
        <p:spPr>
          <a:xfrm rot="13535400">
            <a:off x="1531440" y="3666600"/>
            <a:ext cx="1141560" cy="1131840"/>
          </a:xfrm>
          <a:prstGeom prst="pie">
            <a:avLst/>
          </a:pr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Двойная стрелка влево/вверх 17"/>
          <p:cNvSpPr/>
          <p:nvPr/>
        </p:nvSpPr>
        <p:spPr>
          <a:xfrm rot="13492200">
            <a:off x="6302520" y="3639960"/>
            <a:ext cx="1046160" cy="1082880"/>
          </a:xfrm>
          <a:prstGeom prst="pie">
            <a:avLst/>
          </a:pr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низ 18"/>
          <p:cNvSpPr/>
          <p:nvPr/>
        </p:nvSpPr>
        <p:spPr>
          <a:xfrm>
            <a:off x="1857240" y="2000160"/>
            <a:ext cx="42876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трелка вниз 19"/>
          <p:cNvSpPr/>
          <p:nvPr/>
        </p:nvSpPr>
        <p:spPr>
          <a:xfrm>
            <a:off x="6786720" y="1928880"/>
            <a:ext cx="428400" cy="1071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357120" y="1285920"/>
            <a:ext cx="84297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тояние между проколами и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еж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яд повторяющихся стежков на тк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сто соединения двух или нескольких деталей, выполненное на швейной маш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Ш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тояние  от строчки (или шва) до среза дета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Ширина шва (припуск на шов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435760" y="214200"/>
            <a:ext cx="35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Игра «Лото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D:\рисунки\FastStone BMP File.bmp"/>
          <p:cNvPicPr/>
          <p:nvPr/>
        </p:nvPicPr>
        <p:blipFill>
          <a:blip r:embed="rId1"/>
          <a:stretch/>
        </p:blipFill>
        <p:spPr>
          <a:xfrm>
            <a:off x="1785960" y="500040"/>
            <a:ext cx="53578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Блок-схема: данные 4"/>
          <p:cNvSpPr/>
          <p:nvPr/>
        </p:nvSpPr>
        <p:spPr>
          <a:xfrm>
            <a:off x="500040" y="1643040"/>
            <a:ext cx="2857680" cy="2357640"/>
          </a:xfrm>
          <a:prstGeom prst="flowChartInputOutput">
            <a:avLst/>
          </a:prstGeom>
          <a:solidFill>
            <a:srgbClr val="d07c7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Блок-схема: данные 5"/>
          <p:cNvSpPr/>
          <p:nvPr/>
        </p:nvSpPr>
        <p:spPr>
          <a:xfrm>
            <a:off x="571680" y="1714680"/>
            <a:ext cx="2928600" cy="2428560"/>
          </a:xfrm>
          <a:prstGeom prst="flowChartInputOutput">
            <a:avLst/>
          </a:prstGeom>
          <a:solidFill>
            <a:srgbClr val="adadeb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000680" y="164304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ве детали сложить лицевой стороной на лицевую , уравнять срез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000680" y="24289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колоть английскими булав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028400" y="335772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чать  параллельно срезу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стоянии 1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14"/>
          <p:cNvSpPr/>
          <p:nvPr/>
        </p:nvSpPr>
        <p:spPr>
          <a:xfrm flipH="1">
            <a:off x="1214280" y="1643040"/>
            <a:ext cx="571680" cy="2500200"/>
          </a:xfrm>
          <a:prstGeom prst="line">
            <a:avLst/>
          </a:prstGeom>
          <a:ln w="19080">
            <a:solidFill>
              <a:srgbClr val="262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4000680" y="4429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 Удалить английские бул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24"/>
          <p:cNvSpPr/>
          <p:nvPr/>
        </p:nvSpPr>
        <p:spPr>
          <a:xfrm>
            <a:off x="2286000" y="285840"/>
            <a:ext cx="43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istral"/>
              </a:rPr>
              <a:t>Стачной шов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33"/>
          <p:cNvSpPr/>
          <p:nvPr/>
        </p:nvSpPr>
        <p:spPr>
          <a:xfrm>
            <a:off x="1428840" y="1928880"/>
            <a:ext cx="857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38"/>
          <p:cNvSpPr/>
          <p:nvPr/>
        </p:nvSpPr>
        <p:spPr>
          <a:xfrm>
            <a:off x="1214280" y="2857680"/>
            <a:ext cx="857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39"/>
          <p:cNvSpPr/>
          <p:nvPr/>
        </p:nvSpPr>
        <p:spPr>
          <a:xfrm>
            <a:off x="928800" y="3929040"/>
            <a:ext cx="857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202680" y="185724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Пристрочить срез  и удалить английские бул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571680" y="114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Подогнуть срез на 0,5 или 0,7 см  на изнаночную сторону и заколоть      английскими булав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кругленный прямоугольник 12"/>
          <p:cNvSpPr/>
          <p:nvPr/>
        </p:nvSpPr>
        <p:spPr>
          <a:xfrm>
            <a:off x="714240" y="3786120"/>
            <a:ext cx="2571840" cy="2143080"/>
          </a:xfrm>
          <a:prstGeom prst="roundRect">
            <a:avLst>
              <a:gd name="adj" fmla="val 880"/>
            </a:avLst>
          </a:prstGeom>
          <a:solidFill>
            <a:srgbClr val="adadeb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Дуга 14"/>
          <p:cNvSpPr/>
          <p:nvPr/>
        </p:nvSpPr>
        <p:spPr>
          <a:xfrm rot="10800000">
            <a:off x="571320" y="5000760"/>
            <a:ext cx="2142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Дуга 15"/>
          <p:cNvSpPr/>
          <p:nvPr/>
        </p:nvSpPr>
        <p:spPr>
          <a:xfrm rot="10800000">
            <a:off x="3071520" y="5000760"/>
            <a:ext cx="2142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7"/>
          <p:cNvSpPr/>
          <p:nvPr/>
        </p:nvSpPr>
        <p:spPr>
          <a:xfrm>
            <a:off x="572400" y="5548320"/>
            <a:ext cx="24987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24"/>
          <p:cNvSpPr/>
          <p:nvPr/>
        </p:nvSpPr>
        <p:spPr>
          <a:xfrm>
            <a:off x="357120" y="5715000"/>
            <a:ext cx="3071880" cy="1440"/>
          </a:xfrm>
          <a:prstGeom prst="line">
            <a:avLst/>
          </a:prstGeom>
          <a:ln w="28440">
            <a:solidFill>
              <a:srgbClr val="00997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18"/>
          <p:cNvSpPr/>
          <p:nvPr/>
        </p:nvSpPr>
        <p:spPr>
          <a:xfrm>
            <a:off x="642960" y="5929200"/>
            <a:ext cx="25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1"/>
          <p:cNvSpPr/>
          <p:nvPr/>
        </p:nvSpPr>
        <p:spPr>
          <a:xfrm>
            <a:off x="428760" y="2357280"/>
            <a:ext cx="817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Подогнуть второй раз тот же срез на изнаночную сторону по линии шва и заколоть английскими булав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с двумя скругленными соседними углами 32"/>
          <p:cNvSpPr/>
          <p:nvPr/>
        </p:nvSpPr>
        <p:spPr>
          <a:xfrm rot="10800000">
            <a:off x="5072040" y="4357440"/>
            <a:ext cx="2757600" cy="1500120"/>
          </a:xfrm>
          <a:prstGeom prst="pie">
            <a:avLst/>
          </a:prstGeom>
          <a:solidFill>
            <a:srgbClr val="adad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Дуга 33"/>
          <p:cNvSpPr/>
          <p:nvPr/>
        </p:nvSpPr>
        <p:spPr>
          <a:xfrm rot="10800000">
            <a:off x="7500600" y="5286240"/>
            <a:ext cx="428760" cy="571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35"/>
          <p:cNvSpPr/>
          <p:nvPr/>
        </p:nvSpPr>
        <p:spPr>
          <a:xfrm flipV="1">
            <a:off x="7500960" y="5144760"/>
            <a:ext cx="14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Дуга 36"/>
          <p:cNvSpPr/>
          <p:nvPr/>
        </p:nvSpPr>
        <p:spPr>
          <a:xfrm>
            <a:off x="7500960" y="4929120"/>
            <a:ext cx="214200" cy="628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5313240" y="493092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Дуга 41"/>
          <p:cNvSpPr/>
          <p:nvPr/>
        </p:nvSpPr>
        <p:spPr>
          <a:xfrm>
            <a:off x="5072040" y="4929120"/>
            <a:ext cx="428760" cy="571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44"/>
          <p:cNvSpPr/>
          <p:nvPr/>
        </p:nvSpPr>
        <p:spPr>
          <a:xfrm>
            <a:off x="7500960" y="5214960"/>
            <a:ext cx="214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59"/>
          <p:cNvSpPr/>
          <p:nvPr/>
        </p:nvSpPr>
        <p:spPr>
          <a:xfrm>
            <a:off x="5072040" y="5143680"/>
            <a:ext cx="2786040" cy="0"/>
          </a:xfrm>
          <a:prstGeom prst="line">
            <a:avLst/>
          </a:prstGeom>
          <a:ln w="28440">
            <a:solidFill>
              <a:srgbClr val="00997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60"/>
          <p:cNvSpPr/>
          <p:nvPr/>
        </p:nvSpPr>
        <p:spPr>
          <a:xfrm>
            <a:off x="5143680" y="5072040"/>
            <a:ext cx="2571480" cy="0"/>
          </a:xfrm>
          <a:prstGeom prst="line">
            <a:avLst/>
          </a:prstGeom>
          <a:ln w="28440">
            <a:solidFill>
              <a:srgbClr val="262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7"/>
          <p:cNvSpPr/>
          <p:nvPr/>
        </p:nvSpPr>
        <p:spPr>
          <a:xfrm>
            <a:off x="428760" y="285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Шов вподгибку с закрытым срез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183240" y="3143160"/>
            <a:ext cx="75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Пристрочить край подогнутого среза и удалить бул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37"/>
          <p:cNvSpPr/>
          <p:nvPr/>
        </p:nvSpPr>
        <p:spPr>
          <a:xfrm flipH="1">
            <a:off x="1856880" y="53578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42"/>
          <p:cNvSpPr/>
          <p:nvPr/>
        </p:nvSpPr>
        <p:spPr>
          <a:xfrm flipH="1">
            <a:off x="856800" y="53578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43"/>
          <p:cNvSpPr/>
          <p:nvPr/>
        </p:nvSpPr>
        <p:spPr>
          <a:xfrm flipH="1">
            <a:off x="2857680" y="53578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45"/>
          <p:cNvSpPr/>
          <p:nvPr/>
        </p:nvSpPr>
        <p:spPr>
          <a:xfrm flipH="1">
            <a:off x="5285880" y="478620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46"/>
          <p:cNvSpPr/>
          <p:nvPr/>
        </p:nvSpPr>
        <p:spPr>
          <a:xfrm flipH="1">
            <a:off x="6357960" y="478620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47"/>
          <p:cNvSpPr/>
          <p:nvPr/>
        </p:nvSpPr>
        <p:spPr>
          <a:xfrm flipH="1">
            <a:off x="7358040" y="478620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9:04:35Z</dcterms:created>
  <dc:creator>Иванов Антон Олегович</dc:creator>
  <dc:description/>
  <dc:language>en-US</dc:language>
  <cp:lastModifiedBy>Наталья</cp:lastModifiedBy>
  <dcterms:modified xsi:type="dcterms:W3CDTF">2017-04-19T12:34:33Z</dcterms:modified>
  <cp:revision>98</cp:revision>
  <dc:subject/>
  <dc:title>Ручные строчки  и  машинные швы</dc:title>
</cp:coreProperties>
</file>