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6858000" cy="9144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206-1FBD-4BB4-AE9B-C0D418A1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4DF-8BB2-465A-A7A1-048528DE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D44-26ED-4EFF-94B0-F374F906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A08-C966-4046-A8AA-586C9B0B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1AF9-2150-4677-A28E-B7AB3C54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5C43-989E-4E4C-8E90-A4C3EB41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3055-550C-4DED-8747-3974FA59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7468-9D32-4D92-A9CE-9FE8EDFE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8793-E4F2-4E86-803B-08AF3609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881C-6EBA-4E51-9E1A-62CB24F9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E3D7-0E51-41FC-A1CD-1B8D168C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F2D7-BAA8-446D-A362-4BC65D98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806F-4714-4D67-85E9-D55CBCCD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BB22-94CC-4312-9B3B-7C753E80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EE34-8E3A-4995-8C59-17BE1D64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8283-2937-47A5-85FA-0FD563D2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7B13-CFFA-42BC-B6FE-75366084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8F2AC-B24A-4CFC-B141-729FC1BC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F45B-20FC-4CEF-A7BA-58C9329C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68488-C13B-479F-A319-1B06A08D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A4A1D-A84D-4EF7-A5E7-1F449961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2ABE-FD54-4CA9-B83E-6C8068E3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A6D-AE36-4287-8F24-01FB0C1B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1A740-4291-4C15-A79C-C161BD92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D635F-8572-48C9-9980-5CA6084E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9F99E-B47B-4F79-81C1-9D22DA79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6CC00-AA2A-4574-95E1-528069A7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62908-486C-44CC-9115-7E97FD91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6FA79-DE89-4474-98F8-76D43A7C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AB29F-0168-4DA5-9676-0B0DCBC7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ADA63-A3F1-4D54-9E83-BEA518C1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B7953-6047-43C8-BB20-8F45D813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31E2C-E0B8-4D6D-AA09-B972F73A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491-BAF7-4EE1-9FEB-5FF13B58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957B6-54A6-43C3-8336-B4F8CCD1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92346-8C15-492E-8FF9-D808D5B9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6E2F2-B964-4511-981D-166D0C97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17DFA-C4C2-4F79-928E-6044629A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D7772-757E-4ED5-81A4-183968A5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08C5A-80F5-47FE-A87B-6AD8F02F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A1560-4C16-4504-AC18-073EDB41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AD0E4-485B-447C-80B1-35B0D7D2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D0E73-DFA6-462E-AD9D-0EF3BDAA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6681F-AEC7-4F17-9E73-032204DA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310-2344-46F7-9280-2FAE8D85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5A976-3A72-4E32-9B57-5B236522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A126B-617F-4464-A1F0-916F2331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B7E5E-3745-4455-94AB-AB59B1E8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CFD6A-A5BC-4F5D-8490-DDF44171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90654-B35C-4B90-BBE7-29A762A3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80A4A-E6EF-4DB4-B9A3-9AFA8194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13057-6023-4537-B169-51F91D4C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84DAB-51C7-4720-AFFF-55D301B7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F5002-AC66-4090-BE32-33BFA2B7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9B745-AB3E-4A9A-91DE-470B0790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7E7-ADBF-4D0F-BBB3-065F334B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59E89-6389-45B4-82AE-55132F26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DD740-E886-4871-A21A-2558A956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3F863-C0AD-4E33-9728-69AB8C13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7E7FD-E069-4081-B5AA-6649B36D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797E9-5133-464B-9E40-1E40AD82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D0047-4C6D-4611-A178-225A1965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C8F25-D83B-448F-A8A3-84F3A2E0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63386-A03B-4DCD-B532-F6F2EAA2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8998A-90E6-4CCB-B44B-CAB07A7B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6DBAA-7DEC-4F28-8FCB-7E48E517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947-5E21-450C-9EEE-82873A91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DC129-69E9-4F2F-8877-CBC90E40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0EB74-38A4-4E9A-93B2-26657C44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4D1BD-1D23-4B9C-9230-A5A56D2A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2B779-BB63-4C19-B052-C6426BA8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AB288-141C-4000-BEC8-D40082D4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DFE51-957D-419C-8102-09DBCEEB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A7948-FDF6-42A4-89B4-CBA743E0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2C76C-8212-4C37-B1CB-60DD8886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E5609-54BF-4982-9CBD-EF180FC4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59CC0-14F4-4110-AB56-37490C1F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3871-8F3C-4FD8-9A28-A943A7F1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56875-2C6E-41E6-926B-CF691264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A0223-5EDC-4D86-BC5F-19A5A4E5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6CD58-F8B3-4E76-AA26-0DB22A29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82C10-C68B-4BB0-B4C1-79079C56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1F8E0-70E0-4128-A70A-0E34C667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8DE-6B56-4CB7-9C3E-D9489AB1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611280" y="-1087560"/>
            <a:ext cx="1228680" cy="2184480"/>
          </a:xfrm>
          <a:custGeom>
            <a:avLst/>
            <a:gdLst/>
            <a:ahLst/>
            <a:rect l="l" t="t" r="r" b="b"/>
            <a:pathLst>
              <a:path w="1228726" h="2184401">
                <a:moveTo>
                  <a:pt x="1228726" y="1092201"/>
                </a:moveTo>
                <a:cubicBezTo>
                  <a:pt x="1228726" y="1279870"/>
                  <a:pt x="1201525" y="1464372"/>
                  <a:pt x="1149747" y="1627916"/>
                </a:cubicBezTo>
                <a:cubicBezTo>
                  <a:pt x="1040791" y="1972058"/>
                  <a:pt x="835825" y="2184835"/>
                  <a:pt x="613689" y="2184402"/>
                </a:cubicBezTo>
                <a:cubicBezTo>
                  <a:pt x="613914" y="1820335"/>
                  <a:pt x="614138" y="1456268"/>
                  <a:pt x="614363" y="1092201"/>
                </a:cubicBezTo>
                <a:lnTo>
                  <a:pt x="1228726" y="1092201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-19080" y="1504800"/>
            <a:ext cx="1165320" cy="1305000"/>
            <a:chOff x="-19080" y="1504800"/>
            <a:chExt cx="1165320" cy="1305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-19080" y="1504800"/>
              <a:ext cx="116532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8655-13D1-417C-A2EB-53E0C7CE1BD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611280" y="-1087560"/>
            <a:ext cx="1228680" cy="2184480"/>
          </a:xfrm>
          <a:custGeom>
            <a:avLst/>
            <a:gdLst/>
            <a:ahLst/>
            <a:rect l="l" t="t" r="r" b="b"/>
            <a:pathLst>
              <a:path w="1228726" h="2184401">
                <a:moveTo>
                  <a:pt x="1228726" y="1092201"/>
                </a:moveTo>
                <a:cubicBezTo>
                  <a:pt x="1228726" y="1279870"/>
                  <a:pt x="1201525" y="1464372"/>
                  <a:pt x="1149747" y="1627916"/>
                </a:cubicBezTo>
                <a:cubicBezTo>
                  <a:pt x="1040791" y="1972058"/>
                  <a:pt x="835825" y="2184835"/>
                  <a:pt x="613689" y="2184402"/>
                </a:cubicBezTo>
                <a:cubicBezTo>
                  <a:pt x="613914" y="1820335"/>
                  <a:pt x="614138" y="1456268"/>
                  <a:pt x="614363" y="1092201"/>
                </a:cubicBezTo>
                <a:lnTo>
                  <a:pt x="1228726" y="1092201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-19080" y="1504800"/>
            <a:ext cx="1165320" cy="1305000"/>
            <a:chOff x="-19080" y="1504800"/>
            <a:chExt cx="1165320" cy="1305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-19080" y="1504800"/>
              <a:ext cx="116532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689040" y="1884240"/>
            <a:ext cx="164880" cy="285840"/>
            <a:chOff x="689040" y="1884240"/>
            <a:chExt cx="164880" cy="28584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689040" y="1884240"/>
              <a:ext cx="1648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14240" y="1925640"/>
              <a:ext cx="111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868320" y="1793880"/>
            <a:ext cx="47520" cy="8424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1420-ED91-47B8-82BD-5DE1191765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1712880" y="0"/>
            <a:ext cx="5143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1714680" y="0"/>
            <a:ext cx="568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1627200" y="3754440"/>
            <a:ext cx="165240" cy="287280"/>
            <a:chOff x="1627200" y="3754440"/>
            <a:chExt cx="165240" cy="28728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1627200" y="3754440"/>
              <a:ext cx="1652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652760" y="3794040"/>
              <a:ext cx="110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1806480" y="3660840"/>
            <a:ext cx="47880" cy="8568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A3E4-E623-4DE3-9959-8E7B7CE5146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A91E-F1A3-440B-AE03-FE05C47F38D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762120" y="0"/>
            <a:ext cx="60958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DBD3-C60E-4CF8-8372-AAD9A9E4038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2334-454C-4D2D-8A64-16AC636EFC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463680" y="1328760"/>
            <a:ext cx="3651120" cy="6321240"/>
            <a:chOff x="463680" y="1328760"/>
            <a:chExt cx="3651120" cy="632124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463680" y="1328760"/>
              <a:ext cx="3651120" cy="63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1680" y="1422360"/>
              <a:ext cx="342900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297000" y="1272960"/>
            <a:ext cx="514080" cy="2714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3752280" y="1249200"/>
            <a:ext cx="486720" cy="27180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F68E-865C-4B38-A55A-ECD075E7D7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52&amp;ed=1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5-26950.ru&amp;img_url=s005.radikal.ru/i211/1002/e7/220a06c26b20.jpg&amp;rpt=simage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search?p=52&amp;ed=1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5-26950.ru&amp;img_url=s005.radikal.ru/i211/1002/e7/220a06c26b20.jpg&amp;rpt=simage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allday.ru/uploads/posts/1191269251_c4133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mousosh12.far.ru/images/MenuRis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mousosh12.far.ru/images/MenuRis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allday.ru/uploads/posts/1191268972_c4107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search?p=52&amp;ed=1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5-26950.ru&amp;img_url=s005.radikal.ru/i211/1002/e7/220a06c26b20.jpg&amp;rpt=simage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search?p=154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6-4364675.ru&amp;img_url=aev777.ucoz.ru/1sent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search?p=52&amp;ed=1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5-26950.ru&amp;img_url=s005.radikal.ru/i211/1002/e7/220a06c26b20.jpg&amp;rpt=simage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search?p=154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6-4364675.ru&amp;img_url=aev777.ucoz.ru/1sent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p=11&amp;ed=1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00-323513.ru&amp;img_url=ooschool134.narod.ru/images/school1.jpg&amp;rpt=simage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alokirs.narod.ru/images/fon/79ce09b50a2b620d190479ba67404f31.gif" TargetMode="External"/><Relationship Id="rId2" Type="http://schemas.openxmlformats.org/officeDocument/2006/relationships/image" Target="../media/image11.gif"/><Relationship Id="rId3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6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53-1593231.ru&amp;img_url=malokirs.narod.ru/images/fon/18832091_6546.gif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yandex.ru/search?p=309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murman-school33.ucoz.ru&amp;img_url=murman-school33.ucoz.ru/2008-2009/oformlenie/pen.gif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382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vcdvc.free.fr&amp;img_url=sch164.minsk.edu.by/sm.aspx?uid=101877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yandex.ru/search?p=291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52-2550766.ru&amp;img_url=sch46.minsk.edu.by/sm.aspx?uid=111234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309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murman-school33.ucoz.ru&amp;img_url=murman-school33.ucoz.ru/2008-2009/oformlenie/pen.gif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yandex.ru/search?p=33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www.shkola7.edusite.ru&amp;img_url=www.shkola7.edusite.ru/images/fichiers-compressv-rar.gif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yandex.ru/search?p=33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www.shkola7.edusite.ru&amp;img_url=www.shkola7.edusite.ru/images/fichiers-compressv-rar.gif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4600" y="479160"/>
            <a:ext cx="55548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амятки для родителей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Рисунок 3" descr="Памятки для родителей"/>
          <p:cNvPicPr/>
          <p:nvPr/>
        </p:nvPicPr>
        <p:blipFill>
          <a:blip r:embed="rId1"/>
          <a:stretch/>
        </p:blipFill>
        <p:spPr>
          <a:xfrm>
            <a:off x="1643040" y="2857680"/>
            <a:ext cx="4286160" cy="28954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"/>
          <p:cNvSpPr/>
          <p:nvPr/>
        </p:nvSpPr>
        <p:spPr>
          <a:xfrm>
            <a:off x="3315960" y="6858000"/>
            <a:ext cx="313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с.Черный Клю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района Клявлин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ой обла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ова Татьяна Ильинич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0" y="214200"/>
            <a:ext cx="348624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ему необходимо научить ребёнка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Рисунок 3" descr="http://im6-tub.yandex.net/i?id=147897405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142920"/>
            <a:ext cx="1219320" cy="118116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61" descr="http://im7-tub.yandex.net/i?id=13909604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"/>
          <p:cNvSpPr/>
          <p:nvPr/>
        </p:nvSpPr>
        <p:spPr>
          <a:xfrm>
            <a:off x="785880" y="1407240"/>
            <a:ext cx="6072120" cy="77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Любить себ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 Пока ребенок не будет ценить собственную жизнь, он не станет деятельным, а значит, не сможет реализовать себ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Интерпретировать поведение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бенок попадает в различные жизненные ситуации, в которых он может просто растеряться. Если ребенок научился понимать и объяснять поведение людей, он не будет склонен огорчаться в подобных ситуациях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ка надо учить </a:t>
            </a: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объяснять собственное поведение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. Он сможет объяснить, как он вел себя на уроке, хорошо это или плохо, почему это с ним случилось и что при этом чувствует. Тогда он лучше сможет понять, чего от него хотят, что он делает не так и почему с ним это случаетс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Общаться с помощью слов</a:t>
            </a:r>
            <a:r>
              <a:rPr b="0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бенок, который может объяснить, что с ним происходит, словами, помогает другим лучше понять себя и этим снимает многие проблемы и неприятности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Понимать различия между мыслями и действиями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бенок не может чувствовать одно, думать о другом, а действовать в третьем. У него детская, чистая коммуникация. Если он о чем-то переживает, надо научить его говорить о своих чувствах, а не переводить их в постоянные мысли, которых он боится или стесняется. Рекомендуется помогать ребенку отреагировать свои негативные эмоции через рассказ, игру, драматизацию, рисунок, пантомиму: «Нарисуй, покажи, расскажи, проиграй, что тебя сейчас тревожит, а потом мы начнем с тобой делать уроки!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Интересоваться и задавать вопросы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Все разговоры о подготовке детей к школе, интересе к учению, познавательных способностях окажутся излишними, если мы перестанем интересоваться и реагировать на замечательные вопросы, которые дети задают себе и окружающим: «Почему солнце не падает с неба?» и т.д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Понимать, что на сложные вопросы нет простых ответов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столкнется в жизни с серьезными вопросами, социальными и научными проблемами. Не надо постоянно твердить ему: «Ты еще маленький», «Не твоего это ума дело», «Вырастешь - поймешь». Можно приоткрыть завесу и показать, что не на все вопросы есть однозначные ответы. Этим мы будем развивать стереоскопическое, глобальное, а не только черно-белое мышление ребен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Не бояться неудач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. Чтобы научиться чему-либо, ребенок не должен бояться ошибок и неудач. Детям надо помочь понять, что на ошибках можно учиться. Тем более нельзя за это унижать и наказывать детей. Ребенок, который боится ошибок и неудач, вырастет неуверенным в себе человеком, настоящим неудачник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Доверять взрослым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бенку необходимо доверять взрослым, но доверие разрушается, если родители в угоду ребенку постоянно играют с ним в разные игры и обманывают: «Съешь кашу, станешь большим», «Мама всегда говорит правду», «Папа самый сильный и смелый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Думать самому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Чувство собственной уникальности и способности к выбору - жизненно важная часть человеческого существования. Этой способности легко научить, если просто поощрять ребенка в том, чтобы он высказывал свое суждение, не боясь, что его накажут или будут над ним смеяться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25002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Памятка-совет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родителям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785880" y="1150200"/>
            <a:ext cx="6072120" cy="79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втра, когда Ваш ребенок проснется, скажите ему: «Доброе утро!» и …. не ждите ответа. Начните день бодро, а не с замечаний и сс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Вы браните ребенка, не употребляйте слов «Ты всегда», «Ты вообще», «Вечно ты…». Ваш ребенок вообще и всегда хорош, он лишь сегодня сделал что-то не так. Об этом и скажите 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расставайтесь с ребенком в ссоре. Сначала помиритесь, а потом идите по своим дел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ычно, когда ребенок возвращается из школы, его спрашивают: «Тебя вызывали? Какую отметку получил?» Лучше спросите его: «Что сегодня было интересного?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айтесь, чтобы ребенок был привязан к дому, к тем четырем стенам, в которых живет семья. Возвращаясь домой, не забывайте сказать: «А все-таки, как хорошо у нас дома!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Вам хочется сказать ребенку: «Не лги, не ври, не обманывай!», скажите лучше: «Не обманывай», А еще лучше улыбнитесь: «Кажется кто-то говорит неправду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шайте ребенку давно известную формулу психического здоровья: «Ты хорош, но не лучше других!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, взрослые, ночью отдыхаем, а ребенок – работает, он растет. Когда он встанет, хорошо покормите его перед школ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ребенок выходит из дому, обязательно проводите его до дверей и скажите на дорогу: «Не торопись, будь осторожен». Это надо повторять столько раз, сколько ребенок выходит из до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сын или дочь возвращаются, встречайте их у дверей. Ребенок должен знать, что Вы рады его возвращению, даже если он провинил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 при каких обстоятельствах не заглядывайте в портфель и карман ребенка, даже если вам кажется, что Вы все должны знать о своих дет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бы Вы не устали, постарайтесь поменьше жаловаться детям. Жалуясь, Вы учите их жаловаться, а не жалеть. Попытайтесь вызвать жалось у ребенка не к себе, а к другим людям, родным и незнакомы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 спорах с сыном или дочерью хоть иногда уступайте, чтобы им не казалось, что они вечно неправы. Эти Вы научите уступать, признавать ошибки и пора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5" descr="http://im6-tub.yandex.net/i?id=147897405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3240" y="0"/>
            <a:ext cx="1219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21430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0 заповедей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ля родителей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Rectangle 1"/>
          <p:cNvSpPr/>
          <p:nvPr/>
        </p:nvSpPr>
        <p:spPr>
          <a:xfrm>
            <a:off x="785880" y="1606320"/>
            <a:ext cx="607212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– это праздник, который всегда с В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ждите, что Ваш ребенок будет таким, как Вы, или таким, так Вы хотите. Помогите ему стать не Вами, а соб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 требуйте от ребенка платы за всё, что Вы для него сделали. Вы дали ему жизнь – как он может отблагодарить Вас? Он даст жизнь другому, тот третьему, и это необратимый закон благодар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 вымещайте на ребенке свои обиды, чтобы в старости не есть горький хлеб. Ибо, «что посеешь, то и пожнёш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 относитесь к его проблемам свысока. Жизнь дана каждому по силам, и будьте уверены – ему она тяжела не меньше, чем Вам, а может быть, и больше, поскольку у него нет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е униж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е забывайте, что самые важные встречи человека – это его встречи с детьми. Обращайте больше внимания на них – мы никогда не можем знать, кого мы встречаем в ребё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е казните себя, если не можете сделать что-то для своего ребёнка. Ругайте себя, если можете, но не делаете. Помните: для ребенка сделано недостаточно, если не сделано всё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ебенок – это та драгоценная чаша, которую Жизнь дала Вам на хранение и развитие в нём творческого огн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Умейте любить чужого ребёнка. Никогда не делайте чужому то, что не хотели бы, чтобы сделали Ваш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Любите своего ребёнка любым – неталантливым, неудачливым, взрослым. Общаясь с ним, радуйтесь, потому что ребёнок – это праздник, который пока с Вам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70" name="i-main-pic" descr="Картинка 28 из 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71960" y="142920"/>
            <a:ext cx="990720" cy="1326960"/>
          </a:xfrm>
          <a:prstGeom prst="rect">
            <a:avLst/>
          </a:prstGeom>
          <a:ln w="0">
            <a:noFill/>
          </a:ln>
        </p:spPr>
      </p:pic>
      <p:pic>
        <p:nvPicPr>
          <p:cNvPr id="371" name="i-main-pic" descr="Картинка 38 из 3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28960" y="7786800"/>
            <a:ext cx="1523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356920" y="357120"/>
            <a:ext cx="285444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авила хорошего тона во время беседы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785880" y="4447800"/>
            <a:ext cx="607212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юсь, эти правила этикета, с Вашей помощью, будут усвоены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они знают, что во время беседы неприлич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ь о человеке в его отсутств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ячивать своё «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птаться в компа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ывать разговор (если нужно что-то срочно спросить, то следует перед этим извинитьс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аривать с дальнего расстояния: через стол, через коридор, через улиц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беседы смотреть на потолок, в сторону, на ча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5" descr="Памятки для родителей"/>
          <p:cNvPicPr/>
          <p:nvPr/>
        </p:nvPicPr>
        <p:blipFill>
          <a:blip r:embed="rId3"/>
          <a:stretch/>
        </p:blipFill>
        <p:spPr>
          <a:xfrm>
            <a:off x="1643040" y="1214280"/>
            <a:ext cx="42861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22860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Если ребёнок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винился…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857160" y="2233080"/>
            <a:ext cx="60008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нимайтесь за воспитание в плохом настро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о определите, что Вы хотите от ребёнка (и объясните ему это), а также узнайте, что он думает по этому пов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казывайте готов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нижайте ребенка словами типа: «А у тебя вообще голова на плечах есть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грожайте: «Если ты ещё раз сделаешь – ты у меня получиш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ымогайте обещаний, для ребенка они ничего не знач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зу дайте оценку поступку, ошибке и сделайте паузу. Оценивайте поступок, а не личность: не – «Ты плохой», а – «Ты поступил плох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амечания прикоснитесь к ребенку и дайте почувствовать, что Вы ему сочувствуете, верите в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79" name="i-main-pic" descr="Картинка 38 из 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14840" y="428760"/>
            <a:ext cx="2047680" cy="1360440"/>
          </a:xfrm>
          <a:prstGeom prst="rect">
            <a:avLst/>
          </a:prstGeom>
          <a:ln w="0">
            <a:noFill/>
          </a:ln>
        </p:spPr>
      </p:pic>
      <p:pic>
        <p:nvPicPr>
          <p:cNvPr id="380" name="i-main-pic" descr="Картинка 28 из 389"/>
          <p:cNvPicPr/>
          <p:nvPr/>
        </p:nvPicPr>
        <p:blipFill>
          <a:blip r:embed="rId5"/>
          <a:stretch/>
        </p:blipFill>
        <p:spPr>
          <a:xfrm>
            <a:off x="2928960" y="6143760"/>
            <a:ext cx="15526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71720" y="714240"/>
            <a:ext cx="285408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аказывая ребёнка,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жалуйста,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мните: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Rectangle 1"/>
          <p:cNvSpPr/>
          <p:nvPr/>
        </p:nvSpPr>
        <p:spPr>
          <a:xfrm>
            <a:off x="928800" y="2190240"/>
            <a:ext cx="60721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аздо большей воспитательной силой обладает прощение проступка, а наказание освобождает от мук сов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 наказания в семье должен пользоваться один человек, наиболее уважаемый, любимый ребён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ывать следует за проступок, а не потому, что у вас плохое настро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ит читать длинных нот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ужно впоследствии напоминать о проступ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пугать ребёнка бабой Ягой, милиционером, вол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ит всегда наказывать ребёнка после проступка сразу. Иногда лучше сказать: «Хорошо, я подумаю до завтра, как с тобой поступи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 о проступке следует вести только наеди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61" descr="http://im7-tub.yandex.net/i?id=13909604-02"/>
          <p:cNvPicPr/>
          <p:nvPr/>
        </p:nvPicPr>
        <p:blipFill>
          <a:blip r:embed="rId1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84" name="i-main-pic" descr="Картинка 38 из 389"/>
          <p:cNvPicPr/>
          <p:nvPr/>
        </p:nvPicPr>
        <p:blipFill>
          <a:blip r:embed="rId2"/>
          <a:stretch/>
        </p:blipFill>
        <p:spPr>
          <a:xfrm>
            <a:off x="4071960" y="571680"/>
            <a:ext cx="2047680" cy="1360440"/>
          </a:xfrm>
          <a:prstGeom prst="rect">
            <a:avLst/>
          </a:prstGeom>
          <a:ln w="0">
            <a:noFill/>
          </a:ln>
        </p:spPr>
      </p:pic>
      <p:pic>
        <p:nvPicPr>
          <p:cNvPr id="385" name="i-main-pic" descr="Картинка 28 из 389"/>
          <p:cNvPicPr/>
          <p:nvPr/>
        </p:nvPicPr>
        <p:blipFill>
          <a:blip r:embed="rId3"/>
          <a:stretch/>
        </p:blipFill>
        <p:spPr>
          <a:xfrm>
            <a:off x="2928960" y="6143760"/>
            <a:ext cx="15526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785880" y="-48672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омашние задания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без пробл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i-main-pic" descr="Картинка 1 из 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00240" y="1285920"/>
            <a:ext cx="1785960" cy="157176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4"/>
          <p:cNvSpPr/>
          <p:nvPr/>
        </p:nvSpPr>
        <p:spPr>
          <a:xfrm>
            <a:off x="857160" y="2886480"/>
            <a:ext cx="6000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792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хи в учебе зависят от многих важных моментов жизни ученика: полноценный сон, рациональное здоровое питание, позитивное отношение к окружающим людям, стремление к успеху, наличие жизненно важных целей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на выполнение домашних заданий не стоит тратить всю жизнь (есть ещё много чего интересного и увлекательного). Возьмите на заметку, что в начальных классах надо укладываться с домашней работой за 1 ч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е 45 минут не помешает отдохнуть: потанцевать, поваляться по полу, поупражняться с гантелями. Любящие родители могут поиграть с ребенком в игру "разожми кулачок", нарисовать в воздухе, следя глазами, (причем и одной и другой рукой) знак бесконечности, а ребенку назовите это "ленивой восьмеркой", а можно и цветы полить, и с собакой поигр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е время для выполнения домашних заданий: с 15.00 до 18.00. Плотно пообедать надо не меньше, чем за час-полтора до этого, но и голодным садиться за уроки не сто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го же начать? Убрать всё лишнее со стола! Если человек входит в работу легко, но быстро устаёт - начинать лучше с самых трудных заданий, если врабатывание растягивается, долго раскачивается - начинать лучше со средних заданий, потом уже переходить к сложным. А если совсем никак - надо начать с самых простых, чтобы почувствовать успех от быстро и легко выполн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, дедушки и бабушки! Помните! Домашнее задание задают вашему ребёнку! Помощь необходима только в том случае, если у ребенка есть некоторые сложности в развитии познавательных навыков. В этом случае неплохо ещё и посоветоваться со специалистом, чтобы не навреди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3857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амятка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ля родителей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первоклассников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785880" y="2071800"/>
            <a:ext cx="5929200" cy="5857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ите ребенка спокойно. Проснувшись, он должен увидеть вашу улыбку, услышать ласковый голос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дгоняйте ребенка с утра, не дергайте по пустякам, не торопите, умение рассчитать время - ваша задача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правляйте в школу ребенка без завтрака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 не прощайтесь, предупреждая о чем-то. Пожелайте ребенку удачи, подбодрите его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удьте фразу «Что ты сегодня получил?». Встречайте ребенка спокойно, без вопросов, дайте ему расслабиться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чересчур возбужден, жаждет поделиться с вами - не отмахивайтесь, не откладывайте на потом, это не займет много времени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видите, что ребенок огорчен, но молчит, не допытывайтесь, он потом сам все расскажет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лушав замечания учителя, не торопитесь устраивать взбучку. Постарайтесь, чтобы ваш разговор проходил без ребенка. Выслушайте обе стороны - это поможет вам яснее понять ситуацию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школы не торопите ребенка садиться за уроки - необходимо 2-3 часа отдыха (1,5 часа сна)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иготовления уроков не сидите «над душой». Дайте возможность ребенку работать самому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в течение дня хотя бы полчаса, когда вы будете принадлежать только ребенку! Не отвлекайтесь на домашние дела, телевизор и т.д. В этот момент вам должны быть важны его дела и заботы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айте единую тактику общения всех членов семьи с ребенком. Свои разногласия решайте без ребенка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в течение учебного года есть критические периоды, когда учиться сложнее, быстрее наступает утомление - это первые четыре недели, конец второй четверти, первая неделя после зимних каникул, середина третьей четверти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внимательны к жалобам ребенка на головную боль, усталость, плохое самочувствие - это показатели трудностей в учебе!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совсем «большие» дети очень любят сказку перед сном, песенку, ласковое поглаживание. Это успокаивает, помогает снять напряжение, спокойно уснуть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4" descr="http://im6-tub.yandex.net/i?id=147897405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714240"/>
            <a:ext cx="1171800" cy="113508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5" descr="http://im4-tub.yandex.net/i?id=54763271-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14800" y="8001000"/>
            <a:ext cx="106668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5554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амятка для родителей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первоклассников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4" descr="http://im6-tub.yandex.net/i?id=147897405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43160" y="1500120"/>
            <a:ext cx="1171800" cy="113508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5" descr="http://im4-tub.yandex.net/i?id=54763271-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14800" y="8001000"/>
            <a:ext cx="106668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7"/>
          <p:cNvSpPr/>
          <p:nvPr/>
        </p:nvSpPr>
        <p:spPr>
          <a:xfrm>
            <a:off x="785880" y="2857680"/>
            <a:ext cx="607212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месте со школой можно добиться желаемых результатов в воспитании и обучении детей. Учитель – ваш первый союзник и друг вашей семьи. Советуйтесь с ним, поддерживайте его авторитет. Замечания о работе учителя высказывайте в школе, на собрании. Нельзя этого делать в присутствии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посещайте все занятия и собрания для родителей. Если не сможете, сообщите об этом учителю лично или запиской через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интересуйтесь учебными успехами ребенка (спрашивайте: «Что ты сегодня узнал нового?» вместо традиционного «Какую сегодня получил оценку?»). Радуйтесь успехам, не раздражайтесь из-за каждой неудачи, постигшей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контролируйте выполнение домашнего задания и оказывайте, если сможете, разумную помощь в их выполнении. Помощь и контроль не должны быть муштрой, назойливым морализированием. Главное – возбуждать интерес к уч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я домашнее задание, нацеливайте ребенка на то, чтобы он умел доказывать правильность выполнения задания, приводить свои примеры. Чаще спрашивайте: «Почему?» «Докажи», «А можно ли по-другому?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уйте тому, чтобы ребенок участвовал во всех касающихся его мероприятиях, проводимых в классе, шко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выслушать рассказы ребенка до конца. Поделиться своими переживаниями – естественная потребность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оказывайте посильную помощь школе (класс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3139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можем детям учиться!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857160" y="1684080"/>
            <a:ext cx="600084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ите ребенка спокойно; проснувшись, он должен увидеть вашу улыбку и услышать ласковый голос. Не подгоняйте с утра, не дергайте по пустякам, не укоряйте за ошибки и оплошности, даже если “вчера предупреждали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ощайтесь, предупреждая и наставляя: “смотри, не балуйся”, “веди себя хорошо”, “чтобы сегодня не было замечаний о твоем поведении” и т.п. Пожелайте ему удачи, подбодрите, найдите несколько ласковых слов. У него впереди трудный д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йте ребенка после школы спокойно, не обрушивайте на него тысячу вопросов, дайте расслабиться (вспомните, как вы сами чувствуете себя после тяжелого рабочего дня, многочасового общения с людьми). Если же ребенок чересчур возбужден, если жаждет поделиться чем-то, не отмахивайтесь, не откладывайте на потом, выслушайте, это не займет много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идите, что ребенок огорчен, но молчит, не допытывайтесь, пусть успокоится и расскажет с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е время для домашних занятий с ребенком с 15 до 17 часов - первая смена, с 9 до 11 часов – вторая смена. Занятия вечерами бесполезны, т.к. ребенок уже устал от насыщенного учебного д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ставляйте делать все задания в один присест, это должно занимать не больше 15-20 минут времени, и только после 20 минутного отдыха можно вернуться к зад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занятий с ребенком необходимы: спокойный тон, поддержка (“не волнуйся, все получится”, “давай разберемся вместе”, “я тебе помогу”), похвала (даже, если не очень получаетс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нии с ребенком старайтесь избегать условий: “Если ты сделаешь, то…”. Порой условия становятся невыполнимыми вне зависимости ребенка, и вы можете оказаться в очень сложной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внимательны к жалобам ребенка на головную боль, усталость, плохое состояние. Чаще всего это объективные показатели утомления, трудности учеб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йте ввиду, что все дети любят сказку перед сном, песенку, ласковые слова. Все это успокаивает их, помогает снять напряжение, спокойно уснуть. Старайтесь не вспоминать перед сном о неприятност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5" descr="http://im7-tub.yandex.net/i?id=183045314-0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4880" y="500040"/>
            <a:ext cx="14288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22147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Родителям о наказаниях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i-main-pic" descr="Картинка 31 из 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142920"/>
            <a:ext cx="1571400" cy="143028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61" descr="http://im7-tub.yandex.net/i?id=13909604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"/>
          <p:cNvSpPr/>
          <p:nvPr/>
        </p:nvSpPr>
        <p:spPr>
          <a:xfrm>
            <a:off x="785880" y="1500840"/>
            <a:ext cx="607212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епая ребенка, вы учите его бояться вас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я при детях худшие черты своего характера, вы показываете им плохой пример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е наказания требуют от родителей меньше всего ума и способностей, чем любые другие воспитательные меры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епки могут только утвердить, но не изменить поведение ребенка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шлепаете ребенка «под горячую руку», это означает, что вы хуже владеете собой, нежели требуете того от ребенка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дисциплинарной техники - изменить желания ребенка, а не только его поведение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часто наказание не исправляет поведение, а лишь преображает 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казания вынуждают ребенка опасаться потерять родительскую любовь. Он чувствует себя отверженным и начинает ревновать к брату или сестре, а порой и к родителям. У наказанного ребенка может возникнуть враждебное чувство к родителям. И едва в нем объединятся два чувства - любовь и ненависть, - как сразу возникнет конфликт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ые наказания побуждают ребенка оставаться инфантильным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ание может заставить ребенка привлекать внимание родителей любыми средствами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наказывать ребенка до 2,5-3 ле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заменить наказ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ением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амая большая добродетель, которая только может быть у родителей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ением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ясните ребенку, почему его поведение неправильно, но будьте предельно кратки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лечением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райтесь предложить вашему ребенку что-нибудь более привлекательное, чем то, что ему хоч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оропливостью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пешите наказывать сына или дочь - подождите, пока поступок повторится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дам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нце концов, они более эффективны, чем наказ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                                                 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ддержать самоценность ребе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условно, принимайте ребенка!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и заинтересованно выслушивайте рассказы о его переживаниях и потребностях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бывайте с ребенком (играйте, читайте, гуляйте и т.п.)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мешивайтесь в те его занятия, с которыми он справляется сам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йте, когда он просит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йте каждый успех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тесь своими чувствами, проявляя доверие к ребенку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о решайте конфликты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в повседневном общении приветливые фразы, ласковые слова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имайте ребенка не менее четырех раз в де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85960" y="1213920"/>
            <a:ext cx="39974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к привить интерес к чтению?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Рисунок 3" descr="http://im7-tub.yandex.net/i?id=17222749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0240" y="285840"/>
            <a:ext cx="1143000" cy="89064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61" descr="http://im7-tub.yandex.net/i?id=13909604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"/>
          <p:cNvSpPr/>
          <p:nvPr/>
        </p:nvSpPr>
        <p:spPr>
          <a:xfrm>
            <a:off x="785880" y="1981800"/>
            <a:ext cx="607212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дети видят, как вы сами читаете с удовольствием: цитируйте, смейтесь, заучивайте отрывки, делитесь прочитанным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череди читайте друг другу рассказы или смешные истории. Развлекайте себя сами вместо того, чтобы смотреть телевизор. Поощряйте дружбу ребенка с детьми, которые любят чит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ывайте, что вы цените чтение: покупайте книги, дарите их сами и получайте в качестве подар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дети сами выбирают себе книги и журналы (в библиотеке, книжном магазине и т.п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аще спрашивайте мнение детей о книгах, которые они читаю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ощряйте чтение любых материалов периодической печати: даже гороскопов, комиксов, обзоров телесериалов - пусть дети больше читаю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видном месте дома повесьте список, где будет отражен прогресс ребенка в чтении (сколько книг прочитано и за какой сро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оме должна быть детская библиотеч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ите дома специальное место для чтения (укромный уголок с полками и т.п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гадывайте с детьми кроссворды и дарите их и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ирайте книги на темы, которые вдохновят детей еще что-то прочитать об этом (например, книги о динозаврах или космических путешествиях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ям лучше читать короткие рассказы, а не большие произведения: тогда у них появляется ощущение законченности и удовлетв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ложите детям до или после просмотра фильма прочитать книгу, по которой поставлен филь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ощряйте чтение детей вслух, когда это только возможно, чтобы развить их навык и уверенность в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Рисунок 6" descr="http://im7-tub.yandex.net/i?id=199399354-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57760" y="5500800"/>
            <a:ext cx="7714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378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комендации родителям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 подготовке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машних заданий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Рисунок 3" descr="http://im6-tub.yandex.net/i?id=3936330-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61" descr="http://im7-tub.yandex.net/i?id=13909604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"/>
          <p:cNvSpPr/>
          <p:nvPr/>
        </p:nvSpPr>
        <p:spPr>
          <a:xfrm>
            <a:off x="785880" y="1202400"/>
            <a:ext cx="6072120" cy="68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ую важность имеет твердо установленное время начала занятий. Благодаря этому вырабатывается привычка, к назначенному часу появляется психологическая готовность и предрасположение к умственной работе, даже теряется интерес к игре, прогул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установке часа начала занятий необходимо определить разумное соотношение времени, отводимого на уроки, прогулки, домашние обязанности, чтобы одно не шло в ущерб друг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постоянное место для занятий, где все необходимые предме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ы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ходятся под рукой. Так вырабатывается привычка к внутренней мобилизации с момента начала занятий и до тех пор, пока не выработалось умение управлять своим поведением, рабочее место должно быть только местом для занятий (ни игр, ни картинок, ни игрушек, ни посторонних книг, ни цветных карандашей и фломастеров, если они не нужны для текущей рабо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нет возможности выделить постоянное отдельное место, то в определенный час должно быть безусловно выделено, освобождено место для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жное правило - начинать работу немедленно. Чем дольше оттягивается начало работы, тем большее усилие потребуется, чтобы заставить себя приступить к ней. У человека, который систематически начинает работу без промедления, период «втягивания» в работу короткий, дело идет быстрее и эффективнее, а учеба становится источником не только напряженного труда, но и источником удовлетв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наличие перерывов в работе. Нужны единство школьного и домашнего учебного режима, профилактика перегрузок. (Попросите ребёнка показать, какие физминутки он разучил в класс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должна идти в хорошем темпе – не более 1 часа во втором класс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льзя, чтобы у школьника не было других обязанностей, кроме учёбы. Человек, который в течение дня должен сделать много дел, привыкает ценить время, планировать работу, приступать к ней без проволо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ение ребенка к правильному режиму должно сочетаться с Вашей самодисциплиной, уважением к ребенку, доброжелательностью, заинтересованностью, разумной требовате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6" descr="http://im3-tub.yandex.net/i?id=29300535-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28960" y="8001000"/>
            <a:ext cx="1214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14360" y="479160"/>
            <a:ext cx="44146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к развивать читательский интерес у детей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4" name="Рисунок 3" descr="http://im7-tub.yandex.net/i?id=199399354-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357120"/>
            <a:ext cx="771840" cy="65736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61" descr="http://im7-tub.yandex.net/i?id=13909604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1"/>
          <p:cNvSpPr/>
          <p:nvPr/>
        </p:nvSpPr>
        <p:spPr>
          <a:xfrm>
            <a:off x="928800" y="1628280"/>
            <a:ext cx="550044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ивайте ребенку интерес к чтению с самого раннего де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упая книги, выбирайте книги яркие по оформлению и интересные по содерж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тически  читайте ребенку. Это сформирует у него привычку ежедневного общения с кни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суждайте прочитанную детскую книгу с членами своей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казывайте ребенку об авторе прочитанной кни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ы читаете ребенку книгу, старайтесь прервать чтение  на самом увлекательном эпиз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оминая с ребенком содержание ранее прочитанного, намеренно его искажайте, чтобы проверить, как он запомнил тек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омендуйте своему ребенку книги  своего детства, делитесь своими детскими впечатлениями от чтения той или иной книги, сопоставляйте ваши и его м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раивайте дома дискуссии по прочитанным книг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упайте по возможности книги полюбившихся ребенку авторов, оформляйте его личную библиоте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ывайте бережное отношение к книге, демонстрируя книжные реликвии своей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рите ребенку книги с дарственной надписью, теплыми пожеланиями. Спустя годы это станет счастливым напоминанием о родном доме, его традициях, дорогих и близких люд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Рисунок 5" descr="http://im5-tub.yandex.net/i?id=77395696-0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00800" y="5429160"/>
            <a:ext cx="81900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6" descr="http://im5-tub.yandex.net/i?id=77395696-0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57720" y="8286840"/>
            <a:ext cx="819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7:52:38Z</dcterms:created>
  <dc:creator>User</dc:creator>
  <dc:description/>
  <dc:language>en-US</dc:language>
  <cp:lastModifiedBy>фгос-8</cp:lastModifiedBy>
  <dcterms:modified xsi:type="dcterms:W3CDTF">2017-04-24T17:05:21Z</dcterms:modified>
  <cp:revision>109</cp:revision>
  <dc:subject/>
  <dc:title>Слайд 1</dc:title>
</cp:coreProperties>
</file>