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0BDF-8F8C-4614-BE05-9D6D000C1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F0E7-1FC7-4640-94FF-6A87474AD2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9D7E-3184-45E0-A4A1-EC5C28C995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1DEA-8CC1-4642-9EC6-84E71269F2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2669-5320-43D5-BF0E-5D9C6B0B87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8C06-4B98-4A61-B12A-2BCE01EF32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A664-1CD3-4E91-B090-683531A3BD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E130-A45D-48CE-A53F-B637A99779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1FF0-C9E5-4DCD-87A6-6263E08786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FBE-FB75-4BF8-9159-184D6B66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4AD-BFF2-4C85-A7CF-97775C11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7CD-7587-44B4-8CB9-7B6C95E9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39D-3D4F-4054-81A3-0ACC5DB4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964-7AA0-4F5E-B8C3-4DC96B94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C93-3E53-4632-8FA7-574EF3C6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8C9-0D37-4A3A-8DA6-5F875BE4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373-5214-40D2-94F4-F093A0CF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224-BC78-4012-A70D-5B85A9E3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F84-B820-4987-AFDF-8D11A7AD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86B-7E83-4229-9647-B4E3B2E3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B40-9FF7-4121-812D-3BDE3C48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626F-447A-4422-BEE9-A2640576B4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fc08d"/>
                </a:solidFill>
                <a:latin typeface="Arial"/>
              </a:rPr>
              <a:t>Тэффи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асто перечитываю ее книги. Конечно, была Тэффи большой писательницей, у которой смешное неизменно переплеталось с грустным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ндрей Сед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Далекие, близкие», Нью-Йорк,19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1256050923"/>
          <p:cNvPicPr/>
          <p:nvPr/>
        </p:nvPicPr>
        <p:blipFill>
          <a:blip r:embed="rId1"/>
          <a:stretch/>
        </p:blipFill>
        <p:spPr>
          <a:xfrm>
            <a:off x="0" y="0"/>
            <a:ext cx="3475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Псевдоним или фамилия?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эффи – псевдон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стоящая фамилия – Надежда Александровна Лохвиц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тория псевдонима рассказана самой писательницей в рассказе «Псевдони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35807"/>
          <p:cNvPicPr/>
          <p:nvPr/>
        </p:nvPicPr>
        <p:blipFill>
          <a:blip r:embed="rId1"/>
          <a:stretch/>
        </p:blipFill>
        <p:spPr>
          <a:xfrm>
            <a:off x="4788000" y="1557360"/>
            <a:ext cx="380988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Где родилась?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5" name="Picture 4" descr="092bf6b74cd6b2cf5d9c1da5b197a1fc"/>
          <p:cNvPicPr/>
          <p:nvPr/>
        </p:nvPicPr>
        <p:blipFill>
          <a:blip r:embed="rId1"/>
          <a:stretch/>
        </p:blipFill>
        <p:spPr>
          <a:xfrm rot="520200">
            <a:off x="4716000" y="3499920"/>
            <a:ext cx="3419640" cy="3094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Я родилась в Петербурге весной (это 24 апреля 1872 года), а, как известно, наша петербургская весна весьма переменчива: то сияет солнце, то идет дождь. Поэтому и у меня, как на фронтоне древнего греческого театра, два лица: смеющееся и плачуще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Надежда Александровна Лохвицкая"/>
          <p:cNvPicPr/>
          <p:nvPr/>
        </p:nvPicPr>
        <p:blipFill>
          <a:blip r:embed="rId2"/>
          <a:stretch/>
        </p:blipFill>
        <p:spPr>
          <a:xfrm rot="21171600">
            <a:off x="6659280" y="189000"/>
            <a:ext cx="22827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Тэффи говорит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Нежность – самый кроткий, робкий, божественный лик любв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Надо уметь жить, играя: игра скрашивает любые невзгод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092b9efa232fcf6c6ebf8bae5ba82600"/>
          <p:cNvPicPr/>
          <p:nvPr/>
        </p:nvPicPr>
        <p:blipFill>
          <a:blip r:embed="rId1"/>
          <a:stretch/>
        </p:blipFill>
        <p:spPr>
          <a:xfrm>
            <a:off x="684360" y="1268280"/>
            <a:ext cx="328752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Творчество Тэффи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мористические расска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тихи Тэффи часто становились романс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на любила напевать их под гита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л ее романсы Александр Вертин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втобиографическая про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Тэффи Н"/>
          <p:cNvPicPr/>
          <p:nvPr/>
        </p:nvPicPr>
        <p:blipFill>
          <a:blip r:embed="rId1"/>
          <a:stretch/>
        </p:blipFill>
        <p:spPr>
          <a:xfrm>
            <a:off x="5148360" y="1484280"/>
            <a:ext cx="3141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Зинаида Шаховская о ней…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Какая она была рассказчица, как умела она мимикой оживить рассказ, взять нужный акцент, воплощая то актрису, то девочку, то бабу, то шофера такси, говоря и за умного, и за глупого, и за бедного, и за богатого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Тэффи Надежда Александровна (1872-1952)"/>
          <p:cNvPicPr/>
          <p:nvPr/>
        </p:nvPicPr>
        <p:blipFill>
          <a:blip r:embed="rId1"/>
          <a:stretch/>
        </p:blipFill>
        <p:spPr>
          <a:xfrm>
            <a:off x="468360" y="1341360"/>
            <a:ext cx="3757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Значение Тэффи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920" y="1312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Большой мастер слова была Тэффи и горький знаток человека – зоркость редко дар радости, и спасибо ей за то, что, описывая соотечественников, она им же самим позволяла улыбнуться над собой, а не топила их суровым обличение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7" descr="teffi"/>
          <p:cNvPicPr/>
          <p:nvPr/>
        </p:nvPicPr>
        <p:blipFill>
          <a:blip r:embed="rId1"/>
          <a:stretch/>
        </p:blipFill>
        <p:spPr>
          <a:xfrm>
            <a:off x="395280" y="1312920"/>
            <a:ext cx="3772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мерти я не боюсь, но страдать надоело!»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грустно вздыхала Тэфф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мерла она в 1952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хоронена на русском  кладбищ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inte-Genevieve-des-Boi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под Париж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Надгробная плита"/>
          <p:cNvPicPr/>
          <p:nvPr/>
        </p:nvPicPr>
        <p:blipFill>
          <a:blip r:embed="rId1"/>
          <a:stretch/>
        </p:blipFill>
        <p:spPr>
          <a:xfrm>
            <a:off x="0" y="260280"/>
            <a:ext cx="462456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8:24:09Z</dcterms:created>
  <dc:creator>VERA</dc:creator>
  <dc:description/>
  <dc:language>en-US</dc:language>
  <cp:lastModifiedBy>Надежда</cp:lastModifiedBy>
  <dcterms:modified xsi:type="dcterms:W3CDTF">2017-04-24T09:11:22Z</dcterms:modified>
  <cp:revision>8</cp:revision>
  <dc:subject/>
  <dc:title>Тэффи</dc:title>
</cp:coreProperties>
</file>