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02C1-8942-469A-AED0-F3F45A49CE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56C9C-3FDB-4CC8-826E-9F6A8D36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2164C-682D-48C9-9F81-FDE36460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290D1-730F-4906-9FF2-0CF3F7115A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B1E29-0286-4E6E-8C30-4B9B0677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F01D7-5534-49F4-8B7A-46BC3FA0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7D54F-DDE2-4899-A5D5-8BF6D641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3E617-7611-41D2-98E9-04300360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D7E8B-1756-4646-8359-915070E1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437EA-4B05-42F2-BD16-3B10DC0F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D95A5-6828-4513-93B5-01C7D72B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7170E-A695-48E6-AB2A-715092DA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32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A624D6-1634-4BCC-9F18-8DA95FC6623B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1099800"/>
            <a:ext cx="849636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доровьесберегающие технологии в работе с детьми старшего дошкольного возрас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743080"/>
            <a:ext cx="5960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готовила:  Ахметзянова Н.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611280" y="1052640"/>
            <a:ext cx="813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ррекционные технологии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я музыкального воздействия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казкотерапия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ртикуляционная гимнастик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3924360" y="1052640"/>
            <a:ext cx="468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намические пауз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одятся во время непосредственно образовательной деятельности по мере утомляемости детей. Во время их проведения включаются элементы гимнастики для глаз, дыхательной, пальчиковой и других в зависимости от вида деятельност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2" descr="http://900igr.net/datai/doshkolnoe-obrazovanie/Ispolzovanie-zdorovesberegajuschikh-tekhnologij-v-DOU/0011-009-Dinamicheskie-pauzy.jpg"/>
          <p:cNvPicPr/>
          <p:nvPr/>
        </p:nvPicPr>
        <p:blipFill>
          <a:blip r:embed="rId1"/>
          <a:stretch/>
        </p:blipFill>
        <p:spPr>
          <a:xfrm>
            <a:off x="179280" y="1197000"/>
            <a:ext cx="3529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ilogoped.ru/pic-design/palchikovaja_gimnastika_foto/volk.JPG"/>
          <p:cNvPicPr/>
          <p:nvPr/>
        </p:nvPicPr>
        <p:blipFill>
          <a:blip r:embed="rId1"/>
          <a:stretch/>
        </p:blipFill>
        <p:spPr>
          <a:xfrm>
            <a:off x="250920" y="1125360"/>
            <a:ext cx="3168720" cy="48247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3492360" y="1052640"/>
            <a:ext cx="540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льчиковая гимнасти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одится индивидуально, либо с подгруппой детей ежедневно. Тренирует мелкую моторику, стимулирует речь, пространственное мышление, внимание, кровообращение, воображение, быстроту реакции. Полезна всем детям, но особенно с речевыми проблемами. Проводится в любой удобный отрезок времен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2madou.ru/sites/default/files/field/image/21.jpg"/>
          <p:cNvPicPr/>
          <p:nvPr/>
        </p:nvPicPr>
        <p:blipFill>
          <a:blip r:embed="rId1"/>
          <a:stretch/>
        </p:blipFill>
        <p:spPr>
          <a:xfrm>
            <a:off x="179280" y="981000"/>
            <a:ext cx="3600720" cy="5472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3851280" y="907920"/>
            <a:ext cx="511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момассаж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это массаж, выполняемый самим ребенком. Он улучшает кровообращение, помогает нормализовать работу внутренних органов, способствует не только физическому укреплению здоровья, но и оздоровлению его психики. Самомассаж проводится в игровой форме. Веселые стихи, яркие образы, обыгрывающие массажные движения, их простота, доступность, возможность использования в различной обстановке делают его для ребенка доступным и интересны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539640" y="119700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в работе ДОУ здоровье сберегающих технологий повышает результативность воспитательно-образовательного процесса, формирует у педагогов и родителей ценностные ориентации, направленные на сохранение и укрепление здоровья воспитанников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332000" y="1988640"/>
            <a:ext cx="6896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"/>
          <p:cNvPicPr/>
          <p:nvPr/>
        </p:nvPicPr>
        <p:blipFill>
          <a:blip r:embed="rId1"/>
          <a:stretch/>
        </p:blipFill>
        <p:spPr>
          <a:xfrm>
            <a:off x="406440" y="1074600"/>
            <a:ext cx="832968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5"/>
          <p:cNvSpPr/>
          <p:nvPr/>
        </p:nvSpPr>
        <p:spPr>
          <a:xfrm>
            <a:off x="457200" y="62064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бный анализ заболеваемости воспитанников Д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15-2016 учебный перио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Диаграмма 2" descr=""/>
          <p:cNvPicPr/>
          <p:nvPr/>
        </p:nvPicPr>
        <p:blipFill>
          <a:blip r:embed="rId1"/>
          <a:stretch/>
        </p:blipFill>
        <p:spPr>
          <a:xfrm>
            <a:off x="103320" y="2054160"/>
            <a:ext cx="87962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39640" y="2492280"/>
            <a:ext cx="7624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хочешь воспитать своего ребенка здоровым, сам иди по пути здоровья, иначе его некуда будет вести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5508720" y="4508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А.Сухомлински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250920" y="1125360"/>
            <a:ext cx="8208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доровьесберегающие технологии-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 целостная система воспитательно- оздоровительных, коррекционных и профилактических мер которые осуществляются в процессе взаимодействия: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ребёнка и педагог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ребёнка и родителей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ребёнка и доктора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79280" y="1109160"/>
            <a:ext cx="8569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ь здоровьесберегающих, образовательных технологий: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обеспечить дошкольнику возможность сохранения здоровь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формировать у него необходимые знания, умения и навыки по ЗОЖ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учить использовать полученные знания в повседневной жизни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324000" y="1234440"/>
            <a:ext cx="820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доровьесберегающие технологии: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и сохранения и стимулирования здоровья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и обучения здоровому образу жизни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ррекционные технолог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2"/>
          <p:cNvSpPr/>
          <p:nvPr/>
        </p:nvSpPr>
        <p:spPr>
          <a:xfrm>
            <a:off x="179280" y="836640"/>
            <a:ext cx="8280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хнологии сохранения и стимулирования здоровья: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инамические паузы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вижные и спортивные игры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лаксация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льчиковая гимнастик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имнастика для глаз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ыхательная гимнастик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имнастика бодряща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324000" y="1197000"/>
            <a:ext cx="8135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хнология обучения здоровому образу жизни: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тренняя гимнастик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зкультурные занятия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нятия из серии «Азбука здоровья»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амомассаж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ктивный отдых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4T05:54:29Z</dcterms:created>
  <dc:creator>Adminin</dc:creator>
  <dc:description/>
  <dc:language>en-US</dc:language>
  <cp:lastModifiedBy>Admin</cp:lastModifiedBy>
  <dcterms:modified xsi:type="dcterms:W3CDTF">2017-05-04T16:18:53Z</dcterms:modified>
  <cp:revision>119</cp:revision>
  <dc:subject/>
  <dc:title>Лунева Наталья Николаевна</dc:title>
</cp:coreProperties>
</file>