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4258-5AAD-442C-86E5-AB3B0BD50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A9FD-DD37-4B09-B728-BA43F0EC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12CC-3BF6-4723-B01B-552CECE8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E28A-5936-42E3-918F-9C46380F0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7648-D101-4F48-B481-BD626F73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8574-0A26-40ED-A20D-79415C9C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FAEC-B4C0-4844-85C4-393F0EB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1C5F-DEC2-49FA-A671-A304C32C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F482-D144-4B3B-929E-B0E51DF4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36D9-D9F9-4183-9FE2-97C95AF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ABD9-2579-406A-B489-0823047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AC06-9989-4BDF-AB15-EA4E4474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2A2CF4-136D-441F-9783-19DEE7372CA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99800"/>
            <a:ext cx="84963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 в работе с детьми старшего дошкольного возрас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43080"/>
            <a:ext cx="5960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ила:  Ахметзянова Н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611280" y="105264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ррекционные технологии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музыкального воздейств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азкотерап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тикуляционная гимнасти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24360" y="1052640"/>
            <a:ext cx="46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во время непосредственно образовательной деятельности по мере утомляемости детей. Во время их проведения включаются элементы гимнастики для глаз, дыхательной, пальчиковой и других в зависимости от вида деятельн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900igr.net/datai/doshkolnoe-obrazovanie/Ispolzovanie-zdorovesberegajuschikh-tekhnologij-v-DOU/0011-009-Dinamicheskie-pauzy.jpg"/>
          <p:cNvPicPr/>
          <p:nvPr/>
        </p:nvPicPr>
        <p:blipFill>
          <a:blip r:embed="rId1"/>
          <a:stretch/>
        </p:blipFill>
        <p:spPr>
          <a:xfrm>
            <a:off x="179280" y="1197000"/>
            <a:ext cx="352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ilogoped.ru/pic-design/palchikovaja_gimnastika_foto/volk.JPG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4824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492360" y="1052640"/>
            <a:ext cx="54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ится индивидуально, либо с подгруппой детей ежедневно. Тренирует мелкую моторику, стимулирует речь, пространственное мышление, внимание, кровообращение, воображение, быстроту реакции. Полезна всем детям, но особенно с речевыми проблемами. Проводится в любой удобный отрезок време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2madou.ru/sites/default/files/field/image/21.jpg"/>
          <p:cNvPicPr/>
          <p:nvPr/>
        </p:nvPicPr>
        <p:blipFill>
          <a:blip r:embed="rId1"/>
          <a:stretch/>
        </p:blipFill>
        <p:spPr>
          <a:xfrm>
            <a:off x="179280" y="981000"/>
            <a:ext cx="3600720" cy="5472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851280" y="907920"/>
            <a:ext cx="51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массаж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это массаж, выполняемый самим ребенком. Он улучшает кровообращение, помогает нормализовать работу внутренних органов, способствует не только физическому укреплению здоровья, но и оздоровлению его психики. Самомассаж проводится в игровой форме. Веселые стихи, яркие образы, обыгрывающие массажные движения, их простота, доступность, возможность использования в различной обстановке делают его для ребенка доступным и интересны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работе ДОУ здоровье сберегающих технологий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32000" y="1988640"/>
            <a:ext cx="6896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406440" y="1074600"/>
            <a:ext cx="83296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5"/>
          <p:cNvSpPr/>
          <p:nvPr/>
        </p:nvSpPr>
        <p:spPr>
          <a:xfrm>
            <a:off x="457200" y="62064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 анализ заболеваемости воспитанников 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5-2016 учебный пери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Диаграмма 2" descr=""/>
          <p:cNvPicPr/>
          <p:nvPr/>
        </p:nvPicPr>
        <p:blipFill>
          <a:blip r:embed="rId1"/>
          <a:stretch/>
        </p:blipFill>
        <p:spPr>
          <a:xfrm>
            <a:off x="103320" y="2054160"/>
            <a:ext cx="87962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7624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хочешь воспитать своего ребенка здоровым, сам иди по пути здоровья, иначе его некуда будет вести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508720" y="450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50920" y="1125360"/>
            <a:ext cx="820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целостная система воспитательно- оздоровительных, коррекционных и профилактических мер которые осуществляются в процессе взаимодействия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педагог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родителе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ребёнка и доктор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9280" y="1109160"/>
            <a:ext cx="8569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здоровьесберегающих, образовательных технологий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обеспечить дошкольнику возможность сохранения здоровь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формировать у него необходимые знания, умения и навыки по ЗОЖ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ить использовать полученные знания в повседневной жизн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24000" y="1234440"/>
            <a:ext cx="820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и сохранения и стимулирования здоровь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и обучения здоровому образу жизн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екционные технолог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79280" y="836640"/>
            <a:ext cx="828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ологии сохранения и стимулирования здоровья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намические пауз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ижные и спортивные игры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лаксац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льчикова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мнастика для глаз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ыхательна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мнастика бодряща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324000" y="1197000"/>
            <a:ext cx="813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ология обучения здоровому образу жизни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тренняя гимнастик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культурные заняти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нятия из серии «Азбука здоровья»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момассаж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ивный отдых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05:54:29Z</dcterms:created>
  <dc:creator>Adminin</dc:creator>
  <dc:description/>
  <dc:language>en-US</dc:language>
  <cp:lastModifiedBy>Admin</cp:lastModifiedBy>
  <dcterms:modified xsi:type="dcterms:W3CDTF">2017-05-04T16:18:53Z</dcterms:modified>
  <cp:revision>119</cp:revision>
  <dc:subject/>
  <dc:title>Лунева Наталья Николаевна</dc:title>
</cp:coreProperties>
</file>