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4595-7A6B-46D0-8D15-5709C2559B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DE0D-0ECF-4C3C-A56D-087DC06F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516D-1C30-4CD7-A716-D416AFE3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0FA5-2C8C-44E4-8B01-C0B8C7EA2C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D71E-24B9-4A03-8CB2-8250791A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C825-D370-4384-8B3D-D7666D99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9741-1092-45EA-9429-04C53327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F60A-9C52-400C-BAAE-88CE7CE0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9896-959C-4A7D-ADE0-271B8F11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936A-D21C-4D3B-B85D-C169B55E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F56F-9E0E-4FCE-B14C-8E5D86A2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BDAC-AB55-477E-B1FF-7C1B93E6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B70EF8-C434-47DF-A49C-FB3832808FF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099800"/>
            <a:ext cx="84963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 в работе с детьми старшего дошкольного возрас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43080"/>
            <a:ext cx="5960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готовила:  Ахметзянова Н.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611280" y="105264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ррекционные технологии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 музыкального воздейств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азкотерап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ртикуляционная гимнасти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924360" y="1052640"/>
            <a:ext cx="468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намические пауз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ятся во время непосредственно образовательной деятельности по мере утомляемости детей. Во время их проведения включаются элементы гимнастики для глаз, дыхательной, пальчиковой и других в зависимости от вида деятельнос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http://900igr.net/datai/doshkolnoe-obrazovanie/Ispolzovanie-zdorovesberegajuschikh-tekhnologij-v-DOU/0011-009-Dinamicheskie-pauzy.jpg"/>
          <p:cNvPicPr/>
          <p:nvPr/>
        </p:nvPicPr>
        <p:blipFill>
          <a:blip r:embed="rId1"/>
          <a:stretch/>
        </p:blipFill>
        <p:spPr>
          <a:xfrm>
            <a:off x="179280" y="1197000"/>
            <a:ext cx="3529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ilogoped.ru/pic-design/palchikovaja_gimnastika_foto/volk.JPG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48247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492360" y="1052640"/>
            <a:ext cx="540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льчиковая гимнасти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ится индивидуально, либо с подгруппой детей ежедневно. Тренирует мелкую моторику, стимулирует речь, пространственное мышление, внимание, кровообращение, воображение, быстроту реакции. Полезна всем детям, но особенно с речевыми проблемами. Проводится в любой удобный отрезок време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2madou.ru/sites/default/files/field/image/21.jpg"/>
          <p:cNvPicPr/>
          <p:nvPr/>
        </p:nvPicPr>
        <p:blipFill>
          <a:blip r:embed="rId1"/>
          <a:stretch/>
        </p:blipFill>
        <p:spPr>
          <a:xfrm>
            <a:off x="179280" y="981000"/>
            <a:ext cx="3600720" cy="5472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3851280" y="907920"/>
            <a:ext cx="511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массаж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это массаж, выполняемый самим ребенком. Он улучшает кровообращение, помогает нормализовать работу внутренних органов, способствует не только физическому укреплению здоровья, но и оздоровлению его психики. Самомассаж проводится в игровой форме. Веселые стихи, яркие образы, обыгрывающие массажные движения, их простота, доступность, возможность использования в различной обстановке делают его для ребенка доступным и интересны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39640" y="1197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в работе ДОУ здоровье сберегающих технологий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32000" y="1988640"/>
            <a:ext cx="6896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406440" y="1074600"/>
            <a:ext cx="83296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5"/>
          <p:cNvSpPr/>
          <p:nvPr/>
        </p:nvSpPr>
        <p:spPr>
          <a:xfrm>
            <a:off x="457200" y="62064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ый анализ заболеваемости воспитанников 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5-2016 учебный пери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Диаграмма 2" descr=""/>
          <p:cNvPicPr/>
          <p:nvPr/>
        </p:nvPicPr>
        <p:blipFill>
          <a:blip r:embed="rId1"/>
          <a:stretch/>
        </p:blipFill>
        <p:spPr>
          <a:xfrm>
            <a:off x="103320" y="2054160"/>
            <a:ext cx="87962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7624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хочешь воспитать своего ребенка здоровым, сам иди по пути здоровья, иначе его некуда будет вести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508720" y="4508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250920" y="1125360"/>
            <a:ext cx="820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целостная система воспитательно- оздоровительных, коррекционных и профилактических мер которые осуществляются в процессе взаимодействия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ребёнка и педагог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ребёнка и родителе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ребёнка и доктор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79280" y="1109160"/>
            <a:ext cx="8569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 здоровьесберегающих, образовательных технологий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обеспечить дошкольнику возможность сохранения здоровь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формировать у него необходимые знания, умения и навыки по ЗОЖ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учить использовать полученные знания в повседневной жизн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24000" y="1234440"/>
            <a:ext cx="820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и сохранения и стимулирования здоровь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и обучения здоровому образу жизни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рекционные технолог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179280" y="836640"/>
            <a:ext cx="8280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ологии сохранения и стимулирования здоровья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намические паузы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вижные и спортивные игры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лаксац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льчиковая гимнастик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мнастика для глаз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ыхательная гимнастик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мнастика бодряща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324000" y="1197000"/>
            <a:ext cx="8135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ология обучения здоровому образу жизни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тренняя гимнастик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культурные занят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нятия из серии «Азбука здоровья»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момассаж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ивный отдых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05:54:29Z</dcterms:created>
  <dc:creator>Adminin</dc:creator>
  <dc:description/>
  <dc:language>en-US</dc:language>
  <cp:lastModifiedBy>Admin</cp:lastModifiedBy>
  <dcterms:modified xsi:type="dcterms:W3CDTF">2017-05-04T16:18:53Z</dcterms:modified>
  <cp:revision>119</cp:revision>
  <dc:subject/>
  <dc:title>Лунева Наталья Николаевна</dc:title>
</cp:coreProperties>
</file>