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E19-C6F6-48EF-8B4A-9B6933BB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A26-6391-416E-B63B-860974F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46C-BFD4-4880-8DB7-C6D99489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71C-14BF-4886-A8C4-ADDC3B11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12D7-8753-41BA-8769-18A51B80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5A9F-BC18-450B-AE8B-8CFDFCB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5C13-7C50-4931-840C-522DB39F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8C0D-CD41-4B22-A158-2A768AE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DC2-4ABB-42D7-82C9-4E270EBA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943-9590-472B-8504-D2A7F438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7721-22A7-4DF1-9D31-8F2279D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7D2-3358-4FF2-92A2-4224E7F1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A0C0-7B83-45C5-8E9C-D8E498F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CCB3-52A0-4231-9222-64B0ABF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25C-235F-4CD0-8799-CF7AD7F0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A386-66BA-4327-8BE7-85861ADC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DE27-A86B-424A-A76F-7C22C935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329-98FE-424F-8355-A4E524F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4ED-9B02-4CEB-B967-3029619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F01-7EB4-4FAD-BA8A-0450B36D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4B9-C707-4A54-87CE-BA35DD9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C42-8FD4-49AC-A9C1-FC1BA82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259-FF58-4FAB-AB4A-9053411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999-7D11-4875-8081-8B420F5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6993-ED15-44E9-838A-B0A16B09A4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7E9-9696-4642-9DD8-563BCDD8CB5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тчет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 развивающей среде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подготовительной группе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76720" y="5444640"/>
            <a:ext cx="427176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СПИТАТЕЛИ:     Лебедева О.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триженова Р.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я предметно-пространственной  развивающей среды в подготовительной группе построена таким образом, что дает возможность эффективно развивать индивидуальность каждого ребенка с учетом его  интересов и уровня актив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 ПРАВИЛА                   ДОРОЖНОГО ДВИЖ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6084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голок ПДД оснащен необходимыми атрибутами  к сюжетно-ролевым играм, занятиям для закрепления знаний правил дорожного движ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7" descr="DSC07711"/>
          <p:cNvPicPr/>
          <p:nvPr/>
        </p:nvPicPr>
        <p:blipFill>
          <a:blip r:embed="rId2"/>
          <a:stretch/>
        </p:blipFill>
        <p:spPr>
          <a:xfrm>
            <a:off x="4272120" y="1598760"/>
            <a:ext cx="3138480" cy="2171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DSC07712"/>
          <p:cNvPicPr/>
          <p:nvPr/>
        </p:nvPicPr>
        <p:blipFill>
          <a:blip r:embed="rId3"/>
          <a:stretch/>
        </p:blipFill>
        <p:spPr>
          <a:xfrm>
            <a:off x="5094360" y="3922560"/>
            <a:ext cx="1493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Игровая зона оснащена уголками  (семья, больница, магазин, парикмахерская) и атрибутами для сюжетно-ролевых игр.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DSC07713"/>
          <p:cNvPicPr/>
          <p:nvPr/>
        </p:nvPicPr>
        <p:blipFill>
          <a:blip r:embed="rId1"/>
          <a:stretch/>
        </p:blipFill>
        <p:spPr>
          <a:xfrm>
            <a:off x="4716360" y="4076640"/>
            <a:ext cx="1798920" cy="2171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DSC07707"/>
          <p:cNvPicPr/>
          <p:nvPr/>
        </p:nvPicPr>
        <p:blipFill>
          <a:blip r:embed="rId2"/>
          <a:stretch/>
        </p:blipFill>
        <p:spPr>
          <a:xfrm>
            <a:off x="4356000" y="1557360"/>
            <a:ext cx="2897280" cy="2173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DSC07714"/>
          <p:cNvPicPr/>
          <p:nvPr/>
        </p:nvPicPr>
        <p:blipFill>
          <a:blip r:embed="rId3"/>
          <a:stretch/>
        </p:blipFill>
        <p:spPr>
          <a:xfrm>
            <a:off x="479520" y="1598760"/>
            <a:ext cx="3184560" cy="217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DSC07717"/>
          <p:cNvPicPr/>
          <p:nvPr/>
        </p:nvPicPr>
        <p:blipFill>
          <a:blip r:embed="rId4"/>
          <a:stretch/>
        </p:blipFill>
        <p:spPr>
          <a:xfrm>
            <a:off x="900000" y="4005360"/>
            <a:ext cx="1903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ИНИ БИБЛИОТЕ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ини библиотека расположена на стеллаже. Здесь представлены книги в соответствии с программой – на одной полке авторские книги, на второй произведения устного народного творчества, загадки, на третьей дидактические и настольные игры по развитию речи. Так же представлены портреты авторов (поэтов и писателей).  Все книги, иллюстрации и игры обновляются 1-2 раза в месяц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10" descr="DSC07834"/>
          <p:cNvPicPr/>
          <p:nvPr/>
        </p:nvPicPr>
        <p:blipFill>
          <a:blip r:embed="rId2"/>
          <a:stretch/>
        </p:blipFill>
        <p:spPr>
          <a:xfrm>
            <a:off x="4484520" y="2038320"/>
            <a:ext cx="27133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ТВОРЧЕ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уголке творчества имеется широкий спектр изобразительных материалов для формирования творческого потенциала детей, развития интереса к изодеятельности, формированию эстетического восприятия, воображения, художественно-творческих способностей, самостоятельности, актив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6" descr="DSC07705"/>
          <p:cNvPicPr/>
          <p:nvPr/>
        </p:nvPicPr>
        <p:blipFill>
          <a:blip r:embed="rId2"/>
          <a:stretch/>
        </p:blipFill>
        <p:spPr>
          <a:xfrm>
            <a:off x="4032360" y="2421000"/>
            <a:ext cx="3617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ИРОДЫ И ЭКСПЕРИМЕНТИР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8" descr="DSC07682"/>
          <p:cNvPicPr/>
          <p:nvPr/>
        </p:nvPicPr>
        <p:blipFill>
          <a:blip r:embed="rId1"/>
          <a:stretch/>
        </p:blipFill>
        <p:spPr>
          <a:xfrm>
            <a:off x="179280" y="1768320"/>
            <a:ext cx="2808360" cy="1887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DSC07718"/>
          <p:cNvPicPr/>
          <p:nvPr/>
        </p:nvPicPr>
        <p:blipFill>
          <a:blip r:embed="rId2"/>
          <a:stretch/>
        </p:blipFill>
        <p:spPr>
          <a:xfrm>
            <a:off x="4067280" y="17002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DSC07720"/>
          <p:cNvPicPr/>
          <p:nvPr/>
        </p:nvPicPr>
        <p:blipFill>
          <a:blip r:embed="rId3"/>
          <a:stretch/>
        </p:blipFill>
        <p:spPr>
          <a:xfrm>
            <a:off x="826920" y="414972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DSC07721"/>
          <p:cNvPicPr/>
          <p:nvPr/>
        </p:nvPicPr>
        <p:blipFill>
          <a:blip r:embed="rId4"/>
          <a:stretch/>
        </p:blipFill>
        <p:spPr>
          <a:xfrm>
            <a:off x="4716360" y="429264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ГОЛОК МУЗЫКАЛЬНОГО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уголке имеются различные музыкальные инструменты, создана фонотека, в которой находятся записи классической и народной музыки, звуки природы, а так же  различные музыкальные сказ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7" descr="DSC07801"/>
          <p:cNvPicPr/>
          <p:nvPr/>
        </p:nvPicPr>
        <p:blipFill>
          <a:blip r:embed="rId2"/>
          <a:stretch/>
        </p:blipFill>
        <p:spPr>
          <a:xfrm>
            <a:off x="4484520" y="2038320"/>
            <a:ext cx="27133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6:47:20Z</dcterms:created>
  <dc:creator>Анна</dc:creator>
  <dc:description/>
  <dc:language>en-US</dc:language>
  <cp:lastModifiedBy>Саша</cp:lastModifiedBy>
  <dcterms:modified xsi:type="dcterms:W3CDTF">2017-05-09T16:05:33Z</dcterms:modified>
  <cp:revision>20</cp:revision>
  <dc:subject/>
  <dc:title>Слайд 1</dc:title>
</cp:coreProperties>
</file>