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191-61FD-4B53-B398-0CB883F0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B14-4986-40CF-A498-487FF7B9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B18-868A-4407-B756-D9E90EB7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1A1-7788-4872-8E0D-5FBD5062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8030-D725-495C-BB7F-6C531A28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03EB-BDFE-41D0-A38C-4F89CBFB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5092-A6AD-404C-8E72-BD270C55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DFC5-AAA6-4297-9D65-4DD895E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832A-423A-4D66-9AA3-A580B1AA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CAD3-171F-4173-AAF4-4E0E4F2F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5549-7176-4324-8E9F-1E11D868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64F-DE8C-4CF0-A50E-87BB43CC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AF47-030C-40A1-9BFF-A67BE47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C22E-4CE5-45C9-9095-26EC344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66F6-AA21-474D-91B6-EA6D513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6178-4D8A-4BA1-8A7A-BDAAAF04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EE32-E798-4AB4-9BB4-DBDB05D0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C52-674F-49AD-B322-9D384F2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C5A-594E-47F4-ACCF-4E975FB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FD1-D702-4EE8-9BB0-33298B00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312-B4D4-4FA3-88CD-D5340E0E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ACC-75A2-4393-84C0-85A86B6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DD8-3ECC-4C61-9A88-7933667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0B6-67F5-409C-A182-20BA6AAB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3B3-D001-488C-BE81-7A263D24C3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B3D1-4A05-4D9F-A1EA-F53BC46A1B7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тчет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 развивающей среде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подготовительной группе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76720" y="5444640"/>
            <a:ext cx="427176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СПИТАТЕЛИ:     Лебедева О.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триженова Р.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я предметно-пространственной  развивающей среды в подготовительной группе построена таким образом, что дает возможность эффективно развивать индивидуальность каждого ребенка с учетом его  интересов и уровня актив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 ПРАВИЛА                   ДОРОЖНОГО ДВИЖ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6084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голок ПДД оснащен необходимыми атрибутами  к сюжетно-ролевым играм, занятиям для закрепления знаний правил дорожного движ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7" descr="DSC07711"/>
          <p:cNvPicPr/>
          <p:nvPr/>
        </p:nvPicPr>
        <p:blipFill>
          <a:blip r:embed="rId2"/>
          <a:stretch/>
        </p:blipFill>
        <p:spPr>
          <a:xfrm>
            <a:off x="4272120" y="1598760"/>
            <a:ext cx="3138480" cy="2171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DSC07712"/>
          <p:cNvPicPr/>
          <p:nvPr/>
        </p:nvPicPr>
        <p:blipFill>
          <a:blip r:embed="rId3"/>
          <a:stretch/>
        </p:blipFill>
        <p:spPr>
          <a:xfrm>
            <a:off x="5094360" y="3922560"/>
            <a:ext cx="1493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Игровая зона оснащена уголками  (семья, больница, магазин, парикмахерская) и атрибутами для сюжетно-ролевых игр.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DSC07713"/>
          <p:cNvPicPr/>
          <p:nvPr/>
        </p:nvPicPr>
        <p:blipFill>
          <a:blip r:embed="rId1"/>
          <a:stretch/>
        </p:blipFill>
        <p:spPr>
          <a:xfrm>
            <a:off x="4716360" y="4076640"/>
            <a:ext cx="1798920" cy="2171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DSC07707"/>
          <p:cNvPicPr/>
          <p:nvPr/>
        </p:nvPicPr>
        <p:blipFill>
          <a:blip r:embed="rId2"/>
          <a:stretch/>
        </p:blipFill>
        <p:spPr>
          <a:xfrm>
            <a:off x="4356000" y="1557360"/>
            <a:ext cx="2897280" cy="2173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DSC07714"/>
          <p:cNvPicPr/>
          <p:nvPr/>
        </p:nvPicPr>
        <p:blipFill>
          <a:blip r:embed="rId3"/>
          <a:stretch/>
        </p:blipFill>
        <p:spPr>
          <a:xfrm>
            <a:off x="479520" y="1598760"/>
            <a:ext cx="3184560" cy="217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DSC07717"/>
          <p:cNvPicPr/>
          <p:nvPr/>
        </p:nvPicPr>
        <p:blipFill>
          <a:blip r:embed="rId4"/>
          <a:stretch/>
        </p:blipFill>
        <p:spPr>
          <a:xfrm>
            <a:off x="900000" y="4005360"/>
            <a:ext cx="1903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ИНИ БИБЛИОТЕ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ини библиотека расположена на стеллаже. Здесь представлены книги в соответствии с программой – на одной полке авторские книги, на второй произведения устного народного творчества, загадки, на третьей дидактические и настольные игры по развитию речи. Так же представлены портреты авторов (поэтов и писателей).  Все книги, иллюстрации и игры обновляются 1-2 раза в месяц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10" descr="DSC07834"/>
          <p:cNvPicPr/>
          <p:nvPr/>
        </p:nvPicPr>
        <p:blipFill>
          <a:blip r:embed="rId2"/>
          <a:stretch/>
        </p:blipFill>
        <p:spPr>
          <a:xfrm>
            <a:off x="4484520" y="2038320"/>
            <a:ext cx="27133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ТВОРЧЕ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уголке творчества имеется широкий спектр изобразительных материалов для формирования творческого потенциала детей, развития интереса к изодеятельности, формированию эстетического восприятия, воображения, художественно-творческих способностей, самостоятельности, актив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6" descr="DSC07705"/>
          <p:cNvPicPr/>
          <p:nvPr/>
        </p:nvPicPr>
        <p:blipFill>
          <a:blip r:embed="rId2"/>
          <a:stretch/>
        </p:blipFill>
        <p:spPr>
          <a:xfrm>
            <a:off x="4032360" y="2421000"/>
            <a:ext cx="3617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ИРОДЫ И ЭКСПЕРИМЕНТИР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8" descr="DSC07682"/>
          <p:cNvPicPr/>
          <p:nvPr/>
        </p:nvPicPr>
        <p:blipFill>
          <a:blip r:embed="rId1"/>
          <a:stretch/>
        </p:blipFill>
        <p:spPr>
          <a:xfrm>
            <a:off x="179280" y="1768320"/>
            <a:ext cx="2808360" cy="1887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DSC07718"/>
          <p:cNvPicPr/>
          <p:nvPr/>
        </p:nvPicPr>
        <p:blipFill>
          <a:blip r:embed="rId2"/>
          <a:stretch/>
        </p:blipFill>
        <p:spPr>
          <a:xfrm>
            <a:off x="4067280" y="17002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DSC07720"/>
          <p:cNvPicPr/>
          <p:nvPr/>
        </p:nvPicPr>
        <p:blipFill>
          <a:blip r:embed="rId3"/>
          <a:stretch/>
        </p:blipFill>
        <p:spPr>
          <a:xfrm>
            <a:off x="826920" y="414972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DSC07721"/>
          <p:cNvPicPr/>
          <p:nvPr/>
        </p:nvPicPr>
        <p:blipFill>
          <a:blip r:embed="rId4"/>
          <a:stretch/>
        </p:blipFill>
        <p:spPr>
          <a:xfrm>
            <a:off x="4716360" y="429264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МУЗЫКАЛЬНОГО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уголке имеются различные музыкальные инструменты, создана фонотека, в которой находятся записи классической и народной музыки, звуки природы, а так же  различные музыкальные сказ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7" descr="DSC07801"/>
          <p:cNvPicPr/>
          <p:nvPr/>
        </p:nvPicPr>
        <p:blipFill>
          <a:blip r:embed="rId2"/>
          <a:stretch/>
        </p:blipFill>
        <p:spPr>
          <a:xfrm>
            <a:off x="4484520" y="2038320"/>
            <a:ext cx="27133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6:47:20Z</dcterms:created>
  <dc:creator>Анна</dc:creator>
  <dc:description/>
  <dc:language>en-US</dc:language>
  <cp:lastModifiedBy>Саша</cp:lastModifiedBy>
  <dcterms:modified xsi:type="dcterms:W3CDTF">2017-05-09T16:05:33Z</dcterms:modified>
  <cp:revision>20</cp:revision>
  <dc:subject/>
  <dc:title>Слайд 1</dc:title>
</cp:coreProperties>
</file>