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0423-321B-4D49-A186-F6C5C21D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D1B-BD7B-4453-955D-A806C690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18D-3ED5-4DDE-9996-DD822042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883-D34D-4011-A421-219189BE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05C0-14A7-4002-A600-0DF80958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7886-4F08-4725-95D6-A90E6B47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4A2E-0E90-4AAE-8291-BC4AFD07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3411-63C9-4846-B58A-E7D54802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8618-8AD8-409B-A421-A7E32B90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DC35-21C9-4E6A-9A91-C8F1F06D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9922-AE69-4AF2-87A5-802A9112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0D4-DDD7-4849-9A9F-6C99C6C3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C8ED-2CEE-446F-949C-2FDB2716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E650-B09F-447D-8880-F5F84506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0686-ADE1-4118-9CA9-19A79940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B779-A4C3-4E2E-A2AF-AA6202C4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87A5-08F6-40DF-A259-4CCC2C23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CC3BF-EA9C-401F-883E-1D7E2E44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468A-63B7-4783-A829-011BF1B4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E37D2-3EA9-499D-B843-76B6B2AE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1D827-36FE-4CD0-ACD1-7DA02F92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B4CE-7A73-42CB-8B1F-9FBA94B1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14B-238E-4662-ABCA-D76931EB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7BC80-C2D8-4E11-974B-6DED8A27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DB0C5-4B29-4B6B-96DC-B38EF607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E20FC-FC9E-46AA-8690-6A5B5FCD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C86D0-5117-4D1E-833E-6F8134D3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8E074-7F84-40E0-9C8D-97109467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BCBC5-47C8-48EA-A88B-30689138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B4306-D00A-4D6E-A05D-BBD89BE0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B79F0-0890-463E-BDAD-012A3790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298EC-585D-4470-8E0D-C5FE587B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6758E-83B7-43FC-92B7-01332B39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88A-6728-4B22-9158-3DCD6217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49608-B6E5-4A4E-9E08-EE4D33D4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A239-C83F-4714-B258-62BA0D57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DB8C6-B188-427B-9931-7280BF46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42A3C-5B51-47DB-BFC6-6A9F4359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6C495-B374-4F2F-98A2-338EB707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45CAF-893B-4235-892C-6108E394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5E89-10DD-46A5-9B4F-BD4DF376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888D2-7400-456E-93AB-CA237B2F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21088-EA7C-4306-A2C2-E73FEBDF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6A4-330A-4D16-843A-9E2195A6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0F7A-0DE3-4B58-A2D9-2BDF2CE8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9D2-3488-498A-A139-269A3A3E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FA7-7897-4394-A745-3C78427F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6AD-8D1C-467A-A107-7FCA14B9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C3F4-5D51-4FB6-A3EB-CF22B0F783E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E6B8-CF7A-4404-842F-846E862F0B0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1041-D210-4CC1-8D10-47BC0AF0243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E827-B5FB-4D2B-A5E6-96D4C062587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alibri"/>
              </a:rPr>
              <a:t>«Как приучить ребенка к самостоятельности в приготовлении уроков?»</a:t>
            </a:r>
            <a:br>
              <a:rPr sz="3200"/>
            </a:br>
            <a:br>
              <a:rPr sz="49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чните с предмета, который легче всего дается ребенку, и не отвечайте ни на один вопрос, обращенный к вам, пока задание не выполнено до конца. Посмотрите, есть ли оплошности, предложите поискать их самому. Старайтесь избегать слово 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«ошибка»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Не высмеивайте 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«ошибки»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своих дете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Математик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Таблицу умножения повесьте над кроватью и учите по ней и умножать, и делить сразу. Опережайте школу, учите всю таблицу. Задачи учите читать и представлять. Если ребенок не может справиться с задачей,  покажите, как это сделать на примере аналогичной задачи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Чтение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Один раз ребенок читает сам. Потом он пересказывает вам прочитанное. Если неточно перескажет какое-то место, пусть читает еще. Так уходим от бессмысленных повторов. Обязательно читайте на ночь с ребенком книжки вслух, по очереди, а где возможно и по ролям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Русский язык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ри трудностях выполните все задания вслух, но не пишите в учебнике ни букв, ни слов. При письменном выполнении ребенок еще раз все вспоминает. Уйдите из комнаты, пока он не выполнит задание, не стойте за спино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5.    </a:t>
            </a: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Окружающий мир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– не только по книге. Выпишите дополнительные журналы. Делайте оттуда интересные вырезки и подбирайте тексты. Это пригодится в 5 классе.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5:22:08Z</dcterms:created>
  <dc:creator>1234</dc:creator>
  <dc:description/>
  <dc:language>en-US</dc:language>
  <cp:lastModifiedBy>Admin</cp:lastModifiedBy>
  <dcterms:modified xsi:type="dcterms:W3CDTF">2013-06-08T21:05:38Z</dcterms:modified>
  <cp:revision>77</cp:revision>
  <dc:subject/>
  <dc:title>На 22 октября</dc:title>
</cp:coreProperties>
</file>