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E406-9900-47A7-B6FB-73E3FA31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BEEB-BE25-4434-88F8-E3A892D1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E2A-DBF2-4F2E-A95B-3D4F03FE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9B48-5DDF-40FA-A21A-C23BC7E7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52A1-07D9-4939-9B92-117B7BE8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D605-C2EA-4FB8-95AD-13B09667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3647-8F1B-4718-998C-CA2C8D05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10D9-FCED-4FA7-82D8-950DD1A4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A475-E673-4553-9DF6-B4CBC2F6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C0C3-9F3B-47DF-A24F-8415651C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B16E-EA5E-45CF-A5E0-7DDA49F7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5498-E686-42B9-A5E0-D7B4CF82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1FAC-4003-4623-B1B0-94D31F89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A3CA-E3C5-46FC-A9D7-1AADAB60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FE1E-A5AE-4015-B76E-DFD0B4B1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39FA-65C3-4E08-9038-D07FC84B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8735-3F4D-49CF-B287-5F4322AA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18215-2DA8-4334-BD1B-26B89F72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A6091-04CB-448F-97D0-76E620F1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EBF99-7983-4BF7-BBB7-5E81E521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629A4-6EF9-417C-A79D-189E97FA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1BC61-B15D-46EE-880F-4BFAF4EF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C0A-CD7B-466E-BEB3-6419BD02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ED5D1-43B6-4B18-AD99-1C3DED22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380C5-9316-49F1-9D2B-51ADA8E8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822B9-9CB9-4D03-8C6F-5AC49D43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72483-47A8-4DE8-B432-63D495E8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C224C-BE2B-40CE-9B27-1C6DFF00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5D9AD-C6F2-4C77-8686-FA95307A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6187F-5155-4808-AD84-7F4FAEBA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E0FA5-4624-4D8D-9C97-15400B49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69136-4662-4D57-9B57-A222BDB7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65AA7-521B-471A-8CD4-F7B96AB9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888-9344-4CFB-A4AC-DFCE6DCF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69290-A474-41E8-8472-AE7E36B3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E7C1B-DD49-4E7F-9E8F-4B9826F1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8CE7F-9CA8-4A5C-9DB6-09EE1736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2D319-0CD9-4ED9-802E-A41D7D29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3B23F-3AB7-4448-9BA1-78A54097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06256-1A93-4736-84EA-DBA52B10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00D0E-DEC5-4A63-804A-61DAB97A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90156-A473-496C-AB35-A9779B16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72F26-D493-4D56-9028-2C0DCB52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86F7-A503-44A6-B9A3-C810B2C6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24C6-DEA9-4920-AD00-3B80BA6A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961C-79F1-4CFD-970F-9758CDD7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A8B-B562-4086-87C6-ADFF30C3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669-6CC5-42AA-9534-7139979F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7900-A8BE-4DBB-8A61-58E7927A1DD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FE5E-D4ED-439B-B02A-7B0C685BE9E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1AA1-ADF5-46C6-8215-B03283D46B8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0B01-2C81-4F55-8EEE-0E3B15393A8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alibri"/>
              </a:rPr>
              <a:t>«Как приучить ребенка к самостоятельности в приготовлении уроков?»</a:t>
            </a:r>
            <a:br>
              <a:rPr sz="3200"/>
            </a:br>
            <a:br>
              <a:rPr sz="49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чните с предмета, который легче всего дается ребенку, и не отвечайте ни на один вопрос, обращенный к вам, пока задание не выполнено до конца. Посмотрите, есть ли оплошности, предложите поискать их самому. Старайтесь избегать слово </a:t>
            </a: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«ошибка».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Не высмеивайте </a:t>
            </a: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«ошибки»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своих детей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nstantia"/>
              </a:rPr>
              <a:t>Математик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 Таблицу умножения повесьте над кроватью и учите по ней и умножать, и делить сразу. Опережайте школу, учите всю таблицу. Задачи учите читать и представлять. Если ребенок не может справиться с задачей,  покажите, как это сделать на примере аналогичной задачи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nstantia"/>
              </a:rPr>
              <a:t>Чтение.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Один раз ребенок читает сам. Потом он пересказывает вам прочитанное. Если неточно перескажет какое-то место, пусть читает еще. Так уходим от бессмысленных повторов. Обязательно читайте на ночь с ребенком книжки вслух, по очереди, а где возможно и по ролям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nstantia"/>
              </a:rPr>
              <a:t>Русский язык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При трудностях выполните все задания вслух, но не пишите в учебнике ни букв, ни слов. При письменном выполнении ребенок еще раз все вспоминает. Уйдите из комнаты, пока он не выполнит задание, не стойте за спиной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5.    </a:t>
            </a:r>
            <a:r>
              <a:rPr b="1" i="1" lang="ru-RU" sz="1600" spc="-1" strike="noStrike">
                <a:solidFill>
                  <a:srgbClr val="000000"/>
                </a:solidFill>
                <a:latin typeface="Constantia"/>
              </a:rPr>
              <a:t>Окружающий мир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– не только по книге. Выпишите дополнительные журналы. Делайте оттуда интересные вырезки и подбирайте тексты. Это пригодится в 5 классе.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5:22:08Z</dcterms:created>
  <dc:creator>1234</dc:creator>
  <dc:description/>
  <dc:language>en-US</dc:language>
  <cp:lastModifiedBy>Admin</cp:lastModifiedBy>
  <dcterms:modified xsi:type="dcterms:W3CDTF">2013-06-08T21:05:38Z</dcterms:modified>
  <cp:revision>77</cp:revision>
  <dc:subject/>
  <dc:title>На 22 октября</dc:title>
</cp:coreProperties>
</file>