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31A-9E78-4B1F-B85F-3490E953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8E45-7919-4784-B1E3-699231C4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94BE-59F3-4133-9AE9-84F2DC9E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D52-A222-4A1C-BA68-3D95E6D3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2CAB-67BF-441E-8452-88234A5D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4DF-7656-426D-9FC4-B4F93078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716-0B3A-4F05-AD9A-A7E5D1E8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F22-E8F3-4596-B318-2FFEE459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E7EF-8432-476A-9DAD-EEB46EC7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BCE9-9F31-4DFC-AC52-CA3509B0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7181-3E57-44EE-BB7B-58005C60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570-4B8F-4C6F-B43F-44443EF7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69B6-4367-4B90-B420-8E8D21D5A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55040"/>
            <a:ext cx="7772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9280" y="1773360"/>
            <a:ext cx="87854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Кто такие рыбы ?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Arial"/>
              </a:rPr>
              <a:t>Кар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5904000" cy="2941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Это лиса пресноводного царства. По крайней мере, умней и хитрей карпа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Карп – боец. Природа наделила его мускулистым телом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Карп это одомашненная форма саз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Arial"/>
              </a:rPr>
              <a:t>Ле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5616720" cy="2854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6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Лещ – придонная осёдлая рыба семейства карповых. Взрослые особи весят примерно от 0,7 до 5 кг, а в длину достигают 50 см. Некоторые экземпляры вырастают до 7 кг и в длину до 75 см, однако в последнее время это большая редкость. Внешне он выглядит довольно-таки своеобра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Arial"/>
              </a:rPr>
              <a:t>Окун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680000" cy="2530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7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Окунь - один из самых распространённых видов речных рыб, обитающих в водах нашей страны. Внешность окуня очень характерна -спина тёмно-зелёная, бока зеленовато-жёлтые с 4-10 поперечными тёмно-зелёными полосками; брюхо белое или слегка желтоват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Arial"/>
              </a:rPr>
              <a:t>Саз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4895640" cy="3682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По-казахски – «саз»- ил, «ан» - животное. Следовательно, сазан – рыба, предпочитающая илистое дно. Среди подводных долгожителей сазан занимает далеко не последнее место, а благодаря своей всеядности и быстрому увеличению веса  может достигать 20 – 30 кг. Внешне сазан похож на карпа. В их облике есть много чего схож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191280" cy="3337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Сом – самый крупный представитель вида речных рыб. Самые крупные особи вырастают в длину до 4 метров, а вес их достигает 250 – 350 килограмм. Отличительной особенностью сома является большая приплюснутая голова, большие усы и продолговатое тело чёрного цвета, покрытое белыми пятнами. Место обитания сома – преимущественно реки средней полосы России, Излюбленные места этой рыбы – норы, вырытые ондатрами или бобрами. Сом- рыба, ведущая ночной образ жизни, поэтому днём он чаще всего прячется в ямах глубиной до 10 метров, причём чем крупнее рыба, тем глубже она залегает, а ночью кормится. Питается он живностью, которую находит на дне, а также лягушками, рыбой, иногда ловит птиц, беззаботно плавающих на поверхности в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Arial"/>
              </a:rPr>
              <a:t>Щу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920000" cy="2522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938400"/>
            <a:ext cx="8229600" cy="28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Щука - один из грознейших представителей хищного вида речных рыб. Едва набрав 50 грамм веса, щука обособляется от своих сородичей, начиная жить отдельно. Средние размеры особи колеблятся в пределах от 1,5 до 3 килограмм. Однако многое зависит и от места её об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Arial"/>
              </a:rPr>
              <a:t>Речные рыб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1920960"/>
            <a:ext cx="2971800" cy="1542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62400" y="2039760"/>
            <a:ext cx="3009960" cy="1305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47600" y="4327560"/>
            <a:ext cx="2857680" cy="1409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000760" y="4203720"/>
            <a:ext cx="3333600" cy="1657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6443640" y="6021360"/>
            <a:ext cx="1171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Лин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640" y="5877000"/>
            <a:ext cx="1667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Пло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341360"/>
            <a:ext cx="1952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Голав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04000" y="1341360"/>
            <a:ext cx="1333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Рота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995640" y="4581360"/>
            <a:ext cx="4552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Презентацию подготовил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Королева Г.В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учитель начальных классов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МОУ " СОШ №7" г.Калуг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71640" y="404640"/>
            <a:ext cx="36385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ыбы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9640" y="3284640"/>
            <a:ext cx="325764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Морские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508720" y="3213000"/>
            <a:ext cx="288612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ечные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268360" y="1916280"/>
            <a:ext cx="1656000" cy="136836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1916280"/>
            <a:ext cx="1800000" cy="144144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Arial"/>
              </a:rPr>
              <a:t>Кто такие рыбы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209080" cy="4262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627280" y="1700280"/>
            <a:ext cx="16002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туловище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524720" y="2205000"/>
            <a:ext cx="7430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хвос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64000" y="5661000"/>
            <a:ext cx="14479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плавник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2060640"/>
            <a:ext cx="10382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голо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920" y="5445000"/>
            <a:ext cx="3848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жаберная кры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2492280"/>
            <a:ext cx="57636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060640"/>
            <a:ext cx="505080" cy="151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948360" y="2565360"/>
            <a:ext cx="93672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195640" y="4076640"/>
            <a:ext cx="288720" cy="14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427280" y="5084280"/>
            <a:ext cx="13683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012000" y="4869000"/>
            <a:ext cx="2156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5148360" y="2421000"/>
            <a:ext cx="792000" cy="32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Arial"/>
              </a:rPr>
              <a:t>Кто такие рыбы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5398920" cy="2743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Рыбы живут в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Тело рыбы состоит из головы , туловища и хво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Тело рыб покрыто чещуё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Рыбы дышат при помощи жаб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"/>
              </a:rPr>
              <a:t>Морские рыб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834160" cy="566100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Arial"/>
              </a:rPr>
              <a:t>Акул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201080" cy="553248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Arial"/>
              </a:rPr>
              <a:t>Китовая аку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Крупнейшая в мире рыба - китовая акула, была выловлена в южной части Атлантического океана 10 ноября 1947 года. Её размеры составляли : 12 метров в длину, 6,5 метров в обхвате самой толстой части тела, а вес - 20 тонн!!! Этот вид акулы питается планктоном и обитает также в Тихом и Атлантическом океа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Arial"/>
              </a:rPr>
              <a:t>Речные рыб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6320" y="1341360"/>
            <a:ext cx="4309920" cy="24447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Близкий родственник окуня, ёрш – безусловный хищ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Глаза у него крупные, фиолетовые, снаружи покрыт густой слизью. Спинка у ерша серо-зелёная, с мелкими чёрными пятнышками, бока с желтизной, брюшко светлое, на спинном и хвостовом плавниках также имеются пятна. В выборе места жительства он не привередлив. Населяет водохранилища, крупные и малые реки. Предпочитает места поглубже, но сильного течения избегает ,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впрочем , и участков, густо заросших траво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619280" y="1484280"/>
            <a:ext cx="904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Ёр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Arial"/>
              </a:rPr>
              <a:t>Карас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316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Обычно различают два вида карасей: серебряный и золотой карась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464000" cy="334656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4859280" y="2234880"/>
            <a:ext cx="3600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Караси чрезвычайно плодовиты. Если в водоеме у карася нет врагов, то, в конечном итоге, он начинает доминировать среди прочего рыбного населения и мельчать вследствие нехватки кормовой базы. Этим объясняется «пятачковый» размер карася в маленьких деревенских пру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4:47:00Z</dcterms:created>
  <dc:creator>www.PHILka.RU</dc:creator>
  <dc:description/>
  <dc:language>en-US</dc:language>
  <cp:lastModifiedBy>Admin</cp:lastModifiedBy>
  <dcterms:modified xsi:type="dcterms:W3CDTF">2009-12-13T16:40:57Z</dcterms:modified>
  <cp:revision>4</cp:revision>
  <dc:subject/>
  <dc:title>Слайд 1</dc:title>
</cp:coreProperties>
</file>