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404-B1BA-4BFA-AD4E-6E71A30A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2EA-C090-4111-AB90-F0619BA2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B8A-3B89-4D60-B780-411AE89B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448-4DCD-4E8B-86A9-99C70581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AC7-1494-4C8A-A02C-E64A6BA7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30E-3AE8-4EB2-9249-B8F32A62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E2C-6DB2-4A8E-8B2C-E5F1E80E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4C0-E1BB-4912-A047-35A7F331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E5B-D156-482A-A669-1ABB926E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70C-83A5-4DB7-B833-9FC09E42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2C5-86D2-4C34-B11C-7677A47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906-2BBC-42B5-9671-E352C67B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FC38-D74E-440A-A075-64D466A2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504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1773360"/>
            <a:ext cx="8785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Кто такие рыбы ?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ар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5904000" cy="2941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Это лиса пресноводного царства. По крайней мере, умней и хитрей карпа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арп – боец. Природа наделила его мускулистым телом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арп это одомашненная форма саз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Ле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5616720" cy="2854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Лещ – придонная осёдлая рыба семейства карповых. Взрослые особи весят примерно от 0,7 до 5 кг, а в длину достигают 50 см. Некоторые экземпляры вырастают до 7 кг и в длину до 75 см, однако в последнее время это большая редкость. Внешне он выглядит довольно-таки своеобра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Окун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680000" cy="2530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7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кунь - один из самых распространённых видов речных рыб, обитающих в водах нашей страны. Внешность окуня очень характерна -спина тёмно-зелёная, бока зеленовато-жёлтые с 4-10 поперечными тёмно-зелёными полосками; брюхо белое или слегка желтоват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Саз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4895640" cy="3682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По-казахски – «саз»- ил, «ан» - животное. Следовательно, сазан – рыба, предпочитающая илистое дно. Среди подводных долгожителей сазан занимает далеко не последнее место, а благодаря своей всеядности и быстрому увеличению веса  может достигать 20 – 30 кг. Внешне сазан похож на карпа. В их облике есть много чего схож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191280" cy="333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Сом – самый крупный представитель вида речных рыб. Самые крупные особи вырастают в длину до 4 метров, а вес их достигает 250 – 350 килограмм. Отличительной особенностью сома является большая приплюснутая голова, большие усы и продолговатое тело чёрного цвета, покрытое белыми пятнами. Место обитания сома – преимущественно реки средней полосы России, Излюбленные места этой рыбы – норы, вырытые ондатрами или бобрами. Сом- рыба, ведущая ночной образ жизни, поэтому днём он чаще всего прячется в ямах глубиной до 10 метров, причём чем крупнее рыба, тем глубже она залегает, а ночью кормится. Питается он живностью, которую находит на дне, а также лягушками, рыбой, иногда ловит птиц, беззаботно плавающих на поверхности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Щу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2522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8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Щука - один из грознейших представителей хищного вида речных рыб. Едва набрав 50 грамм веса, щука обособляется от своих сородичей, начиная жить отдельно. Средние размеры особи колеблятся в пределах от 1,5 до 3 килограмм. Однако многое зависит и от места её об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Речные ры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920960"/>
            <a:ext cx="2971800" cy="1542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62400" y="2039760"/>
            <a:ext cx="3009960" cy="1305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47600" y="4327560"/>
            <a:ext cx="2857680" cy="1409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000760" y="4203720"/>
            <a:ext cx="3333600" cy="1657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443640" y="6021360"/>
            <a:ext cx="1171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Ли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5877000"/>
            <a:ext cx="1667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ло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341360"/>
            <a:ext cx="195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Голав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04000" y="1341360"/>
            <a:ext cx="133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Рот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95640" y="4581360"/>
            <a:ext cx="4552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резентацию подготовил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Королева Г.В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учитель начальных классо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МОУ " СОШ №7" г.Калуг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71640" y="404640"/>
            <a:ext cx="36385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ыб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3284640"/>
            <a:ext cx="32576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орски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508720" y="3213000"/>
            <a:ext cx="288612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ечны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68360" y="1916280"/>
            <a:ext cx="1656000" cy="136836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1916280"/>
            <a:ext cx="1800000" cy="144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то такие рыбы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209080" cy="4262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627280" y="1700280"/>
            <a:ext cx="16002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туловищ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24720" y="2205000"/>
            <a:ext cx="7430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хвос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64000" y="5661000"/>
            <a:ext cx="14479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лавни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2060640"/>
            <a:ext cx="10382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голо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5445000"/>
            <a:ext cx="3848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жаберная кры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492280"/>
            <a:ext cx="57636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060640"/>
            <a:ext cx="50508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948360" y="2565360"/>
            <a:ext cx="93672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195640" y="4076640"/>
            <a:ext cx="28872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427280" y="5084280"/>
            <a:ext cx="1368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12000" y="4869000"/>
            <a:ext cx="215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148360" y="2421000"/>
            <a:ext cx="792000" cy="32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то такие рыбы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39892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ыбы живут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Тело рыбы состоит из головы , туловища и хв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Тело рыб покрыто чещу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ыбы дышат при помощи жаб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Морские рыб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834160" cy="566100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Arial"/>
              </a:rPr>
              <a:t>Аку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201080" cy="553248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итовая аку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рупнейшая в мире рыба - китовая акула, была выловлена в южной части Атлантического океана 10 ноября 1947 года. Её размеры составляли : 12 метров в длину, 6,5 метров в обхвате самой толстой части тела, а вес - 20 тонн!!! Этот вид акулы питается планктоном и обитает также в Тихом и Атлантическом оке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Речные рыб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6320" y="1341360"/>
            <a:ext cx="4309920" cy="24447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Близкий родственник окуня, ёрш – безусловный хищ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Глаза у него крупные, фиолетовые, снаружи покрыт густой слизью. Спинка у ерша серо-зелёная, с мелкими чёрными пятнышками, бока с желтизной, брюшко светлое, на спинном и хвостовом плавниках также имеются пятна. В выборе места жительства он не привередлив. Населяет водохранилища, крупные и малые реки. Предпочитает места поглубже, но сильного течения избегает ,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впрочем , и участков, густо заросших траво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19280" y="1484280"/>
            <a:ext cx="904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Ёр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ара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316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бычно различают два вида карасей: серебряный и золотой карась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464000" cy="334656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859280" y="2234880"/>
            <a:ext cx="360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араси чрезвычайно плодовиты. Если в водоеме у карася нет врагов, то, в конечном итоге, он начинает доминировать среди прочего рыбного населения и мельчать вследствие нехватки кормовой базы. Этим объясняется «пятачковый» размер карася в маленьких деревенских пру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47:00Z</dcterms:created>
  <dc:creator>www.PHILka.RU</dc:creator>
  <dc:description/>
  <dc:language>en-US</dc:language>
  <cp:lastModifiedBy>Admin</cp:lastModifiedBy>
  <dcterms:modified xsi:type="dcterms:W3CDTF">2009-12-13T16:40:57Z</dcterms:modified>
  <cp:revision>4</cp:revision>
  <dc:subject/>
  <dc:title>Слайд 1</dc:title>
</cp:coreProperties>
</file>