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A19-A8AB-40ED-BC1C-2D1C40E7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1AC-C077-465C-9621-536A329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7D6-6870-4766-9D8D-BDD5D342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2C2-EF0D-43D2-8973-AD9F1729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D3E-D0AF-42E9-8C3A-DD97CF7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10A-009B-4EC1-BCD8-9715D6E7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236-6776-4AEC-8B89-8B1EF60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309-EF78-4DE7-9267-F4459D86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571-624A-4101-B019-F2217591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1BF-FD70-44B0-9E6A-718FC09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FF9-97FB-4B3F-97D4-356356C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49D-F6C0-40A2-88C7-A486855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D88-A18F-49DA-889E-8B3CD79FC55F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a-sm.ru/uploads/posts/2008-03/1204455594_maslen_0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5" descr="Картинка 63 из 479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8120"/>
            <a:ext cx="9144000" cy="6689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116000" y="214200"/>
            <a:ext cx="684072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МАСЛЕНИЦА 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проводы зимы, встреча вес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начало(1).mp3" descr=""/>
          <p:cNvPicPr/>
          <p:nvPr/>
        </p:nvPicPr>
        <p:blipFill>
          <a:blip r:embed="rId3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888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88567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С этого дня пекли блины - желтые, круглые, горячие как солнце. Блинов ели много. Ели русские люди и сами над собой подшучивали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5" descr="блины"/>
          <p:cNvPicPr/>
          <p:nvPr/>
        </p:nvPicPr>
        <p:blipFill>
          <a:blip r:embed="rId1"/>
          <a:stretch/>
        </p:blipFill>
        <p:spPr>
          <a:xfrm>
            <a:off x="468360" y="2970360"/>
            <a:ext cx="4680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539640" y="186120"/>
            <a:ext cx="33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У кумы была сестриц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ечь блины-то мастериц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Напекла их кучек шес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Семерым их не поес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А сели четверо за сто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Дали душеньке простор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Друг на друга погля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И... блины-то все поел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блин"/>
          <p:cNvPicPr/>
          <p:nvPr/>
        </p:nvPicPr>
        <p:blipFill>
          <a:blip r:embed="rId1"/>
          <a:stretch/>
        </p:blipFill>
        <p:spPr>
          <a:xfrm>
            <a:off x="4067280" y="260280"/>
            <a:ext cx="4735440" cy="3578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4356000" y="414972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Эй, ребята, подход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Я вам фокус покаж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Вы мне пять блинов дад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А я в рот их поло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3135240" y="2700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Пес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масленица красавица).mp3" descr=""/>
          <p:cNvPicPr/>
          <p:nvPr/>
        </p:nvPicPr>
        <p:blipFill>
          <a:blip r:embed="rId1"/>
          <a:stretch/>
        </p:blipFill>
        <p:spPr>
          <a:xfrm>
            <a:off x="35712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547640" y="857160"/>
            <a:ext cx="669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ы В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ну-к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ну вст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г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и с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лнышк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л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ный п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дник 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м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 блины с ут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ё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Прип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Э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x,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М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сл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иц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,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д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ты кр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с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виц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З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зв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ли буб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Вс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т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ц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ры — м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л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дцы</a:t>
            </a:r>
            <a:r>
              <a:rPr b="0" lang="ru-RU" sz="2400" spc="-1" strike="noStrike">
                <a:solidFill>
                  <a:srgbClr val="0070c0"/>
                </a:solidFill>
                <a:latin typeface="Palatino Linotyp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2. Буд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м с г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рки мы к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Буд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м в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с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л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пляс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М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жн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, шутить, см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я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В с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нный п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зд п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игр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3. Г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и, 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м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 н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ыйд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 с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лнышк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к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г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Буд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 п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дник в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л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2964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571680" y="1000080"/>
            <a:ext cx="76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4 день – четве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Разгул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572000" y="18572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этот день принято было устраивать знаменитые кулачные бои, взятие специально построенных снежных крепостей, катание на горках, весёлые карнав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По старинному обычаю в этот день на Руси выпекали из сдобного теста жаворонков, голубков, ласточек – предвестников Ве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F:\Documents and Settings\Moshka\Рабочий стол\Масленица\094988888883.jpg"/>
          <p:cNvPicPr/>
          <p:nvPr/>
        </p:nvPicPr>
        <p:blipFill>
          <a:blip r:embed="rId2"/>
          <a:stretch/>
        </p:blipFill>
        <p:spPr>
          <a:xfrm rot="352800">
            <a:off x="324000" y="2420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32.jpg"/>
          <p:cNvPicPr/>
          <p:nvPr/>
        </p:nvPicPr>
        <p:blipFill>
          <a:blip r:embed="rId1"/>
          <a:stretch/>
        </p:blipFill>
        <p:spPr>
          <a:xfrm>
            <a:off x="-324000" y="0"/>
            <a:ext cx="9785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Palatino Linotype"/>
              </a:rPr>
              <a:t>Снежная  крепость -  дом Мор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7.jpg"/>
          <p:cNvPicPr/>
          <p:nvPr/>
        </p:nvPicPr>
        <p:blipFill>
          <a:blip r:embed="rId1"/>
          <a:stretch/>
        </p:blipFill>
        <p:spPr>
          <a:xfrm>
            <a:off x="4716360" y="333360"/>
            <a:ext cx="4125960" cy="3662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27.jpg"/>
          <p:cNvPicPr/>
          <p:nvPr/>
        </p:nvPicPr>
        <p:blipFill>
          <a:blip r:embed="rId2"/>
          <a:stretch/>
        </p:blipFill>
        <p:spPr>
          <a:xfrm>
            <a:off x="250920" y="2997360"/>
            <a:ext cx="4284720" cy="34700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0" y="549360"/>
            <a:ext cx="48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62000" y="1844640"/>
            <a:ext cx="47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 этот день ходили  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ругу в г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4500720" y="4825800"/>
            <a:ext cx="43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  <a:ea typeface="Calibri"/>
              </a:rPr>
              <a:t>Днем в кулачных боях     участвовали все: от мала, до ве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10.jpg"/>
          <p:cNvPicPr/>
          <p:nvPr/>
        </p:nvPicPr>
        <p:blipFill>
          <a:blip r:embed="rId1"/>
          <a:stretch/>
        </p:blipFill>
        <p:spPr>
          <a:xfrm>
            <a:off x="857160" y="1514520"/>
            <a:ext cx="7572600" cy="5343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286000" y="21420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Бой сила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амреслинг.mp3" descr=""/>
          <p:cNvPicPr/>
          <p:nvPr/>
        </p:nvPicPr>
        <p:blipFill>
          <a:blip r:embed="rId2"/>
          <a:stretch/>
        </p:blipFill>
        <p:spPr>
          <a:xfrm>
            <a:off x="285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3858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71680" y="1000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5 день – пя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Тёщины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веч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286160" y="2000160"/>
            <a:ext cx="485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Если в среду зятья ходили к тёщам, то теперь – наоборот:  в гости должны приходить тёщи. Зять должен сам угостить тёщу и тестя блинами. Правда обычай этот весьма своеобразный. Курьёз заключатся в том, что званая тёща обязана была с вечера прислать в дом молодым всё для выпечки бл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:\Documents and Settings\Moshka\Рабочий стол\Масленица\094939898989.jpg"/>
          <p:cNvPicPr/>
          <p:nvPr/>
        </p:nvPicPr>
        <p:blipFill>
          <a:blip r:embed="rId2"/>
          <a:stretch/>
        </p:blipFill>
        <p:spPr>
          <a:xfrm rot="21076800">
            <a:off x="240840" y="2287440"/>
            <a:ext cx="40593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14200" y="92880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6 день – суб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оловкины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поси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786200" y="1963800"/>
            <a:ext cx="43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убботу, на золовкины посиделки (золовка – сестра мужа) молодая невестка приглашала родных мужа к себе в гости. Если золовка была незамужняя, тогда она созывала и своих незамужних подруг. Если же наоборот, то приглашалась лишь замужняя р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F:\Documents and Settings\Moshka\Рабочий стол\Масленица\09496555555553.jpg"/>
          <p:cNvPicPr/>
          <p:nvPr/>
        </p:nvPicPr>
        <p:blipFill>
          <a:blip r:embed="rId2"/>
          <a:stretch/>
        </p:blipFill>
        <p:spPr>
          <a:xfrm rot="263400">
            <a:off x="323640" y="227628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Ой, ты Лакомка-Среда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асляна сковорода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ак повелось со старины Едем к… !</a:t>
            </a:r>
            <a:r>
              <a:rPr b="0" lang="ru-RU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Palatino Linotype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асленица- объеденье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апечем блины с утр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 ним – сметана и варень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, конечно же, … 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 с икрой , и со сметан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сякие они вкусны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оздреваты и румяны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аши солнышки-… 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масленично воскресень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се старался старый Ти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просить у всех прощень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 ответить: … 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Picture 5" descr="__"/>
          <p:cNvPicPr/>
          <p:nvPr/>
        </p:nvPicPr>
        <p:blipFill>
          <a:blip r:embed="rId1"/>
          <a:stretch/>
        </p:blipFill>
        <p:spPr>
          <a:xfrm>
            <a:off x="4067280" y="5157720"/>
            <a:ext cx="457200" cy="1123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2094_8872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57240">
            <a:solidFill>
              <a:srgbClr val="efc425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708360" y="1052280"/>
            <a:ext cx="49672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ак на масличной недел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з печи блины летел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, из печ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 румяны, горячи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ца, угощай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м блиночков подавай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 – разбирайте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 хвалить не забывайте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Zadorushka_-_My_davno_blinov_ne_eli_(iPlayer.fm).mp3" descr=""/>
          <p:cNvPicPr/>
          <p:nvPr/>
        </p:nvPicPr>
        <p:blipFill>
          <a:blip r:embed="rId2"/>
          <a:stretch/>
        </p:blipFill>
        <p:spPr>
          <a:xfrm>
            <a:off x="4000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2369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928800" y="107172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Теперь  загадки загадае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786200" y="2428920"/>
            <a:ext cx="43578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руглый, а не кольцо, горячий, а не солнц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Белая степенная, тепла боится. Пока Масленицу не сожжёшь, никуда не уйдё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Идёт после Масленицы: часового не имеет, а называет себя?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F:\Documents and Settings\Moshka\Рабочий стол\Масленица\8883.jpg"/>
          <p:cNvPicPr/>
          <p:nvPr/>
        </p:nvPicPr>
        <p:blipFill>
          <a:blip r:embed="rId2"/>
          <a:stretch/>
        </p:blipFill>
        <p:spPr>
          <a:xfrm rot="355800">
            <a:off x="214200" y="2571480"/>
            <a:ext cx="42865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0" y="10526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7 день –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Прощёное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786200" y="1643040"/>
            <a:ext cx="43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последний день Масленицы все друг у друга просили прощения, новобрачные ездили по своим родным. Кульминацией Масленицы считается сжигание чучела, как символа Зимы, которая заканчивалась, и </a:t>
            </a:r>
            <a:r>
              <a:rPr b="1" i="1" lang="ru-RU" sz="2400" spc="-1" strike="noStrike">
                <a:solidFill>
                  <a:srgbClr val="ff0000"/>
                </a:solidFill>
                <a:latin typeface="Palatino Linotype"/>
              </a:rPr>
              <a:t>наступление Весны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Documents and Settings\Moshka\Рабочий стол\Масленица\067677777777779493.jpg"/>
          <p:cNvPicPr/>
          <p:nvPr/>
        </p:nvPicPr>
        <p:blipFill>
          <a:blip r:embed="rId2"/>
          <a:stretch/>
        </p:blipFill>
        <p:spPr>
          <a:xfrm rot="298800">
            <a:off x="324000" y="220500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6000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иходите в воскресенье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Будем мы просить прощень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Чтоб с души грехи все снят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чистым сердцем Пост встречать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крепим дружбу поцелуе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оть и так мы не вою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едь на Масленицу нужн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Укреплять любовь и дружбу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" name="Picture 4" descr="1253965620_pic066"/>
          <p:cNvPicPr/>
          <p:nvPr/>
        </p:nvPicPr>
        <p:blipFill>
          <a:blip r:embed="rId1"/>
          <a:stretch/>
        </p:blipFill>
        <p:spPr>
          <a:xfrm>
            <a:off x="5796000" y="0"/>
            <a:ext cx="4330800" cy="6858000"/>
          </a:xfrm>
          <a:prstGeom prst="rect">
            <a:avLst/>
          </a:prstGeom>
          <a:ln w="57240">
            <a:solidFill>
              <a:srgbClr val="fe6100"/>
            </a:solidFill>
            <a:miter/>
          </a:ln>
        </p:spPr>
      </p:pic>
      <p:pic>
        <p:nvPicPr>
          <p:cNvPr id="118" name="прощание с масленицей.mp3" descr=""/>
          <p:cNvPicPr/>
          <p:nvPr/>
        </p:nvPicPr>
        <p:blipFill>
          <a:blip r:embed="rId2"/>
          <a:stretch/>
        </p:blipFill>
        <p:spPr>
          <a:xfrm>
            <a:off x="42876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8302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800px-Au_maslenitsa"/>
          <p:cNvPicPr/>
          <p:nvPr/>
        </p:nvPicPr>
        <p:blipFill>
          <a:blip r:embed="rId1"/>
          <a:srcRect l="16678" t="0" r="17586" b="0"/>
          <a:stretch/>
        </p:blipFill>
        <p:spPr>
          <a:xfrm>
            <a:off x="4427640" y="189000"/>
            <a:ext cx="4572000" cy="5503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14200" y="673920"/>
            <a:ext cx="441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Сидит кошка на окошк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ышивает себе хвос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Широка Масленица проходи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Настает Великий По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52720" y="2638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a2200a10ecc5e1619803383d7991be7e"/>
          <p:cNvPicPr/>
          <p:nvPr/>
        </p:nvPicPr>
        <p:blipFill>
          <a:blip r:embed="rId1"/>
          <a:stretch/>
        </p:blipFill>
        <p:spPr>
          <a:xfrm>
            <a:off x="0" y="111240"/>
            <a:ext cx="7451640" cy="67467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 rot="5400000">
            <a:off x="5048280" y="3134520"/>
            <a:ext cx="6226200" cy="7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542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джигание "Чучел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542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856800"/>
            <a:ext cx="8820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Весна, весна красная!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Приди, весна, с радостью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С радостью, радостью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С великою  милостью: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Уроди лен высокий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Рожь, овес , хороши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6" descr="an408"/>
          <p:cNvPicPr/>
          <p:nvPr/>
        </p:nvPicPr>
        <p:blipFill>
          <a:blip r:embed="rId1"/>
          <a:stretch/>
        </p:blipFill>
        <p:spPr>
          <a:xfrm>
            <a:off x="7308720" y="31680"/>
            <a:ext cx="1727280" cy="191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я1"/>
          <p:cNvPicPr/>
          <p:nvPr/>
        </p:nvPicPr>
        <p:blipFill>
          <a:blip r:embed="rId2"/>
          <a:stretch/>
        </p:blipFill>
        <p:spPr>
          <a:xfrm>
            <a:off x="108000" y="3062160"/>
            <a:ext cx="34192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0377701_1235890675_380ec0644080"/>
          <p:cNvPicPr/>
          <p:nvPr/>
        </p:nvPicPr>
        <p:blipFill>
          <a:blip r:embed="rId2"/>
          <a:stretch/>
        </p:blipFill>
        <p:spPr>
          <a:xfrm>
            <a:off x="2071800" y="2571840"/>
            <a:ext cx="4703760" cy="3997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71680" y="1071720"/>
            <a:ext cx="81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Масленица прощ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На тот год опять приезж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214880" y="1428840"/>
            <a:ext cx="49291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Palatino Linotype"/>
              </a:rPr>
              <a:t>Масленица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– самы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адостны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ветлы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аздник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ишедши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м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з 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языческо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уси,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стоящие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оводы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Зимы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ам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аздника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«Масленица»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оизошл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от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того,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чт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этот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ели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ног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о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ищи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:\Презентация Масленица\1265468783_repruk.jpg"/>
          <p:cNvPicPr/>
          <p:nvPr/>
        </p:nvPicPr>
        <p:blipFill>
          <a:blip r:embed="rId2"/>
          <a:stretch/>
        </p:blipFill>
        <p:spPr>
          <a:xfrm rot="21319800">
            <a:off x="436680" y="1426680"/>
            <a:ext cx="3860640" cy="510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14880" y="1500120"/>
            <a:ext cx="49291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азднуется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оследнюю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еделю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еред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Великим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Постом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аждый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чной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едели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меет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воё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требует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определенных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итуалов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ервые три дня Узкая  Масленица, последующие - Широ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:\Documents and Settings\Moshka\Рабочий стол\Масленица\09493_.jpg"/>
          <p:cNvPicPr/>
          <p:nvPr/>
        </p:nvPicPr>
        <p:blipFill>
          <a:blip r:embed="rId2"/>
          <a:stretch/>
        </p:blipFill>
        <p:spPr>
          <a:xfrm rot="198000">
            <a:off x="98280" y="1901880"/>
            <a:ext cx="4105440" cy="35305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42960" y="107172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1 день – понед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Palatino Linotype"/>
              </a:rPr>
              <a:t>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714920" y="1928880"/>
            <a:ext cx="442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Первый блин в понедельник не ели, а оставляли для душ усопших – выносили на крыльцо, как бы оставляя им, или отдавали нищим, чтобы помолились за у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:\Documents and Settings\Moshka\Рабочий стол\Масленица\0949777777773.jpg"/>
          <p:cNvPicPr/>
          <p:nvPr/>
        </p:nvPicPr>
        <p:blipFill>
          <a:blip r:embed="rId2"/>
          <a:stretch/>
        </p:blipFill>
        <p:spPr>
          <a:xfrm rot="21348000">
            <a:off x="323640" y="2276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428480"/>
            <a:ext cx="8821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Наряжали чучело из соломы в девичий наряд и возили по улицам. Обращались к нему ласково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Picture 5" descr="чучело"/>
          <p:cNvPicPr/>
          <p:nvPr/>
        </p:nvPicPr>
        <p:blipFill>
          <a:blip r:embed="rId1"/>
          <a:srcRect l="9344" t="0" r="17341" b="0"/>
          <a:stretch/>
        </p:blipFill>
        <p:spPr>
          <a:xfrm rot="460800">
            <a:off x="235080" y="2428560"/>
            <a:ext cx="4414680" cy="3808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3640" y="2151000"/>
            <a:ext cx="396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Дорогая наша гостья Маслениц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Авдотьюшка Изотьевн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Дуня белая, Дуня румяна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Коса длинная, триаршинна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латок беленьки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новомодненьки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Брови черные, наведен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Шуба синяя, латки крас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Лапти частые, головаст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ртянки белые, набел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 день – втор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аиг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643280" y="192888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торой день Масленицы называется «Заигрыш» и посвящался он раньше молодожёнам. Начинались масленичные гул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тарину на Масленицу не только гуляли, но и гадали. После весёлых гулянок и игр в снежки парни и девушки собирались вместе за общим столом</a:t>
            </a: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F:\Documents and Settings\Moshka\Рабочий стол\Масленица\7777.jpg"/>
          <p:cNvPicPr/>
          <p:nvPr/>
        </p:nvPicPr>
        <p:blipFill>
          <a:blip r:embed="rId2"/>
          <a:stretch/>
        </p:blipFill>
        <p:spPr>
          <a:xfrm rot="334800">
            <a:off x="250560" y="2349000"/>
            <a:ext cx="4286160" cy="368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Игра « Снежки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" name="Содержимое 3" descr="снежки.jpg"/>
          <p:cNvPicPr/>
          <p:nvPr/>
        </p:nvPicPr>
        <p:blipFill>
          <a:blip r:embed="rId1"/>
          <a:stretch/>
        </p:blipFill>
        <p:spPr>
          <a:xfrm>
            <a:off x="214200" y="1357200"/>
            <a:ext cx="8715600" cy="5357880"/>
          </a:xfrm>
          <a:prstGeom prst="rect">
            <a:avLst/>
          </a:prstGeom>
          <a:ln w="0">
            <a:noFill/>
          </a:ln>
        </p:spPr>
      </p:pic>
      <p:pic>
        <p:nvPicPr>
          <p:cNvPr id="68" name="снежки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снежки).mp3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459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459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3 день –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Лако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86200" y="1928880"/>
            <a:ext cx="4357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На третий день во всех домах накрывались пышные столы. </a:t>
            </a: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Прямо на улице открывались многочисленные палатки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, где продавались горячие блинчики, сбитни (напитки из воды, мёда и пряностей), калёные орехи, медовые пряники. В этот день зять (муж дочери) приходил к «теще на б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F:\Documents and Settings\Moshka\Рабочий стол\Масленица\09400000093.jpg"/>
          <p:cNvPicPr/>
          <p:nvPr/>
        </p:nvPicPr>
        <p:blipFill>
          <a:blip r:embed="rId2"/>
          <a:stretch/>
        </p:blipFill>
        <p:spPr>
          <a:xfrm rot="21202200">
            <a:off x="341280" y="259236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0:13:48Z</dcterms:created>
  <dc:creator>User</dc:creator>
  <dc:description/>
  <dc:language>en-US</dc:language>
  <cp:lastModifiedBy>Галина</cp:lastModifiedBy>
  <dcterms:modified xsi:type="dcterms:W3CDTF">2017-05-09T20:18:24Z</dcterms:modified>
  <cp:revision>73</cp:revision>
  <dc:subject/>
  <dc:title>Слайд 1</dc:title>
</cp:coreProperties>
</file>