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3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967B-D5EE-4ABE-8B86-C3826CC89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0844-02E6-4894-A5D7-BD6F3091C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3D03-25C1-4FA5-AB32-03AE3D6E9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9731-DD55-44E4-8F25-F32C71C2F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F0D5-D191-40CD-AC25-16080C2273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DD03-3F84-4928-BF1E-A52DF2DCB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CA56-17E9-48D5-92D2-DF71C6293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921F-B359-4E26-B6AC-BD32CF9E3C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4F81-B4A8-4733-B274-FD0C9257D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EE5A-74F9-411B-80AD-4BB14D063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1F1F-8853-4794-B4A5-59304FD9BA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0A99-DCC6-4DE6-8D9C-E33CE7F94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C051-9AF7-4A56-AB7C-63856E9B76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C796-39EA-4683-A59E-AB0288DEBD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A78B-6F7A-4D9C-9B54-CBF9DD2CF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8C91-A8E9-4AF7-8AED-7401B9E61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C8D9-5516-4C47-A513-0178D488F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9F59-7C0C-4B74-A119-787FD8A88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1EED-39B1-4D16-BF40-6D45AE4EB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18C6-94AE-45F1-A041-278D25831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CE6A-A9AD-4B89-996F-1D73B4C02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1E67-13AC-4218-B23A-3C634AF5C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9DD0-7B8C-4F78-9C08-BF27456BF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C2D2-C5A6-4AF7-B630-798F0919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1F5009-5529-43BB-86DD-DE409C8A224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27280" cy="1028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10880" cy="2030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55680" cy="649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31960" cy="592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12760" cy="1904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18800" cy="176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304560" cy="6062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76000" cy="2746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46240" cy="1047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43200" cy="395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85560" cy="23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68480" cy="3762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9080"/>
              <a:ext cx="324000" cy="22640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800" y="2116080"/>
              <a:ext cx="324000" cy="2590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7240" y="-149040"/>
            <a:ext cx="2975760" cy="2837880"/>
            <a:chOff x="6897240" y="-149040"/>
            <a:chExt cx="2975760" cy="283788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7240" y="-149040"/>
              <a:ext cx="2975760" cy="2837880"/>
              <a:chOff x="6897240" y="-149040"/>
              <a:chExt cx="2975760" cy="283788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6840" cy="4557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7240" y="-149040"/>
                <a:ext cx="2975760" cy="2837880"/>
                <a:chOff x="6897240" y="-149040"/>
                <a:chExt cx="2975760" cy="283788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520" y="-26280"/>
                  <a:ext cx="346680" cy="2239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898400" y="643680"/>
                  <a:ext cx="610920" cy="7894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1680" y="412920"/>
                  <a:ext cx="1148760" cy="162036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1840" y="57240"/>
                  <a:ext cx="172584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2160" y="1857960"/>
                  <a:ext cx="383040" cy="2181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9360" y="1655640"/>
                  <a:ext cx="410400" cy="2577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4800" y="298080"/>
                  <a:ext cx="410400" cy="2635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9280" y="139680"/>
                  <a:ext cx="405720" cy="247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Freeform 3"/>
            <p:cNvSpPr/>
            <p:nvPr/>
          </p:nvSpPr>
          <p:spPr>
            <a:xfrm>
              <a:off x="281160" y="281160"/>
              <a:ext cx="3570120" cy="161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263520" y="414360"/>
              <a:ext cx="3560760" cy="1596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752400" y="546120"/>
              <a:ext cx="2360520" cy="145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Freeform 7"/>
              <p:cNvSpPr/>
              <p:nvPr/>
            </p:nvSpPr>
            <p:spPr>
              <a:xfrm>
                <a:off x="3182760" y="1482840"/>
                <a:ext cx="335160" cy="338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>
                <a:off x="195120" y="235080"/>
                <a:ext cx="3786480" cy="171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9"/>
              <p:cNvSpPr/>
              <p:nvPr/>
            </p:nvSpPr>
            <p:spPr>
              <a:xfrm>
                <a:off x="514440" y="250920"/>
                <a:ext cx="2674800" cy="973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649440" y="398520"/>
                <a:ext cx="358560" cy="649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1343160" y="851040"/>
                <a:ext cx="1095120" cy="5760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2"/>
          <p:cNvGrpSpPr/>
          <p:nvPr/>
        </p:nvGrpSpPr>
        <p:grpSpPr>
          <a:xfrm>
            <a:off x="7705800" y="4233600"/>
            <a:ext cx="1164600" cy="1325880"/>
            <a:chOff x="7705800" y="4233600"/>
            <a:chExt cx="1164600" cy="1325880"/>
          </a:xfrm>
        </p:grpSpPr>
        <p:sp>
          <p:nvSpPr>
            <p:cNvPr id="99" name="Freeform 13"/>
            <p:cNvSpPr/>
            <p:nvPr/>
          </p:nvSpPr>
          <p:spPr>
            <a:xfrm rot="7320000">
              <a:off x="7794360" y="4659120"/>
              <a:ext cx="9968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 rot="7320000">
              <a:off x="7769520" y="4637160"/>
              <a:ext cx="993600" cy="459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 rot="7320000">
              <a:off x="7938000" y="4624920"/>
              <a:ext cx="65880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16"/>
            <p:cNvGrpSpPr/>
            <p:nvPr/>
          </p:nvGrpSpPr>
          <p:grpSpPr>
            <a:xfrm>
              <a:off x="7705800" y="4233600"/>
              <a:ext cx="1164600" cy="1325880"/>
              <a:chOff x="7705800" y="4233600"/>
              <a:chExt cx="1164600" cy="1325880"/>
            </a:xfrm>
          </p:grpSpPr>
          <p:sp>
            <p:nvSpPr>
              <p:cNvPr id="103" name="Freeform 17"/>
              <p:cNvSpPr/>
              <p:nvPr/>
            </p:nvSpPr>
            <p:spPr>
              <a:xfrm rot="7320000">
                <a:off x="7810200" y="5069880"/>
                <a:ext cx="100800" cy="125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 rot="7320000">
                <a:off x="7709400" y="4571280"/>
                <a:ext cx="1157040" cy="6501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 rot="7320000">
                <a:off x="8039520" y="4709880"/>
                <a:ext cx="818640" cy="367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0"/>
              <p:cNvSpPr/>
              <p:nvPr/>
            </p:nvSpPr>
            <p:spPr>
              <a:xfrm rot="7320000">
                <a:off x="8598240" y="4509000"/>
                <a:ext cx="107280" cy="2451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7320000">
                <a:off x="8144640" y="4727160"/>
                <a:ext cx="333720" cy="215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2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C7149E-66CD-4F44-836C-1169E0477A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0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295280" y="2238480"/>
            <a:ext cx="64008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703dff"/>
                </a:solidFill>
                <a:latin typeface="Comic Sans MS"/>
              </a:rPr>
              <a:t>Доли. </a:t>
            </a:r>
            <a:br>
              <a:rPr sz="6600"/>
            </a:br>
            <a:r>
              <a:rPr b="1" lang="ru-RU" sz="66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685800" y="99072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адайте ребус и узнаете с чем мы сейчас познакомимс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Дроби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986040" cy="195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1218960" cy="1031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63560" y="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09480" y="91440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может за версту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еть дробную черт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д  чертой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числи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знайте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 чертою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знаменател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обь такую, непременно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до звать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быкновенной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mic Sans MS"/>
              </a:rPr>
              <a:t>Назовите числитель и знаменател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mic Sans MS"/>
              </a:rPr>
              <a:t>каждой     дроб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53360" y="31240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1846440" y="5419800"/>
            <a:ext cx="574560" cy="961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7772400" y="5133960"/>
            <a:ext cx="665280" cy="123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4"/>
          <a:stretch/>
        </p:blipFill>
        <p:spPr>
          <a:xfrm>
            <a:off x="6675480" y="5133960"/>
            <a:ext cx="563400" cy="1247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5"/>
          <a:stretch/>
        </p:blipFill>
        <p:spPr>
          <a:xfrm>
            <a:off x="7238880" y="1219320"/>
            <a:ext cx="7891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85800" y="762120"/>
            <a:ext cx="8077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корей обо всём рассказа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001960" cy="2063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25756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76212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Цели и задачи урока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комить с понятием доля, половина, треть, четверть, обыкновенная дробь, числитель и знаменатель дроб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вать умение  читать и записывать обыкновенную дробь по числителю и знаменател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ывать уважительное отношение к окружающим, внимание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8580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ма купила арбуз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резала его на 6 равны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астей: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29400" y="156204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1333800" cy="88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5"/>
          <a:stretch/>
        </p:blipFill>
        <p:spPr>
          <a:xfrm>
            <a:off x="14479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6324480" y="3276720"/>
            <a:ext cx="1333800" cy="882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1937160" y="103320"/>
            <a:ext cx="50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Рассмотрим задачу</a:t>
            </a:r>
            <a:r>
              <a:rPr b="0" lang="ru-RU" sz="18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76212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бушке, дедушке, папе, дву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ям и себ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2556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241280" cy="207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886200" y="990720"/>
            <a:ext cx="1077840" cy="241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1146240" cy="259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6"/>
          <a:stretch/>
        </p:blipFill>
        <p:spPr>
          <a:xfrm>
            <a:off x="5638680" y="1600200"/>
            <a:ext cx="10018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7"/>
          <a:stretch/>
        </p:blipFill>
        <p:spPr>
          <a:xfrm>
            <a:off x="129528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8"/>
          <a:stretch/>
        </p:blipFill>
        <p:spPr>
          <a:xfrm>
            <a:off x="281952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9"/>
          <a:stretch/>
        </p:blipFill>
        <p:spPr>
          <a:xfrm>
            <a:off x="4495680" y="19810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10"/>
          <a:stretch/>
        </p:blipFill>
        <p:spPr>
          <a:xfrm>
            <a:off x="571500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11"/>
          <a:stretch/>
        </p:blipFill>
        <p:spPr>
          <a:xfrm>
            <a:off x="723888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2"/>
          <a:stretch/>
        </p:blipFill>
        <p:spPr>
          <a:xfrm>
            <a:off x="2057400" y="4114800"/>
            <a:ext cx="95256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38080" y="304920"/>
            <a:ext cx="68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то такое доля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0948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ля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– каждая из равных частей единицы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 как арбуз разрезали на 6 равных частей, значит его разделили на 6 долей и каждый получил «одну шестую» долю арбуза, или, короче  «одну шестую арбуза»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219320" y="150840"/>
            <a:ext cx="687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ловина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85800" y="1447920"/>
            <a:ext cx="76960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ая известная доля – это, конечно, половина. Слова с приставкой «пол» можно услышать часто: полчаса, полкилометра… Разделили целое на две части – «половина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лю     называю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оловин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417600" cy="147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6059520" y="3929040"/>
            <a:ext cx="1150920" cy="1100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7315200" y="3971880"/>
            <a:ext cx="126828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62120" y="-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Треть.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вание доли зависит от того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колько равных частей раздели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Разделили на три части – «треть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лю       называю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треть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553080" y="3600360"/>
            <a:ext cx="1743120" cy="1675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34128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990720" y="150840"/>
            <a:ext cx="687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етверть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целое разделили н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и, т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ается     или по другому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ворят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четверть»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667160" cy="15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53920" y="152280"/>
            <a:ext cx="6870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Выполни задания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те дол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по другому можно назвать доли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верть, треть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вин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057320" y="2438280"/>
            <a:ext cx="542880" cy="96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569880" cy="92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542880" cy="866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77920" cy="876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6"/>
          <a:stretch/>
        </p:blipFill>
        <p:spPr>
          <a:xfrm>
            <a:off x="16765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7"/>
          <a:stretch/>
        </p:blipFill>
        <p:spPr>
          <a:xfrm>
            <a:off x="297180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8"/>
          <a:stretch/>
        </p:blipFill>
        <p:spPr>
          <a:xfrm>
            <a:off x="403848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9"/>
          <a:stretch/>
        </p:blipFill>
        <p:spPr>
          <a:xfrm>
            <a:off x="48769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10"/>
          <a:stretch/>
        </p:blipFill>
        <p:spPr>
          <a:xfrm>
            <a:off x="1127160" y="4419720"/>
            <a:ext cx="3873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11"/>
          <a:stretch/>
        </p:blipFill>
        <p:spPr>
          <a:xfrm>
            <a:off x="1600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12"/>
          <a:stretch/>
        </p:blipFill>
        <p:spPr>
          <a:xfrm>
            <a:off x="2286000" y="441972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"/>
          <p:cNvPicPr/>
          <p:nvPr/>
        </p:nvPicPr>
        <p:blipFill>
          <a:blip r:embed="rId13"/>
          <a:stretch/>
        </p:blipFill>
        <p:spPr>
          <a:xfrm>
            <a:off x="2743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"/>
          <p:cNvPicPr/>
          <p:nvPr/>
        </p:nvPicPr>
        <p:blipFill>
          <a:blip r:embed="rId14"/>
          <a:stretch/>
        </p:blipFill>
        <p:spPr>
          <a:xfrm>
            <a:off x="3200400" y="4419720"/>
            <a:ext cx="419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6-11-21T12:11:24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360000000000010250300207f7000400038000</vt:lpwstr>
  </property>
  <property fmtid="{D5CDD505-2E9C-101B-9397-08002B2CF9AE}" pid="3" name="Version">
    <vt:r8>1</vt:r8>
  </property>
</Properties>
</file>