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7AD-6A7E-41D6-9C2B-BDFF18A6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F82-0AB4-42A9-A009-8CBBBE47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9BD6-EE97-499C-9EAB-6C274372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3D069-203A-4F35-9489-4E1A744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A8ACA-D23C-4B47-88C2-23BC3562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0F70-9786-43F3-8187-C804171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34D7E-F660-41FC-9163-E16A5C0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336C3-4850-4D08-AB41-7044932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DD69C-FC20-4D4D-8154-EABEE95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D669E-76C1-4959-8A7E-D763ABA1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327E6-E7DB-42C5-B5A8-2C1B9BCA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33B11-450D-461C-9DF2-5814A205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A60-0589-4A06-AB9E-24F9747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3EAC-603E-4FAF-B01A-EECDDF9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38911-3735-4036-8C43-BCFF799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3BB26-F647-49EB-B34B-3C718044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2646A-3A01-4AEA-BE65-7186C93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B042C-A28A-44FF-9215-3CB5FF11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EA02-233E-4CD0-B117-1487F04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D5874-E368-44EB-8764-D764442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4B8C-3BE0-4F64-B52F-EBA833D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15AFE-FDA2-416D-BFC8-AAE22E6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D3959-946C-450B-B3A8-FE8F4C5F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50F-61ED-4810-A495-80E7319B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44F6-BFB8-44FF-823A-3AB08FC5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F0BE-03A0-4BE2-8211-85CDE49F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9A07-FEC3-4180-B5E1-C12D1ED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F037C-CC4A-4E4D-8A03-4155F3F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9F069-8BFF-44FA-BA32-6EC455BB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5D8F-4AA5-4C03-A29A-1B8CBBF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77E14-6E7A-4E9F-B675-BAFB5101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58EEE-C299-47BF-9009-A2532BF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2A90-4BDB-4E50-84AD-FCBA2C9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E7F2B-F20E-4F7D-B7C6-7ACFE22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18D0-0BE3-4076-81BB-0E574E47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C91EE-2849-4C95-88BF-37F4829F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2D46-3825-49B0-938B-88E73E9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A8018-37BA-44E1-AD7E-B3155504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28632-7CA4-4086-B95E-645401E4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EE95C-74F8-4C5A-9F64-80E1367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9B34A-36CE-4ABD-BC56-B35DFFB5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B8E09-DD7B-4460-BBCE-2993486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DD89D-65B9-42DE-A325-96025A0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EAC95-D186-49BB-90E0-4563C80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48AEE-BBEF-4E06-8D07-24A2F8D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800B-704C-405B-88BB-80084E4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D0589-360D-4F1F-AFFE-52CCA39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B8C61-2D60-427E-98EF-EF45117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72CEB-5A95-4A8D-A263-DAD45873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597C3-2D57-4A7C-B9D4-74A01138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5960-7BE9-4E5A-A474-3759E4D8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37000-CEC9-4EFE-AE76-6D2B072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B416E-EDFE-4D5C-8CDF-ADB29AE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A30E1-4887-40DB-AAC4-1CCF3F1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B08C-63D4-4335-8085-CC0DE6C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C8FED-C5C7-43EF-9E75-A71DA7B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CCFA-70D1-4709-8235-A3E38E1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E7920-F732-466C-895B-9F21D66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FC440-5B14-49B1-8FB3-2F608EE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BF71A-EA7A-428B-A39E-52DA2C61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E213D-146A-4ABB-94E8-27A5C6F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4F136-6530-48AE-B4F6-BD180117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545A1-11F0-47E9-92B8-79D7F7C4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F04D3-81C2-4FDF-83A1-8D870E37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D1280-A3FE-4A18-81B4-9124E83A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8EFDF-2EDD-437A-98C5-135592A2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35DB4-D265-412E-B942-021A7BDD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760-DB18-4713-A51D-133B1B1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F30BA-1411-4B9D-9D2C-89659B2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3E0F4-1997-489C-81EC-1D2103B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5C776-A6B8-4B0E-83EB-94BE814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B72A8-633A-41E8-AABA-58258E5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5B845-DD0C-45B6-B169-52D4662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55D40-1DB5-4C55-926E-64C3CFB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B4B01-0F13-4A5D-9C49-22A1220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DBE51-73E4-40D7-A7E9-4E0DD939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14C51-CE49-4BA2-896C-03333C15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44BD5-69D3-441C-88F1-1DA802F2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2229-4A3C-4641-B7CD-17965FD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DB742-920D-4DAB-B8E2-996A27B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BEBBB-188D-4362-8D30-0663F822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9E758-ADBC-4C06-B4B7-675EDF2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61B52-7683-48C9-AE5F-1945ECD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D7774-C350-483F-9719-A9CAF7B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5C2FD-72AD-4C86-8E98-32D0EFD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D916F-F576-4063-957A-0FFC0D3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4BDDE-BBB4-404C-8838-311CB40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BD050-D123-4C3B-8A11-E6E21A9E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2874B-DE8A-49AD-816C-ED5C7548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68EF-AC4B-43D4-B842-0412411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68BA9-39F6-4871-9D3B-42ACAD22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9CE19-7949-4316-8701-C75989E9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91556-0A41-4B4E-8A0A-22E8479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1A644-4955-4BFC-B83A-5108FD4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5BCA5-FD41-4020-B608-29C4EFD3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60A63-7C04-4EDE-8AC7-C28576E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C6B31-F871-4390-B0AC-3AD8E3E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2F844-E1E9-409F-BB78-DA303652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5E312-F103-43B1-A133-E5C55CC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E613F-493D-4FA7-B738-9790124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301D-0DC5-4E9D-B7B3-00002F0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61726-5EBD-4301-9126-44815B0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8C5D5-FEFD-4F8A-9505-1EE38539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C08B6-72A5-4671-8BA8-C594AF0C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EB15F-CB78-47FA-96A7-7482B02E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B00F0-A956-43B3-AA03-4EE1C77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0493D-8FEB-430C-B35E-5A4A84F7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E728B-E591-4DDD-98EB-AAE9C24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CADBB-AEDA-471B-9A66-62B01B3C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CF777-FCA1-48B6-A4CB-B35DCE35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B46A8-A7DB-45E0-891C-B72541F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915-D773-477D-8B4D-742E579B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EAD-37B6-4D32-B1BE-721D458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E539B-043C-42A2-994E-36682D4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1085A-D3D1-42B1-997D-6DE38D6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0B757-7391-48FD-BAC4-1AF1984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F9B9D-D8A8-4682-9171-E728BA9B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13365-7E73-4025-9B37-09723FF0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83E1-1989-48CD-A9F5-F5A4648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F8C-7937-43FD-85D2-8B2B45B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0D5-95ED-4DC8-8C31-4D290CB1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412-E90F-45AC-A5B3-828ABBF9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B7BE-6F0C-43A7-ACC4-65E18F5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153F-517D-42DC-AC13-9A6BCD9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AFF0-87F9-4276-8FB2-3385443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8259-A578-4286-92BF-DE58443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52F5-D4C2-4D9B-960D-A85D58D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EB0-201C-4A84-92C3-48888F1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CAF4-56D8-456A-874B-DBA75EF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1F2C-3A3E-43DE-AC25-09B36AE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7925-1C47-4324-8F5B-EB264BAD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7C36-7A17-412B-9BF6-BD20BFD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9DE6-850B-4605-9C09-97A7BAC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6CE7-B429-4ADD-808A-3AD706E8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3C1A-EC6B-43E7-8A70-91FB53D2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1552-479F-44DF-967B-89E2EC2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F01C-4021-4E64-9048-850F4C8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84BA-F78B-407B-8935-14AE1B54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D52-C32F-456F-BCE1-CE2D6408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6D19-3D2F-4573-90F8-5892D3F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B31D-A292-47F1-9E3A-9DFB4E2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58FB-72E6-4B93-BD40-27BE097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B9AA-0E5D-4119-BB30-F579DFA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DAC5-CDEF-4F49-AD44-E1F85E1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1A86-2F3B-4EF3-8FA6-6A51A46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92E1-81CD-4F53-97B0-818C297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0B49-9FA2-42BC-976F-E8AFD3AA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505C-F4A5-4CE3-8DCA-8E0284A3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8045-7CB1-402B-8113-122EF55D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B5D-7B0B-4AE6-BDE4-D6A1DB3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72A8-BFF2-428E-9022-761F68BF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28345-C7BE-465D-BF3E-BD30F12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105B-7CB4-49D8-A7EE-7F7D078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1959-120E-404C-A3F0-26A3109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239B-F7C3-40B6-963E-06AE0471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C4F0-F9D5-489D-8C9C-D6D2871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55F1-CD93-43F3-AA3F-41A6DC1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8BD5-9723-4B96-B7F3-5770DC0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A502-1CD4-4DD9-9863-FAFB0DA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0C4B-A942-4E23-B452-14F255ED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FAE-98E7-4036-B522-1CA4D0E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1595-38E7-49CA-83F5-51A65A30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D7D29-F55D-462F-9328-3F2693AE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4D9F-5AE3-484D-BEDE-F7CCE460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D6D5-540D-41AA-8375-A1D8EE15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44F6-24B4-420F-868D-3BD982FD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D286-805F-44C7-BFD0-8FB9152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6C7D-ECDF-44CD-BA64-1800C57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F35D-713F-480F-BBA0-F0FB426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D27B-7062-42B1-A3DF-7402765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7DBF7-91DB-4CF7-A62A-6064DA2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3A5-4AE9-4E4E-ABFF-CEA7BC8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F4EF-E977-47A6-83B8-96BDB90B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3FB5-4383-496A-BBEE-B46829A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64BC-C341-49A2-8991-57032BE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32ED-1B24-4C2E-8844-F961C939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C9D9-651C-47E8-BFE2-262BE36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A469-1059-416B-86F5-D056C48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973A-3706-4719-83DE-3030183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6BF8-D0B7-4943-937E-3CFA6A3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4FCA-963D-4673-A4D9-6D2479B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56D14-3A75-486B-8033-48D12CC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DDD-CA19-4550-B82B-0378C8B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2EA35-B20B-4306-ADB5-C8C0E1EF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4C04-29BB-49BE-A383-6069D32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D0E9-7B13-4B2A-9C3F-7926E0F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BC8D-ADAC-4278-89AC-FD09288C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AB69-CBD6-42C6-B6C1-A06C9238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38B4-93D8-4485-93D2-63B35799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C1AF-B493-4E21-B30D-6185C006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BDF3-2B49-4F11-A363-BF508772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FB739-59C5-4DB3-BA39-C9DB527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1A01D-F77B-46A1-84A7-4471645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67B-C428-414D-AB34-32196F4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39CA5-4BF7-495E-8973-C5CEF65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51E39-6386-4D69-B9E4-BE41676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74EE-2AE5-49F8-B9C0-9729C58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6C325-7997-4AC9-A5A8-5286056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1F39-5F66-4674-AA51-B23621A6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38AC5-3DFA-4378-8C2E-A6A93BF6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0990-18D8-4AC0-A38F-1E16E16B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9535-7074-4F3A-B852-4B6BE6EA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ECFE6-5112-48CF-A92B-F881943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703CC-C56E-41C1-9E39-9822EF0A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DFEB1-A284-42DA-864F-564354736D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F049F-655E-4FA8-8F4B-310FB18DD7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C8193-25DA-428B-8947-D343622CB8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F0ED9-9159-40EF-B565-0ECF984B34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759D4-5654-4973-ADF9-F49C16F509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2EF29-3829-49C6-B4E8-A73A469705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878CE-8974-4B37-807D-FF157CAE40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63538-BC46-42C5-8808-B56E2C3184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16254-0AB8-40C5-9B2A-328256A070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14308-CB77-405D-AFBA-ACBB7C107E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D8766-4ECC-4073-8B2F-48990CDEE1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E133D-FB15-4788-9019-CDA1669116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946B0-22B5-4CF1-8FC8-750EC3728E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3461E-995E-40CB-8A9C-9C82EF254C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9D296-FFCF-46C1-A9C2-8EFE8805F3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B131-5D9C-46B4-BFAA-8AF4A9A4BB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13423-0427-44A4-85F3-00EB9C2DBE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entury Gothic"/>
                <a:ea typeface="Aharoni"/>
              </a:rPr>
              <a:t>Великая Отечественная война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entury Gothic"/>
                <a:ea typeface="Aharoni"/>
              </a:rPr>
              <a:t>1941-1945 гг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28240" y="53337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Дети-герои войны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2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8991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Прямоугольник 1"/>
          <p:cNvSpPr/>
          <p:nvPr/>
        </p:nvSpPr>
        <p:spPr>
          <a:xfrm>
            <a:off x="434880" y="129528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Arial"/>
              </a:rPr>
              <a:t>..</a:t>
            </a: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Война обрушилась на белорусскую землю. В деревню, где жил Марат с мамой, Анной Александровной Казей, ворвались фашисты.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За связь с партизанами была схвачена Анна Александровна Казей, и вскоре Марат узнал, что маму повесили в Минске. 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Вместе с сестрой Адой Марат Казей ушел к партизанам в Станьковский лес. Он стал разведчиком, проникал во вражеские гарнизоны и доставлял командованию ценные сведения.. Марат участвовал в боях, проявлял бесстрашие и мужество, вместе с опытными подрывниками минировал железную дорогу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За мужество и отвагу пионер Марат Казей был удостоен звания Героя Советского Союза. В городе Минске поставлен памятник юному герою.</a:t>
            </a:r>
            <a:br>
              <a:rPr sz="1500"/>
            </a:br>
            <a:r>
              <a:rPr b="0" lang="ru-RU" sz="1500" spc="-1" strike="noStrike">
                <a:solidFill>
                  <a:srgbClr val="30303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0" name="Рисунок 3" descr=""/>
          <p:cNvPicPr/>
          <p:nvPr/>
        </p:nvPicPr>
        <p:blipFill>
          <a:blip r:embed="rId1"/>
          <a:stretch/>
        </p:blipFill>
        <p:spPr>
          <a:xfrm>
            <a:off x="5010120" y="990720"/>
            <a:ext cx="4133880" cy="586728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151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рат Казе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Леня Голик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2860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Рос Леня в деревне Лукино, на берегу реки Поло, что впадает в Ильмень-озеро. Когда его родное село захватил враг, мальчик ушел к партизанам. Не раз он ходил в разведку, приносил важные сведения в партизанский отряд. 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Был в его жизни бой, который Леня вел один на один с фашистским генералом. Граната, брошенная мальчиком, подбила машину. 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н погиб зимой 1943 года. 2 апреля 1944года Лене Голикову присвоили звание Героя Советского Союз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4" name="Picture 2" descr="http://voskhodinfo.su/uploads/posts/2016-06/1467142770_3027.jpg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аля Коти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28240" y="1294920"/>
            <a:ext cx="4724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гда в село Шепетовка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Фашисты наметили карательную операцию против партизан, а Валя, выследив гитлеровского офицера, возглавлявшего карателей, убил его..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Picture 2" descr="http://voskhodinfo.su/uploads/posts/2016-06/1467142770_3028.jpg"/>
          <p:cNvPicPr/>
          <p:nvPr/>
        </p:nvPicPr>
        <p:blipFill>
          <a:blip r:embed="rId1"/>
          <a:stretch/>
        </p:blipFill>
        <p:spPr>
          <a:xfrm>
            <a:off x="4876920" y="13716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4360" y="228240"/>
            <a:ext cx="6589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Зина Портнов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28240" y="1142640"/>
            <a:ext cx="5095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ойна застала ленинградскую пионерку Зину Портнову в деревне Зуя, куда она приехала на каникулы. В деревне была создана подполь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 декабре 1943 года Зина возвращалась с задания. В деревне Мостище ее выдал предатель. Фашисты схватили юную партизанку, пытали. Во время одного из допросов, выбрав момент, Зина схватила со стола пистолет и в упор выстрела в фашиста. Зина пыталась бежать, но фашисты настигли ее..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Picture 2" descr="http://voskhodinfo.su/uploads/posts/2016-06/1467142770_3029.jpg"/>
          <p:cNvPicPr/>
          <p:nvPr/>
        </p:nvPicPr>
        <p:blipFill>
          <a:blip r:embed="rId1"/>
          <a:stretch/>
        </p:blipFill>
        <p:spPr>
          <a:xfrm>
            <a:off x="5181480" y="1295280"/>
            <a:ext cx="3915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-360"/>
            <a:ext cx="6589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ася Коробк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28240" y="685800"/>
            <a:ext cx="52578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 Ночь. К зданию школы, занятому фашистами, подкрадывается Вася, он пробирается в пионерскую комнату, выносит пионерское знамя и надежно прячет его.</a:t>
            </a:r>
            <a:br>
              <a:rPr sz="16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артизаны убедились, что Васе можно доверять, и поручили ему серьезное дело: стать разведчиком в логове врага. Вместе с партизанами Вася уничтожил девять эшелонов, сотни гитлеровцев. В одном из боев он был сражен вражеской пулей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4" descr="http://voskhodinfo.su/uploads/posts/2016-06/1467142789_3041.jpg"/>
          <p:cNvPicPr/>
          <p:nvPr/>
        </p:nvPicPr>
        <p:blipFill>
          <a:blip r:embed="rId1"/>
          <a:stretch/>
        </p:blipFill>
        <p:spPr>
          <a:xfrm>
            <a:off x="5486400" y="838080"/>
            <a:ext cx="36576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58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дя Богданов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28600" y="6091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Надю дважды казнили фашисты, и боевые друзья долгие годы считали Надю погибшей. Ей даже памятник постави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фашисты бросили её. Выходили её, парализованную и почти слепую, местные жители. После войны в Одессе Наде вернули  зрение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Спустя 15 лет услышала она по радио, как начальник разведки - её командир - говорил, что никогда не забудут бойцы своих погибших товарищей, и назвал среди них Надю Богданову, которая ему, раненому, спасла жизнь... 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Picture 2" descr="http://voskhodinfo.su/uploads/posts/2016-06/1467142789_3042.jpg"/>
          <p:cNvPicPr/>
          <p:nvPr/>
        </p:nvPicPr>
        <p:blipFill>
          <a:blip r:embed="rId1"/>
          <a:stretch/>
        </p:blipFill>
        <p:spPr>
          <a:xfrm>
            <a:off x="5600880" y="609480"/>
            <a:ext cx="35431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8" descr="1331"/>
          <p:cNvPicPr/>
          <p:nvPr/>
        </p:nvPicPr>
        <p:blipFill>
          <a:blip r:embed="rId1"/>
          <a:stretch/>
        </p:blipFill>
        <p:spPr>
          <a:xfrm>
            <a:off x="1981080" y="1447920"/>
            <a:ext cx="5348520" cy="5638680"/>
          </a:xfrm>
          <a:prstGeom prst="rect">
            <a:avLst/>
          </a:prstGeom>
          <a:ln w="0">
            <a:noFill/>
          </a:ln>
        </p:spPr>
      </p:pic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Спасибо нашим прадедам за Победу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ения Черкашина</dc:creator>
  <dc:description/>
  <dc:language>en-US</dc:language>
  <cp:lastModifiedBy>Ксения Черкашина</cp:lastModifiedBy>
  <dcterms:modified xsi:type="dcterms:W3CDTF">2017-05-10T16:42:1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