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257-3A97-4360-9601-1654593D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994-A465-4429-B211-3E511A57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F361E-C15E-4D3E-95F8-F6BF2BFA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A0FC0-3224-4AC4-8B32-18FE3FC5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0EBA0-CAA6-4931-A339-77AD5E80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E28A9-0DA8-482B-9676-E605B31B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48DB0-7EAB-4F54-95FD-827A53FC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D4308-F3EE-433D-87C1-E83C068A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8BF5D-F597-467C-9450-9F8C7F7F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93563-9B29-4AEB-82B8-A238D970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06108-54BE-463B-A730-E1F99CBA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56A16-CCC0-45D2-90E6-E85EE77D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332-3453-4C7E-83D4-3E9D719E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ED7DA-F6AB-41E4-90C2-E0E82953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3F8C7-A72D-444D-A40A-6D785E5E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C2DF1-6060-4A36-9944-13095E17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A0341-AA34-4A49-8F78-C8A5E74D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DF7D1-DD9D-4A52-9E34-BC0430E1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439A1-0025-4E96-973C-2CE35111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4C7F4-3F0B-40AA-B86B-52646BDC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D8EE1-A455-4EFF-AF49-9EE31918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171B6-88DD-46F5-BF7F-17956ED1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E990C-87E3-4ED2-BE96-65E830B4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E1B-5EB5-487A-A683-FED55993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14996-CC7F-4FF4-8CE9-04DDD916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F1588-3172-416A-AD07-AFD7C328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9655B-1157-49AB-A095-182586DD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E75CD-5EEB-4F4F-8A7F-7A95CD14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A8E5B-FC15-4F1F-B219-2353A82F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B41F3-02AF-4876-B482-DB9C5BDA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3516A-FB81-444D-8A13-3D50FFC0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65CF7-CE67-4DB9-87A4-B2EA6343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5463F-F397-4A2A-8111-0EA2DD5B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1E8BD-CE57-4E6B-9193-F437D013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E04A-AAEB-45C5-ADE5-33E2E980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B2813-5030-4ACE-B859-43993CB6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5E3E1-3483-4534-8B90-AC209ADD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39073-3039-4AC4-8B44-C89E18EE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E0DD0-EED2-406C-BD05-C257C870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EBF3F-F7AD-4115-8C59-E6765D97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7DB47-1865-4645-84E1-4579877C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4B05D-4CC4-4024-A83D-E451E925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471B0-F486-4246-B814-C20BE9CA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E9765-DE2C-4E25-8E16-666348F2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C44A2-0182-4CC5-8FB3-9DF35EE0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336A-C931-42F7-B0A7-AB36B6C5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14568-BCD7-4F06-AC2E-0850D211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0997A-ED79-4092-A806-4AF2276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5E377-BF22-449F-B564-E59D290D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C51FB-946B-4F72-A7E1-F915261A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42806-0234-4B46-81A4-8906E8A9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4A7FF-2219-49E8-AD2A-2A83CDD1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449A2-C429-4F44-86D8-89443588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A2FB9-8D99-4B05-AD49-23740FCF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A0FF4-D759-41AA-8644-E487A0BB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F433A-650F-4599-8967-556A2218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6A04-9DD3-4446-A1E6-399B8693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A07D0-C9B9-4789-9C33-2A803DD6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4ABB0-AE16-48E8-9D9C-256338B2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F130A-A70E-4494-A99A-10EA754C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3FC0F-262A-477A-9E95-97B71DA0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29C17-2B71-40D5-9775-A849D5D7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C60EA-1EDB-4115-AE12-E2EE5699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8411D-CCD8-47A3-8968-860FF003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AB1BE-EEB9-47FA-A4F5-B8B0C38E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6FBB4-7355-40C8-A44D-DF43C417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68B15-C1E2-4A54-8C99-73B46D27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7FF8-3A60-4922-9528-0952D9CA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9FF2D-F85A-4DE8-85E6-C9C21E6E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10D99-1DAE-495E-80D2-6BF33F2B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81A62-DD20-4993-B506-F7CFB907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EECE2-86AE-4138-9C4B-D428047F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82638-64E6-4257-B523-3E074A42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7D670-BD0B-453E-93CF-21DC82B0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87085-2F51-4E4B-AC74-5B29868A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E8599-98D8-4F25-BFCE-DC19D18C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CD9F3-01D8-40BE-AD52-5A6DFB75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DB3C5-4735-4F9B-9A4C-C60EBAD8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FC4D-C5E7-4B54-AE1B-AB5E99E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F4E43-2E76-4D53-A382-DEF18ABE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A3021-FCDB-4A8A-A59B-95DE9DED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A8E56-3E4B-4BDB-A970-0FD0A0F0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594B3-FB82-4C84-85A5-165EA8E4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5A4F79-93AA-4842-A0D7-1460E784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E469E-0575-4539-A184-56054FEE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8B40D-F534-4306-8332-73647523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EE776-483C-461A-BD8A-3BB93E9F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F7D69-C773-425D-B1F8-9DA1F0CD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DDA237-6D9E-4D3C-829B-9A59A5A0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07F5-859C-46C1-82C5-5004357C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60EF0-1081-4FBB-B8CD-699AED45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BD346D-13DD-4A74-9FBB-27B02412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FFD02-1ECB-496C-97F1-0EE24C47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13FD8-B219-48CE-81D9-7A854D3A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3683D-1857-41FD-B8DA-455011C2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44673-E615-427E-8993-CA452BB5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ACD48A-E96A-4FE4-AA07-C5A03FBC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7C7BF3-BB59-44DD-8AA3-E5A496BA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62FF4-4F12-4F89-A19B-969CBCB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612B4-DA3D-4651-8CD1-256613E5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0253-0F8D-4400-9C99-CDD73BD5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D15EB2-6226-45C5-923E-74013D91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14301-483F-4178-AABA-698D3DD7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953474-292D-4C95-9947-EACAECE2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49CE9-A590-48E9-BD63-D9D8A9BF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4CA17-00D3-46B9-A553-4A33ADBD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2D10A5-BE32-4077-AF71-EEE7B5A2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AAE18-6F8D-4249-9AC1-EEB5CDB5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522A67-A5D5-4C6C-82F2-EE60E26C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C5E071-C9AE-434D-BFB8-29C97920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ACD6C9-FC00-4907-BBC0-DC2DDE59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01F-DC6B-4945-AE16-81B620BD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4354-5DD0-4D52-A3B4-65E4C0E4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D6221A-2B30-41B8-BCBC-4264012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4A7C15-0771-4362-8AB0-B484BD18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8E2FDD-E3AC-4795-96E9-A8F80F21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A73C6-2EFA-4F45-B8F8-19FA204D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E40AB3-FAD7-47EA-A39E-EB7E77E9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C89F-0782-4769-9450-C668A17D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B88D-9713-4B1D-8F53-C253A3A3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9402-D68D-4697-A11A-45E296FC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8258-E9E0-4977-8618-66973FDD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7F2B-52B4-47D4-9072-4A44B4B8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5D61-8B79-45B4-82DB-D291F844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B5946-2898-4864-82AF-7481FAE3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4FD6-C799-4D8D-9916-2459DDBF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01D7-310C-4E21-B9DD-005AA861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2FB-48D6-4BD4-8471-6AA774FA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6E1D-B9E1-4995-9342-91FA793C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39F8-50C9-4787-8AC8-FF5E231E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2F32-8427-4F08-B19E-5F98D1D7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3499-DB1C-4CAD-95CD-95C86E18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829E-CEA9-4355-A0DF-9F28BCC8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C52DD-1F82-49BC-B85B-679DC735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892B-4F2A-4136-937B-BEB12014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ED21F-F806-43E2-AD1C-6FBCC229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EE2B2-79FA-4D64-8E77-E3D53AD8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2D522-00C7-467A-9168-DBEA23A5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C69-A5B9-4E1D-B6D0-1E5CAFCA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7A08-6593-431E-B5E0-9DE7D321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077D8-D5A5-4DEE-97B4-ECD2410D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72370-8B2F-46E7-82CB-65F3E0FF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391E4-865F-4088-AB82-164969B4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4F6D2-B355-4D4E-BF8F-A258213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3F075-A192-49AF-92E3-45E09B5A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3C9AC-4895-48A6-8A3E-9550CE74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1C5B9-DEE3-479C-8BD4-812BA02A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DE68-A60E-4786-A5E4-BEEC40A8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9DFC2-8F84-4FCF-8274-10D5D34B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138-6ADA-40C1-9956-54D13A54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5FC4-2D26-45B2-A972-CEC18201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4614-B479-4B06-AD1C-B99F2E4F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5675F-9FEA-48D0-B99E-2B0808EA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8EB1B-5D29-4638-90AC-08B4527E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13AE6-668B-420E-B1EB-A248D46F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B34E-3431-4F21-87E3-7B741689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A7503-C7E6-4AD4-B624-99E66A7D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C41E9-1A1F-4C54-B43A-BE4BF02C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9C7E-C1EE-4956-B8A0-68C3318A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3FB98-A3D2-4392-AC35-4A57A63B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623-50A6-408B-A0C3-6B60409E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27CD0-C5DD-4CE5-AB5B-B942D205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20044-4604-4E60-9606-1F269E0F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812A7-E0E1-4D01-901C-C08783BC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EAEC5-0700-4598-9FC6-2C6D65E3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595BC-62CF-4AC4-B142-505F55EC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4B35F-7CC2-428B-A2C5-0110216D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89B52-FEE3-4840-8875-334AC70C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000E6-E727-4A0A-96D8-810BC700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34EC2-8723-4940-934E-A831E7E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2782F-82FB-4FBD-9244-D0F5063F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D28-0BB7-487F-BF7F-C45BB0CC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96C18-B459-49B7-8DA7-2271495A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D16F9-9275-48A9-AADA-D7788C87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0DA9-1775-496A-BCE8-8E456B4C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F74C9-E5BA-4AA0-9B6E-2A1BA56F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A6317-A623-4BB9-86DD-A8810D4D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A0F84-9722-4AE0-BF45-C398CDCD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C7027-DAD7-463A-A9F7-AB271CBE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9BF6D-F3EF-4009-BEFB-1EF67131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C9B1E-1186-422F-ABEF-7B7BB989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9E9DE-C9FD-436E-BE9A-A61A9135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BA3-B45F-48AC-B2C6-FB2F1496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8547B-C7DD-4EA1-B7D0-67F64243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8529B-575D-44DE-8002-8B5EEE2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501D7-E8F9-42D9-9A21-8705210F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B1B93-BC0F-4102-8207-CBE12961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54CF0-97EC-4C98-BFDC-F589BD79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3176D-8181-4CE5-9126-3E6431DE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6A429-6386-4BE1-884A-737F0BFE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EA567-C026-481D-BDA0-FC247297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6F785-88B4-41BD-801E-1D1E6958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BD7BB-2E7D-49E3-A327-4F0407D7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475-1A52-48FD-BDF4-EEFB4FC5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EFEAD-BE7C-4993-AD7C-C02F5DC2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D112E-3645-4F47-A647-53597D6D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04E3F-B675-4CE2-B61A-873514C9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602E2-3BD3-4C0A-B309-9926E93B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A5F4F-CEA5-4F3C-A2DF-57B28F5E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8F40F-B182-4651-B9CB-9370115C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E7F1B-A7C7-4037-9387-45325F43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8A99D-5495-43F0-A891-2E762352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02AAA-1D14-4380-9296-7F2E4E6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465F2-5922-45FB-8570-836702BF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0D33D-C16E-49E8-84F8-B3A4596844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2E13C-FF18-4222-BBB4-630E6819D74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E6E71-D300-4F75-BF6B-39980E0603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F6794-C05C-4E6A-9673-184711E296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4FBEB-6D6D-4E12-9672-C801BE23133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0177E-4A56-4E6C-83A4-2C2D5258D0C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EB097-6513-4A47-B29A-4E173BD6E17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85488-7410-48D2-B840-BBA14E959C6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6D529-83A2-4143-8DF2-857C9CBDA2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A5698-6FDA-4CFB-B338-A44F0B9EEDE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8A327-1713-45D7-9B9D-AB462E2ED31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BF0AF-77CC-492E-B775-E7E08681BFD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98F9E-C457-4DC9-B8FA-AEF3AE4A2BD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8F930-1631-491B-84B4-B91F1F0E0AD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E8E49-876E-4300-9634-56375C8AFD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60A1F-993C-4E57-B59B-3B669327738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635AD-B6C6-4A9B-BC27-57B25450805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entury Gothic"/>
                <a:ea typeface="Aharoni"/>
              </a:rPr>
              <a:t>Великая Отечественная война</a:t>
            </a:r>
            <a:br>
              <a:rPr sz="4900"/>
            </a:br>
            <a:r>
              <a:rPr b="1" lang="ru-RU" sz="4900" spc="-1" strike="noStrike">
                <a:solidFill>
                  <a:srgbClr val="ff0000"/>
                </a:solidFill>
                <a:latin typeface="Century Gothic"/>
                <a:ea typeface="Aharoni"/>
              </a:rPr>
              <a:t>1941-1945 гг.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28240" y="53337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Gothic"/>
              </a:rPr>
              <a:t>Дети-герои войны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Рисунок 2" descr=""/>
          <p:cNvPicPr/>
          <p:nvPr/>
        </p:nvPicPr>
        <p:blipFill>
          <a:blip r:embed="rId1"/>
          <a:stretch/>
        </p:blipFill>
        <p:spPr>
          <a:xfrm>
            <a:off x="152280" y="3200400"/>
            <a:ext cx="8991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Прямоугольник 1"/>
          <p:cNvSpPr/>
          <p:nvPr/>
        </p:nvSpPr>
        <p:spPr>
          <a:xfrm>
            <a:off x="434880" y="1295280"/>
            <a:ext cx="45720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Arial"/>
              </a:rPr>
              <a:t>..</a:t>
            </a:r>
            <a:r>
              <a:rPr b="0" lang="ru-RU" sz="1500" spc="-1" strike="noStrike">
                <a:solidFill>
                  <a:srgbClr val="303030"/>
                </a:solidFill>
                <a:latin typeface="Arial"/>
              </a:rPr>
              <a:t>Война обрушилась на белорусскую землю. В деревню, где жил Марат с мамой, Анной Александровной Казей, ворвались фашисты. 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303030"/>
                </a:solidFill>
                <a:latin typeface="Arial"/>
              </a:rPr>
              <a:t>За связь с партизанами была схвачена Анна Александровна Казей, и вскоре Марат узнал, что маму повесили в Минске.  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303030"/>
                </a:solidFill>
                <a:latin typeface="Arial"/>
              </a:rPr>
              <a:t>Вместе с сестрой Адой Марат Казей ушел к партизанам в Станьковский лес. Он стал разведчиком, проникал во вражеские гарнизоны и доставлял командованию ценные сведения.. Марат участвовал в боях, проявлял бесстрашие и мужество, вместе с опытными подрывниками минировал железную дорогу.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303030"/>
                </a:solidFill>
                <a:latin typeface="Arial"/>
              </a:rPr>
              <a:t>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303030"/>
                </a:solidFill>
                <a:latin typeface="Arial"/>
              </a:rPr>
              <a:t>За мужество и отвагу пионер Марат Казей был удостоен звания Героя Советского Союза. В городе Минске поставлен памятник юному герою.</a:t>
            </a:r>
            <a:br>
              <a:rPr sz="1500"/>
            </a:br>
            <a:r>
              <a:rPr b="0" lang="ru-RU" sz="1500" spc="-1" strike="noStrike">
                <a:solidFill>
                  <a:srgbClr val="30303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0" name="Рисунок 3" descr=""/>
          <p:cNvPicPr/>
          <p:nvPr/>
        </p:nvPicPr>
        <p:blipFill>
          <a:blip r:embed="rId1"/>
          <a:stretch/>
        </p:blipFill>
        <p:spPr>
          <a:xfrm>
            <a:off x="5010120" y="990720"/>
            <a:ext cx="4133880" cy="5867280"/>
          </a:xfrm>
          <a:prstGeom prst="rect">
            <a:avLst/>
          </a:prstGeom>
          <a:ln w="0">
            <a:noFill/>
          </a:ln>
        </p:spPr>
      </p:pic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944360" y="1519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арат Казей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Леня Голиков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28600" y="13712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Рос Леня в деревне Лукино, на берегу реки Поло, что впадает в Ильмень-озеро. Когда его родное село захватил враг, мальчик ушел к партизанам. Не раз он ходил в разведку, приносил важные сведения в партизанский отряд. </a:t>
            </a:r>
            <a:br>
              <a:rPr sz="1600"/>
            </a:b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Был в его жизни бой, который Леня вел один на один с фашистским генералом. Граната, брошенная мальчиком, подбила машину. 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600"/>
            </a:b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Он погиб зимой 1943 года. 2 апреля 1944года Лене Голикову присвоили звание Героя Советского Союза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4" name="Picture 2" descr="http://voskhodinfo.su/uploads/posts/2016-06/1467142770_3027.jpg"/>
          <p:cNvPicPr/>
          <p:nvPr/>
        </p:nvPicPr>
        <p:blipFill>
          <a:blip r:embed="rId1"/>
          <a:stretch/>
        </p:blipFill>
        <p:spPr>
          <a:xfrm>
            <a:off x="4724280" y="1371600"/>
            <a:ext cx="4419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аля Котик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228240" y="1294920"/>
            <a:ext cx="4724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Когда в село Шепетовка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500"/>
            </a:b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Фашисты наметили карательную операцию против партизан, а Валя, выследив гитлеровского офицера, возглавлявшего карателей, убил его..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Picture 2" descr="http://voskhodinfo.su/uploads/posts/2016-06/1467142770_3028.jpg"/>
          <p:cNvPicPr/>
          <p:nvPr/>
        </p:nvPicPr>
        <p:blipFill>
          <a:blip r:embed="rId1"/>
          <a:stretch/>
        </p:blipFill>
        <p:spPr>
          <a:xfrm>
            <a:off x="4876920" y="1371600"/>
            <a:ext cx="4267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944360" y="228240"/>
            <a:ext cx="6589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Зина Портнов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28240" y="1142640"/>
            <a:ext cx="5095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ойна застала ленинградскую пионерку Зину Портнову в деревне Зуя, куда она приехала на каникулы. В деревне была создана подполь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 декабре 1943 года Зина возвращалась с задания. В деревне Мостище ее выдал предатель. Фашисты схватили юную партизанку, пытали. Во время одного из допросов, выбрав момент, Зина схватила со стола пистолет и в упор выстрела в фашиста. Зина пыталась бежать, но фашисты настигли ее..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600"/>
            </a:b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0" name="Picture 2" descr="http://voskhodinfo.su/uploads/posts/2016-06/1467142770_3029.jpg"/>
          <p:cNvPicPr/>
          <p:nvPr/>
        </p:nvPicPr>
        <p:blipFill>
          <a:blip r:embed="rId1"/>
          <a:stretch/>
        </p:blipFill>
        <p:spPr>
          <a:xfrm>
            <a:off x="5181480" y="1295280"/>
            <a:ext cx="3915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-360"/>
            <a:ext cx="6589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ася Коробко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28240" y="685800"/>
            <a:ext cx="525780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 Ночь. К зданию школы, занятому фашистами, подкрадывается Вася, он пробирается в пионерскую комнату, выносит пионерское знамя и надежно прячет его.</a:t>
            </a:r>
            <a:br>
              <a:rPr sz="1600"/>
            </a:b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артизаны убедились, что Васе можно доверять, и поручили ему серьезное дело: стать разведчиком в логове врага. Вместе с партизанами Вася уничтожил девять эшелонов, сотни гитлеровцев. В одном из боев он был сражен вражеской пулей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3" name="Picture 4" descr="http://voskhodinfo.su/uploads/posts/2016-06/1467142789_3041.jpg"/>
          <p:cNvPicPr/>
          <p:nvPr/>
        </p:nvPicPr>
        <p:blipFill>
          <a:blip r:embed="rId1"/>
          <a:stretch/>
        </p:blipFill>
        <p:spPr>
          <a:xfrm>
            <a:off x="5486400" y="838080"/>
            <a:ext cx="36576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58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адя Богданов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28600" y="609120"/>
            <a:ext cx="5029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Надю дважды казнили фашисты, и боевые друзья долгие годы считали Надю погибшей. Ей даже памятник поставили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фашисты бросили её. Выходили её, парализованную и почти слепую, местные жители. После войны в Одессе Наде вернули  зрение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Спустя 15 лет услышала она по радио, как начальник разведки - её командир - говорил, что никогда не забудут бойцы своих погибших товарищей, и назвал среди них Надю Богданову, которая ему, раненому, спасла жизнь... 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6" name="Picture 2" descr="http://voskhodinfo.su/uploads/posts/2016-06/1467142789_3042.jpg"/>
          <p:cNvPicPr/>
          <p:nvPr/>
        </p:nvPicPr>
        <p:blipFill>
          <a:blip r:embed="rId1"/>
          <a:stretch/>
        </p:blipFill>
        <p:spPr>
          <a:xfrm>
            <a:off x="5600880" y="609480"/>
            <a:ext cx="35431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Picture 8" descr="1331"/>
          <p:cNvPicPr/>
          <p:nvPr/>
        </p:nvPicPr>
        <p:blipFill>
          <a:blip r:embed="rId1"/>
          <a:stretch/>
        </p:blipFill>
        <p:spPr>
          <a:xfrm>
            <a:off x="1981080" y="1447920"/>
            <a:ext cx="5348520" cy="5638680"/>
          </a:xfrm>
          <a:prstGeom prst="rect">
            <a:avLst/>
          </a:prstGeom>
          <a:ln w="0">
            <a:noFill/>
          </a:ln>
        </p:spPr>
      </p:pic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Спасибо нашим прадедам за Победу!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сения Черкашина</dc:creator>
  <dc:description/>
  <dc:language>en-US</dc:language>
  <cp:lastModifiedBy>Ксения Черкашина</cp:lastModifiedBy>
  <dcterms:modified xsi:type="dcterms:W3CDTF">2017-05-10T16:42:16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