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3DF9-5A93-4047-8330-836461C8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75E9-9286-4C8E-A9DB-5690B001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BA96-77C9-4C5B-8586-DA8B6ABB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BBEA-3DDD-4E91-9140-01EB7077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028D-F3D7-4F7C-9630-4163B162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B77D-DD75-487F-915A-0A542171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14BE-9D76-4E80-BD78-D5B44340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CD08-D460-4F75-B0FD-1F830F35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DEC2-8A77-4AA3-A43C-1445F515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5043-B028-4F23-9072-6835A734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0ACD-266D-409B-90C2-3937357E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D5E91-06D0-460F-8C31-9FFC4D5A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A645-B222-4E91-9631-5FDAB63D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94CC-475F-43DA-A4E6-406E6268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D199-26E0-411C-B45F-B651D91C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A67D-C812-45AC-A8E5-30DAB496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D4D8-DD97-4F8C-A9F5-F54A8ACF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84B58-F32F-40FB-9DE0-346424FA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547A-484B-46A3-B85C-250E033E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8308-2921-4BA3-9638-EE16AF92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E9B51-B83C-4FA8-96B5-E949DF8D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CE15-C69A-4CA5-A32E-B3DDA431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397C-2ADB-4B6E-A595-95D0C3DD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DCE2-3CEF-4829-9CA5-D63315EF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13CD-7A90-4454-ABB3-59185702CA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2799-91FF-495A-9183-F7C2F9A80F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та – глобуса сестриц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плоская девиц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карту расстелить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к стенке прикрепит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ней легко идти в поход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шь свернуть – и нет хлопот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 на глобусе деревни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о не видн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на карте, на подробной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ите, вот она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обус – важный господин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до кружится один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от карт не счесть на свете –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льцев вам не хватит, дет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ты мира, островов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н, посёлков, город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ты разных есть дорог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по ним ты ехать мог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сели вы за парты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айте мира карты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геева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Географическая карта – особый источник информации. Содержание и значение кар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92360" y="5157720"/>
            <a:ext cx="34671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ьева Е.А. – учитель географии МБОУ СОШ п.Солидарность Елецкого муниципального района Липец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7d"/>
                </a:solidFill>
                <a:latin typeface="Arial"/>
              </a:rPr>
              <a:t>Почему географическими картами пользуются чаще, чем глобус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данным разделом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(стр. 40) и ответить на поставленные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модель Земли, когда и кто первым её изобрё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удобнее пользоваться глобусом или географической картой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7d"/>
                </a:solidFill>
                <a:latin typeface="Arial"/>
              </a:rPr>
              <a:t>Какими свойствами обладает географическая кар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в учебники ответы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ми свойствами карта отличается от плана мест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-первых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-вторых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ретьих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четвёртых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Какие бывают географические кар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масшта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хвату терри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содерж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ур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№№ 1,6,7,9,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№№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7T18:33:52Z</dcterms:created>
  <dc:creator>User</dc:creator>
  <dc:description/>
  <dc:language>en-US</dc:language>
  <cp:lastModifiedBy>User</cp:lastModifiedBy>
  <dcterms:modified xsi:type="dcterms:W3CDTF">2015-12-17T19:03:55Z</dcterms:modified>
  <cp:revision>2</cp:revision>
  <dc:subject/>
  <dc:title>Слайд 1</dc:title>
</cp:coreProperties>
</file>