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646F-4E12-4DEE-BD79-D6D20BE6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5D2B-31FF-4398-B3FA-F92F5BB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B9DF-0A10-4EDC-99E3-C6169CAB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DC42-24A2-4B25-BFA8-6C0606C0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C9F-B353-427F-911E-48BE7D41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A5E6-61E3-4C4C-9A56-ECE5C95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497B-C601-48D6-B25F-27F4DFC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065-98A2-4770-9646-92535EE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0484-A666-4A69-9703-82631B6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1EDB-40F8-4243-B39A-08BD91E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0E2-92FA-4C32-BACA-4B11FA8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2F72-32A1-4E9A-B6E8-DC40791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E378-2BC4-4051-865A-07C6C8D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FB9-2A24-4538-8301-2B3C884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223-B6DD-4F57-9934-B2C37526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580-7B62-4483-9BBA-E70222A1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105D-25D1-4E10-B444-007B3B7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7D11-8FE4-4F24-9C3C-825A2D6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E495-24D3-4387-B2AF-7A6ED66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D03A-4FB8-435D-BF5D-7B4C9C4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6BB6-2752-4920-9E3A-9330F4A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BFE7-F58F-423E-8B67-855D456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B483-69F9-4F9E-B120-680E68D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5D19-7A69-438E-A360-0FC64A75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C57-6291-4237-B3A0-EFB2FD07A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A57-F8E8-40F1-91F6-6818F2BC9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а – глобуса сестриц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лоская девиц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арту расстели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 стенке прикрепи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ней легко идти в поход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шь свернуть – и нет хлопо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на глобусе дерев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 видн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а карте, на подробн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те, вот она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ус – важный господ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о кружится од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от карт не счесть на свете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ев вам не хватит, дет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ы мира, островов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н, посёлков, город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ы разных есть дорог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по ним ты ехать мог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ели вы за парты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айте мира карты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геева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еографическая карта – особый источник информации. Содержание и значение ка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92360" y="5157720"/>
            <a:ext cx="3467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ева Е.А. – учитель географии МБОУ СОШ п.Солидарность Елецкого муниципального района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Почему географическими картами пользуются чаще, чем глобус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данным раздело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(стр. 40) и ответить на поставлен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модель Земли, когда и кто первым её изобр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удобнее пользоваться глобусом или географической картой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Какими свойствами обладает географическая ка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в учебники ответы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и свойствами карта отличается от плана мес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перв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втор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ретьи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етвёрт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Какие бывают географические кар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асшта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хвату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у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№№ 1,6,7,9,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№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18:33:52Z</dcterms:created>
  <dc:creator>User</dc:creator>
  <dc:description/>
  <dc:language>en-US</dc:language>
  <cp:lastModifiedBy>User</cp:lastModifiedBy>
  <dcterms:modified xsi:type="dcterms:W3CDTF">2015-12-17T19:03:55Z</dcterms:modified>
  <cp:revision>2</cp:revision>
  <dc:subject/>
  <dc:title>Слайд 1</dc:title>
</cp:coreProperties>
</file>