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42C-FA33-442D-ACD5-FB091864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548-F6AD-4305-8E09-9C550DD5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C17B-655A-413D-AF70-1D712486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704-1804-4E48-ABD6-D14DA476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8B18-6F8A-4477-BF93-2508EEF5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2EAC-1E64-4BB5-B9FF-80C1D501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A607-21CF-4F06-99FB-23125866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D5D9-80D3-441D-9358-BD6BDCEE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673F-41EA-4A6A-AF0A-E117DEAF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85C8-8799-4200-A49C-88920309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C294-31DE-45B4-AE21-28C064D5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A24-E999-4400-B92D-693A03A7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2200-EF44-4781-9EE5-88F6F775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D437-A298-4EB2-AD3D-F353A15D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6560-7E74-40D4-BB38-DE239F89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0506-0262-4613-8F6B-328D33AA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B52E-24B8-49A1-9B71-FF9D789D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67AC3-9045-4F89-A651-CB179ECE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6142E-35AB-419F-91B1-128B3C8E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EC532-F90B-488B-89FC-E9A537CE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0E5EA-E92D-4660-BA82-863C03FD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BD5E8-011C-4AF3-8B89-46E506D5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145E-2051-4D38-ADA4-64352BF2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42CE2-4813-4186-A5BD-1508338E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AF84B-14A8-43CB-86E4-BE4591C3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299E3-26DA-4796-A472-14A7DBDA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F0958-498A-4829-BE8E-76983E79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033B6-4F3D-452F-BD54-446EF1B0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A5246-2453-400F-AE87-DF0DCCCE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DF59A-AD64-43F3-8D93-79298265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AD48F-F7FF-47EE-A8C0-A206E82E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02C0E-CDD3-4C0B-917A-62520E00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C14E9-A4A5-4AE5-BEB9-62B1FFA9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67D-7E06-4065-A126-6CDCD892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03A4D-2474-4DAE-AF10-8818621F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867DC-436B-43F5-8F08-E17C8424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759B1-B8E0-4151-8655-6C10C5B1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2780C-7BDB-45CB-8A64-FFDFADB2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D1C59-247C-4069-9477-A72E2090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387FB-C8B2-48AC-8090-DA1F5FA0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90C70-3AD6-4955-8D3B-4D6BAC87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39531-0DE8-4059-A2FC-5C779390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02611-4A74-4BE1-841F-A07A5F2A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9C24-5719-4CF9-A957-940B55F7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FC0-D4B2-4A98-9539-9F67F589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4E01-67CD-4BEC-BC5D-40F1027A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7159-674D-4D6D-A253-0D99B563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77B3-A58E-42F1-81B4-75EAAF57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EAF8-6093-4D9B-8AF7-D32313E8B096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CFD4-398C-4AD1-A29F-81014D48461C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EA59-B11F-49F9-ACFE-CCDEE6F8BBF8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DD83-8019-48BC-BAA8-FE20D255D9E3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39640" y="213372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Аллергия – особая чувствительность к некоторым веществам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Нельзя употреблять отдельные продукты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Solnushko-1"/>
          <p:cNvPicPr/>
          <p:nvPr/>
        </p:nvPicPr>
        <p:blipFill>
          <a:blip r:embed="rId1"/>
          <a:stretch/>
        </p:blipFill>
        <p:spPr>
          <a:xfrm>
            <a:off x="4835520" y="115920"/>
            <a:ext cx="4118040" cy="3744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250920" y="1716120"/>
            <a:ext cx="412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49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</a:t>
            </a:r>
            <a:r>
              <a:rPr b="0" lang="ru-RU" sz="3200" spc="-1" strike="noStrike">
                <a:solidFill>
                  <a:srgbClr val="021510"/>
                </a:solidFill>
                <a:latin typeface="Times New Roman"/>
                <a:ea typeface="Times New Roman"/>
              </a:rPr>
              <a:t>неб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оди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49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яр без ки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49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кой коричнев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49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т люд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50920" y="1716120"/>
            <a:ext cx="412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1510"/>
                </a:solidFill>
                <a:latin typeface="Times New Roman"/>
                <a:ea typeface="Times New Roman"/>
              </a:rPr>
              <a:t>В морях и реках обитает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1510"/>
                </a:solidFill>
                <a:latin typeface="Times New Roman"/>
                <a:ea typeface="Times New Roman"/>
              </a:rPr>
              <a:t>Но часто по небу летает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1510"/>
                </a:solidFill>
                <a:latin typeface="Times New Roman"/>
                <a:ea typeface="Times New Roman"/>
              </a:rPr>
              <a:t>А как наскучит ее летать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1510"/>
                </a:solidFill>
                <a:latin typeface="Times New Roman"/>
                <a:ea typeface="Times New Roman"/>
              </a:rPr>
              <a:t>На землю падает опять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5" descr="sudamla"/>
          <p:cNvPicPr/>
          <p:nvPr/>
        </p:nvPicPr>
        <p:blipFill>
          <a:blip r:embed="rId1"/>
          <a:stretch/>
        </p:blipFill>
        <p:spPr>
          <a:xfrm>
            <a:off x="4375080" y="0"/>
            <a:ext cx="4567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68000" y="2779200"/>
            <a:ext cx="555444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нос проходит в груд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братный держит путь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евидимый, и все ж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него мы жить не можем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7" descr="396448-1680x1050"/>
          <p:cNvPicPr/>
          <p:nvPr/>
        </p:nvPicPr>
        <p:blipFill>
          <a:blip r:embed="rId1"/>
          <a:stretch/>
        </p:blipFill>
        <p:spPr>
          <a:xfrm>
            <a:off x="4427640" y="260280"/>
            <a:ext cx="43527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21510"/>
                </a:solidFill>
                <a:latin typeface="Times New Roman"/>
                <a:ea typeface="Times New Roman"/>
              </a:rPr>
              <a:t>СОЛНЦЕ,</a:t>
            </a:r>
            <a:br>
              <a:rPr sz="3600"/>
            </a:br>
            <a:r>
              <a:rPr b="0" lang="ru-RU" sz="3600" spc="-1" strike="noStrike">
                <a:solidFill>
                  <a:srgbClr val="021510"/>
                </a:solidFill>
                <a:latin typeface="Times New Roman"/>
                <a:ea typeface="Times New Roman"/>
              </a:rPr>
              <a:t>ВОЗДУХ И ВОДА – НАШИ ЛУЧШИЕ ДРУЗЬЯ!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и и задачи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знать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предупреждать болезн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значит быть закалённым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такое  инфекционные  болезни и аллерг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читьс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 правилам закаливания организм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бщие правила закаливан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Систематичность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Постепенность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Настойчивость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img0"/>
          <p:cNvPicPr/>
          <p:nvPr/>
        </p:nvPicPr>
        <p:blipFill>
          <a:blip r:embed="rId1"/>
          <a:stretch/>
        </p:blipFill>
        <p:spPr>
          <a:xfrm>
            <a:off x="684360" y="333360"/>
            <a:ext cx="7991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4617b"/>
                </a:solidFill>
                <a:uFillTx/>
                <a:latin typeface="Calibri"/>
              </a:rPr>
              <a:t>Инфекционные болезни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Инфекция – (лат.) «заражать»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Эпидемия – (греч.) «повальная болезнь»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22:23:50Z</dcterms:created>
  <dc:creator>Учитель</dc:creator>
  <dc:description/>
  <dc:language>en-US</dc:language>
  <cp:lastModifiedBy>Невзорова</cp:lastModifiedBy>
  <dcterms:modified xsi:type="dcterms:W3CDTF">2017-01-12T06:11:27Z</dcterms:modified>
  <cp:revision>9</cp:revision>
  <dc:subject/>
  <dc:title>Слайд 1</dc:title>
</cp:coreProperties>
</file>