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48F1-D824-41C9-8208-0F28D20A5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5A74-6756-431D-A6EB-ACA97DEC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3D37-74FC-43A0-ABBA-1DF9AA30E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685F-CE81-43AD-85D5-C2C87FB49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D1E3-F97C-4F38-8C62-C962FD696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8661-EC3F-4374-AD07-90F6B72D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08C9-10EB-4FB4-BDBA-0854DA6F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04FC-954B-4B36-8D76-B0F973CA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FDC3-76D5-4E2A-9E69-0188C89B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069E-9FB1-49E8-BFCC-936C70C3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BCAF-AC51-43A6-A0CB-94F6C86E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3200-AC6D-4C58-947B-86AE9503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54B8-7154-4B56-83AA-1B827E95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20F9-AFBC-4B81-91A5-9C469318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4527-5A96-4E20-8058-90306929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C509-F91F-417E-8033-0E442822E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A955-BAF4-4E83-B365-20C8F3C7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DF3C2-757F-4F6D-AAD1-1A6EA5062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AD1C7-316E-4B0A-8F35-3D44992F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2D368-ECC9-49B3-BE99-61D6DF70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3C10E-ADB4-4229-8A9D-BD318829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693E7-119C-46C3-97A2-DA612BBA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068E-6DAD-491B-8589-AB260067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2F016-4A99-4A02-8027-7E85234B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1D177-33C2-498D-B6CB-87A42C51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71CC7-F0D2-49A0-953D-E8FFFC65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9AAEE-4FAF-45E3-812B-323EAD70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35605-E453-46D8-8DAB-D51B10A5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FF579-1C01-418A-B34B-C5126392F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20392-AFC9-48C2-A6E0-C5839462D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2C93C-8421-4D2B-8AF8-9745C5F8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BF2B6-EDC5-4DFC-A289-94BCA0E4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3A12D-8E83-4770-A78B-8D370EBB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6C2B-7AC8-4BCC-822C-8527C1FE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2B6AA-7B16-4300-AFBD-4862A41A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A3BFE-B1DC-49ED-8924-63196D1C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C4777-6FB3-4184-82E3-A648FFB8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E0977-95A5-46AD-B792-88983808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C7951-657D-40FE-9BB6-2B2886F0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6A200-DB5F-4C07-A16C-FA780DE1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7E931-F779-4DBA-80AD-215CE5E1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86195-66D5-45C3-9C9C-B424C6DF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4D8FA-6727-41F1-BC8E-FC99423C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E7A6-6EE4-4D65-A54F-9549BF32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EA91-9D65-4D13-BB1F-BBDD517C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FEEA-5F6C-4911-9BEB-E5EC6230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E3CA-4B49-43C0-AE17-1BDA7C8B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6B0C-7109-4FA8-9F19-95F1F407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4E29-1BA2-4432-B456-A4BE2659DA05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8B4D-1448-4DCD-B132-36847F058D10}" type="slidenum">
              <a:rPr b="0" lang="ru-RU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C68E-1CE2-418C-814C-3040A33CABB3}" type="slidenum">
              <a:rPr b="0" lang="ru-RU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5FE0-EE57-4646-AE1C-BE0133882D0F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39640" y="213372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Аллергия – особая чувствительность к некоторым веществам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Нельзя употреблять отдельные продукты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Solnushko-1"/>
          <p:cNvPicPr/>
          <p:nvPr/>
        </p:nvPicPr>
        <p:blipFill>
          <a:blip r:embed="rId1"/>
          <a:stretch/>
        </p:blipFill>
        <p:spPr>
          <a:xfrm>
            <a:off x="4835520" y="115920"/>
            <a:ext cx="4118040" cy="37447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3"/>
          <p:cNvSpPr/>
          <p:nvPr/>
        </p:nvSpPr>
        <p:spPr>
          <a:xfrm>
            <a:off x="250920" y="1716120"/>
            <a:ext cx="412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f49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</a:t>
            </a:r>
            <a:r>
              <a:rPr b="0" lang="ru-RU" sz="3200" spc="-1" strike="noStrike">
                <a:solidFill>
                  <a:srgbClr val="021510"/>
                </a:solidFill>
                <a:latin typeface="Times New Roman"/>
                <a:ea typeface="Times New Roman"/>
              </a:rPr>
              <a:t>неб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оди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f49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яр без кист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f49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кой коричнево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f491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ит люд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50920" y="1716120"/>
            <a:ext cx="412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21510"/>
                </a:solidFill>
                <a:latin typeface="Times New Roman"/>
                <a:ea typeface="Times New Roman"/>
              </a:rPr>
              <a:t>В морях и реках обитает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21510"/>
                </a:solidFill>
                <a:latin typeface="Times New Roman"/>
                <a:ea typeface="Times New Roman"/>
              </a:rPr>
              <a:t>Но часто по небу летает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21510"/>
                </a:solidFill>
                <a:latin typeface="Times New Roman"/>
                <a:ea typeface="Times New Roman"/>
              </a:rPr>
              <a:t>А как наскучит ее летать,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21510"/>
                </a:solidFill>
                <a:latin typeface="Times New Roman"/>
                <a:ea typeface="Times New Roman"/>
              </a:rPr>
              <a:t>На землю падает опять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5" descr="sudamla"/>
          <p:cNvPicPr/>
          <p:nvPr/>
        </p:nvPicPr>
        <p:blipFill>
          <a:blip r:embed="rId1"/>
          <a:stretch/>
        </p:blipFill>
        <p:spPr>
          <a:xfrm>
            <a:off x="4375080" y="0"/>
            <a:ext cx="4567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68000" y="2779200"/>
            <a:ext cx="5554440" cy="36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нос проходит в грудь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братный держит путь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невидимый, и все ж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него мы жить не можем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7" descr="396448-1680x1050"/>
          <p:cNvPicPr/>
          <p:nvPr/>
        </p:nvPicPr>
        <p:blipFill>
          <a:blip r:embed="rId1"/>
          <a:stretch/>
        </p:blipFill>
        <p:spPr>
          <a:xfrm>
            <a:off x="4427640" y="260280"/>
            <a:ext cx="43527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564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21510"/>
                </a:solidFill>
                <a:latin typeface="Times New Roman"/>
                <a:ea typeface="Times New Roman"/>
              </a:rPr>
              <a:t>СОЛНЦЕ,</a:t>
            </a:r>
            <a:br>
              <a:rPr sz="3600"/>
            </a:br>
            <a:r>
              <a:rPr b="0" lang="ru-RU" sz="3600" spc="-1" strike="noStrike">
                <a:solidFill>
                  <a:srgbClr val="021510"/>
                </a:solidFill>
                <a:latin typeface="Times New Roman"/>
                <a:ea typeface="Times New Roman"/>
              </a:rPr>
              <a:t>ВОЗДУХ И ВОДА – НАШИ ЛУЧШИЕ ДРУЗЬЯ!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Цели и задачи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знать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предупреждать болезн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то значит быть закалённым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то такое  инфекционные  болезни и аллерг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читьс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: правилам закаливания организм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Общие правила закаливани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18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nstantia"/>
              </a:rPr>
              <a:t>Систематичность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18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nstantia"/>
              </a:rPr>
              <a:t>Постепенность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18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nstantia"/>
              </a:rPr>
              <a:t>Настойчивость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img0"/>
          <p:cNvPicPr/>
          <p:nvPr/>
        </p:nvPicPr>
        <p:blipFill>
          <a:blip r:embed="rId1"/>
          <a:stretch/>
        </p:blipFill>
        <p:spPr>
          <a:xfrm>
            <a:off x="684360" y="333360"/>
            <a:ext cx="79912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4617b"/>
                </a:solidFill>
                <a:uFillTx/>
                <a:latin typeface="Calibri"/>
              </a:rPr>
              <a:t>Инфекционные болезни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Инфекция – (лат.) «заражать»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Эпидемия – (греч.) «повальная болезнь»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0T22:23:50Z</dcterms:created>
  <dc:creator>Учитель</dc:creator>
  <dc:description/>
  <dc:language>en-US</dc:language>
  <cp:lastModifiedBy>Невзорова</cp:lastModifiedBy>
  <dcterms:modified xsi:type="dcterms:W3CDTF">2017-01-12T06:11:27Z</dcterms:modified>
  <cp:revision>9</cp:revision>
  <dc:subject/>
  <dc:title>Слайд 1</dc:title>
</cp:coreProperties>
</file>