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D30-CA5B-4F3A-A267-50539CB8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A7F-DD3A-48CD-BC17-F31ECF19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7B7-BC82-4496-9C47-DB0F0D4A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349-BD2B-494C-8430-BFE45A67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EBC-4316-4134-9A21-169DD17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EAC-9CCA-421E-9C83-D95887EA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899-7E78-4914-99C3-D42C702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834-CE5B-4E52-B697-15814AD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12C-27B8-4425-9EAF-738A3FA2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C3A-0BF7-489B-8BA2-FD95675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F2D-0C30-447B-AD03-222786B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CB1-73F7-4DAB-A175-117A0C0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4E3-13C0-4DE1-B328-621AD064D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hyperlink" Target="http://www.grandars.ru/college/biznes/tovar.html" TargetMode="External"/><Relationship Id="rId4" Type="http://schemas.openxmlformats.org/officeDocument/2006/relationships/hyperlink" Target="http://www.grandars.ru/student/marketing/tovary-i-uslugi.html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571680" y="2858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тьбенская средння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000080" y="435780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нкуренция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0" y="0"/>
          <a:ext cx="9532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532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0" y="0"/>
          <a:ext cx="95328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532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17"/>
          <p:cNvSpPr/>
          <p:nvPr/>
        </p:nvSpPr>
        <p:spPr>
          <a:xfrm>
            <a:off x="1928880" y="235728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производителей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928880" y="30718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производителей/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124"/>
          <p:cNvSpPr/>
          <p:nvPr/>
        </p:nvSpPr>
        <p:spPr>
          <a:xfrm>
            <a:off x="1857240" y="407196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крупных производителей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2"/>
          <p:cNvSpPr/>
          <p:nvPr/>
        </p:nvSpPr>
        <p:spPr>
          <a:xfrm>
            <a:off x="1928880" y="514368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143"/>
          <p:cNvSpPr/>
          <p:nvPr/>
        </p:nvSpPr>
        <p:spPr>
          <a:xfrm>
            <a:off x="3429000" y="24289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47"/>
          <p:cNvSpPr/>
          <p:nvPr/>
        </p:nvSpPr>
        <p:spPr>
          <a:xfrm>
            <a:off x="3500280" y="5214960"/>
            <a:ext cx="113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ник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145"/>
          <p:cNvSpPr/>
          <p:nvPr/>
        </p:nvSpPr>
        <p:spPr>
          <a:xfrm>
            <a:off x="3286080" y="4143240"/>
            <a:ext cx="159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144"/>
          <p:cNvSpPr/>
          <p:nvPr/>
        </p:nvSpPr>
        <p:spPr>
          <a:xfrm>
            <a:off x="3357720" y="32148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48"/>
          <p:cNvSpPr/>
          <p:nvPr/>
        </p:nvSpPr>
        <p:spPr>
          <a:xfrm>
            <a:off x="4929120" y="235728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149"/>
          <p:cNvSpPr/>
          <p:nvPr/>
        </p:nvSpPr>
        <p:spPr>
          <a:xfrm>
            <a:off x="4857840" y="31431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50"/>
          <p:cNvSpPr/>
          <p:nvPr/>
        </p:nvSpPr>
        <p:spPr>
          <a:xfrm>
            <a:off x="4786200" y="414324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ществуют препятствия для входа в отрас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4786200" y="5143680"/>
            <a:ext cx="150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еодол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128"/>
          <p:cNvSpPr/>
          <p:nvPr/>
        </p:nvSpPr>
        <p:spPr>
          <a:xfrm>
            <a:off x="6215040" y="2214720"/>
            <a:ext cx="158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сутствует возможность влиять на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136"/>
          <p:cNvSpPr/>
          <p:nvPr/>
        </p:nvSpPr>
        <p:spPr>
          <a:xfrm>
            <a:off x="6215040" y="3000240"/>
            <a:ext cx="1428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цены огранич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137"/>
          <p:cNvSpPr/>
          <p:nvPr/>
        </p:nvSpPr>
        <p:spPr>
          <a:xfrm>
            <a:off x="6215040" y="4071960"/>
            <a:ext cx="150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дер рынка име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138"/>
          <p:cNvSpPr/>
          <p:nvPr/>
        </p:nvSpPr>
        <p:spPr>
          <a:xfrm>
            <a:off x="6215040" y="5143680"/>
            <a:ext cx="1428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 устанавливает монопольную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138"/>
          <p:cNvSpPr/>
          <p:nvPr/>
        </p:nvSpPr>
        <p:spPr>
          <a:xfrm>
            <a:off x="7643880" y="2357280"/>
            <a:ext cx="196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138"/>
          <p:cNvSpPr/>
          <p:nvPr/>
        </p:nvSpPr>
        <p:spPr>
          <a:xfrm>
            <a:off x="7643880" y="228600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щевая промышленность 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1"/>
          <p:cNvSpPr/>
          <p:nvPr/>
        </p:nvSpPr>
        <p:spPr>
          <a:xfrm>
            <a:off x="7643880" y="307188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нок мобильной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2"/>
          <p:cNvSpPr/>
          <p:nvPr/>
        </p:nvSpPr>
        <p:spPr>
          <a:xfrm>
            <a:off x="7715160" y="4071960"/>
            <a:ext cx="142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фтяной сектор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койл, Т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3"/>
          <p:cNvSpPr/>
          <p:nvPr/>
        </p:nvSpPr>
        <p:spPr>
          <a:xfrm>
            <a:off x="7643880" y="51436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зпром, РЖД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-27000" y="792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1089000" y="2682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ночные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179280" y="1285920"/>
            <a:ext cx="8785440" cy="53118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79280" y="2204640"/>
            <a:ext cx="878544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"/>
          <p:cNvSpPr/>
          <p:nvPr/>
        </p:nvSpPr>
        <p:spPr>
          <a:xfrm flipV="1">
            <a:off x="179280" y="3220560"/>
            <a:ext cx="878544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V="1">
            <a:off x="189000" y="4797000"/>
            <a:ext cx="8766000" cy="7164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7"/>
          <p:cNvSpPr/>
          <p:nvPr/>
        </p:nvSpPr>
        <p:spPr>
          <a:xfrm flipV="1">
            <a:off x="189000" y="5271840"/>
            <a:ext cx="8775720" cy="7308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 flipV="1">
            <a:off x="268200" y="6035760"/>
            <a:ext cx="8626680" cy="7128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1908000" y="1413000"/>
            <a:ext cx="3240" cy="518616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1"/>
          <p:cNvSpPr/>
          <p:nvPr/>
        </p:nvSpPr>
        <p:spPr>
          <a:xfrm>
            <a:off x="349236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543564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7020000" y="1420920"/>
            <a:ext cx="0" cy="5176800"/>
          </a:xfrm>
          <a:prstGeom prst="line">
            <a:avLst/>
          </a:prstGeom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-396720" y="1384200"/>
            <a:ext cx="199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ип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ыно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1911240" y="1400040"/>
            <a:ext cx="158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истая ценовая (совершенная) конкур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3419640" y="142416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119"/>
          <p:cNvSpPr/>
          <p:nvPr/>
        </p:nvSpPr>
        <p:spPr>
          <a:xfrm>
            <a:off x="5435640" y="14144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120"/>
          <p:cNvSpPr/>
          <p:nvPr/>
        </p:nvSpPr>
        <p:spPr>
          <a:xfrm>
            <a:off x="7272360" y="141588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122"/>
          <p:cNvSpPr/>
          <p:nvPr/>
        </p:nvSpPr>
        <p:spPr>
          <a:xfrm>
            <a:off x="200160" y="226224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личество производителей (продавц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23"/>
          <p:cNvSpPr/>
          <p:nvPr/>
        </p:nvSpPr>
        <p:spPr>
          <a:xfrm>
            <a:off x="1903320" y="2252520"/>
            <a:ext cx="157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ного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6"/>
          <p:cNvSpPr/>
          <p:nvPr/>
        </p:nvSpPr>
        <p:spPr>
          <a:xfrm>
            <a:off x="3503520" y="2235240"/>
            <a:ext cx="158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ного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124"/>
          <p:cNvSpPr/>
          <p:nvPr/>
        </p:nvSpPr>
        <p:spPr>
          <a:xfrm>
            <a:off x="5445000" y="2216160"/>
            <a:ext cx="1582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сколько крупных производителе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125"/>
          <p:cNvSpPr/>
          <p:nvPr/>
        </p:nvSpPr>
        <p:spPr>
          <a:xfrm>
            <a:off x="7039080" y="2205000"/>
            <a:ext cx="194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127"/>
          <p:cNvSpPr/>
          <p:nvPr/>
        </p:nvSpPr>
        <p:spPr>
          <a:xfrm>
            <a:off x="179280" y="3265560"/>
            <a:ext cx="173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итика цено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128"/>
          <p:cNvSpPr/>
          <p:nvPr/>
        </p:nvSpPr>
        <p:spPr>
          <a:xfrm>
            <a:off x="1922400" y="3255840"/>
            <a:ext cx="1581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сутствует возможность влиять на цену, определяемую действием законов спроса и 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136"/>
          <p:cNvSpPr/>
          <p:nvPr/>
        </p:nvSpPr>
        <p:spPr>
          <a:xfrm>
            <a:off x="3503520" y="3252960"/>
            <a:ext cx="193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цены ограничена наличием замен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137"/>
          <p:cNvSpPr/>
          <p:nvPr/>
        </p:nvSpPr>
        <p:spPr>
          <a:xfrm>
            <a:off x="5400720" y="3251160"/>
            <a:ext cx="18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дер рынка или несколько крупных производителей име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устанавли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38"/>
          <p:cNvSpPr/>
          <p:nvPr/>
        </p:nvSpPr>
        <p:spPr>
          <a:xfrm>
            <a:off x="7020000" y="3220920"/>
            <a:ext cx="196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ин крупный производитель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авец устанавливает монопольную ц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139"/>
          <p:cNvSpPr/>
          <p:nvPr/>
        </p:nvSpPr>
        <p:spPr>
          <a:xfrm>
            <a:off x="206280" y="4863960"/>
            <a:ext cx="17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арактер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40"/>
          <p:cNvSpPr/>
          <p:nvPr/>
        </p:nvSpPr>
        <p:spPr>
          <a:xfrm>
            <a:off x="179280" y="5373720"/>
            <a:ext cx="172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ловия входа на рынок и вы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142"/>
          <p:cNvSpPr/>
          <p:nvPr/>
        </p:nvSpPr>
        <p:spPr>
          <a:xfrm>
            <a:off x="268200" y="6070680"/>
            <a:ext cx="346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ступность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43"/>
          <p:cNvSpPr/>
          <p:nvPr/>
        </p:nvSpPr>
        <p:spPr>
          <a:xfrm>
            <a:off x="1922400" y="48340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144"/>
          <p:cNvSpPr/>
          <p:nvPr/>
        </p:nvSpPr>
        <p:spPr>
          <a:xfrm>
            <a:off x="3503520" y="4835520"/>
            <a:ext cx="19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45"/>
          <p:cNvSpPr/>
          <p:nvPr/>
        </p:nvSpPr>
        <p:spPr>
          <a:xfrm>
            <a:off x="5427720" y="4834080"/>
            <a:ext cx="159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родная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ород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147"/>
          <p:cNvSpPr/>
          <p:nvPr/>
        </p:nvSpPr>
        <p:spPr>
          <a:xfrm>
            <a:off x="7008840" y="4821120"/>
            <a:ext cx="192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ник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148"/>
          <p:cNvSpPr/>
          <p:nvPr/>
        </p:nvSpPr>
        <p:spPr>
          <a:xfrm>
            <a:off x="1905120" y="5308560"/>
            <a:ext cx="156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149"/>
          <p:cNvSpPr/>
          <p:nvPr/>
        </p:nvSpPr>
        <p:spPr>
          <a:xfrm>
            <a:off x="3495600" y="5311800"/>
            <a:ext cx="19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 отсутству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50"/>
          <p:cNvSpPr/>
          <p:nvPr/>
        </p:nvSpPr>
        <p:spPr>
          <a:xfrm>
            <a:off x="5445000" y="527220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ществуют препятствия для входа в отрас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7027920" y="5272200"/>
            <a:ext cx="19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еодол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ь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1914480" y="607068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вный дост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3489480" y="6070680"/>
            <a:ext cx="19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затруд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5419800" y="6075360"/>
            <a:ext cx="159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ограни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7020000" y="6051600"/>
            <a:ext cx="159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которые ограни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358920" y="5716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Я благодарю Вас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-15840" y="-468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00080" y="14292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ревнование, состязание, сопер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ATL0005"/>
          <p:cNvPicPr/>
          <p:nvPr/>
        </p:nvPicPr>
        <p:blipFill>
          <a:blip r:embed="rId2"/>
          <a:stretch/>
        </p:blipFill>
        <p:spPr>
          <a:xfrm>
            <a:off x="0" y="1214280"/>
            <a:ext cx="6638760" cy="378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6134454826"/>
          <p:cNvPicPr/>
          <p:nvPr/>
        </p:nvPicPr>
        <p:blipFill>
          <a:blip r:embed="rId3"/>
          <a:stretch/>
        </p:blipFill>
        <p:spPr>
          <a:xfrm>
            <a:off x="3071880" y="2987640"/>
            <a:ext cx="60721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12840" y="260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12840" y="136512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рь Ожегов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соперничество, борьба за достижение  наивысших личных выгод, преиму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гло-русский словарь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ur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падение, действующий сов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urrent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еводе с латыни – столкновение, состязание, соревн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 competi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ная конкурен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857160" y="19288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НАЮ» (что я знаю о конкуренции в экономике?)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Хочу узнать» (что меня интересует по данной теме?)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642960" y="28584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на минуту задумаемся и попытаемся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285920" y="128592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енция (от лат. – сталкивать, состязатьс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1430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57120" y="3000240"/>
            <a:ext cx="692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соперничество между участниками рыночного хозяйства за лучшие условия производства и купли-продажи тов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ik097"/>
          <p:cNvPicPr/>
          <p:nvPr/>
        </p:nvPicPr>
        <p:blipFill>
          <a:blip r:embed="rId3"/>
          <a:stretch/>
        </p:blipFill>
        <p:spPr>
          <a:xfrm>
            <a:off x="7358040" y="4929120"/>
            <a:ext cx="1571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13572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целью любой фирмы является получение максимальной прибы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857160" y="350028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чего зависит размер получаемой прибы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714240" y="15717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а - 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 количество денег, за которые продавец согласен продать, а покупатель согласен купить единицу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ов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ил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услуг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s://encrypted-tbn2.gstatic.com/images?q=tbn:ANd9GcSFTixFtJhwBH-28Lt2LkO6R_t8gNboSkZP_ByYG2kQpFssjzSi"/>
          <p:cNvPicPr/>
          <p:nvPr/>
        </p:nvPicPr>
        <p:blipFill>
          <a:blip r:embed="rId5"/>
          <a:stretch/>
        </p:blipFill>
        <p:spPr>
          <a:xfrm>
            <a:off x="1357200" y="3500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razzlog.com/wp-content/uploads/2011/07/osnovnye-funkcii-ceny.jpg"/>
          <p:cNvPicPr/>
          <p:nvPr/>
        </p:nvPicPr>
        <p:blipFill>
          <a:blip r:embed="rId6"/>
          <a:stretch/>
        </p:blipFill>
        <p:spPr>
          <a:xfrm>
            <a:off x="4500720" y="3500280"/>
            <a:ext cx="28573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26828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конку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2276640" y="1558800"/>
            <a:ext cx="4608360" cy="790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38400" y="1700280"/>
            <a:ext cx="48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ды рыночной конку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1187280" y="3141720"/>
            <a:ext cx="2953080" cy="574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4941720" y="3141720"/>
            <a:ext cx="2951280" cy="5745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1222200" y="31989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62600" y="32162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це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Соединительная линия уступом 28"/>
          <p:cNvCxnSpPr>
            <a:stCxn id="84" idx="2"/>
            <a:endCxn id="86" idx="0"/>
          </p:cNvCxnSpPr>
          <p:nvPr/>
        </p:nvCxnSpPr>
        <p:spPr>
          <a:xfrm rot="5400000">
            <a:off x="3225960" y="1786680"/>
            <a:ext cx="793080" cy="1918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Соединительная линия уступом 32"/>
          <p:cNvCxnSpPr>
            <a:stCxn id="84" idx="2"/>
            <a:endCxn id="87" idx="0"/>
          </p:cNvCxnSpPr>
          <p:nvPr/>
        </p:nvCxnSpPr>
        <p:spPr>
          <a:xfrm flipH="1" rot="16200000">
            <a:off x="5102640" y="1827360"/>
            <a:ext cx="793080" cy="1836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33"/>
          <p:cNvSpPr/>
          <p:nvPr/>
        </p:nvSpPr>
        <p:spPr>
          <a:xfrm>
            <a:off x="468360" y="3933720"/>
            <a:ext cx="856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овая конкуренц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конкуренция, использующая цены в качестве метода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ценовая конкурен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куренция, использующая в качестве метода борьбы выделение продукции из ряда товаров за счет уникальных свойств, высокого качества, технической надежности и других характерис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-1764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нок соверш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чистой) конкуре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верш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85880" y="3286080"/>
            <a:ext cx="4143240" cy="13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полис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786280" y="3286080"/>
            <a:ext cx="3143520" cy="128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по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786120" y="4786200"/>
            <a:ext cx="3286080" cy="113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по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6072120" y="2786040"/>
            <a:ext cx="216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 flipH="1">
            <a:off x="5500440" y="2786040"/>
            <a:ext cx="14436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24:30Z</dcterms:created>
  <dc:creator>Ekaterina</dc:creator>
  <dc:description/>
  <dc:language>en-US</dc:language>
  <cp:lastModifiedBy>Алексей Золотов</cp:lastModifiedBy>
  <dcterms:modified xsi:type="dcterms:W3CDTF">2017-05-10T09:30:24Z</dcterms:modified>
  <cp:revision>53</cp:revision>
  <dc:subject/>
  <dc:title>Презентация PowerPoint</dc:title>
</cp:coreProperties>
</file>