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51B-031A-49E8-8792-EB379D96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1DA-C2F6-4F57-B91D-AE0ECDB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0CF-746C-4E8C-AAB8-DD1A6402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920-DA4D-4762-BFCB-67CEC8F6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347-DF7D-4EDD-96B0-0312D48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76B-B6C9-4717-84BD-D256E65A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4F4-B91D-4F9D-8DF1-C8F9179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115-0220-476C-AC4F-D739FC7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29B-E2F7-4DB6-8C31-4067A73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6BB-5094-4948-A029-2B7E1AD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E39-E2DA-45E4-B586-601A28D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DEC-B2B7-4495-B139-06B8132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F17-C348-401D-9561-2DFE8D841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НОВОГОДНЯЯ ЁЛОЧ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ышева Наталь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У Инзенская Н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Изображение 080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Изображение 081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Изображение 082.jpg"/>
          <p:cNvPicPr/>
          <p:nvPr/>
        </p:nvPicPr>
        <p:blipFill>
          <a:blip r:embed="rId2"/>
          <a:stretch/>
        </p:blipFill>
        <p:spPr>
          <a:xfrm>
            <a:off x="1258920" y="1413000"/>
            <a:ext cx="6487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Изображение 083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Изображение 084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Изображение 085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Изображение 086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Изображение 087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Изображение 08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С НОВЫМ ГОДОМ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Изображение 089.jpg"/>
          <p:cNvPicPr/>
          <p:nvPr/>
        </p:nvPicPr>
        <p:blipFill>
          <a:blip r:embed="rId1"/>
          <a:stretch/>
        </p:blipFill>
        <p:spPr>
          <a:xfrm>
            <a:off x="1332000" y="177336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Изображение 089.jpg"/>
          <p:cNvPicPr/>
          <p:nvPr/>
        </p:nvPicPr>
        <p:blipFill>
          <a:blip r:embed="rId1"/>
          <a:stretch/>
        </p:blipFill>
        <p:spPr>
          <a:xfrm>
            <a:off x="1116000" y="189000"/>
            <a:ext cx="67276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ьмите лист бума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Изображение 072.jpg"/>
          <p:cNvPicPr/>
          <p:nvPr/>
        </p:nvPicPr>
        <p:blipFill>
          <a:blip r:embed="rId1"/>
          <a:stretch/>
        </p:blipFill>
        <p:spPr>
          <a:xfrm>
            <a:off x="1450800" y="1557360"/>
            <a:ext cx="6567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ите его вдоль попол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Изображение 073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Изображение 074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Изображение 075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Изображение 077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Изображение 07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Изображение 079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4:50:29Z</dcterms:created>
  <dc:creator>Elli Project</dc:creator>
  <dc:description/>
  <dc:language>en-US</dc:language>
  <cp:lastModifiedBy>Elli Project</cp:lastModifiedBy>
  <dcterms:modified xsi:type="dcterms:W3CDTF">2013-12-18T15:00:57Z</dcterms:modified>
  <cp:revision>2</cp:revision>
  <dc:subject/>
  <dc:title>НОВОГОДНЯЯ ЁЛОЧКА</dc:title>
</cp:coreProperties>
</file>