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076-02FB-4F04-A691-69572138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664-4815-4FEB-B797-ED1A44CB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6BE-8381-4297-97B5-DC1DF49C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D1E8-C2DB-450B-9CE3-954111D3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9C4-AD0B-4204-84D9-DD2D4D0E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1FB9-7E93-4762-AD0B-ACD01F9A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2E8-728C-48E0-9D82-62F8A0EF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235-38AE-4905-B5CA-24534A33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7C3-7805-4A7D-A075-13E072E3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E29-F074-4320-8970-FC0CC88A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338-6E4D-4FD3-A19F-5754FE4F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4C4-F02E-41E5-970C-6E344D7C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39B3-4E3F-4E18-8EDF-AD0C694462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21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Calibri"/>
              </a:rPr>
              <a:t>НОВОГОДНЯЯ ЁЛОЧ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и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ышева Наталья Владими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У Инзенская НО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Изображение 080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Изображение 081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Изображение 082.jpg"/>
          <p:cNvPicPr/>
          <p:nvPr/>
        </p:nvPicPr>
        <p:blipFill>
          <a:blip r:embed="rId2"/>
          <a:stretch/>
        </p:blipFill>
        <p:spPr>
          <a:xfrm>
            <a:off x="1258920" y="1413000"/>
            <a:ext cx="648792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Изображение 083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Изображение 084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Изображение 085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Изображение 086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Изображение 087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Изображение 088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С НОВЫМ ГОДОМ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Изображение 089.jpg"/>
          <p:cNvPicPr/>
          <p:nvPr/>
        </p:nvPicPr>
        <p:blipFill>
          <a:blip r:embed="rId1"/>
          <a:stretch/>
        </p:blipFill>
        <p:spPr>
          <a:xfrm>
            <a:off x="1332000" y="177336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Рисунок 3" descr="Изображение 089.jpg"/>
          <p:cNvPicPr/>
          <p:nvPr/>
        </p:nvPicPr>
        <p:blipFill>
          <a:blip r:embed="rId1"/>
          <a:stretch/>
        </p:blipFill>
        <p:spPr>
          <a:xfrm>
            <a:off x="1116000" y="189000"/>
            <a:ext cx="672768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ьмите лист бума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Изображение 072.jpg"/>
          <p:cNvPicPr/>
          <p:nvPr/>
        </p:nvPicPr>
        <p:blipFill>
          <a:blip r:embed="rId1"/>
          <a:stretch/>
        </p:blipFill>
        <p:spPr>
          <a:xfrm>
            <a:off x="1450800" y="1557360"/>
            <a:ext cx="65678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жите его вдоль попол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Изображение 073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Изображение 074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Изображение 075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Изображение 077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Изображение 078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Изображение 079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14:50:29Z</dcterms:created>
  <dc:creator>Elli Project</dc:creator>
  <dc:description/>
  <dc:language>en-US</dc:language>
  <cp:lastModifiedBy>Elli Project</cp:lastModifiedBy>
  <dcterms:modified xsi:type="dcterms:W3CDTF">2013-12-18T15:00:57Z</dcterms:modified>
  <cp:revision>2</cp:revision>
  <dc:subject/>
  <dc:title>НОВОГОДНЯЯ ЁЛОЧКА</dc:title>
</cp:coreProperties>
</file>