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F6F-E206-4A79-9DC1-F927BB55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153-04CF-45BC-B602-1E4B2132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C89-FE01-4A41-BB96-F1D6C21C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B6D-D54D-490A-B081-8D79C9C7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ECA7-728E-45AE-AF6B-83D4A888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6AF1-1450-4D17-A77F-1E8077C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70A7-7AB6-42A3-8EC3-6F999E6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D04-C194-4DE8-A803-CF6FA73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FA6-A1DB-4000-AD75-1A0AB4F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460-A04A-456F-95D5-4DAF85D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522A-0B32-44A5-A8B8-B6F583A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D77-D1B4-49F7-91FA-AAD047E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087-5F96-4CA0-A815-69BA77D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843-FD97-440B-A870-262D504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0F3D-A182-48A9-8647-443317B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E2E-645D-48C7-9361-39CC9745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0C90-CFD9-4613-880C-CB12C883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6C6-FBBF-4DB9-9036-BDC3585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3A3-DD8D-4A38-8369-9974E796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AA0-1243-400F-BF4E-B480CAA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CB4-3E66-4100-838B-6B8402F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7D5-9F53-4374-A9AE-0BDEB8E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47A-722C-4304-A308-AC4323A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932-AD77-4D1F-8220-1AE86BE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1AC-F28A-493E-9FC2-C8FBFC0D98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5E8-4752-42B2-9635-CD5F65F06A0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seum.baikal.ru/images/j-327.jp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tvkultura.ru/p/q_8086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useum.ru/alb/image.asp?33567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museum.ru/alb/image.asp?5515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%20viewimage(2033,800,650);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openwindow(&apos;bug.jpg&apos;,&apos;354&apos;,&apos;450&apos;%20)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35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2156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Нравственный облик Г.Р.Державина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в поэзии и изобразительном искусстве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8000" y="371628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боту выполнил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ченица 9 класса МБОУ «Шадчинская СОШ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амадышского муниципального района Р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Фаляхова Резеда Азатовн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Ямалиева Далиля Шамиловн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32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http://artclassic.edu.ru/attach.asp?a_no=9129"/>
          <p:cNvPicPr/>
          <p:nvPr/>
        </p:nvPicPr>
        <p:blipFill>
          <a:blip r:embed="rId1"/>
          <a:stretch/>
        </p:blipFill>
        <p:spPr>
          <a:xfrm>
            <a:off x="324000" y="404640"/>
            <a:ext cx="3830400" cy="4608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2920" y="530820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Г.И.Державин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В.Л.Боровиковский,179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500720" y="1300320"/>
            <a:ext cx="49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Державин в сих чертах блистае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отребно ль больше сл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Для тех, которых восхища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Честь, правда и язык бог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32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3" descr="http://vgv.avo.ru/5/f/tonci/tonci_salvador.jpg"/>
          <p:cNvPicPr/>
          <p:nvPr/>
        </p:nvPicPr>
        <p:blipFill>
          <a:blip r:embed="rId1"/>
          <a:stretch/>
        </p:blipFill>
        <p:spPr>
          <a:xfrm>
            <a:off x="2771640" y="260280"/>
            <a:ext cx="2967120" cy="3960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324000" y="386100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альватор Тончи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тальянец, приехавший в Россию в ноябре 1795 год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Художник, поэт, музыкант, певец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нчи был человеком богат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 разносторонне одарённы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964800" y="527400"/>
            <a:ext cx="7389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ль нет, ты лучше напиш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еня в натуре самой груб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жестокий мраз с огнём душ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косматой шапке, скутав шубо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б шёл, природой лишь водим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тив погод, волн, гор кремнистых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знак, что рождён в странах я льдистых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был прапращур мой Багр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Ода «Тончию», 1801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 этим стихам Державин дал такое пояснение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«Сими стихами автор изображает, что он без всяких почт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приуготовительных  наук,  одной   природой возведен в Поэты, и что на пути службы, испытывая многие препятствия, неприятности и нужду,  одним характером, без всякого постороннего покровительства, преодолевал  их»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j-327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768840" cy="5400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5367240" y="5733360"/>
            <a:ext cx="34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Г.Р.Державин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</a:t>
            </a:r>
            <a:r>
              <a:rPr b="1" lang="hi-IN" sz="18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альватор Тончи, 1801</a:t>
            </a:r>
            <a:r>
              <a:rPr b="0" lang="hi-IN" sz="1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514040" y="403560"/>
            <a:ext cx="46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«Правосудие изображено в скале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пророческий дух в румяном восходе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 сердце и честность в белизне снега»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6" descr="Картинка 11 из 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349360"/>
            <a:ext cx="3816360" cy="3333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257040" y="5942160"/>
            <a:ext cx="47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торой портрет Г.Р.Державин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еставрирован в г. Иркутске ссыльны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льским художником С. Вронским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84360" y="1413000"/>
            <a:ext cx="206352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398880" y="486828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юст  Г.Р.Державина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кульптор Я.И.Рашет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276720" y="1345320"/>
            <a:ext cx="446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не добрая приятна слава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очу я человеком быть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торого страстей отра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Бессильна сердце развратить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го ни мзда не ослепляет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и сан, ни месть, ни блеск порфир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го лишь правда научает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юбя себя, любить весь ми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юбовью мудрой, просвещенной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 добродетели священн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Мой истукан. 179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0920" y="48456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 памятник </a:t>
            </a:r>
            <a:r>
              <a:rPr b="0" lang="hi-I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ебе воздвиг чудесный, вечны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еталлов твёрже он и выше пирамид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и вихрь его, ни гром не сломит быстротечны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времени полёт его не сокрушит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Г.Р.Державин. «Памятник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ы прав, Певец: ты будешь жить;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ы памятник воздвигнул вечный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го не могут сокрушить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и гром, ни вихорь быстротечны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К.Ф. Рылеев “Державин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50920" y="292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4" descr="34101"/>
          <p:cNvPicPr/>
          <p:nvPr/>
        </p:nvPicPr>
        <p:blipFill>
          <a:blip r:embed="rId1"/>
          <a:srcRect l="18180" t="10359" r="0" b="3509"/>
          <a:stretch/>
        </p:blipFill>
        <p:spPr>
          <a:xfrm>
            <a:off x="3635280" y="404640"/>
            <a:ext cx="4824360" cy="38163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0" y="4150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амятник Г.Р.Державину был открыт в 1847 году во дворе университе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1871 году он был перенесён на Театральную площадь (сейчас Площадь Свободы). Сквер вокруг него вскоре превратился в Державинский сад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1931 году  памятник был разруше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 1000-летию г. Казани памятник Г.Р.Державину восстановили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ейчас он находится на ул. М. Горького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далеко от дома-музея Е.Баратынског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6" descr="derzh01"/>
          <p:cNvPicPr/>
          <p:nvPr/>
        </p:nvPicPr>
        <p:blipFill>
          <a:blip r:embed="rId2"/>
          <a:stretch/>
        </p:blipFill>
        <p:spPr>
          <a:xfrm>
            <a:off x="468360" y="404640"/>
            <a:ext cx="28130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50920" y="292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4" descr="derjavin_mogila"/>
          <p:cNvPicPr/>
          <p:nvPr/>
        </p:nvPicPr>
        <p:blipFill>
          <a:blip r:embed="rId1"/>
          <a:stretch/>
        </p:blipFill>
        <p:spPr>
          <a:xfrm>
            <a:off x="1476360" y="333360"/>
            <a:ext cx="6696000" cy="5108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524960" y="5637240"/>
            <a:ext cx="650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огила Г.Р.Державина в Преображенском собор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Хутынского монастыря Новгородской обла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464000" cy="3148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img">
            <a:hlinkClick r:id="rId3"/>
          </p:cNvPr>
          <p:cNvPicPr/>
          <p:nvPr/>
        </p:nvPicPr>
        <p:blipFill>
          <a:blip r:embed="rId4"/>
          <a:srcRect l="0" t="0" r="0" b="14550"/>
          <a:stretch/>
        </p:blipFill>
        <p:spPr>
          <a:xfrm>
            <a:off x="4427640" y="3645000"/>
            <a:ext cx="4464000" cy="2860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5506920" y="1316160"/>
            <a:ext cx="29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лощадь Державин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г. Лаишев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50920" y="450864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рагмент экспозиции, посвящённый Г.Р.Державин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музее Лаишевского кра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47280" y="4508640"/>
            <a:ext cx="5905800" cy="208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Я считаю себя достойным славы за то,         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что говорил правду и народу, и царям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Державин Г.Р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3" descr="Портрет Г. Р. Державина. 1811. Масло"/>
          <p:cNvPicPr/>
          <p:nvPr/>
        </p:nvPicPr>
        <p:blipFill>
          <a:blip r:embed="rId1"/>
          <a:stretch/>
        </p:blipFill>
        <p:spPr>
          <a:xfrm>
            <a:off x="5148360" y="333360"/>
            <a:ext cx="2938320" cy="36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artclassic.edu.ru/attach.asp?a_no=9129"/>
          <p:cNvPicPr/>
          <p:nvPr/>
        </p:nvPicPr>
        <p:blipFill>
          <a:blip r:embed="rId2"/>
          <a:stretch/>
        </p:blipFill>
        <p:spPr>
          <a:xfrm>
            <a:off x="826920" y="333360"/>
            <a:ext cx="3024360" cy="3672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694520" y="422100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795 г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158520" y="422100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811 г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Выводы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.Р. </a:t>
            </a:r>
            <a:r>
              <a:rPr b="0" lang="tt-RU" sz="2800" spc="-1" strike="noStrike">
                <a:solidFill>
                  <a:srgbClr val="ccecff"/>
                </a:solidFill>
                <a:latin typeface="Times New Roman"/>
              </a:rPr>
              <a:t>Державин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своих стихотворениях </a:t>
            </a:r>
            <a:r>
              <a:rPr b="0" lang="tt-RU" sz="2800" spc="-1" strike="noStrike">
                <a:solidFill>
                  <a:srgbClr val="ccecff"/>
                </a:solidFill>
                <a:latin typeface="Times New Roman"/>
              </a:rPr>
              <a:t>пишет   о людях, о своем  к  ним  отношении, и  в   его стихах личность автора не скрывается в тени, а выходит на первый план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</a:t>
            </a:r>
            <a:r>
              <a:rPr b="0" lang="hi-IN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поэзии Державин создал свой собственный образ – образ  поэта, неподкупного  борца  за правду,  многие оттенки настроений поэта, отзвуки его личной  жизни можно  найти  почти  в  каждом  стихотворении.  Они являются фактами биографии Державина и сохраняют с ней теснейшую связь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</a:t>
            </a:r>
            <a:r>
              <a:rPr b="0" lang="hi-IN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в портретах разных художников, в  разные  периоды жизни поэта мы видим того же неподкупного борца за правду, что и в его стихотворени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В  поэзии  Державин  создал  свой собственный   образ –  образ   поэта, неподкупного борца за правду, смело разговаривающего   с   царями,    не боящегося   говорить  сильным мира сего даже самые неприятные истины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показать единство нравственного облика   «отца   русских   поэтов» Г.Р.Державина в его собственных стихотворениях и в изображении художников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ить литературу, в которой даётся анализ стихотворений поэта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установить связь личной биографии поэта с его стихотворения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ить портреты Г.Р.Державина, созданные в разные периоды его жизни разными художника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сравнить образы Г.Р.Державина, созданные художниками и самим поэто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Что было сделано  в процессе   выполнения работы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ались литература и интернет-публикации, в которых анализируются стихотворения поэта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изучались портреты поэта, созданные разными художниками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проводился сравнительный анализ образа поэта в поэзии и изобразительном искусств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3" descr="УВЕЛИЧИТЬ! Боровиковский Екатерина II на прогулке в Царском парке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333360"/>
            <a:ext cx="3457800" cy="532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www.nearyou.ru/levitsk/2lev/2ekaterina2.jpg"/>
          <p:cNvPicPr/>
          <p:nvPr/>
        </p:nvPicPr>
        <p:blipFill>
          <a:blip r:embed="rId3"/>
          <a:stretch/>
        </p:blipFill>
        <p:spPr>
          <a:xfrm>
            <a:off x="4859280" y="333360"/>
            <a:ext cx="3552840" cy="53276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50920" y="566784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еликая императрица Екатерина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Портрет Екатерины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В.Л.Боровиковс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уд. Д.Г.Левиц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И.В.Бугаевский-Благодарный &#10; (учился у Боровиковского) &#10; Портрет В.Л. Боровиковского&#10;  1824г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6280"/>
            <a:ext cx="2095200" cy="2665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50920" y="3283920"/>
            <a:ext cx="27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дожник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В.Л.Боровиковский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5" descr="miniatura_2.jpg (8248 bytes)"/>
          <p:cNvPicPr/>
          <p:nvPr/>
        </p:nvPicPr>
        <p:blipFill>
          <a:blip r:embed="rId3"/>
          <a:stretch/>
        </p:blipFill>
        <p:spPr>
          <a:xfrm>
            <a:off x="4156200" y="476280"/>
            <a:ext cx="3768480" cy="3960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2990520" y="4797000"/>
            <a:ext cx="56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ртрет относится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озможно, к концу 1794 или к началу 1795 года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katerina_m.jpg (6037 bytes)"/>
          <p:cNvPicPr/>
          <p:nvPr/>
        </p:nvPicPr>
        <p:blipFill>
          <a:blip r:embed="rId1"/>
          <a:stretch/>
        </p:blipFill>
        <p:spPr>
          <a:xfrm>
            <a:off x="324000" y="333360"/>
            <a:ext cx="2344680" cy="324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3207960" y="1268280"/>
            <a:ext cx="45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атерина Яковлевна Бастидон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рвая супруга Гаврилы Романовича.</a:t>
            </a:r>
            <a:br>
              <a:rPr sz="1800"/>
            </a:b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Литография с портре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работы В.Л.Боровиковск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daria_2a.jpg (5081 bytes)"/>
          <p:cNvPicPr/>
          <p:nvPr/>
        </p:nvPicPr>
        <p:blipFill>
          <a:blip r:embed="rId2"/>
          <a:stretch/>
        </p:blipFill>
        <p:spPr>
          <a:xfrm>
            <a:off x="6156360" y="3357720"/>
            <a:ext cx="2379600" cy="3095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1337760" y="4797000"/>
            <a:ext cx="46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арья Алексеевна Дьякова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торая   супруга Гаврилы Романович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05:28Z</dcterms:created>
  <dc:creator>1</dc:creator>
  <dc:description/>
  <dc:language>en-US</dc:language>
  <cp:lastModifiedBy>Шадчинская СОШ</cp:lastModifiedBy>
  <dcterms:modified xsi:type="dcterms:W3CDTF">2017-05-10T18:16:26Z</dcterms:modified>
  <cp:revision>29</cp:revision>
  <dc:subject/>
  <dc:title>    Нравственный облик Г.Р.Державина  в поэзии и изобразительном искусстве </dc:title>
</cp:coreProperties>
</file>