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16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0B1-441A-4606-B881-C097FACD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A65-8254-4E55-A0CE-CA58C207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FAD-F3B9-4881-83D3-D4A563A4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520-D3DB-4D66-B265-94F765FB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1CE4-6FFA-4640-B693-D4BBDB13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5F06-9684-4364-A8F7-A10F84D9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53E6-FA56-4044-8011-BA00413A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4C34-CF65-42ED-9D68-AAAA0EF6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E2A5-1C37-4526-9C24-7E6535F5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93DE-45A1-41C2-8D15-86B025D8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8E43-5BAB-4907-B291-5A7BB02F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B87-F44C-421A-A87B-8C684C6E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C3FC-4901-4AF4-99F5-A894D177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BAEC-AD7E-45CB-AC05-A8ED2BFF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2005-F295-4DEE-AD25-D9C612CA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D215-2F4F-4102-9A52-765F5487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8A9A-E681-41BC-93A2-C899042F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6FA-56AE-4538-AEA2-78D68633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F74-81BB-4DE0-8EAC-7E5B397F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3B1-279E-477D-8FC8-DEE9EF92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31A-21B1-4AE9-AC6D-98EBCF62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57B-70C6-4C54-B176-6ACD2C1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3E5-A8B2-4FE7-80E2-5F1830F0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D17-6497-482D-9ED7-94DF4114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20F5-578C-4FA8-B6E9-3FC9F8C933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03BC-5CF8-43AC-BB6D-5E65FC13321C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useum.baikal.ru/images/j-327.jp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tvkultura.ru/p/q_8086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useum.ru/alb/image.asp?33567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museum.ru/alb/image.asp?5515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avascript:%20viewimage(2033,800,650);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javascript:openwindow(&apos;bug.jpg&apos;,&apos;354&apos;,&apos;450&apos;%20)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35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26360" cy="2156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Нравственный облик Г.Р.Державина </a:t>
            </a:r>
            <a:br>
              <a:rPr sz="40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в поэзии и изобразительном искусстве.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68000" y="3716280"/>
            <a:ext cx="8280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боту выполнил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ученица 9 класса МБОУ «Шадчинская СОШ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Мамадышского муниципального района Р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Фаляхова Резеда Азатовн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Ямалиева Далиля Шамиловн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569080" cy="32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3" descr="http://artclassic.edu.ru/attach.asp?a_no=9129"/>
          <p:cNvPicPr/>
          <p:nvPr/>
        </p:nvPicPr>
        <p:blipFill>
          <a:blip r:embed="rId1"/>
          <a:stretch/>
        </p:blipFill>
        <p:spPr>
          <a:xfrm>
            <a:off x="324000" y="404640"/>
            <a:ext cx="3830400" cy="46087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2920" y="530820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ртрет Г.И.Державин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уд. В.Л.Боровиковский,1795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500720" y="1300320"/>
            <a:ext cx="49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Державин в сих чертах блистает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Потребно ль больше сл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Для тех, которых восхища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Честь, правда и язык бого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569080" cy="32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3" descr="http://vgv.avo.ru/5/f/tonci/tonci_salvador.jpg"/>
          <p:cNvPicPr/>
          <p:nvPr/>
        </p:nvPicPr>
        <p:blipFill>
          <a:blip r:embed="rId1"/>
          <a:stretch/>
        </p:blipFill>
        <p:spPr>
          <a:xfrm>
            <a:off x="2771640" y="260280"/>
            <a:ext cx="2967120" cy="39607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324000" y="3861000"/>
            <a:ext cx="88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Сальватор Тончи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итальянец, приехавший в Россию в ноябре 1795 год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Художник, поэт, музыкант, певец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нчи был человеком богат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и разносторонне одарённым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964800" y="527400"/>
            <a:ext cx="7389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ль нет, ты лучше напиш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еня в натуре самой груб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жестокий мраз с огнём души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косматой шапке, скутав шубо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б шёл, природой лишь водим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тив погод, волн, гор кремнистых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знак, что рождён в странах я льдистых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был прапращур мой Багр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Ода «Тончию», 1801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К этим стихам Державин дал такое пояснение: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«Сими стихами автор изображает, что он без всяких почт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приуготовительных  наук,  одной   природой возведен в Поэты, и что на пути службы, испытывая многие препятствия, неприятности и нужду,  одним характером, без всякого постороннего покровительства, преодолевал  их».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j-327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3768840" cy="5400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5367240" y="5733360"/>
            <a:ext cx="34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ртрет Г.Р.Державин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уд</a:t>
            </a:r>
            <a:r>
              <a:rPr b="1" lang="hi-IN" sz="18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альватор Тончи, 1801</a:t>
            </a:r>
            <a:r>
              <a:rPr b="0" lang="hi-IN" sz="1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514040" y="403560"/>
            <a:ext cx="463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«Правосудие изображено в скале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пророческий дух в румяном восходе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а сердце и честность в белизне снега»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Picture 6" descr="Картинка 11 из 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2349360"/>
            <a:ext cx="3816360" cy="33339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257040" y="5942160"/>
            <a:ext cx="474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торой портрет Г.Р.Державин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еставрирован в г. Иркутске ссыльны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льским художником С. Вронским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84360" y="1413000"/>
            <a:ext cx="2063520" cy="3024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398880" y="486828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Бюст  Г.Р.Державина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кульптор Я.И.Рашет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276720" y="1345320"/>
            <a:ext cx="4464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не добрая приятна слава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очу я человеком быть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оторого страстей отра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Бессильна сердце развратить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ого ни мзда не ослепляет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и сан, ни месть, ни блеск порфир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ого лишь правда научает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юбя себя, любить весь ми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юбовью мудрой, просвещенной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 добродетели священно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     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Мой истукан. 179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250920" y="484560"/>
            <a:ext cx="88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Я памятник </a:t>
            </a:r>
            <a:r>
              <a:rPr b="0" lang="hi-I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ебе воздвиг чудесный, вечный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еталлов твёрже он и выше пирамид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и вихрь его, ни гром не сломит быстротечный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времени полёт его не сокруши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Г.Р.Державин. «Памятник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ы прав, Певец: ты будешь жить;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ы памятник воздвигнул вечный: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Его не могут сокрушить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и гром, ни вихорь быстротечны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К.Ф. Рылеев “Державин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250920" y="29217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4" descr="34101"/>
          <p:cNvPicPr/>
          <p:nvPr/>
        </p:nvPicPr>
        <p:blipFill>
          <a:blip r:embed="rId1"/>
          <a:srcRect l="18180" t="10359" r="0" b="3509"/>
          <a:stretch/>
        </p:blipFill>
        <p:spPr>
          <a:xfrm>
            <a:off x="3635280" y="404640"/>
            <a:ext cx="4824360" cy="38163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5"/>
          <p:cNvSpPr/>
          <p:nvPr/>
        </p:nvSpPr>
        <p:spPr>
          <a:xfrm>
            <a:off x="0" y="41500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амятник Г.Р.Державину был открыт в 1847 году во дворе университет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 1871 году он был перенесён на Театральную площадь (сейчас Площадь Свободы). Сквер вокруг него вскоре превратился в Державинский сад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 1931 году  памятник был разрушен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 1000-летию г. Казани памятник Г.Р.Державину восстановили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ейчас он находится на ул. М. Горького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едалеко от дома-музея Е.Баратынског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Picture 6" descr="derzh01"/>
          <p:cNvPicPr/>
          <p:nvPr/>
        </p:nvPicPr>
        <p:blipFill>
          <a:blip r:embed="rId2"/>
          <a:stretch/>
        </p:blipFill>
        <p:spPr>
          <a:xfrm>
            <a:off x="468360" y="404640"/>
            <a:ext cx="28130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50920" y="29217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Picture 4" descr="derjavin_mogila"/>
          <p:cNvPicPr/>
          <p:nvPr/>
        </p:nvPicPr>
        <p:blipFill>
          <a:blip r:embed="rId1"/>
          <a:stretch/>
        </p:blipFill>
        <p:spPr>
          <a:xfrm>
            <a:off x="1476360" y="333360"/>
            <a:ext cx="6696000" cy="51087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524960" y="5637240"/>
            <a:ext cx="650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Могила Г.Р.Державина в Преображенском собор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Хутынского монастыря Новгородской обла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3" descr="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4464000" cy="3148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img">
            <a:hlinkClick r:id="rId3"/>
          </p:cNvPr>
          <p:cNvPicPr/>
          <p:nvPr/>
        </p:nvPicPr>
        <p:blipFill>
          <a:blip r:embed="rId4"/>
          <a:srcRect l="0" t="0" r="0" b="14550"/>
          <a:stretch/>
        </p:blipFill>
        <p:spPr>
          <a:xfrm>
            <a:off x="4427640" y="3645000"/>
            <a:ext cx="4464000" cy="28605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"/>
          <p:cNvSpPr/>
          <p:nvPr/>
        </p:nvSpPr>
        <p:spPr>
          <a:xfrm>
            <a:off x="5506920" y="1316160"/>
            <a:ext cx="29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Площадь Державина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 г. Лаишев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250920" y="4508640"/>
            <a:ext cx="40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рагмент экспозиции, посвящённый Г.Р.Державин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 музее Лаишевского кра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47280" y="4508640"/>
            <a:ext cx="5905800" cy="2087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Я считаю себя достойным славы за то,              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что говорил правду и народу, и царям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ccecff"/>
                </a:solidFill>
                <a:latin typeface="Times New Roman"/>
              </a:rPr>
              <a:t>Державин Г.Р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3" descr="Портрет Г. Р. Державина. 1811. Масло"/>
          <p:cNvPicPr/>
          <p:nvPr/>
        </p:nvPicPr>
        <p:blipFill>
          <a:blip r:embed="rId1"/>
          <a:stretch/>
        </p:blipFill>
        <p:spPr>
          <a:xfrm>
            <a:off x="5148360" y="333360"/>
            <a:ext cx="2938320" cy="367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ttp://artclassic.edu.ru/attach.asp?a_no=9129"/>
          <p:cNvPicPr/>
          <p:nvPr/>
        </p:nvPicPr>
        <p:blipFill>
          <a:blip r:embed="rId2"/>
          <a:stretch/>
        </p:blipFill>
        <p:spPr>
          <a:xfrm>
            <a:off x="826920" y="333360"/>
            <a:ext cx="3024360" cy="3672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694520" y="4221000"/>
            <a:ext cx="9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795 г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158520" y="4221000"/>
            <a:ext cx="9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811 г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800" spc="-1" strike="noStrike" u="sng">
                <a:solidFill>
                  <a:srgbClr val="ccecff"/>
                </a:solidFill>
                <a:uFillTx/>
                <a:latin typeface="Times New Roman"/>
              </a:rPr>
              <a:t>Выводы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Г.Р. </a:t>
            </a:r>
            <a:r>
              <a:rPr b="0" lang="tt-RU" sz="2800" spc="-1" strike="noStrike">
                <a:solidFill>
                  <a:srgbClr val="ccecff"/>
                </a:solidFill>
                <a:latin typeface="Times New Roman"/>
              </a:rPr>
              <a:t>Державин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в своих стихотворениях </a:t>
            </a:r>
            <a:r>
              <a:rPr b="0" lang="tt-RU" sz="2800" spc="-1" strike="noStrike">
                <a:solidFill>
                  <a:srgbClr val="ccecff"/>
                </a:solidFill>
                <a:latin typeface="Times New Roman"/>
              </a:rPr>
              <a:t>пишет   о людях, о своем  к  ним  отношении, и  в   его стихах личность автора не скрывается в тени, а выходит на первый план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</a:t>
            </a:r>
            <a:r>
              <a:rPr b="0" lang="hi-IN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в поэзии Державин создал свой собственный образ – образ  поэта, неподкупного  борца  за правду,  многие оттенки настроений поэта, отзвуки его личной  жизни можно  найти  почти  в  каждом  стихотворении.  Они являются фактами биографии Державина и сохраняют с ней теснейшую связь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</a:t>
            </a:r>
            <a:r>
              <a:rPr b="0" lang="hi-IN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в портретах разных художников, в  разные  периоды жизни поэта мы видим того же неподкупного борца за правду, что и в его стихотворениях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В  поэзии  Державин  создал  свой собственный   образ –  образ   поэта, неподкупного борца за правду, смело разговаривающего   с   царями,    не боящегося   говорить  сильным мира сего даже самые неприятные истины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26360" cy="439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4000" spc="-1" strike="noStrike" u="sng">
                <a:solidFill>
                  <a:srgbClr val="ccecff"/>
                </a:solidFill>
                <a:uFillTx/>
                <a:latin typeface="Times New Roman"/>
              </a:rPr>
              <a:t>Цель</a:t>
            </a: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показать единство нравственного облика   «отца   русских   поэтов» Г.Р.Державина в его собственных стихотворениях и в изображении художников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изучить литературу, в которой даётся анализ стихотворений поэта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установить связь личной биографии поэта с его стихотворениями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изучить портреты Г.Р.Державина, созданные в разные периоды его жизни разными художниками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сравнить образы Г.Р.Державина, созданные художниками и самим поэтом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Что было сделано  в процессе   выполнения работы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изучались литература и интернет-публикации, в которых анализируются стихотворения поэта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изучались портреты поэта, созданные разными художниками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проводился сравнительный анализ образа поэта в поэзии и изобразительном искусств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3" descr="УВЕЛИЧИТЬ! Боровиковский Екатерина II на прогулке в Царском парке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9640" y="333360"/>
            <a:ext cx="3457800" cy="5327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www.nearyou.ru/levitsk/2lev/2ekaterina2.jpg"/>
          <p:cNvPicPr/>
          <p:nvPr/>
        </p:nvPicPr>
        <p:blipFill>
          <a:blip r:embed="rId3"/>
          <a:stretch/>
        </p:blipFill>
        <p:spPr>
          <a:xfrm>
            <a:off x="4859280" y="333360"/>
            <a:ext cx="3552840" cy="53276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250920" y="5667840"/>
            <a:ext cx="854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еликая императрица Екатерина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Портрет Екатерины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уд. В.Л.Боровиковский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уд. Д.Г.Левицкий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И.В.Бугаевский-Благодарный &#10; (учился у Боровиковского) &#10; Портрет В.Л. Боровиковского&#10;  1824г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76280"/>
            <a:ext cx="2095200" cy="2665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250920" y="3283920"/>
            <a:ext cx="27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дожник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В.Л.Боровиковский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5" descr="miniatura_2.jpg (8248 bytes)"/>
          <p:cNvPicPr/>
          <p:nvPr/>
        </p:nvPicPr>
        <p:blipFill>
          <a:blip r:embed="rId3"/>
          <a:stretch/>
        </p:blipFill>
        <p:spPr>
          <a:xfrm>
            <a:off x="4156200" y="476280"/>
            <a:ext cx="3768480" cy="3960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2990520" y="4797000"/>
            <a:ext cx="56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ртрет относится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озможно, к концу 1794 или к началу 1795 года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katerina_m.jpg (6037 bytes)"/>
          <p:cNvPicPr/>
          <p:nvPr/>
        </p:nvPicPr>
        <p:blipFill>
          <a:blip r:embed="rId1"/>
          <a:stretch/>
        </p:blipFill>
        <p:spPr>
          <a:xfrm>
            <a:off x="324000" y="333360"/>
            <a:ext cx="2344680" cy="3240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3207960" y="1268280"/>
            <a:ext cx="45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атерина Яковлевна Бастидон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ервая супруга Гаврилы Романовича.</a:t>
            </a:r>
            <a:br>
              <a:rPr sz="1800"/>
            </a:b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Литография с портрет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работы В.Л.Боровиковск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daria_2a.jpg (5081 bytes)"/>
          <p:cNvPicPr/>
          <p:nvPr/>
        </p:nvPicPr>
        <p:blipFill>
          <a:blip r:embed="rId2"/>
          <a:stretch/>
        </p:blipFill>
        <p:spPr>
          <a:xfrm>
            <a:off x="6156360" y="3357720"/>
            <a:ext cx="2379600" cy="30956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1337760" y="4797000"/>
            <a:ext cx="46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арья Алексеевна Дьякова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торая   супруга Гаврилы Романовича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05:28Z</dcterms:created>
  <dc:creator>1</dc:creator>
  <dc:description/>
  <dc:language>en-US</dc:language>
  <cp:lastModifiedBy>Шадчинская СОШ</cp:lastModifiedBy>
  <dcterms:modified xsi:type="dcterms:W3CDTF">2017-05-10T18:16:26Z</dcterms:modified>
  <cp:revision>29</cp:revision>
  <dc:subject/>
  <dc:title>    Нравственный облик Г.Р.Державина  в поэзии и изобразительном искусстве </dc:title>
</cp:coreProperties>
</file>