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1708-FD52-4C05-9A69-793EEEFFFCE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16BA-A442-4344-A0CF-139D10EF98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396-BED7-4B40-B6F0-0521C75A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89A-BFEE-4A52-8AB2-F49748ED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482-4DE4-4D6D-9A90-3594D446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CC2-DCB2-443A-969A-FF6CAA36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B1BF-FCE3-45C6-89F6-C2E1DEC9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E064-A4F3-4E01-867A-F802BC04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00A2-71DD-4B35-8520-D3F1E81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9B55-9A95-46A7-89FE-C1DB5A3D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FE18-DBCB-41A4-B15F-B1A1121A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918-28ED-43D2-A598-B5890A98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4BCE-BAB2-4DB9-9FBF-B0F19F0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A5F-7C3E-4F22-BB87-E26809E3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6FBA-457C-4EF8-AA32-6447669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F325-4BF6-455B-89BD-6354160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BA7-BADE-4578-8C00-562EB1B3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A06-1440-4583-A6CF-910ECBF3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91E4-8A6A-4BBF-A1F3-A851BB9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E30D-FB45-4728-B245-FFCBF942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2934-257B-436E-AAC6-CEFBDDE1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66E4-FE03-4F54-A406-6735DD79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6F0D-4766-41BD-99B9-EDC23046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C3C5-7345-4733-A7F2-F18E256D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D10-8A08-4CC8-ACE3-BCA0481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54CD-CB5E-4E99-9B43-B05DDA14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0E4C-A8EF-4E1C-907E-B733151B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50D7-F152-45D0-B5E1-4E1BBB0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6EBA-46C1-4883-88B7-1D982CE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A549-A4BB-4D56-88D0-E9A9BCA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EEDF-78CD-4D62-81C0-C6049806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F672-AC57-4C08-9182-053828A6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3BC-89D0-4C19-95EB-FF750E9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55B-E554-43C1-A207-D079E0F1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3A8-9BA5-41D5-B74F-3DE6EBD2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DC5-B8FF-4BEB-8403-C9ABDCD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C67-476E-41EE-9421-70652E9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475-6CA8-4E34-92AE-6BE9CE0C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97D-78FE-4B9C-968B-031F66754A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E69A-925A-4874-894C-048F3D5F97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7853-BD8F-42A3-BB14-3CC35613C8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574040" cy="17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к  уроку математики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по теме  «Осевая симметрия»,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6 класс.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Приготовила : Мисилевич Ольга Иванов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обладающие двумя осями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443640" y="2492280"/>
            <a:ext cx="1441440" cy="3024360"/>
          </a:xfrm>
          <a:prstGeom prst="diamond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7164360" y="2060640"/>
            <a:ext cx="0" cy="424800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050920" y="2349360"/>
            <a:ext cx="1873440" cy="3167280"/>
          </a:xfrm>
          <a:prstGeom prst="rect">
            <a:avLst/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987640" y="1989000"/>
            <a:ext cx="0" cy="424836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619280" y="3933720"/>
            <a:ext cx="2736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6227640" y="4005360"/>
            <a:ext cx="1944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97964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867280" y="623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12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имеющие более двух осей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547640" y="2133720"/>
            <a:ext cx="2232360" cy="1800000"/>
          </a:xfrm>
          <a:prstGeom prst="triangle">
            <a:avLst>
              <a:gd name="adj" fmla="val 50000"/>
            </a:avLst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332000" y="1628640"/>
            <a:ext cx="2592360" cy="2592360"/>
            <a:chOff x="1332000" y="1628640"/>
            <a:chExt cx="2592360" cy="2592360"/>
          </a:xfrm>
        </p:grpSpPr>
        <p:sp>
          <p:nvSpPr>
            <p:cNvPr id="324" name="Line 5"/>
            <p:cNvSpPr/>
            <p:nvPr/>
          </p:nvSpPr>
          <p:spPr>
            <a:xfrm>
              <a:off x="2662200" y="1628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 flipV="1">
              <a:off x="1332000" y="2565360"/>
              <a:ext cx="2520720" cy="15112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7"/>
            <p:cNvSpPr/>
            <p:nvPr/>
          </p:nvSpPr>
          <p:spPr>
            <a:xfrm flipH="1" flipV="1">
              <a:off x="1692360" y="2707920"/>
              <a:ext cx="2232000" cy="12970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Rectangle 8"/>
          <p:cNvSpPr/>
          <p:nvPr/>
        </p:nvSpPr>
        <p:spPr>
          <a:xfrm>
            <a:off x="5724360" y="2060640"/>
            <a:ext cx="2087640" cy="2016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5076720" y="3068640"/>
            <a:ext cx="345600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" name="Group 10"/>
          <p:cNvGrpSpPr/>
          <p:nvPr/>
        </p:nvGrpSpPr>
        <p:grpSpPr>
          <a:xfrm>
            <a:off x="5364000" y="1628640"/>
            <a:ext cx="2769840" cy="2952720"/>
            <a:chOff x="5364000" y="1628640"/>
            <a:chExt cx="2769840" cy="2952720"/>
          </a:xfrm>
        </p:grpSpPr>
        <p:sp>
          <p:nvSpPr>
            <p:cNvPr id="330" name="Line 11"/>
            <p:cNvSpPr/>
            <p:nvPr/>
          </p:nvSpPr>
          <p:spPr>
            <a:xfrm>
              <a:off x="6767640" y="1628640"/>
              <a:ext cx="0" cy="29527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364000" y="1700280"/>
              <a:ext cx="273708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 flipH="1">
              <a:off x="5470200" y="1700280"/>
              <a:ext cx="266364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3" name="Oval 14"/>
          <p:cNvSpPr/>
          <p:nvPr/>
        </p:nvSpPr>
        <p:spPr>
          <a:xfrm>
            <a:off x="3309840" y="4437000"/>
            <a:ext cx="1944720" cy="194328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3059280" y="5445000"/>
            <a:ext cx="266508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Group 16"/>
          <p:cNvGrpSpPr/>
          <p:nvPr/>
        </p:nvGrpSpPr>
        <p:grpSpPr>
          <a:xfrm>
            <a:off x="3203640" y="4076640"/>
            <a:ext cx="2160360" cy="2592360"/>
            <a:chOff x="3203640" y="4076640"/>
            <a:chExt cx="2160360" cy="2592360"/>
          </a:xfrm>
        </p:grpSpPr>
        <p:sp>
          <p:nvSpPr>
            <p:cNvPr id="336" name="Line 17"/>
            <p:cNvSpPr/>
            <p:nvPr/>
          </p:nvSpPr>
          <p:spPr>
            <a:xfrm>
              <a:off x="4284720" y="4076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V="1">
              <a:off x="3276720" y="4365360"/>
              <a:ext cx="2087280" cy="2087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3203640" y="4365720"/>
              <a:ext cx="2160360" cy="21589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Text Box 21"/>
          <p:cNvSpPr/>
          <p:nvPr/>
        </p:nvSpPr>
        <p:spPr>
          <a:xfrm>
            <a:off x="17928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сторонни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596360" y="14842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493236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2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не обладающие осевой симметр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148360" y="2276640"/>
            <a:ext cx="3168720" cy="1296720"/>
          </a:xfrm>
          <a:prstGeom prst="parallelogram">
            <a:avLst>
              <a:gd name="adj" fmla="val 61091"/>
            </a:avLst>
          </a:prstGeom>
          <a:solidFill>
            <a:srgbClr val="6a6f86"/>
          </a:solidFill>
          <a:ln w="2556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4"/>
          <p:cNvSpPr/>
          <p:nvPr/>
        </p:nvSpPr>
        <p:spPr>
          <a:xfrm flipV="1">
            <a:off x="3419640" y="4220640"/>
            <a:ext cx="1368360" cy="36036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4716360" y="4221000"/>
            <a:ext cx="1008000" cy="5032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3419640" y="4581360"/>
            <a:ext cx="360360" cy="15116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 flipV="1">
            <a:off x="3780000" y="5877000"/>
            <a:ext cx="1584000" cy="21600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5364000" y="4724280"/>
            <a:ext cx="360360" cy="115272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258920" y="1844640"/>
            <a:ext cx="2881440" cy="1728720"/>
          </a:xfrm>
          <a:prstGeom prst="rtTriangle">
            <a:avLst/>
          </a:prstGeom>
          <a:solidFill>
            <a:srgbClr val="99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611280" y="378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роизвольны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6012000" y="378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507672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Неправильный мног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AutoShape 1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191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8"/>
          <p:cNvSpPr/>
          <p:nvPr/>
        </p:nvSpPr>
        <p:spPr>
          <a:xfrm>
            <a:off x="4800600" y="2286000"/>
            <a:ext cx="4191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е наблюдение показывает, ч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у красоты многих форм, созданных природой, составляет симметр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Содержимое 12" descr="S2021565-1.jpg"/>
          <p:cNvPicPr/>
          <p:nvPr/>
        </p:nvPicPr>
        <p:blipFill>
          <a:blip r:embed="rId1"/>
          <a:srcRect l="6060" t="4545" r="7074" b="6061"/>
          <a:stretch/>
        </p:blipFill>
        <p:spPr>
          <a:xfrm>
            <a:off x="144360" y="457200"/>
            <a:ext cx="43880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5520" y="304560"/>
            <a:ext cx="3048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Ярко выраженной симметрией обладают листья, ветви, цветы, пл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Содержимое 8" descr="4C6912CF-0215-49FC-AC7A-33DF222AF162-1.jpg"/>
          <p:cNvPicPr/>
          <p:nvPr/>
        </p:nvPicPr>
        <p:blipFill>
          <a:blip r:embed="rId1"/>
          <a:stretch/>
        </p:blipFill>
        <p:spPr>
          <a:xfrm>
            <a:off x="0" y="0"/>
            <a:ext cx="2743200" cy="391176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2743200" y="0"/>
            <a:ext cx="3430440" cy="4572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Копия Цветок в насекомым"/>
          <p:cNvPicPr/>
          <p:nvPr/>
        </p:nvPicPr>
        <p:blipFill>
          <a:blip r:embed="rId4"/>
          <a:srcRect l="0" t="1192" r="2647" b="0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solidFill>
              <a:srgbClr val="c1bcfc"/>
            </a:solidFill>
          </a:ln>
        </p:spPr>
      </p:pic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я в животном мир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одержимое 12" descr="bd266528a25d.jpg"/>
          <p:cNvPicPr/>
          <p:nvPr/>
        </p:nvPicPr>
        <p:blipFill>
          <a:blip r:embed="rId1"/>
          <a:stretch/>
        </p:blipFill>
        <p:spPr>
          <a:xfrm>
            <a:off x="5524560" y="137160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4" descr="5xsinty.jpg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Содержимое 8" descr="66750506_funnyanim38_768x512.jpg"/>
          <p:cNvPicPr/>
          <p:nvPr/>
        </p:nvPicPr>
        <p:blipFill>
          <a:blip r:embed="rId3"/>
          <a:stretch/>
        </p:blipFill>
        <p:spPr>
          <a:xfrm>
            <a:off x="0" y="137160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7" descr="408190_391546.jpg"/>
          <p:cNvPicPr/>
          <p:nvPr/>
        </p:nvPicPr>
        <p:blipFill>
          <a:blip r:embed="rId4"/>
          <a:stretch/>
        </p:blipFill>
        <p:spPr>
          <a:xfrm>
            <a:off x="5689440" y="4343400"/>
            <a:ext cx="3454560" cy="251460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13" descr="56376152_462872376_animalelephant001.jpg"/>
          <p:cNvPicPr/>
          <p:nvPr/>
        </p:nvPicPr>
        <p:blipFill>
          <a:blip r:embed="rId5"/>
          <a:stretch/>
        </p:blipFill>
        <p:spPr>
          <a:xfrm>
            <a:off x="266688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11" descr="86a08870b868.jpg"/>
          <p:cNvPicPr/>
          <p:nvPr/>
        </p:nvPicPr>
        <p:blipFill>
          <a:blip r:embed="rId6"/>
          <a:stretch/>
        </p:blipFill>
        <p:spPr>
          <a:xfrm>
            <a:off x="2057400" y="1371600"/>
            <a:ext cx="40212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6" descr="14280251_BlueSnow1152.jpg"/>
          <p:cNvPicPr/>
          <p:nvPr/>
        </p:nvPicPr>
        <p:blipFill>
          <a:blip r:embed="rId1"/>
          <a:stretch/>
        </p:blipFill>
        <p:spPr>
          <a:xfrm>
            <a:off x="228600" y="1295280"/>
            <a:ext cx="3078000" cy="2198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гадочные 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0" y="353844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Он сыплет с неба мелкой крупой, летает вокруг фонарей огромными пушистыми хлопьями,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стоит столбом в лунном свете ледяными иглами. Казалось бы, какая ерунда! Всего-то замёрзшая вод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но сколько вопросов возникает у человека, глядящего на снежинки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Содержимое 9" descr="KXUBJ_5497.jpg"/>
          <p:cNvPicPr/>
          <p:nvPr/>
        </p:nvPicPr>
        <p:blipFill>
          <a:blip r:embed="rId2"/>
          <a:stretch/>
        </p:blipFill>
        <p:spPr>
          <a:xfrm>
            <a:off x="5958000" y="1295280"/>
            <a:ext cx="2728800" cy="218916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11" descr="i22.jpeg"/>
          <p:cNvPicPr/>
          <p:nvPr/>
        </p:nvPicPr>
        <p:blipFill>
          <a:blip r:embed="rId3"/>
          <a:stretch/>
        </p:blipFill>
        <p:spPr>
          <a:xfrm>
            <a:off x="3519360" y="1295280"/>
            <a:ext cx="219564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имметрия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038120" y="9907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асота человеческого тела обусловлена пропорциональностью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мметрие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днако человеческая фигура может быть ассиметричн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ие внутренних органов человека не симметрич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Содержимое 4" descr="http://vestnik-nou.narod.ru/images/zs_p11.gif"/>
          <p:cNvPicPr/>
          <p:nvPr/>
        </p:nvPicPr>
        <p:blipFill>
          <a:blip r:embed="rId1"/>
          <a:srcRect l="16009" t="0" r="23568" b="0"/>
          <a:stretch/>
        </p:blipFill>
        <p:spPr>
          <a:xfrm>
            <a:off x="152280" y="990720"/>
            <a:ext cx="1295640" cy="380988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4" descr="1271613603_i0042.jpg"/>
          <p:cNvPicPr/>
          <p:nvPr/>
        </p:nvPicPr>
        <p:blipFill>
          <a:blip r:embed="rId2"/>
          <a:srcRect l="0" t="-2217" r="0" b="0"/>
          <a:stretch/>
        </p:blipFill>
        <p:spPr>
          <a:xfrm>
            <a:off x="1676520" y="1154160"/>
            <a:ext cx="217944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в различных своих творениях, казалось бы, очень далеких друг от друга, может использовать одни и те же принцип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 человек в своих творениях: живописи, скульптуре, архитектур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ополагающими принципами красоты при этом являются пропорции и симмет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9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9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00040" y="762120"/>
            <a:ext cx="5638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– это идея, с помощью которой человек веками пытался объяснить и создать порядок, красоту и совершенство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Г. Вейль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5" descr="Г"/>
          <p:cNvPicPr/>
          <p:nvPr/>
        </p:nvPicPr>
        <p:blipFill>
          <a:blip r:embed="rId1"/>
          <a:stretch/>
        </p:blipFill>
        <p:spPr>
          <a:xfrm>
            <a:off x="304920" y="609480"/>
            <a:ext cx="2679480" cy="3926160"/>
          </a:xfrm>
          <a:prstGeom prst="rect">
            <a:avLst/>
          </a:prstGeom>
          <a:ln cap="rnd" w="507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3889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ы симметрии играют важную роль в физике и математике, химии и биологии, технике и архитектуре, живописи и скульптуре, поэзии и музы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ы природы, управляющие неисчерпаемой в своём многообразии картиной явлений, в свою очередь, также  подчиняются принципам симмет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ВЕЛИКИЕ О СИММЕТ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52480" y="12193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ин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думал скульптор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Регий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ревние гре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олагали, что Вселенная симметрична просто потому, что она прекрасн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ую научную школу в истории человечества создал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Самосски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 – это некая «средняя мера», - счита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ристоте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имский врач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Гале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2 в. н. э.) под симметрией понимал покой души и уравновешенность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Содержимое 10" descr="аристотель.jpg"/>
          <p:cNvPicPr/>
          <p:nvPr/>
        </p:nvPicPr>
        <p:blipFill>
          <a:blip r:embed="rId1"/>
          <a:stretch/>
        </p:blipFill>
        <p:spPr>
          <a:xfrm>
            <a:off x="228600" y="3048120"/>
            <a:ext cx="1523880" cy="1936800"/>
          </a:xfrm>
          <a:prstGeom prst="rect">
            <a:avLst/>
          </a:prstGeom>
          <a:ln w="0">
            <a:noFill/>
          </a:ln>
        </p:spPr>
      </p:pic>
      <p:pic>
        <p:nvPicPr>
          <p:cNvPr id="278" name="Содержимое 9" descr="Гален.jpg"/>
          <p:cNvPicPr/>
          <p:nvPr/>
        </p:nvPicPr>
        <p:blipFill>
          <a:blip r:embed="rId2"/>
          <a:stretch/>
        </p:blipFill>
        <p:spPr>
          <a:xfrm>
            <a:off x="228600" y="48769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8" descr="Пифагор Самосский.jpeg"/>
          <p:cNvPicPr/>
          <p:nvPr/>
        </p:nvPicPr>
        <p:blipFill>
          <a:blip r:embed="rId3"/>
          <a:stretch/>
        </p:blipFill>
        <p:spPr>
          <a:xfrm>
            <a:off x="152280" y="1066680"/>
            <a:ext cx="1689120" cy="18846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8"/>
          <p:cNvSpPr/>
          <p:nvPr/>
        </p:nvSpPr>
        <p:spPr>
          <a:xfrm>
            <a:off x="157680" y="6488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Гал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219960" y="4495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15228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Пифагор Самос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75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75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75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75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750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971440" y="7617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Леонардо да Вин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читал, что главную роль в картине играют пропорциональность и гармония, которые тесно связаны симметри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льбрехт Дюре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1471-1528 г.г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утверждал, что каждый художник должен знать способы построения правильных симметричных фигу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7" descr="Предположительный автопортрет Леонардо да Винчи"/>
          <p:cNvPicPr/>
          <p:nvPr/>
        </p:nvPicPr>
        <p:blipFill>
          <a:blip r:embed="rId1"/>
          <a:stretch/>
        </p:blipFill>
        <p:spPr>
          <a:xfrm>
            <a:off x="457200" y="152280"/>
            <a:ext cx="2019240" cy="3048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Автопортрет, 1500, Старая Пинакотека, Мюнхен"/>
          <p:cNvPicPr/>
          <p:nvPr/>
        </p:nvPicPr>
        <p:blipFill>
          <a:blip r:embed="rId2"/>
          <a:stretch/>
        </p:blipFill>
        <p:spPr>
          <a:xfrm>
            <a:off x="380880" y="3352680"/>
            <a:ext cx="22100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рмин «симметри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греч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- соразмерность, пропорциональность, одинаковость в расположении ча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мметрия в широком смысл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неизменность структуры материального объекта относительно его преобразов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играет огромную роль в искусстве и архитектуре. Но ее можно заметить и в музыке, и в поэзии. Симметрия широко встречается в природе, в особенности у кристаллов, у растений и живот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может встретиться и в других разделах математики, например при построении графиков функц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ве точки, лежащие на одном перпендикуляре к данной прямой по разные стороны и на одинаковом расстоянии от нее, называются симметричными относительно данной прям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4560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419360" y="1066680"/>
            <a:ext cx="4724280" cy="32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гура называется симметричной относительно прямой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для каждой точки фигуры симметричная ей точка относительно прямой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же принадлежит этой фигур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14600" y="228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Прямая соединительная линия 11"/>
          <p:cNvSpPr/>
          <p:nvPr/>
        </p:nvSpPr>
        <p:spPr>
          <a:xfrm>
            <a:off x="2286000" y="228600"/>
            <a:ext cx="0" cy="5257800"/>
          </a:xfrm>
          <a:prstGeom prst="line">
            <a:avLst/>
          </a:prstGeom>
          <a:ln cap="sq"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Содержимое 7" descr="butterfly.png"/>
          <p:cNvPicPr/>
          <p:nvPr/>
        </p:nvPicPr>
        <p:blipFill>
          <a:blip r:embed="rId1"/>
          <a:stretch/>
        </p:blipFill>
        <p:spPr>
          <a:xfrm>
            <a:off x="152280" y="990720"/>
            <a:ext cx="4267440" cy="35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обладающие одной осью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258920" y="1916280"/>
            <a:ext cx="2089080" cy="1441440"/>
            <a:chOff x="1258920" y="1916280"/>
            <a:chExt cx="2089080" cy="1441440"/>
          </a:xfrm>
        </p:grpSpPr>
        <p:sp>
          <p:nvSpPr>
            <p:cNvPr id="297" name="Line 4"/>
            <p:cNvSpPr/>
            <p:nvPr/>
          </p:nvSpPr>
          <p:spPr>
            <a:xfrm flipV="1">
              <a:off x="1258920" y="1916280"/>
              <a:ext cx="201600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>
              <a:off x="1258920" y="2637000"/>
              <a:ext cx="208908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9" name="Line 6"/>
          <p:cNvSpPr/>
          <p:nvPr/>
        </p:nvSpPr>
        <p:spPr>
          <a:xfrm>
            <a:off x="1258920" y="2637000"/>
            <a:ext cx="2087640" cy="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5940360" y="2133720"/>
            <a:ext cx="1727280" cy="22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6804000" y="1700280"/>
            <a:ext cx="0" cy="34574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2411280" y="4365720"/>
            <a:ext cx="2808360" cy="1727280"/>
          </a:xfrm>
          <a:custGeom>
            <a:avLst/>
            <a:gdLst>
              <a:gd name="textAreaLeft" fmla="*/ 585000 w 2808360"/>
              <a:gd name="textAreaRight" fmla="*/ 2223360 w 2808360"/>
              <a:gd name="textAreaTop" fmla="*/ 359640 h 1727280"/>
              <a:gd name="textAreaBottom" fmla="*/ 136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3851280" y="3789360"/>
            <a:ext cx="0" cy="25210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622764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716436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4716360" y="5157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2700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18728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Уго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6900120" y="465300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219564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ая трапе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Ольга</cp:lastModifiedBy>
  <dcterms:modified xsi:type="dcterms:W3CDTF">2017-05-10T16:49:48Z</dcterms:modified>
  <cp:revision>5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