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B21-8974-4510-8858-94355F95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92A-B28C-4EE8-8D63-C0BC245B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9A78E-FD50-4288-BA7A-2FD89300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FFC5A-A99E-4276-AB65-36752316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A450B-F814-488E-AFEC-8D3585BB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EC457-D00D-4198-A132-361507C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2B473-1A65-4144-8146-F5AA06BF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9DE9F-C00D-4E24-BB85-5925658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87D16-CE9E-49F6-93EB-4642995D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C1289-E970-49CE-B66A-A948D35B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AA36D-CAE5-438F-8C30-642877B5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65DE0-C518-4AFA-BE37-5FBB6937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290-4B90-4E61-A3B9-0F91F166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F7EC0-3907-4A03-A4BE-469D07E8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AD857-0B2F-4F2D-9AC5-001724E3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675D9-5A78-47B9-881B-0EB4F20E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05C34-9DE8-44A3-A46A-9DBAB7F3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29136-0E50-4AE1-ABFB-C62DEDBF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DC91C-51A3-4729-9C1F-686C592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434E5-CAB1-423E-B1B5-3647B497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7CD06-B09E-4305-9253-80479D7F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8B3D1-2007-4068-809D-C4201A2A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C0D06-445A-42C6-97EB-4BC72BEA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291-391B-4EBE-BF0A-2795D261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F0D4B-AA87-4D78-9772-1FFEB7D7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D31C2-69E5-4839-B6F8-6648A100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34CB9-806B-402F-A697-13A76DDA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BC89B-1E42-463D-8855-83B483A2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31F48-58A1-4C6C-B35E-12723DB9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B84C8-2933-4E1E-BDE5-58E2E438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41932-04ED-4514-BD93-A2213DA1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D8F8D-512E-41DA-BBD6-57EB0ADB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F42B0-331A-4837-BDBE-C4BD18C2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015F4-1741-42EE-83D0-FA47FD4B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B2E9-B9B4-4C0C-8A13-BC8EBD20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AF55F-74AB-4F5F-819F-3A5B1B86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1EE14-9D5B-42F1-9F98-53AE1A77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B42B8-8927-4CE5-AA31-68AEB2DF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71FDC-202C-4544-ABCA-69F1DDF2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9E266-2FEA-489B-9539-4DED0C6B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EA67D-E9B2-42D5-BC32-59236790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6D925-0E2C-404F-BA86-4E29B5A2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C75D1-AE5C-4303-BE11-D4E6E765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9A3C0-DB96-4CE2-851F-BDF55118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553B4-A472-4678-9C69-F1CF074C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0871-2B6C-4D6E-9ABC-19F07931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B0D55-1F49-425E-AAB6-12AC6980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78498-8976-47D0-8F60-E933F898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507B1-0EF3-4239-9F40-13C1AC27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EFC22-178E-44ED-BF5F-75C29AE9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F9D87-CB6E-40DD-8E7A-A88B6C14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C3437-6044-456B-995D-34868CEF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3719B-E0C4-450B-B5F0-DEB3ABA6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04A35-9A8B-4938-9C8A-D3302F49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D3A51-467C-4A62-84D6-225E1EFE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33B32-647F-4580-A4CE-03B7A664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4F99-C4C0-48F1-8DF4-73DA185E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B8688-2857-4C09-9160-E0489849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1F93C-472E-4300-8D09-47638679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AB80C-85BD-4EAB-ADA5-A8C05C0E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EF952-E154-4E42-A371-32D994E6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7A7670-1357-4225-A329-2B26ACCC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4DA4B-7083-48B7-A046-D92673FF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B5726-A9A0-4996-A624-D63B7C44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58994-3743-4572-BFC6-3A8647F9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39299-D228-42E0-AD37-2DF2051B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3BD96-9ECD-4A1F-A0C4-61FCF207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72FC-E457-4EAC-B976-7B0B005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58CBE-9B1E-41A8-86EC-631D3F1F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FF0E22-51E7-4ECD-A19F-3563C5C8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2F838-5616-4D96-B69E-8E1B6872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1BDDE-B7AF-4D4A-AF2A-BF87063D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83BB4-B6AC-423B-8059-CA3C15E4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FCC50-FB69-4D68-8E3F-53C8BF3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F4E9A-367B-4098-A0FF-76B3A445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11E3B-CC3A-43AF-96CA-62CC22D1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FECE1-EE39-43DE-BD50-12A345C3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D69CC-9E0A-4497-90D8-5083FCB3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6F9E-AA68-4A89-B296-6D9E881F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0AE74-FF8A-42A1-A788-956AEA53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DCC4A-A323-42B7-93D6-907939E0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52C15-13E3-489F-966E-4278240A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C6EB5-3B28-4D43-B98B-80742F8A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A6162-7F30-4C50-BE2F-9CBA1575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3A5A1-D737-4C24-B058-28A7BF09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C2910-1D33-4331-B156-141D2578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925AC-C275-4BDC-8093-C2D7F92B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2B49E-C713-403A-AD39-25F2E21C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DEF24-5730-4BAA-8D06-3663C490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5069-F682-4C5F-B82B-ABE5B8DF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04E7E-8EC4-4E0E-9C5E-92B82EB9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02B4B-0F98-4A88-81F7-8A2A58F5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6FF89-3781-4174-AEF4-BFFBDB17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557B8D-2519-4C52-876A-790C9DFD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6B8CD6-D880-4E07-9AA6-64FC0E11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01AA0-A58F-4A0B-9804-69957843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DA4F69-01AC-4C6A-9724-A20CB4F3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B9400-5487-4386-9811-888EA860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4785F-3090-42C8-87AE-702B3AB2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A028C-8D16-49D7-8B25-4EAB384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FCDB-655F-45E7-8BD8-5B1A0BDB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DBCCE-D56E-47C8-BB7E-463F98BA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2CD30-025B-4170-AB1A-3CED21AF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55224-2E9C-42BF-9D0A-8E34C35B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E3881-0E3F-407D-972C-A24AB400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678F1-2C98-4474-893B-C7CD9484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1F291-3438-425A-8C13-642D8894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2B3C3-D5F5-4C57-937B-0CC5B910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34AF4-1C34-4F60-B06C-D02891AE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76A3EB-DF33-4DC7-82A2-DBEA70B8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D1EC15-9848-4417-88D6-E37C4398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66A-CCEA-4653-AF92-9ABA65A7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822B-5BDB-401A-8D0C-B7304629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C5872-4E7D-4236-A955-A52463F7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FF146-A41B-4745-9948-7E6925DE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2D05D-F6C8-468E-A56B-6059A3D1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BC1FB-A748-4F59-95D1-570F0280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61BD98-8407-4664-B53C-A426F886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72A8-4322-46F0-93CF-EC8E4329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B3F2-5CA8-41F6-8D8D-9EE6097F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6268-F5E2-4B58-B841-F9C7DDBB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8A12-5682-49E1-AC0E-E0704F7A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C8BCE-CFD4-4BA9-92DD-F872C87F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3EAB-2486-496C-9213-F72F4EA0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7E82-90C4-4DC6-A154-45D8C665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E72CF-E16E-487C-A249-EA381A60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023E-01D0-45FE-9E6E-109550E6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6F1-F03D-408A-B584-938667EC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F121-82C9-449E-8D90-56B18F24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2498-B14A-462D-B084-864A8E20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3E7F6-8A3F-4D85-B388-A6506A8F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B5DE-EE7B-43C3-9C23-402F0C74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8148-33BC-4B20-B2BD-129F86E9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E7B8-513D-45BD-A3A7-89CCA87D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6758-4BCE-4B14-93C3-CD909425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6D08-9A03-48AB-94ED-E79F38EF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454E-0D52-4827-ACC0-A66699E1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66C37-C9A5-4044-90A8-5398BAEE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FAD-1339-4B61-B9F1-3AF14798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33C77-E31D-43B9-A4B9-CEC0E41E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0A11B-EAE8-4805-8EDF-21C24BA9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7C846-E55D-4693-AA0D-B70716EE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D90DC-4750-4845-82B9-AC52E889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2008-6090-4F16-9488-8E0F0C30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F13E-0AE3-428C-86C5-E3676669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CE36B-6C09-4375-9F49-974B8FC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2C63-2DBB-4C4C-A63E-C6E3C064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441AB-F08E-4D8E-B19F-D0927CF3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39694-E30F-497B-AD4A-A06947C7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9B9-32E6-4BBE-8F8D-BB43B14A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432B-E0B2-4BA0-8E98-EE651FE9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C7DE-A04E-477E-9413-6AEF61B1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48C9B-0CF3-4567-87A1-F078FB4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77DE-FE7D-47D5-B7BE-49F517E1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37DCD-F023-49C6-AEB8-EFA68CF8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82CC5-EB9C-4544-813F-CC97686E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5E83D-12B5-4D3B-8050-3C8EB9C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49574-DDD0-4D34-A645-1EB5498A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19359-5A7E-4842-A3DC-42625506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E9C5E-8BFD-4FE0-A0A8-13D1BCEE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D08-C3CA-4D23-82F6-8B857A82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3AD9A-8426-4A1E-A040-E681A50A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CC4F4-652C-41DD-B52B-33D1BD90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D37DB-ED06-45DA-8DFF-E432E692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E888D-36D3-4782-89BF-9F920463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2DD59-3F5A-4D34-A785-A1E326FE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109EF-E83E-4E92-8790-29E1C310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A48F-C2E0-4C95-8BE7-126E4C03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7BC34-44CB-4E2E-990E-9847B946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E43FB-A42F-47D1-8A96-CD4C5DBA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55726-D8A1-41AD-8184-DD792425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B59-8262-46F3-8670-D329050E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249C-ED73-43B1-96F6-29F15EA9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70C1E-1E35-43D9-B04E-338B8328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B436A-1504-456D-AC14-58174059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4CD9E-7B9A-430C-BFEE-002B589D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A3165-109C-4747-A4B1-470D1F20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15E62-4C8A-4BF4-BA9B-B4735B88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F503F-B22F-431B-A842-67AA387E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58207-2644-4DD7-B23D-E1CA89F0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B7A6F-BF5E-48A2-8FD9-A1B93390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925E3-3378-4157-A8F7-11801859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D42-8809-44A7-919C-0416FF06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7AC58-5D2F-4664-A8DD-01D0DF8F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6A6B1-493C-4078-8221-59B044C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1FD68-27AC-4532-B419-E6AAE393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8A1CF-4C07-481B-8C60-A4F353B8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3098C-CCAF-4315-85CC-FE60FA38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F6124-2DFD-4770-98A6-DA9F433A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52DA6-62D9-413E-BFD9-6A0C609A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ED76D-CD52-4285-B2E1-3CC630EC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4EAB4-7A40-4F76-A721-9707154B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6C8EA-3E7D-49CC-A47F-861F1C8E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123-FEA5-4506-946F-6D904097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BDCDB-D377-4FEC-88F6-F5C36C3F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830C1-2121-4001-9090-A3C862A4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4AA59-95FE-46E7-8BB0-C2A764F4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4B345-B33F-4C48-B79F-D14DC092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02A73-9B43-49A4-A372-23D2E829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C654A-9A7B-482E-81E0-BB964482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ED8F8-5500-4D85-9489-E7E3A854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B93B8-968F-4FA7-9026-99551CFE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1A6AC-4854-45E1-81BC-FD59E12F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82C2C-1DF2-40EF-96AD-73ADA5AE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6861-AAA8-4F7D-8AFD-495B0DAF79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261F-02E8-4A98-A99A-DB0A2C2094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5010-2D3D-486D-A434-4C2AEFF7D53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38C4-96C3-4D1B-B1DE-B633877BB22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49C1-7866-4477-98A8-95296A1A17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8414-7981-4C92-9495-0938A4EB640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94FD-1E53-48E9-8DFB-E9E20CE5A8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43BB-743A-4085-9814-E4D191F2AE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FCBC-1BCB-47AD-A577-C6506D6105C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7265-126C-4F34-BDE2-79B9DBEBEA2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2CC7-BD31-47D0-B0EA-88F912620E4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BE06-0084-48E7-A81D-93BA622F1E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334D-4954-4218-A0C0-9733E9A971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BBA2-0CCD-48DF-B559-7190F01FF05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B2E0-E3C6-42DF-8038-756A300749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928-0B6A-42F5-9FFE-0EB31A9A47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A00A-B696-4C31-861B-86FB69348A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WordArt 5"/>
          <p:cNvSpPr txBox="1"/>
          <p:nvPr/>
        </p:nvSpPr>
        <p:spPr>
          <a:xfrm>
            <a:off x="1258920" y="549360"/>
            <a:ext cx="7416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Повторе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1177" name="Рисунок 1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3600720" cy="2386080"/>
          </a:xfrm>
          <a:prstGeom prst="rect">
            <a:avLst/>
          </a:prstGeom>
          <a:ln w="0">
            <a:noFill/>
          </a:ln>
        </p:spPr>
      </p:pic>
      <p:sp>
        <p:nvSpPr>
          <p:cNvPr id="1178" name="Прямоугольник 3"/>
          <p:cNvSpPr/>
          <p:nvPr/>
        </p:nvSpPr>
        <p:spPr>
          <a:xfrm>
            <a:off x="1290600" y="2781360"/>
            <a:ext cx="362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Tahoma"/>
              </a:rPr>
              <a:t>Звуки и -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WordArt 7"/>
          <p:cNvSpPr txBox="1"/>
          <p:nvPr/>
        </p:nvSpPr>
        <p:spPr>
          <a:xfrm>
            <a:off x="755640" y="189000"/>
            <a:ext cx="763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ртикуляционная гимнасти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7" name="Picture 8" descr=""/>
          <p:cNvPicPr/>
          <p:nvPr/>
        </p:nvPicPr>
        <p:blipFill>
          <a:blip r:embed="rId3"/>
          <a:stretch/>
        </p:blipFill>
        <p:spPr>
          <a:xfrm>
            <a:off x="681120" y="1844640"/>
            <a:ext cx="3603600" cy="471636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9" descr=""/>
          <p:cNvPicPr/>
          <p:nvPr/>
        </p:nvPicPr>
        <p:blipFill>
          <a:blip r:embed="rId4"/>
          <a:stretch/>
        </p:blipFill>
        <p:spPr>
          <a:xfrm>
            <a:off x="5364000" y="1836720"/>
            <a:ext cx="2953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1182240" y="2017440"/>
            <a:ext cx="26751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entury Gothic"/>
              </a:rPr>
              <a:t>м</a:t>
            </a:r>
            <a:r>
              <a:rPr b="1" lang="ru-RU" sz="3700" spc="-1" strike="noStrike">
                <a:solidFill>
                  <a:srgbClr val="7030a0"/>
                </a:solidFill>
                <a:latin typeface="Century Gothic"/>
              </a:rPr>
              <a:t>Ы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entury Gothic"/>
              </a:rPr>
              <a:t>м</a:t>
            </a:r>
            <a:r>
              <a:rPr b="1" lang="ru-RU" sz="3700" spc="-1" strike="noStrike">
                <a:solidFill>
                  <a:srgbClr val="7030a0"/>
                </a:solidFill>
                <a:latin typeface="Century Gothic"/>
              </a:rPr>
              <a:t>У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entury Gothic"/>
              </a:rPr>
              <a:t>м</a:t>
            </a:r>
            <a:r>
              <a:rPr b="1" lang="ru-RU" sz="3700" spc="-1" strike="noStrike">
                <a:solidFill>
                  <a:srgbClr val="7030a0"/>
                </a:solidFill>
                <a:latin typeface="Century Gothic"/>
              </a:rPr>
              <a:t>А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entury Gothic"/>
              </a:rPr>
              <a:t>м</a:t>
            </a:r>
            <a:r>
              <a:rPr b="1" lang="ru-RU" sz="4000" spc="-1" strike="noStrike">
                <a:solidFill>
                  <a:srgbClr val="7030a0"/>
                </a:solidFill>
                <a:latin typeface="Century Gothic"/>
              </a:rPr>
              <a:t>О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entury Gothic"/>
              </a:rPr>
              <a:t>ми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5337000" y="2136240"/>
            <a:ext cx="3197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entury Gothic"/>
              </a:rPr>
              <a:t>с</a:t>
            </a:r>
            <a:r>
              <a:rPr b="1" lang="ru-RU" sz="3700" spc="-1" strike="noStrike">
                <a:solidFill>
                  <a:srgbClr val="ff3399"/>
                </a:solidFill>
                <a:latin typeface="Century Gothic"/>
              </a:rPr>
              <a:t>Ы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entury Gothic"/>
              </a:rPr>
              <a:t>с</a:t>
            </a:r>
            <a:r>
              <a:rPr b="1" lang="ru-RU" sz="3700" spc="-1" strike="noStrike">
                <a:solidFill>
                  <a:srgbClr val="ff3399"/>
                </a:solidFill>
                <a:latin typeface="Century Gothic"/>
              </a:rPr>
              <a:t>А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entury Gothic"/>
              </a:rPr>
              <a:t>со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entury Gothic"/>
              </a:rPr>
              <a:t>Ас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Century Gothic"/>
              </a:rPr>
              <a:t>с</a:t>
            </a:r>
            <a:r>
              <a:rPr b="1" lang="ru-RU" sz="3200" spc="-1" strike="noStrike">
                <a:solidFill>
                  <a:srgbClr val="ff3399"/>
                </a:solidFill>
                <a:latin typeface="Century Gothic"/>
              </a:rPr>
              <a:t>И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entury Gothic"/>
              </a:rPr>
              <a:t>Ус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buClr>
                <a:srgbClr val="a53010"/>
              </a:buClr>
              <a:buSzPct val="6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1" name="Прямоугольник 4" descr=""/>
          <p:cNvPicPr/>
          <p:nvPr/>
        </p:nvPicPr>
        <p:blipFill>
          <a:blip r:embed="rId1"/>
          <a:stretch/>
        </p:blipFill>
        <p:spPr>
          <a:xfrm>
            <a:off x="1139760" y="42840"/>
            <a:ext cx="7523280" cy="1425600"/>
          </a:xfrm>
          <a:prstGeom prst="rect">
            <a:avLst/>
          </a:prstGeom>
          <a:ln w="0">
            <a:noFill/>
          </a:ln>
        </p:spPr>
      </p:pic>
      <p:sp>
        <p:nvSpPr>
          <p:cNvPr id="1232" name="Стрелка вправо 7"/>
          <p:cNvSpPr/>
          <p:nvPr/>
        </p:nvSpPr>
        <p:spPr>
          <a:xfrm>
            <a:off x="2786040" y="1928880"/>
            <a:ext cx="2214720" cy="3571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33ccff"/>
          </a:solidFill>
          <a:ln cap="rnd" w="158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500" spc="-1" strike="noStrike">
                <a:solidFill>
                  <a:srgbClr val="262626"/>
                </a:solidFill>
                <a:latin typeface="Century Gothic"/>
              </a:rPr>
              <a:t>Спасибо за внимание!</a:t>
            </a:r>
            <a:endParaRPr b="0" lang="en-US" sz="45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34" name="Picture 6" descr="63364199_1283106791_01"/>
          <p:cNvPicPr/>
          <p:nvPr/>
        </p:nvPicPr>
        <p:blipFill>
          <a:blip r:embed="rId1"/>
          <a:stretch/>
        </p:blipFill>
        <p:spPr>
          <a:xfrm>
            <a:off x="2116080" y="2492280"/>
            <a:ext cx="627228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 rot="10800000">
            <a:off x="2410560" y="4656240"/>
            <a:ext cx="1584360" cy="1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WordArt 3"/>
          <p:cNvSpPr txBox="1"/>
          <p:nvPr/>
        </p:nvSpPr>
        <p:spPr>
          <a:xfrm>
            <a:off x="1476360" y="620640"/>
            <a:ext cx="69832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157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1181" name="Picture 4" descr=""/>
          <p:cNvPicPr/>
          <p:nvPr/>
        </p:nvPicPr>
        <p:blipFill>
          <a:blip r:embed="rId1"/>
          <a:stretch/>
        </p:blipFill>
        <p:spPr>
          <a:xfrm>
            <a:off x="501480" y="2616120"/>
            <a:ext cx="4500720" cy="26258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"/>
          <p:cNvPicPr/>
          <p:nvPr/>
        </p:nvPicPr>
        <p:blipFill>
          <a:blip r:embed="rId2"/>
          <a:stretch/>
        </p:blipFill>
        <p:spPr>
          <a:xfrm>
            <a:off x="5889600" y="2446200"/>
            <a:ext cx="1886040" cy="2967120"/>
          </a:xfrm>
          <a:prstGeom prst="rect">
            <a:avLst/>
          </a:prstGeom>
          <a:ln w="0">
            <a:noFill/>
          </a:ln>
        </p:spPr>
      </p:pic>
      <p:sp>
        <p:nvSpPr>
          <p:cNvPr id="1183" name="TextBox 1"/>
          <p:cNvSpPr/>
          <p:nvPr/>
        </p:nvSpPr>
        <p:spPr>
          <a:xfrm>
            <a:off x="3807000" y="83664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3010"/>
                </a:solidFill>
                <a:latin typeface="Calibri"/>
              </a:rPr>
              <a:t>зву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Box 2"/>
          <p:cNvSpPr/>
          <p:nvPr/>
        </p:nvSpPr>
        <p:spPr>
          <a:xfrm>
            <a:off x="1706400" y="19890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износ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Box 5"/>
          <p:cNvSpPr/>
          <p:nvPr/>
        </p:nvSpPr>
        <p:spPr>
          <a:xfrm>
            <a:off x="5796000" y="191628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ыш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843280" y="549360"/>
            <a:ext cx="3889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ЗВУКИ бывают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979280" y="2133720"/>
            <a:ext cx="659124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Gothic"/>
              </a:rPr>
              <a:t>Гласные 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согласные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8" name="Picture 2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1225440" cy="126828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3" descr=""/>
          <p:cNvPicPr/>
          <p:nvPr/>
        </p:nvPicPr>
        <p:blipFill>
          <a:blip r:embed="rId2"/>
          <a:stretch/>
        </p:blipFill>
        <p:spPr>
          <a:xfrm>
            <a:off x="5151600" y="3716280"/>
            <a:ext cx="1158840" cy="165276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4" descr=""/>
          <p:cNvPicPr/>
          <p:nvPr/>
        </p:nvPicPr>
        <p:blipFill>
          <a:blip r:embed="rId3"/>
          <a:stretch/>
        </p:blipFill>
        <p:spPr>
          <a:xfrm>
            <a:off x="6659640" y="4038480"/>
            <a:ext cx="11523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556000" y="692280"/>
            <a:ext cx="5184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ГЛАСНЫЕ ЗВУКИ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547280" y="1628640"/>
            <a:ext cx="66265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ы можем произносить голосо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их можно петь  и тянуть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и их произношении  нет преграды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TextBox 3"/>
          <p:cNvSpPr/>
          <p:nvPr/>
        </p:nvSpPr>
        <p:spPr>
          <a:xfrm>
            <a:off x="2633760" y="3121200"/>
            <a:ext cx="35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ОГЛАСНЫЕ ЗВУ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TextBox 4"/>
          <p:cNvSpPr/>
          <p:nvPr/>
        </p:nvSpPr>
        <p:spPr>
          <a:xfrm>
            <a:off x="1547640" y="4653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TextBox 5"/>
          <p:cNvSpPr/>
          <p:nvPr/>
        </p:nvSpPr>
        <p:spPr>
          <a:xfrm>
            <a:off x="2071800" y="4221000"/>
            <a:ext cx="494820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г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язык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зуб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нё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Прямоугольник 7"/>
          <p:cNvSpPr/>
          <p:nvPr/>
        </p:nvSpPr>
        <p:spPr>
          <a:xfrm>
            <a:off x="1657080" y="3819600"/>
            <a:ext cx="43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ы произносим при  помощ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Прямоугольник 8"/>
          <p:cNvSpPr/>
          <p:nvPr/>
        </p:nvSpPr>
        <p:spPr>
          <a:xfrm>
            <a:off x="1684440" y="5929200"/>
            <a:ext cx="50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и их произношении ест прегра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634920" y="836280"/>
            <a:ext cx="20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3010"/>
                </a:solidFill>
                <a:latin typeface="Calibri"/>
              </a:rPr>
              <a:t>букв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2573280" cy="176832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3" descr=""/>
          <p:cNvPicPr/>
          <p:nvPr/>
        </p:nvPicPr>
        <p:blipFill>
          <a:blip r:embed="rId2"/>
          <a:stretch/>
        </p:blipFill>
        <p:spPr>
          <a:xfrm>
            <a:off x="3851280" y="2676600"/>
            <a:ext cx="1427040" cy="213984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4" descr=""/>
          <p:cNvPicPr/>
          <p:nvPr/>
        </p:nvPicPr>
        <p:blipFill>
          <a:blip r:embed="rId3"/>
          <a:stretch/>
        </p:blipFill>
        <p:spPr>
          <a:xfrm>
            <a:off x="5867280" y="2565360"/>
            <a:ext cx="2901960" cy="3170160"/>
          </a:xfrm>
          <a:prstGeom prst="rect">
            <a:avLst/>
          </a:prstGeom>
          <a:ln w="0">
            <a:noFill/>
          </a:ln>
        </p:spPr>
      </p:pic>
      <p:sp>
        <p:nvSpPr>
          <p:cNvPr id="1202" name="TextBox 4"/>
          <p:cNvSpPr/>
          <p:nvPr/>
        </p:nvSpPr>
        <p:spPr>
          <a:xfrm>
            <a:off x="1409760" y="213372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и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TextBox 5"/>
          <p:cNvSpPr/>
          <p:nvPr/>
        </p:nvSpPr>
        <p:spPr>
          <a:xfrm>
            <a:off x="4044960" y="214308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ш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TextBox 6"/>
          <p:cNvSpPr/>
          <p:nvPr/>
        </p:nvSpPr>
        <p:spPr>
          <a:xfrm>
            <a:off x="6831360" y="21798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та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Слог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2" descr=""/>
          <p:cNvPicPr/>
          <p:nvPr/>
        </p:nvPicPr>
        <p:blipFill>
          <a:blip r:embed="rId2"/>
          <a:stretch/>
        </p:blipFill>
        <p:spPr>
          <a:xfrm>
            <a:off x="1476360" y="1343160"/>
            <a:ext cx="712800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WordArt 5"/>
          <p:cNvSpPr txBox="1"/>
          <p:nvPr/>
        </p:nvSpPr>
        <p:spPr>
          <a:xfrm>
            <a:off x="1979640" y="620640"/>
            <a:ext cx="100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66f54"/>
                  </a:solidFill>
                  <a:miter/>
                </a:ln>
                <a:solidFill>
                  <a:srgbClr val="766f54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766f54"/>
                </a:solidFill>
                <a:miter/>
              </a:ln>
              <a:solidFill>
                <a:srgbClr val="766f54"/>
              </a:solidFill>
              <a:latin typeface="Arial"/>
              <a:ea typeface="Arial"/>
            </a:endParaRPr>
          </a:p>
        </p:txBody>
      </p:sp>
      <p:sp>
        <p:nvSpPr>
          <p:cNvPr id="1209" name="TextBox 1"/>
          <p:cNvSpPr/>
          <p:nvPr/>
        </p:nvSpPr>
        <p:spPr>
          <a:xfrm>
            <a:off x="3132000" y="692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b866e"/>
                </a:solidFill>
                <a:latin typeface="Tahoma"/>
              </a:rPr>
              <a:t>Чистоговор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TextBox 2"/>
          <p:cNvSpPr/>
          <p:nvPr/>
        </p:nvSpPr>
        <p:spPr>
          <a:xfrm>
            <a:off x="1979640" y="1484280"/>
            <a:ext cx="5267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 НОРЫ СИДИТ ЛИС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А-СА-С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УКУСИЛА В НОС ОС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-СО-СО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ПОКАТИЛОСЬ КОЛЕС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У-СУ-С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НЕ БОЮСЬ ОС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У-СУ-С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 СОВЫ УХАЮТ В ЛЕС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У-СУ-С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 МИСКЕ СУП ТЕБЕ НЕС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У-СУ-С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ТИХО ОСЕНЬЮ В ЛЕС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У-СУ-С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СЕРЫЙ ВОЛК ЖИВЁТ В ЛЕС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Ы-СЫ-С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ПРИЛЕТЕЛИ ДВЕ ОС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Ы-СЫ-С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А У ДЕДА ЕСТЬ УС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Ы-СЫ-С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НА СТОЛЕ СТОЯТ ВЕС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Ы-СЫ-С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ЕСТЬ ЛИСЯТА У ЛИС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Э-СЭ-СЭ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ШЁЛ АВТОБУС ПО ШОСС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WordArt 5"/>
          <p:cNvSpPr txBox="1"/>
          <p:nvPr/>
        </p:nvSpPr>
        <p:spPr>
          <a:xfrm>
            <a:off x="1547640" y="333360"/>
            <a:ext cx="6912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ОТГАДАЙ-КА!"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12" name="Picture 8" descr=""/>
          <p:cNvPicPr/>
          <p:nvPr/>
        </p:nvPicPr>
        <p:blipFill>
          <a:blip r:embed="rId1"/>
          <a:stretch/>
        </p:blipFill>
        <p:spPr>
          <a:xfrm>
            <a:off x="4995720" y="1830240"/>
            <a:ext cx="1133640" cy="7621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9" descr=""/>
          <p:cNvPicPr/>
          <p:nvPr/>
        </p:nvPicPr>
        <p:blipFill>
          <a:blip r:embed="rId2"/>
          <a:stretch/>
        </p:blipFill>
        <p:spPr>
          <a:xfrm>
            <a:off x="5940360" y="2633760"/>
            <a:ext cx="1046160" cy="79524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0" descr=""/>
          <p:cNvPicPr/>
          <p:nvPr/>
        </p:nvPicPr>
        <p:blipFill>
          <a:blip r:embed="rId3"/>
          <a:stretch/>
        </p:blipFill>
        <p:spPr>
          <a:xfrm>
            <a:off x="5940360" y="3465360"/>
            <a:ext cx="1230480" cy="6480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2" descr=""/>
          <p:cNvPicPr/>
          <p:nvPr/>
        </p:nvPicPr>
        <p:blipFill>
          <a:blip r:embed="rId4"/>
          <a:stretch/>
        </p:blipFill>
        <p:spPr>
          <a:xfrm>
            <a:off x="6804000" y="4149720"/>
            <a:ext cx="1363680" cy="76356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3" descr=""/>
          <p:cNvPicPr/>
          <p:nvPr/>
        </p:nvPicPr>
        <p:blipFill>
          <a:blip r:embed="rId5"/>
          <a:stretch/>
        </p:blipFill>
        <p:spPr>
          <a:xfrm>
            <a:off x="6875640" y="4941720"/>
            <a:ext cx="750600" cy="81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7" name=""/>
          <p:cNvGraphicFramePr/>
          <p:nvPr/>
        </p:nvGraphicFramePr>
        <p:xfrm>
          <a:off x="2212920" y="1879560"/>
          <a:ext cx="2719440" cy="762120"/>
        </p:xfrm>
        <a:graphic>
          <a:graphicData uri="http://schemas.openxmlformats.org/drawingml/2006/table">
            <a:tbl>
              <a:tblPr/>
              <a:tblGrid>
                <a:gridCol w="838080"/>
                <a:gridCol w="935280"/>
                <a:gridCol w="94608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8" name=""/>
          <p:cNvGraphicFramePr/>
          <p:nvPr/>
        </p:nvGraphicFramePr>
        <p:xfrm>
          <a:off x="2212920" y="2649600"/>
          <a:ext cx="3654360" cy="761760"/>
        </p:xfrm>
        <a:graphic>
          <a:graphicData uri="http://schemas.openxmlformats.org/drawingml/2006/table">
            <a:tbl>
              <a:tblPr/>
              <a:tblGrid>
                <a:gridCol w="846360"/>
                <a:gridCol w="936360"/>
                <a:gridCol w="936720"/>
                <a:gridCol w="93492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9" name=""/>
          <p:cNvGraphicFramePr/>
          <p:nvPr/>
        </p:nvGraphicFramePr>
        <p:xfrm>
          <a:off x="2212920" y="3403440"/>
          <a:ext cx="3654360" cy="762120"/>
        </p:xfrm>
        <a:graphic>
          <a:graphicData uri="http://schemas.openxmlformats.org/drawingml/2006/table">
            <a:tbl>
              <a:tblPr/>
              <a:tblGrid>
                <a:gridCol w="846360"/>
                <a:gridCol w="934920"/>
                <a:gridCol w="936720"/>
                <a:gridCol w="936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0" name=""/>
          <p:cNvGraphicFramePr/>
          <p:nvPr/>
        </p:nvGraphicFramePr>
        <p:xfrm>
          <a:off x="2212920" y="4178160"/>
          <a:ext cx="4519800" cy="762120"/>
        </p:xfrm>
        <a:graphic>
          <a:graphicData uri="http://schemas.openxmlformats.org/drawingml/2006/table">
            <a:tbl>
              <a:tblPr/>
              <a:tblGrid>
                <a:gridCol w="846360"/>
                <a:gridCol w="936360"/>
                <a:gridCol w="936720"/>
                <a:gridCol w="934920"/>
                <a:gridCol w="8654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2209680" y="4944960"/>
          <a:ext cx="4518000" cy="762120"/>
        </p:xfrm>
        <a:graphic>
          <a:graphicData uri="http://schemas.openxmlformats.org/drawingml/2006/table">
            <a:tbl>
              <a:tblPr/>
              <a:tblGrid>
                <a:gridCol w="846360"/>
                <a:gridCol w="936360"/>
                <a:gridCol w="935280"/>
                <a:gridCol w="936720"/>
                <a:gridCol w="86328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WordArt 6"/>
          <p:cNvSpPr txBox="1"/>
          <p:nvPr/>
        </p:nvSpPr>
        <p:spPr>
          <a:xfrm>
            <a:off x="1835280" y="692280"/>
            <a:ext cx="6624360" cy="165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Сравнение  бук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  <p:pic>
        <p:nvPicPr>
          <p:cNvPr id="1223" name="Прямоугольник 6" descr=""/>
          <p:cNvPicPr/>
          <p:nvPr/>
        </p:nvPicPr>
        <p:blipFill>
          <a:blip r:embed="rId1"/>
          <a:stretch/>
        </p:blipFill>
        <p:spPr>
          <a:xfrm>
            <a:off x="-743040" y="1006560"/>
            <a:ext cx="6235920" cy="7216560"/>
          </a:xfrm>
          <a:prstGeom prst="rect">
            <a:avLst/>
          </a:prstGeom>
          <a:ln w="0">
            <a:noFill/>
          </a:ln>
        </p:spPr>
      </p:pic>
      <p:sp>
        <p:nvSpPr>
          <p:cNvPr id="1224" name="TextBox 2"/>
          <p:cNvSpPr/>
          <p:nvPr/>
        </p:nvSpPr>
        <p:spPr>
          <a:xfrm>
            <a:off x="6300720" y="4005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TextBox 3"/>
          <p:cNvSpPr/>
          <p:nvPr/>
        </p:nvSpPr>
        <p:spPr>
          <a:xfrm>
            <a:off x="4952160" y="2154240"/>
            <a:ext cx="28796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595959"/>
                </a:solidFill>
                <a:latin typeface="Tahoma"/>
              </a:rPr>
              <a:t>ы</a:t>
            </a:r>
            <a:endParaRPr b="0" lang="en-US" sz="2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9:22:08Z</dcterms:created>
  <dc:creator>1</dc:creator>
  <dc:description/>
  <dc:language>en-US</dc:language>
  <cp:lastModifiedBy>Сергей</cp:lastModifiedBy>
  <dcterms:modified xsi:type="dcterms:W3CDTF">2015-11-16T17:53:35Z</dcterms:modified>
  <cp:revision>59</cp:revision>
  <dc:subject/>
  <dc:title>Слайд 1</dc:title>
</cp:coreProperties>
</file>