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703-BB77-42AC-9465-B0742C2D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CA7-CE58-4AAD-9844-7B54BF4C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180F0-3749-43A6-9445-232EB50A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517ED-6781-407B-9999-2C3ED2EB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A135E-10B8-49C1-85B8-5E92C320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6D0C3-F46B-497C-9991-8C7896A0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B0101-920B-4166-A72A-7749815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F9EB0-209F-40EF-BDCB-7EFD51B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F4C45-1124-46AA-9A35-6BF274A3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D0E39-5164-44D1-AE82-0AA18086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CC32B-8A78-42D9-82E3-93C69857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D22AB-F3FE-4B35-B3F0-9DE02740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F9F-9196-42D7-B5EE-E1539818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46828-89CE-439E-8B91-3808148C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8FCC2-6AA2-40BE-922D-F7D6ECA7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4A9D6-B172-4699-B003-423BEE59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D0A49-8D18-4E61-90E6-66E507B9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53CA0-44E0-4123-8AFD-75049426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CC2A4-BD58-4618-966C-B0E551C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A3E62-1E76-473B-85D6-038083BF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5A820-2A3F-491C-8528-648B8410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3E8A6-D146-4C28-9633-DDBEA852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64FD9-1359-460C-ACF1-3F8D54BE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741-ED11-4D7A-A8CB-CFD0F7A1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15E3A-DB9A-49B1-A97F-7898649B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8CECE-968E-4E7A-BDCC-319F5F58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B72FE-2A4C-4D7B-ACD2-D87F257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36FF9-B808-4FAF-AD97-1A71F89D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458A7-3B5C-4504-98E4-58145CA0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329A1-727F-40BF-A87D-5BBC4CD8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DEA14-0439-4792-82C6-940D4EAE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53346-16CD-4983-AE11-3B7A5E2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A3691-E82B-4C02-A343-D31E7369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4E6C3-6DDA-4974-824C-F2D08D39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7A8D-31C4-46FE-8305-BCBDEA6A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54E56-B145-40B5-AECF-D183BE62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FBAAB-F231-41AE-A39E-D6397700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D6382-34C1-4212-9429-B1D910CA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3D303-5FF3-4457-8CED-50FAF4FB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76D35-4A70-49D6-AE53-DCF28563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8F263-8CDE-4BEE-8142-479CBC68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C6984-8F8A-4D12-B627-538ADBDA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1B16D-0775-4DF2-8070-D2B71897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E5A95-AA70-4653-AFEA-0B7CDBF8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787FF-9D80-417A-8E32-72D04A54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7D2D-53E7-40B2-8261-5165F7FF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F107C-595F-4AFB-BCE4-B59B001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037C9-F443-4C0A-B7CD-FD7D0E4B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34367-3635-46BA-9CF6-3A392982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B9B56-5CDD-423E-9C1C-282EB49D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713B2-EB39-434D-8779-5E4F02BC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294E2-AA3C-499F-B0E4-4AC7F877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0846F-C496-4CDF-A07D-DE98AFAB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DA2BD-2AAB-47C4-9E22-39AEB617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5A8EB-04B9-4104-9427-A1214855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A1120-FD41-407A-B02A-B3FD7B0C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6CF2-7C31-4F2D-B310-F5FBBA45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5AE52-8A74-449D-BD95-7A75E1C5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26DE9-3CC6-4BD8-A9A3-F22E848C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A329F-C95B-4945-9F12-45E1D23A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4EDCE-60AD-4789-B5FF-8464F4EF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DBD1B-9A57-46E4-89F3-A870894C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3CE12-0F1C-4E24-B647-1C55CC1B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DF9E8-ECEB-451E-AA9A-6AF9B876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B12D5-7FD1-434C-A427-38321051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37854-04DC-4943-AD27-C0B74EDB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232E7-AAF0-41F5-9E20-919E6C17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8C23-6D05-4812-9F4A-814D1A85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BB1D5-0F74-4A45-BFC6-A640EDE9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2C186-128A-42A8-83B3-679A3689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D174B-19B4-48A0-99F9-F378A2BB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127D0-DD05-4912-981F-3BFFBCC4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A263D-54BA-446A-B46C-B4118531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4CAB6-F312-4EAA-BB0A-518CEA9A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BC259-E487-4883-8270-27E8D455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9075D-AA47-4509-AA3D-606ADB18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CC2C0-9397-49D6-AE65-0AFC6B2D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4FD1F-80FA-4410-ABFA-7BDF21C1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45BA-9A0F-404D-93C6-714AF916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C121F-72BB-4A81-A4C3-F6E88DF8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17BF9-E1E6-49AF-8380-3D3C3050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3EC3A-B08A-4D58-B899-A70BFA2C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CCBBF-A18A-4158-A0F0-03A458E3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2D5D5-356D-4EC9-BBD9-1C55EADD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65791-FC02-42D4-87D1-E41D41D7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5B0F6-75EE-4BF6-AE0F-AA88BE0E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ABB8E-518B-46E8-BD28-D7BCD666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996C2-FB87-4319-9B7F-8CAD28A8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2EAD5-E659-4F2B-82B2-6904D657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7BCD-C179-424C-BD3F-D3AFF244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D8DCF-7EB8-4FD3-B485-B63EC07E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0EF74-0912-4101-9482-F10B58FC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529EF-ED32-407E-8119-5759A667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87F5F-1512-4206-BDDD-ECB927E8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802579-21F7-48EF-A5C0-74AA7740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F8082-A3E3-4799-AB5C-2B14CD53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FD921-51B2-42FF-A6D6-501CA5E9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401EB-699D-43E0-B246-A7BC900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C2CBE-6CF9-47B4-B438-42439DB8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9D1DAF-66E2-4512-A589-F0D97E3F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ADBA-695F-4B96-9068-8C6E012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A5113-B6B9-4913-9B83-FC9CDA5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9F9A6-88D9-4B74-89E2-12264656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5C143-B9EE-42BB-B0C6-9CFE1278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FFCD2-98B9-44C5-870B-A2D0A086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66E0F-E98E-4B65-BCCB-14EF19F2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42921-697C-49F6-9420-FA303A2B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A19E6-280F-4755-B4FB-A6B65852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60F4F-A29A-40A2-B2DF-4E32D311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29A55-7E40-463E-B8AC-FE299F9F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21BB1-37E7-4F10-848F-D900C9A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249-6483-450F-B020-EE1CABC6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211B-B05C-4664-916E-34D3ABF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0F0BC-CDCA-460B-82E7-2A567407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6EB41-E18A-408F-A455-F96611BF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98587-4CD6-4912-AA88-8BB73038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71A78-3907-413D-95B1-71BE4BC6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94369-E4D0-4007-AC6A-CB7E7C4E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CE51-BD2B-43AC-807C-7A1A4D2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16E1-B3CD-49AA-AF02-5C28DE4D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E20-602B-4378-B0AF-06695AB7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C557-27C9-4C20-A9A3-2FE6DE8F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77F3-937D-4B99-8E77-7CB919DE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BBCE-1EE0-4047-90C6-4D97F2D8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7AF4-4766-48C0-BAF9-93167070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80A8-A1BC-4980-8395-EF9A85CC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E859-8CA6-4B84-B382-CF492E43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07C-AED1-42BF-BFFB-429533DB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2548-16D4-452F-85E5-84E9F8DB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C63A-8C47-451F-A09F-60CCB737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2882-C14E-427B-B128-2A92945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D877-24CB-40A0-90B3-620A906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5191-B5BE-436B-9171-C10B605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FC0B-D7CE-4BB0-A30D-6FE9AB6B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ED45-04DB-4CCE-A005-E8C212D5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6370-E11D-4E1B-8C91-2D1F77B3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71A0-1A68-496A-AE48-322488D9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1DC7-01BD-4263-A5DB-CC2B668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B3B-FA11-4D6B-80C2-3FE5F3DF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1BB6-0C74-47C5-BCED-4716997C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0E27-D086-4E7D-988C-C4CDF87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BB1B-C877-462A-978C-61F2C4DE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D412-38B7-4824-8EA0-AC584C83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124E-D879-448D-BA5B-08BE8DF1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59C7-B914-4ED6-866B-9EA4C51C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6569-C5A9-439A-92C0-549C5EC0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42D6-1CE4-432E-B533-A81E339A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79A51-C861-46FB-8292-13C99663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6D88-BB21-4778-A3A0-6D3A3155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9B8-EB45-4548-BD4B-348BECDB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D2BF6-F773-4E05-8868-7E77174B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F2F92-17F1-43D5-B5ED-47E4D6A0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94FB-6466-4E6E-B036-4C9E4084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1CD6A-45A2-4E90-8B9C-57EF82EF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7A018-38DB-47ED-A0AD-D9E8361C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6FD1-4450-42F5-9C04-0CB9071B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03C4E-22C1-493D-AD16-F1362282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3421-475A-4B2E-8480-D76B074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BAA20-3098-4D75-A2E5-AE36DAF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8592D-F411-4B1B-83A9-10C38A52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4A9-492D-48DE-9F5D-F8A7E12F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5178F-6088-4347-B828-D2A6F0AC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AA121-A22C-4541-BA8A-50CC20DA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2ED0-1737-45AF-9407-6414D093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610E0-91A1-4BB9-AC91-8320DE9F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F4920-30F3-4650-8556-7EB7D846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328D6-2DB0-4FC9-9787-CADC5E4A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A435-AA1A-40AA-8C8A-ADDEBBD6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59D98-063D-4482-A1A3-B175699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E3727-0383-4CB3-BD1D-B31F0012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5AF40-EAA0-4542-BB24-DF29401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FB8-7984-4AB5-B68B-989BBE86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1D04-FC54-4448-A272-7591C258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C5AF5-A350-47A9-A9AD-17785F0D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12CFC-09C2-4815-AECC-ECC49E8F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2ACA6-02AC-48B4-A8E5-DAB161D3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80F15-85F8-4382-A173-644B7928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5787E-2764-4DC1-BB42-76B59831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F3E6-3019-4569-8D2D-428675A3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ABE83-0BE5-4C89-9099-0B6D5078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471B8-21B6-4854-A5E4-77A58EB6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80F32-5E82-4048-B6AE-E4CE7F08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415-B38F-46B9-8345-F01B27F4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47A53-DB94-4266-96A6-527FF41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CD0DB-939D-40C6-A4B8-7869C884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1D64D-4E2D-4E9B-9046-1BCE5A02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CB57-EB1F-4FA6-873F-A1600BE4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BE61B-3278-4E64-8F7A-CB596429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0C934-0A45-42DB-AAB8-429D3DDA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E75EF-F202-47C5-B1C9-A9403230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84ED6-6AA7-404E-8E28-138DA240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4D97A-52EE-4BE5-A602-63ADA538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0C8B2-DB11-47D5-81CA-BDC9A9F7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C13-9820-4998-94DC-7C5066A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9C841-AD53-40DD-8409-AC4E82E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9CD27-BEF1-4FDF-89B8-8A47749B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944CF-9F0C-4844-9CDB-FF14DE95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F425E-B580-41E5-B563-0D45549D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973BD-59EE-4250-85F0-6CA27FA4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F7CF3-3046-4A06-ABBF-712EB49B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63D99-DF05-4E21-95C2-CAF4B7B4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02320-E562-4E19-8A7E-82E75305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3B57E-3F7E-4D86-9FB4-2A54B770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C79F-31A8-4E1E-B4EA-7CC98C46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A6DF-B728-4A0B-ACCC-DC3C3EBD18E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502A-29B6-4E54-9A8B-C133FB661F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6B7E-A349-4DEB-BBF8-5BC1AB5AC2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3C2D-3C3A-4DD5-A96B-CA830715ED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790F-326A-40FF-8D72-C9B9010E1C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24A8-CCF0-46E5-9E6F-F95726EDDF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E373-AEEB-40C8-9177-307C0BCB6E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3DBB-1FE8-4021-B47A-5F18B480A1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8B72-23E1-4484-A60B-A0E357EEAF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3AF4-ACB0-4076-8D49-83A298DF5C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3EF2-CDB3-4245-B2DB-5932D6E989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979-2A98-4C3B-B98F-93328701A6C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F540-F280-437D-880D-4000C9F12A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EA2B-6A62-426D-8705-587AEFE0BA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4165-A2B4-4FA1-BA46-A24747AFE0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09C6-A287-42C4-A62B-FA82CEB01E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5CB1-B1EB-4933-9B09-B3218BC6CC2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WordArt 5"/>
          <p:cNvSpPr txBox="1"/>
          <p:nvPr/>
        </p:nvSpPr>
        <p:spPr>
          <a:xfrm>
            <a:off x="1258920" y="549360"/>
            <a:ext cx="7416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Повтор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1177" name="Рисунок 1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3600720" cy="2386080"/>
          </a:xfrm>
          <a:prstGeom prst="rect">
            <a:avLst/>
          </a:prstGeom>
          <a:ln w="0">
            <a:noFill/>
          </a:ln>
        </p:spPr>
      </p:pic>
      <p:sp>
        <p:nvSpPr>
          <p:cNvPr id="1178" name="Прямоугольник 3"/>
          <p:cNvSpPr/>
          <p:nvPr/>
        </p:nvSpPr>
        <p:spPr>
          <a:xfrm>
            <a:off x="1290600" y="2781360"/>
            <a:ext cx="362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Tahoma"/>
              </a:rPr>
              <a:t>Звуки и -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WordArt 7"/>
          <p:cNvSpPr txBox="1"/>
          <p:nvPr/>
        </p:nvSpPr>
        <p:spPr>
          <a:xfrm>
            <a:off x="755640" y="189000"/>
            <a:ext cx="76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ртикуляционная гимнасти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7" name="Picture 8" descr=""/>
          <p:cNvPicPr/>
          <p:nvPr/>
        </p:nvPicPr>
        <p:blipFill>
          <a:blip r:embed="rId3"/>
          <a:stretch/>
        </p:blipFill>
        <p:spPr>
          <a:xfrm>
            <a:off x="681120" y="1844640"/>
            <a:ext cx="3603600" cy="471636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9" descr=""/>
          <p:cNvPicPr/>
          <p:nvPr/>
        </p:nvPicPr>
        <p:blipFill>
          <a:blip r:embed="rId4"/>
          <a:stretch/>
        </p:blipFill>
        <p:spPr>
          <a:xfrm>
            <a:off x="5364000" y="1836720"/>
            <a:ext cx="2953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1182240" y="2017440"/>
            <a:ext cx="26751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entury Gothic"/>
              </a:rPr>
              <a:t>м</a:t>
            </a:r>
            <a:r>
              <a:rPr b="1" lang="ru-RU" sz="3700" spc="-1" strike="noStrike">
                <a:solidFill>
                  <a:srgbClr val="7030a0"/>
                </a:solidFill>
                <a:latin typeface="Century Gothic"/>
              </a:rPr>
              <a:t>Ы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entury Gothic"/>
              </a:rPr>
              <a:t>м</a:t>
            </a:r>
            <a:r>
              <a:rPr b="1" lang="ru-RU" sz="3700" spc="-1" strike="noStrike">
                <a:solidFill>
                  <a:srgbClr val="7030a0"/>
                </a:solidFill>
                <a:latin typeface="Century Gothic"/>
              </a:rPr>
              <a:t>У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entury Gothic"/>
              </a:rPr>
              <a:t>м</a:t>
            </a:r>
            <a:r>
              <a:rPr b="1" lang="ru-RU" sz="3700" spc="-1" strike="noStrike">
                <a:solidFill>
                  <a:srgbClr val="7030a0"/>
                </a:solidFill>
                <a:latin typeface="Century Gothic"/>
              </a:rPr>
              <a:t>А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entury Gothic"/>
              </a:rPr>
              <a:t>м</a:t>
            </a:r>
            <a:r>
              <a:rPr b="1" lang="ru-RU" sz="4000" spc="-1" strike="noStrike">
                <a:solidFill>
                  <a:srgbClr val="7030a0"/>
                </a:solidFill>
                <a:latin typeface="Century Gothic"/>
              </a:rPr>
              <a:t>О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entury Gothic"/>
              </a:rPr>
              <a:t>ми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с</a:t>
            </a:r>
            <a:r>
              <a:rPr b="1" lang="ru-RU" sz="3700" spc="-1" strike="noStrike">
                <a:solidFill>
                  <a:srgbClr val="ff3399"/>
                </a:solidFill>
                <a:latin typeface="Century Gothic"/>
              </a:rPr>
              <a:t>Ы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с</a:t>
            </a:r>
            <a:r>
              <a:rPr b="1" lang="ru-RU" sz="3700" spc="-1" strike="noStrike">
                <a:solidFill>
                  <a:srgbClr val="ff3399"/>
                </a:solidFill>
                <a:latin typeface="Century Gothic"/>
              </a:rPr>
              <a:t>А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со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Ас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entury Gothic"/>
              </a:rPr>
              <a:t>с</a:t>
            </a:r>
            <a:r>
              <a:rPr b="1" lang="ru-RU" sz="3200" spc="-1" strike="noStrike">
                <a:solidFill>
                  <a:srgbClr val="ff3399"/>
                </a:solidFill>
                <a:latin typeface="Century Gothic"/>
              </a:rPr>
              <a:t>И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Ус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1" name="Прямоугольник 4" descr=""/>
          <p:cNvPicPr/>
          <p:nvPr/>
        </p:nvPicPr>
        <p:blipFill>
          <a:blip r:embed="rId1"/>
          <a:stretch/>
        </p:blipFill>
        <p:spPr>
          <a:xfrm>
            <a:off x="1139760" y="42840"/>
            <a:ext cx="7523280" cy="1425600"/>
          </a:xfrm>
          <a:prstGeom prst="rect">
            <a:avLst/>
          </a:prstGeom>
          <a:ln w="0">
            <a:noFill/>
          </a:ln>
        </p:spPr>
      </p:pic>
      <p:sp>
        <p:nvSpPr>
          <p:cNvPr id="1232" name="Стрелка вправо 7"/>
          <p:cNvSpPr/>
          <p:nvPr/>
        </p:nvSpPr>
        <p:spPr>
          <a:xfrm>
            <a:off x="2786040" y="1928880"/>
            <a:ext cx="221472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33ccff"/>
          </a:solidFill>
          <a:ln cap="rnd" w="158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500" spc="-1" strike="noStrike">
                <a:solidFill>
                  <a:srgbClr val="262626"/>
                </a:solidFill>
                <a:latin typeface="Century Gothic"/>
              </a:rPr>
              <a:t>Спасибо за внимание!</a:t>
            </a:r>
            <a:endParaRPr b="0" lang="en-US" sz="45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4" name="Picture 6" descr="63364199_1283106791_01"/>
          <p:cNvPicPr/>
          <p:nvPr/>
        </p:nvPicPr>
        <p:blipFill>
          <a:blip r:embed="rId1"/>
          <a:stretch/>
        </p:blipFill>
        <p:spPr>
          <a:xfrm>
            <a:off x="2116080" y="2492280"/>
            <a:ext cx="627228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 rot="10800000">
            <a:off x="2410560" y="4656240"/>
            <a:ext cx="1584360" cy="1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WordArt 3"/>
          <p:cNvSpPr txBox="1"/>
          <p:nvPr/>
        </p:nvSpPr>
        <p:spPr>
          <a:xfrm>
            <a:off x="1476360" y="620640"/>
            <a:ext cx="69832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157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1181" name="Picture 4" descr=""/>
          <p:cNvPicPr/>
          <p:nvPr/>
        </p:nvPicPr>
        <p:blipFill>
          <a:blip r:embed="rId1"/>
          <a:stretch/>
        </p:blipFill>
        <p:spPr>
          <a:xfrm>
            <a:off x="501480" y="2616120"/>
            <a:ext cx="4500720" cy="26258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"/>
          <p:cNvPicPr/>
          <p:nvPr/>
        </p:nvPicPr>
        <p:blipFill>
          <a:blip r:embed="rId2"/>
          <a:stretch/>
        </p:blipFill>
        <p:spPr>
          <a:xfrm>
            <a:off x="5889600" y="2446200"/>
            <a:ext cx="1886040" cy="2967120"/>
          </a:xfrm>
          <a:prstGeom prst="rect">
            <a:avLst/>
          </a:prstGeom>
          <a:ln w="0">
            <a:noFill/>
          </a:ln>
        </p:spPr>
      </p:pic>
      <p:sp>
        <p:nvSpPr>
          <p:cNvPr id="1183" name="TextBox 1"/>
          <p:cNvSpPr/>
          <p:nvPr/>
        </p:nvSpPr>
        <p:spPr>
          <a:xfrm>
            <a:off x="3807000" y="83664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3010"/>
                </a:solidFill>
                <a:latin typeface="Calibri"/>
              </a:rPr>
              <a:t>зву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Box 2"/>
          <p:cNvSpPr/>
          <p:nvPr/>
        </p:nvSpPr>
        <p:spPr>
          <a:xfrm>
            <a:off x="1706400" y="19890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износ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Box 5"/>
          <p:cNvSpPr/>
          <p:nvPr/>
        </p:nvSpPr>
        <p:spPr>
          <a:xfrm>
            <a:off x="5796000" y="191628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ыш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843280" y="549360"/>
            <a:ext cx="3889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ЗВУКИ бывают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979280" y="2133720"/>
            <a:ext cx="65912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Gothic"/>
              </a:rPr>
              <a:t>Гласные 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согласные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8" name="Picture 2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1225440" cy="126828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3" descr=""/>
          <p:cNvPicPr/>
          <p:nvPr/>
        </p:nvPicPr>
        <p:blipFill>
          <a:blip r:embed="rId2"/>
          <a:stretch/>
        </p:blipFill>
        <p:spPr>
          <a:xfrm>
            <a:off x="5151600" y="3716280"/>
            <a:ext cx="1158840" cy="165276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4" descr=""/>
          <p:cNvPicPr/>
          <p:nvPr/>
        </p:nvPicPr>
        <p:blipFill>
          <a:blip r:embed="rId3"/>
          <a:stretch/>
        </p:blipFill>
        <p:spPr>
          <a:xfrm>
            <a:off x="6659640" y="4038480"/>
            <a:ext cx="11523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56000" y="692280"/>
            <a:ext cx="5184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ГЛАСНЫЕ ЗВУКИ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547280" y="1628640"/>
            <a:ext cx="66265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ы можем произносить голосо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их можно петь  и тянуть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 их произношении  нет преграды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TextBox 3"/>
          <p:cNvSpPr/>
          <p:nvPr/>
        </p:nvSpPr>
        <p:spPr>
          <a:xfrm>
            <a:off x="2633760" y="3121200"/>
            <a:ext cx="35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ОГЛАСНЫЕ ЗВУ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TextBox 4"/>
          <p:cNvSpPr/>
          <p:nvPr/>
        </p:nvSpPr>
        <p:spPr>
          <a:xfrm>
            <a:off x="1547640" y="465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TextBox 5"/>
          <p:cNvSpPr/>
          <p:nvPr/>
        </p:nvSpPr>
        <p:spPr>
          <a:xfrm>
            <a:off x="2071800" y="4221000"/>
            <a:ext cx="494820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г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язы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зуб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нё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Прямоугольник 7"/>
          <p:cNvSpPr/>
          <p:nvPr/>
        </p:nvSpPr>
        <p:spPr>
          <a:xfrm>
            <a:off x="1657080" y="3819600"/>
            <a:ext cx="43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ы произносим при  помощ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Прямоугольник 8"/>
          <p:cNvSpPr/>
          <p:nvPr/>
        </p:nvSpPr>
        <p:spPr>
          <a:xfrm>
            <a:off x="1684440" y="5929200"/>
            <a:ext cx="50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 их произношении ест прегра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634920" y="836280"/>
            <a:ext cx="20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3010"/>
                </a:solidFill>
                <a:latin typeface="Calibri"/>
              </a:rPr>
              <a:t>букв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2573280" cy="176832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3" descr=""/>
          <p:cNvPicPr/>
          <p:nvPr/>
        </p:nvPicPr>
        <p:blipFill>
          <a:blip r:embed="rId2"/>
          <a:stretch/>
        </p:blipFill>
        <p:spPr>
          <a:xfrm>
            <a:off x="3851280" y="2676600"/>
            <a:ext cx="1427040" cy="213984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4" descr=""/>
          <p:cNvPicPr/>
          <p:nvPr/>
        </p:nvPicPr>
        <p:blipFill>
          <a:blip r:embed="rId3"/>
          <a:stretch/>
        </p:blipFill>
        <p:spPr>
          <a:xfrm>
            <a:off x="5867280" y="2565360"/>
            <a:ext cx="2901960" cy="3170160"/>
          </a:xfrm>
          <a:prstGeom prst="rect">
            <a:avLst/>
          </a:prstGeom>
          <a:ln w="0">
            <a:noFill/>
          </a:ln>
        </p:spPr>
      </p:pic>
      <p:sp>
        <p:nvSpPr>
          <p:cNvPr id="1202" name="TextBox 4"/>
          <p:cNvSpPr/>
          <p:nvPr/>
        </p:nvSpPr>
        <p:spPr>
          <a:xfrm>
            <a:off x="1409760" y="21337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и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TextBox 5"/>
          <p:cNvSpPr/>
          <p:nvPr/>
        </p:nvSpPr>
        <p:spPr>
          <a:xfrm>
            <a:off x="4044960" y="21430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ш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TextBox 6"/>
          <p:cNvSpPr/>
          <p:nvPr/>
        </p:nvSpPr>
        <p:spPr>
          <a:xfrm>
            <a:off x="6831360" y="2179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та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Сло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2" descr=""/>
          <p:cNvPicPr/>
          <p:nvPr/>
        </p:nvPicPr>
        <p:blipFill>
          <a:blip r:embed="rId2"/>
          <a:stretch/>
        </p:blipFill>
        <p:spPr>
          <a:xfrm>
            <a:off x="1476360" y="1343160"/>
            <a:ext cx="71280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WordArt 5"/>
          <p:cNvSpPr txBox="1"/>
          <p:nvPr/>
        </p:nvSpPr>
        <p:spPr>
          <a:xfrm>
            <a:off x="1979640" y="620640"/>
            <a:ext cx="100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66f54"/>
                  </a:solidFill>
                  <a:miter/>
                </a:ln>
                <a:solidFill>
                  <a:srgbClr val="766f54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766f54"/>
                </a:solidFill>
                <a:miter/>
              </a:ln>
              <a:solidFill>
                <a:srgbClr val="766f54"/>
              </a:solidFill>
              <a:latin typeface="Arial"/>
              <a:ea typeface="Arial"/>
            </a:endParaRPr>
          </a:p>
        </p:txBody>
      </p:sp>
      <p:sp>
        <p:nvSpPr>
          <p:cNvPr id="1209" name="TextBox 1"/>
          <p:cNvSpPr/>
          <p:nvPr/>
        </p:nvSpPr>
        <p:spPr>
          <a:xfrm>
            <a:off x="3132000" y="692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b866e"/>
                </a:solidFill>
                <a:latin typeface="Tahoma"/>
              </a:rPr>
              <a:t>Чистоговор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TextBox 2"/>
          <p:cNvSpPr/>
          <p:nvPr/>
        </p:nvSpPr>
        <p:spPr>
          <a:xfrm>
            <a:off x="1979640" y="1484280"/>
            <a:ext cx="5267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 НОРЫ СИДИТ ЛИС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А-СА-С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УКУСИЛА В НОС ОС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-СО-СО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ПОКАТИЛОСЬ КОЛЕС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НЕ БОЮСЬ О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 СОВЫ УХАЮТ В ЛЕ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 МИСКЕ СУП ТЕБЕ НЕ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ТИХО ОСЕНЬЮ В ЛЕ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СЕРЫЙ ВОЛК ЖИВЁТ В ЛЕ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Ы-СЫ-С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ПРИЛЕТЕЛИ ДВЕ О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Ы-СЫ-С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А У ДЕДА ЕСТЬ У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Ы-СЫ-С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НА СТОЛЕ СТОЯТ ВЕ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Ы-СЫ-С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ЕСТЬ ЛИСЯТА У ЛИ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Э-СЭ-СЭ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ШЁЛ АВТОБУС ПО ШОСС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WordArt 5"/>
          <p:cNvSpPr txBox="1"/>
          <p:nvPr/>
        </p:nvSpPr>
        <p:spPr>
          <a:xfrm>
            <a:off x="1547640" y="333360"/>
            <a:ext cx="6912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ОТГАДАЙ-КА!"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12" name="Picture 8" descr=""/>
          <p:cNvPicPr/>
          <p:nvPr/>
        </p:nvPicPr>
        <p:blipFill>
          <a:blip r:embed="rId1"/>
          <a:stretch/>
        </p:blipFill>
        <p:spPr>
          <a:xfrm>
            <a:off x="4995720" y="1830240"/>
            <a:ext cx="1133640" cy="7621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9" descr=""/>
          <p:cNvPicPr/>
          <p:nvPr/>
        </p:nvPicPr>
        <p:blipFill>
          <a:blip r:embed="rId2"/>
          <a:stretch/>
        </p:blipFill>
        <p:spPr>
          <a:xfrm>
            <a:off x="5940360" y="2633760"/>
            <a:ext cx="1046160" cy="79524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0" descr=""/>
          <p:cNvPicPr/>
          <p:nvPr/>
        </p:nvPicPr>
        <p:blipFill>
          <a:blip r:embed="rId3"/>
          <a:stretch/>
        </p:blipFill>
        <p:spPr>
          <a:xfrm>
            <a:off x="5940360" y="3465360"/>
            <a:ext cx="1230480" cy="6480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2" descr=""/>
          <p:cNvPicPr/>
          <p:nvPr/>
        </p:nvPicPr>
        <p:blipFill>
          <a:blip r:embed="rId4"/>
          <a:stretch/>
        </p:blipFill>
        <p:spPr>
          <a:xfrm>
            <a:off x="6804000" y="4149720"/>
            <a:ext cx="1363680" cy="76356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3" descr=""/>
          <p:cNvPicPr/>
          <p:nvPr/>
        </p:nvPicPr>
        <p:blipFill>
          <a:blip r:embed="rId5"/>
          <a:stretch/>
        </p:blipFill>
        <p:spPr>
          <a:xfrm>
            <a:off x="6875640" y="4941720"/>
            <a:ext cx="750600" cy="8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7" name=""/>
          <p:cNvGraphicFramePr/>
          <p:nvPr/>
        </p:nvGraphicFramePr>
        <p:xfrm>
          <a:off x="2212920" y="1879560"/>
          <a:ext cx="2719440" cy="762120"/>
        </p:xfrm>
        <a:graphic>
          <a:graphicData uri="http://schemas.openxmlformats.org/drawingml/2006/table">
            <a:tbl>
              <a:tblPr/>
              <a:tblGrid>
                <a:gridCol w="838080"/>
                <a:gridCol w="935280"/>
                <a:gridCol w="94608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8" name=""/>
          <p:cNvGraphicFramePr/>
          <p:nvPr/>
        </p:nvGraphicFramePr>
        <p:xfrm>
          <a:off x="2212920" y="2649600"/>
          <a:ext cx="3654360" cy="761760"/>
        </p:xfrm>
        <a:graphic>
          <a:graphicData uri="http://schemas.openxmlformats.org/drawingml/2006/table">
            <a:tbl>
              <a:tblPr/>
              <a:tblGrid>
                <a:gridCol w="846360"/>
                <a:gridCol w="936360"/>
                <a:gridCol w="936720"/>
                <a:gridCol w="93492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9" name=""/>
          <p:cNvGraphicFramePr/>
          <p:nvPr/>
        </p:nvGraphicFramePr>
        <p:xfrm>
          <a:off x="2212920" y="3403440"/>
          <a:ext cx="3654360" cy="762120"/>
        </p:xfrm>
        <a:graphic>
          <a:graphicData uri="http://schemas.openxmlformats.org/drawingml/2006/table">
            <a:tbl>
              <a:tblPr/>
              <a:tblGrid>
                <a:gridCol w="846360"/>
                <a:gridCol w="934920"/>
                <a:gridCol w="936720"/>
                <a:gridCol w="936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0" name=""/>
          <p:cNvGraphicFramePr/>
          <p:nvPr/>
        </p:nvGraphicFramePr>
        <p:xfrm>
          <a:off x="2212920" y="4178160"/>
          <a:ext cx="4519800" cy="762120"/>
        </p:xfrm>
        <a:graphic>
          <a:graphicData uri="http://schemas.openxmlformats.org/drawingml/2006/table">
            <a:tbl>
              <a:tblPr/>
              <a:tblGrid>
                <a:gridCol w="846360"/>
                <a:gridCol w="936360"/>
                <a:gridCol w="936720"/>
                <a:gridCol w="934920"/>
                <a:gridCol w="8654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2209680" y="4944960"/>
          <a:ext cx="4518000" cy="762120"/>
        </p:xfrm>
        <a:graphic>
          <a:graphicData uri="http://schemas.openxmlformats.org/drawingml/2006/table">
            <a:tbl>
              <a:tblPr/>
              <a:tblGrid>
                <a:gridCol w="846360"/>
                <a:gridCol w="936360"/>
                <a:gridCol w="935280"/>
                <a:gridCol w="936720"/>
                <a:gridCol w="86328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WordArt 6"/>
          <p:cNvSpPr txBox="1"/>
          <p:nvPr/>
        </p:nvSpPr>
        <p:spPr>
          <a:xfrm>
            <a:off x="1835280" y="692280"/>
            <a:ext cx="662436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Сравнение  бук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  <p:pic>
        <p:nvPicPr>
          <p:cNvPr id="1223" name="Прямоугольник 6" descr=""/>
          <p:cNvPicPr/>
          <p:nvPr/>
        </p:nvPicPr>
        <p:blipFill>
          <a:blip r:embed="rId1"/>
          <a:stretch/>
        </p:blipFill>
        <p:spPr>
          <a:xfrm>
            <a:off x="-743040" y="1006560"/>
            <a:ext cx="6235920" cy="7216560"/>
          </a:xfrm>
          <a:prstGeom prst="rect">
            <a:avLst/>
          </a:prstGeom>
          <a:ln w="0">
            <a:noFill/>
          </a:ln>
        </p:spPr>
      </p:pic>
      <p:sp>
        <p:nvSpPr>
          <p:cNvPr id="1224" name="TextBox 2"/>
          <p:cNvSpPr/>
          <p:nvPr/>
        </p:nvSpPr>
        <p:spPr>
          <a:xfrm>
            <a:off x="6300720" y="4005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TextBox 3"/>
          <p:cNvSpPr/>
          <p:nvPr/>
        </p:nvSpPr>
        <p:spPr>
          <a:xfrm>
            <a:off x="4952160" y="2154240"/>
            <a:ext cx="28796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595959"/>
                </a:solidFill>
                <a:latin typeface="Tahoma"/>
              </a:rPr>
              <a:t>ы</a:t>
            </a:r>
            <a:endParaRPr b="0" lang="en-US" sz="2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9:22:08Z</dcterms:created>
  <dc:creator>1</dc:creator>
  <dc:description/>
  <dc:language>en-US</dc:language>
  <cp:lastModifiedBy>Сергей</cp:lastModifiedBy>
  <dcterms:modified xsi:type="dcterms:W3CDTF">2015-11-16T17:53:35Z</dcterms:modified>
  <cp:revision>59</cp:revision>
  <dc:subject/>
  <dc:title>Слайд 1</dc:title>
</cp:coreProperties>
</file>