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5A0-887C-4C00-8347-22794306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C5C-1967-4613-9BB6-FF9FB26F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D42-7AB1-4EA8-8BDC-1FB0B257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1CB-7A5F-4D19-A98C-1B230382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4421-B933-4A33-B143-05CDF198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D740-E95C-44FB-9FE3-AB1B8EE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73D-0C56-4E9B-9B6B-D489FD6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6DAB-77C0-49B1-806F-2B247C0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CA16-59C4-40AF-9557-61565DB6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17E7-FEBC-475E-96BE-A3CDA23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214-0494-4C34-8BE7-80A6E42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F54-B117-4086-B92F-1C7408E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803D-AFE5-4971-BBB5-0389D7C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BE82-43ED-43CE-B5F6-5335DAF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EC37-678D-4680-98C6-EC3B8FA7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946-9B8E-41A4-9BEA-45EDF37E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054-8F7E-421D-9B97-98D07CDA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4385-4D86-4950-8F6D-1E4438D3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98D6-6D04-4CF6-913F-692C9C2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4D71-AA1A-43D2-A696-28F22504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DF09-7CBA-4775-83BD-60E99A6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FC09-071A-4C9D-AE1D-9933833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C67-DCB7-4369-A470-8360E4FD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753A-EE96-4B19-81C4-5F02FBB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73B5-7C9D-48F3-95FA-D739BEE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759E-03CF-441E-8B3D-415CA50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4B4E-5231-4D54-A5C4-1B08178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244C-8B12-4602-B472-85C16866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F088-7DC8-4AC0-8556-C5B7A313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820F-2029-41EF-88C1-0FE45B77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80F6-5DBF-4779-8308-811A8F3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8834-67CF-4C26-BD0D-DB27BF3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22DF-CDBC-44AA-996A-81B116C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8D0-E2DF-458D-9540-484959D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C6CE-36C3-414B-B398-B4FF9F1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431D-1811-4A57-8B99-88D4E30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B88A-E4EF-47C7-BA43-54D58D8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96AE-A855-44C9-9F22-B5563B3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5208-503F-4796-8378-3C2275A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AD58-549C-453F-A9E5-CEDA7146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921F-4332-44F5-A725-1A559C0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FDC2-6E3F-4C76-ADAB-9E945722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55C66-ED0F-4C5E-836D-6411547F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6ED-D873-412E-A0D9-A9FF3939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EF-0813-46DD-AA08-FEB8B8D3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A0A-BAD0-4080-B580-24446E2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7F8-F24D-4CCD-A48E-B0B5691E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7CF-CE36-4680-BAC5-3DF9010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8CF9-7C4E-4D42-80E8-6C2257A60F0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AD2-07B6-4A5D-B049-DC592F231AD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D61-8FEE-4791-8083-0E55B6ED6C0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DE82-A3EF-4B57-B9A3-B48D0CEF5BC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4"/>
          <p:cNvSpPr/>
          <p:nvPr/>
        </p:nvSpPr>
        <p:spPr>
          <a:xfrm>
            <a:off x="3429000" y="1219320"/>
            <a:ext cx="5715000" cy="4800600"/>
          </a:xfrm>
          <a:prstGeom prst="ellipse">
            <a:avLst/>
          </a:prstGeom>
          <a:solidFill>
            <a:srgbClr val="cfe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62520" y="1600200"/>
            <a:ext cx="4495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dd9"/>
                </a:solidFill>
                <a:latin typeface="Arial"/>
              </a:rPr>
              <a:t>Советы тётушки С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dd9"/>
                </a:solidFill>
                <a:latin typeface="Arial"/>
              </a:rPr>
              <a:t>Правила поведения на водое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748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Рисунок 2" descr="2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Рисунок 2" descr="2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Рисунок 2" descr="2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Рисунок 2" descr="3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Рисунок 2" descr="3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Рисунок 2" descr="3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культмину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забывать об опасности, которую таят в себе весенние водоемы. Лед только на вид кажется прочным, а на самом деле он уже тонкий, слабый и не выдерживает тяжести не только взрослого человека, но и ребенка. Поэтому не торопитесь выходить на тонкий лед водоем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осторожны и осмотрительны!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провалу на льду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весенний лед можно только в крайнем случае и с максимальной осторожность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енними лучами солнца лед на водоемах становится рыхлым и непрочным. В это время выходить на его поверхность крайне опасно. Однако каждый год многие люди пренебрегают мерами предосторожности и выходят на тонкий весенний лед, тем самым, подвергая свою жизнь смертельной опас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929120" y="428616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533520" y="213372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МЯ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мерах безопас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тонком льду и в период весеннего павод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ближается время весеннего паводка. Лед на реках становится рыхлым, «съедается» сверху солнцем, талой водой, а снизу подтачивается течением. Очень опасно по нему ходить: в любой момент может рассыпаться под ногами и сомкнуться над голов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мнит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весеннем льду легко провалить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ыстрее всего процесс распада льда происходит у берег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нний лед, покрытый снегом, быстро превращается в рыхлую мас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выходите на лед во время весеннего павод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тойте на обрывистых и подмытых берегах – они могут обвал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вы наблюдаете за ледоходом с моста, набережной причала, нельзя перегибаться через перила и другие ограж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ы оказались свидетелем несчастного случая на реке или озере, не теряйтесь, не убегайте домой, а громко зовите на помощь, взрослые услышат и смогут выручить из бе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ьте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двергайте свою жизнь опасност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бята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выходите на лед во время весеннего павод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тойте на обрывистых и подмытых берегах – они могут обвал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вы наблюдаете за ледоходом с моста, набережной причала, нельзя перегибаться через перила и другие ограж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ы оказались свидетелем несчастного случая на реке или озере, не теряйтесь, не убегайте домой, а громко зовите на помощь, взрослые услышат и смогут выручить из бе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ьте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ериод весеннего паводка и ледоход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ПРЕЩА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ходить на водо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правляться через реку в период ледохо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ходить близко к реке в местах затора ль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ять на обрывистом берегу, подвергающемуся разливу и обвал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ться на мостиках, плотинах и запру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ближаться к ледяным заторам, отталкивать льдины от берег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рять глубину реки или любого водоем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дить по льдинам и кататься на 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ЬТЕ ВНИМАТЕЛЬНЫ И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Д ВЕСНОЙ ОПАСЕН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8" descr="011_2_0.preview.jpg"/>
          <p:cNvPicPr/>
          <p:nvPr/>
        </p:nvPicPr>
        <p:blipFill>
          <a:blip r:embed="rId1"/>
          <a:srcRect l="6712" t="0" r="6712" b="0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304920" y="48132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лыжах и не играйте на тонком ль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треснуть и вы окажитесь под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6" descr="011_3.preview.jpg"/>
          <p:cNvPicPr/>
          <p:nvPr/>
        </p:nvPicPr>
        <p:blipFill>
          <a:blip r:embed="rId1"/>
          <a:srcRect l="7776" t="0" r="7776" b="0"/>
          <a:stretch/>
        </p:blipFill>
        <p:spPr>
          <a:xfrm>
            <a:off x="838080" y="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609480" y="5334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скатывайтесь на  санках с горки на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492800" cy="5753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5105520" y="990720"/>
            <a:ext cx="3733560" cy="502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замерзших оз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 бывает непро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одить по такому Безответственно оче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емы опас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лед провали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пасать вас напр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округа примчится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почти невоз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олынье подобраться — Из воды будет сложно Вас вытаскивать,    брат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53355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5943600" y="457200"/>
            <a:ext cx="2514600" cy="5925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ее на коньки! Какие славные деньк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ыходить на лед нельз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  непрочен он, друз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щины на нем, Когда вдруг потеплело днем... Провалишься - придет бе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 холодная вод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930920" cy="6019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5486400" y="304920"/>
            <a:ext cx="3048120" cy="649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! Весна и ледоход! Плывет, плы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чке лед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ядят ребята там и тут, Как льд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де плыв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 чем тебе не кораб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т!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уходи с зем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ед кова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уп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сно это - так и знай! Такой корабль переверн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асти может расколо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 унес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центр рек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от ре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ь бе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-530280"/>
            <a:ext cx="8156520" cy="36082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MCHS-3"/>
          <p:cNvPicPr/>
          <p:nvPr/>
        </p:nvPicPr>
        <p:blipFill>
          <a:blip r:embed="rId2"/>
          <a:stretch/>
        </p:blipFill>
        <p:spPr>
          <a:xfrm>
            <a:off x="2000160" y="1857240"/>
            <a:ext cx="5643720" cy="4429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MCHS-3"/>
          <p:cNvPicPr/>
          <p:nvPr/>
        </p:nvPicPr>
        <p:blipFill>
          <a:blip r:embed="rId3"/>
          <a:stretch/>
        </p:blipFill>
        <p:spPr>
          <a:xfrm>
            <a:off x="1928880" y="1857240"/>
            <a:ext cx="5643360" cy="442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v</cp:lastModifiedBy>
  <dcterms:modified xsi:type="dcterms:W3CDTF">2017-03-01T11:41:0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