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C8E-D56C-46F6-97BB-8570A2EA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4377-302C-439F-8DB0-03618AE8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4EC-CD42-4F40-AB64-ABCF1D55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4F87-9713-4443-B670-5300F146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7989-C187-498B-89E9-5D56C373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50A9-0C08-4F10-9B6F-64135A3D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4106-0728-4628-8FC0-8735F42B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729D-408B-4496-9F43-B2458AEF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8C59-7AC5-4886-973C-701DA811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4DCA-7FD2-403D-94E4-4F019894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08DD-4876-49E9-AB41-EC33EF87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E37-CD32-45DA-AA54-9CCAEE08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832A-2D09-4C81-9571-118C4FEF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7EB1-4766-4836-BDA1-479E69D2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DFD1-A922-45FA-8D39-341CF1BC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9EBB-710A-421B-8DFC-1D3429A5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8A2C-5623-4694-959F-D68ECB8B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A0301-FD1C-4E4E-B986-5FE2E9AE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E275C-28CB-46D2-9615-12A1F68C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BD1B2-E6BD-4518-8BF7-E1FB6DBA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2CB44-E077-47C8-A76B-30EDBF30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8DFCF-5833-405D-B868-97F44006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8DEB-A71E-46C2-B49A-16952754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2FEED-8EA0-49E3-8199-B2E495BA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73B0E-2001-4881-971A-0A6BF977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04685-0771-4D51-BE99-3881EC6E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818C5-DD0F-4FD5-8AE3-15D345C9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A28E9-E664-438F-ABDD-2EF9BD9E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B2E23-378A-4B27-92F8-2F9FA965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9A1EF-02A7-44C2-9AAE-1D768A6B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BB671-0EFE-4B58-9232-D223160C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F2079-4C18-4C53-89C1-B8FCDF66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A12B9-EE91-480A-8E41-0379DE6B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790-A2AE-4549-A484-3CD6298B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5287C-D14D-4F36-958A-AC29AB80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1D57B-30EC-4C94-AE4E-F9904270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3BA9F-130A-4798-9CFB-EBDBC816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AF2F8-97CB-4383-AF10-BF2B10B6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E35B9-B9D6-40E2-BF11-681881FF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35ABB-A4BC-4879-90B3-E3763C4E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E95D7-7132-4568-A6EE-F8F2B309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95FD0-AC84-49F2-95A9-09C821F1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EE783-C245-4E91-AF1F-406B88E7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AA72-CD0D-4A6D-B300-DB621F20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C66-AE9B-408B-85FE-C81F0084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FCF9-6A90-47BD-8D54-E0A6CEBE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934-F275-4C34-B58D-873C00B6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8718-FFA0-473D-995E-ECC2328C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B71D-631C-4F8F-A1A1-E75279D65E5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FF75-1FA7-4934-82CE-82D541DE4559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EEE2-5B43-4CA2-B805-95F83C1D2269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7E6A-AAAE-47CA-BD99-6836D00E282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Oval 4"/>
          <p:cNvSpPr/>
          <p:nvPr/>
        </p:nvSpPr>
        <p:spPr>
          <a:xfrm>
            <a:off x="3429000" y="1219320"/>
            <a:ext cx="5715000" cy="4800600"/>
          </a:xfrm>
          <a:prstGeom prst="ellipse">
            <a:avLst/>
          </a:prstGeom>
          <a:solidFill>
            <a:srgbClr val="cfe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962520" y="1600200"/>
            <a:ext cx="44956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dd9"/>
                </a:solidFill>
                <a:latin typeface="Arial"/>
              </a:rPr>
              <a:t>Советы тётушки Со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dd9"/>
                </a:solidFill>
                <a:latin typeface="Arial"/>
              </a:rPr>
              <a:t>Правила поведения на водоем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748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Рисунок 2" descr="27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Рисунок 2" descr="28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Рисунок 2" descr="29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Рисунок 2" descr="33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Рисунок 2" descr="30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Рисунок 2" descr="35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культминут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забывать об опасности, которую таят в себе весенние водоемы. Лед только на вид кажется прочным, а на самом деле он уже тонкий, слабый и не выдерживает тяжести не только взрослого человека, но и ребенка. Поэтому не торопитесь выходить на тонкий лед водоемов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осторожны и осмотрительны!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блюдение этого совета может привести к провалу на льду. К сожалению, помощь попавшим в беду на воде приходит иногда слишком поздно, и происшествие заканчивается трагически. Чтобы этого не случилось, необходимо помнить, что выходить на весенний лед можно только в крайнем случае и с максимальной осторожность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0004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есенними лучами солнца лед на водоемах становится рыхлым и непрочным. В это время выходить на его поверхность крайне опасно. Однако каждый год многие люди пренебрегают мерами предосторожности и выходят на тонкий весенний лед, тем самым, подвергая свою жизнь смертельной опас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Documents and Settings\Admin\Рабочий стол\для презент. тонкий лед\i_032.png"/>
          <p:cNvPicPr/>
          <p:nvPr/>
        </p:nvPicPr>
        <p:blipFill>
          <a:blip r:embed="rId1"/>
          <a:stretch/>
        </p:blipFill>
        <p:spPr>
          <a:xfrm>
            <a:off x="714240" y="4429080"/>
            <a:ext cx="2954520" cy="2000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Documents and Settings\Admin\Рабочий стол\для презент. тонкий лед\ice.jpg"/>
          <p:cNvPicPr/>
          <p:nvPr/>
        </p:nvPicPr>
        <p:blipFill>
          <a:blip r:embed="rId2"/>
          <a:stretch/>
        </p:blipFill>
        <p:spPr>
          <a:xfrm>
            <a:off x="4929120" y="4286160"/>
            <a:ext cx="3247920" cy="224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533520" y="2133720"/>
            <a:ext cx="7924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щиеся и взрослые, соблюдайте правила поведения на водных объектах, выполнение элементарных мер осторожности - залог вашей безопасност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6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66320" indent="-16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АМЯТ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 мерах безопас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 тонком льду и в период весеннего павод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ближается время весеннего паводка. Лед на реках становится рыхлым, «съедается» сверху солнцем, талой водой, а снизу подтачивается течением. Очень опасно по нему ходить: в любой момент может рассыпаться под ногами и сомкнуться над голово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мнит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весеннем льду легко провалитьс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ыстрее всего процесс распада льда происходит у берег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сенний лед, покрытый снегом, быстро превращается в рыхлую масс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 выходите на лед во время весеннего павод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стойте на обрывистых и подмытых берегах – они могут обвал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гда вы наблюдаете за ледоходом с моста, набережной причала, нельзя перегибаться через перила и другие огражд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вы оказались свидетелем несчастного случая на реке или озере, не теряйтесь, не убегайте домой, а громко зовите на помощь, взрослые услышат и смогут выручить из бед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удьте осторожны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подвергайте свою жизнь опасности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ебята!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 выходите на лед во время весеннего павод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стойте на обрывистых и подмытых берегах – они могут обвал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гда вы наблюдаете за ледоходом с моста, набережной причала, нельзя перегибаться через перила и другие огражд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вы оказались свидетелем несчастного случая на реке или озере, не теряйтесь, не убегайте домой, а громко зовите на помощь, взрослые услышат и смогут выручить из бед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удьте осторожны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10404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66320" indent="-16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период весеннего паводка и ледоход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ПРЕЩАЕТС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ходить на водоем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правляться через реку в период ледоход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ходить близко к реке в местах затора льд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оять на обрывистом берегу, подвергающемуся разливу и обвал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бираться на мостиках, плотинах и запрудах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ближаться к ледяным заторам, отталкивать льдины от берег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рять глубину реки или любого водоем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одить по льдинам и кататься на ни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УДЬТЕ ВНИМАТЕЛЬНЫ И ОСТОРОЖНЫ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ЕД ВЕСНОЙ ОПАСЕН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6320" indent="-16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:\Documents and Settings\Admin\Рабочий стол\для презент. тонкий лед\Копия (2) pravilaperexodapol-duvodoemov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8" descr="011_2_0.preview.jpg"/>
          <p:cNvPicPr/>
          <p:nvPr/>
        </p:nvPicPr>
        <p:blipFill>
          <a:blip r:embed="rId1"/>
          <a:srcRect l="6712" t="0" r="6712" b="0"/>
          <a:stretch/>
        </p:blipFill>
        <p:spPr>
          <a:xfrm>
            <a:off x="0" y="0"/>
            <a:ext cx="9144000" cy="472752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2"/>
          <p:cNvSpPr/>
          <p:nvPr/>
        </p:nvSpPr>
        <p:spPr>
          <a:xfrm>
            <a:off x="304920" y="481320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катайтесь на лыжах и не играйте на тонком ль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может треснуть и вы окажитесь под 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6" descr="011_3.preview.jpg"/>
          <p:cNvPicPr/>
          <p:nvPr/>
        </p:nvPicPr>
        <p:blipFill>
          <a:blip r:embed="rId1"/>
          <a:srcRect l="7776" t="0" r="7776" b="0"/>
          <a:stretch/>
        </p:blipFill>
        <p:spPr>
          <a:xfrm>
            <a:off x="838080" y="0"/>
            <a:ext cx="7620120" cy="508644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2"/>
          <p:cNvSpPr/>
          <p:nvPr/>
        </p:nvSpPr>
        <p:spPr>
          <a:xfrm>
            <a:off x="609480" y="5334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скатывайтесь на  санках с горки на ле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492800" cy="57531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5105520" y="990720"/>
            <a:ext cx="3733560" cy="502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замерзших озе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д бывает непроче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ходить по такому Безответственно очен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оемы опас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лед провалить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пасать вас напра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я округа примчится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ь почти невоз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олынье подобраться — Из воды будет сложно Вас вытаскивать,    брат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5335560" cy="47242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5943600" y="457200"/>
            <a:ext cx="2514600" cy="5925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ее на коньки! Какие славные деньки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выходить на лед нельз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же  непрочен он, друзь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щины на нем, Когда вдруг потеплело днем... Провалишься - придет бе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ной  холодная вод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4930920" cy="60199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"/>
          <p:cNvSpPr/>
          <p:nvPr/>
        </p:nvSpPr>
        <p:spPr>
          <a:xfrm>
            <a:off x="5486400" y="304920"/>
            <a:ext cx="3048120" cy="649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! Весна и ледоход! Плывет, плы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речке лед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ядят ребята там и тут, Как льди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воде плыв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 чем тебе не кораб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нет!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уходи с зем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лед ковар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тупа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асно это - так и знай! Такой корабль перевернет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части может расколо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ь унес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центр реки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ной от реч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ь бег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682560" y="-530280"/>
            <a:ext cx="8156520" cy="36082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3" descr="MCHS-3"/>
          <p:cNvPicPr/>
          <p:nvPr/>
        </p:nvPicPr>
        <p:blipFill>
          <a:blip r:embed="rId2"/>
          <a:stretch/>
        </p:blipFill>
        <p:spPr>
          <a:xfrm>
            <a:off x="2000160" y="1857240"/>
            <a:ext cx="5643720" cy="442944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MCHS-3"/>
          <p:cNvPicPr/>
          <p:nvPr/>
        </p:nvPicPr>
        <p:blipFill>
          <a:blip r:embed="rId3"/>
          <a:stretch/>
        </p:blipFill>
        <p:spPr>
          <a:xfrm>
            <a:off x="1928880" y="1857240"/>
            <a:ext cx="5643360" cy="4429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v</cp:lastModifiedBy>
  <dcterms:modified xsi:type="dcterms:W3CDTF">2017-03-01T11:41:07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