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004-0466-4112-9D12-4D83A561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811-0084-42C6-B1F8-9897DA15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437-5D0B-4E10-9EAA-598E36E7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53E-5638-4474-8E1F-8C06C20D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588D-5EB8-4AA4-A675-4DB358D0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9624-5579-4874-866C-0D852127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A7E7-A0D5-4D8B-AC2A-FBB059A6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7C1B-12F5-4EFC-BE1C-9C4A2432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7433-EB67-44C0-90D1-1A1C5466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8680-09BB-4FB7-9A2B-E45DE857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FD87-793A-4974-8791-9BE9F554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07D-7184-4B52-AA7D-C045C95A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F82B-F293-4318-8432-20C8A0A1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C75F-75CE-42A2-890E-79C2B1F9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AFF9-0AEB-471B-961B-41E5D293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1AF0-6D2B-4AED-B8C9-5877A609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0FE9-4E42-4822-BE03-2475EA55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FBD-962F-4C2F-A272-9DB4EFFD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5B7-17C8-49DB-BE02-E3C21344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E37-DDE6-4BEA-984A-D7543049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090-1765-4CAC-BD45-536E74B5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CA0-7A1F-41C5-B2CA-F2F67C8D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59E-9431-4329-9C2A-011A1535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965-B0BD-46AF-82DB-3084E2C0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73E8-3E73-43D2-8E1E-3CCD778B90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B34E-7181-496E-B5DE-3028F5B2C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9280" y="2130120"/>
            <a:ext cx="532908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796000" y="259920"/>
            <a:ext cx="388944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98989"/>
                </a:solidFill>
                <a:uFillTx/>
                <a:latin typeface="Calibri"/>
              </a:rPr>
              <a:t>Выполни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98989"/>
                </a:solidFill>
                <a:uFillTx/>
                <a:latin typeface="Calibri"/>
              </a:rPr>
              <a:t>Бякина Е.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98989"/>
                </a:solidFill>
                <a:uFillTx/>
                <a:latin typeface="Calibri"/>
              </a:rPr>
              <a:t>Юсупова Х.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угольник 5" descr=""/>
          <p:cNvPicPr/>
          <p:nvPr/>
        </p:nvPicPr>
        <p:blipFill>
          <a:blip r:embed="rId1"/>
          <a:stretch/>
        </p:blipFill>
        <p:spPr>
          <a:xfrm>
            <a:off x="2481120" y="1785960"/>
            <a:ext cx="43466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знав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2"/>
          <a:stretch/>
        </p:blipFill>
        <p:spPr>
          <a:xfrm>
            <a:off x="971640" y="1600200"/>
            <a:ext cx="7200720" cy="4525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ие иг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468360" y="1639800"/>
            <a:ext cx="424800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4249800" cy="284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вле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611280" y="1600200"/>
            <a:ext cx="4176720" cy="2692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4211640" y="3357720"/>
            <a:ext cx="4081320" cy="2768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городо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673360" y="1125360"/>
            <a:ext cx="5427720" cy="512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&amp;Pcy;&amp;ocy;&amp;scy;&amp;tcy;&amp;ocy;&amp;vcy;&amp;ocy;&amp;jcy; - &amp;Ocy;&amp;lcy;&amp;softcy;&amp;gcy;&amp;acy; &amp;Vcy;&amp;acy;&amp;scy;&amp;icy;&amp;lcy;&amp;softcy;&amp;iecy;&amp;vcy;&amp;ncy;&amp;acy; &amp;Scy;&amp;mcy;&amp;icy;&amp;rcy;&amp;ncy;&amp;ocy;&amp;vcy;&amp;acy;"/>
          <p:cNvPicPr/>
          <p:nvPr/>
        </p:nvPicPr>
        <p:blipFill>
          <a:blip r:embed="rId2"/>
          <a:stretch/>
        </p:blipFill>
        <p:spPr>
          <a:xfrm>
            <a:off x="539640" y="62064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голок ПД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042920" y="1622520"/>
            <a:ext cx="3816360" cy="284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4356000" y="3832200"/>
            <a:ext cx="3816360" cy="2293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4" descr="&amp;Pcy;&amp;Dcy;&amp;Dcy; - &amp;Ocy;&amp;lcy;&amp;softcy;&amp;gcy;&amp;acy; &amp;Vcy;&amp;acy;&amp;scy;&amp;icy;&amp;lcy;&amp;softcy;&amp;iecy;&amp;vcy;&amp;ncy;&amp;acy; &amp;Scy;&amp;mcy;&amp;icy;&amp;rcy;&amp;ncy;&amp;ocy;&amp;vcy;&amp;acy;"/>
          <p:cNvPicPr/>
          <p:nvPr/>
        </p:nvPicPr>
        <p:blipFill>
          <a:blip r:embed="rId1"/>
          <a:stretch/>
        </p:blipFill>
        <p:spPr>
          <a:xfrm>
            <a:off x="2340000" y="620640"/>
            <a:ext cx="4464000" cy="37832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Вид проекта:</a:t>
            </a:r>
            <a:br>
              <a:rPr sz="2800"/>
            </a:br>
            <a:r>
              <a:rPr b="1" i="1" lang="en-GB" sz="2800" spc="-1" strike="noStrike">
                <a:solidFill>
                  <a:srgbClr val="254061"/>
                </a:solidFill>
                <a:latin typeface="Calibri"/>
                <a:ea typeface="Times New Roman"/>
              </a:rPr>
              <a:t>Познавательно-игровой</a:t>
            </a:r>
            <a:br>
              <a:rPr sz="2800"/>
            </a:br>
            <a:br>
              <a:rPr sz="2800"/>
            </a:br>
            <a:r>
              <a:rPr b="1" i="1" lang="en-GB" sz="2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Цель проекта:</a:t>
            </a:r>
            <a:br>
              <a:rPr sz="2800"/>
            </a:br>
            <a:r>
              <a:rPr b="1" i="1" lang="en-GB" sz="2800" spc="-1" strike="noStrike">
                <a:solidFill>
                  <a:srgbClr val="254061"/>
                </a:solidFill>
                <a:latin typeface="Calibri"/>
                <a:ea typeface="Times New Roman"/>
              </a:rPr>
              <a:t>снижение дорожно-транспортного травматизма среди детей дошкольного возраста путем повышения  уровня знаний правил дорожного движения и культуры поведения на дорог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3454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З</a:t>
            </a: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адачи проекта:</a:t>
            </a:r>
            <a:br>
              <a:rPr sz="2400"/>
            </a:br>
            <a:br>
              <a:rPr sz="2400"/>
            </a:b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Формирование у детей навыков </a:t>
            </a:r>
            <a:r>
              <a:rPr b="1" i="1" lang="ru-RU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осознанного безопасного поведения на улиц</a:t>
            </a:r>
            <a:r>
              <a:rPr b="1" i="1" lang="ru-RU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ах</a:t>
            </a: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 города;</a:t>
            </a:r>
            <a:br>
              <a:rPr sz="2000"/>
            </a:br>
            <a:br>
              <a:rPr sz="2000"/>
            </a:b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Усвоение детьми первоначальных знаний о правилах безопасного поведения на улице;</a:t>
            </a:r>
            <a:br>
              <a:rPr sz="2000"/>
            </a:br>
            <a:br>
              <a:rPr sz="2000"/>
            </a:b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Совершенствование навыков ориентации в пространстве;</a:t>
            </a:r>
            <a:br>
              <a:rPr sz="8800"/>
            </a:b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Формирование реакции, способности предвидеть возможную опасность, умение выбрать правильное решение в условиях дорожного движения;</a:t>
            </a:r>
            <a:br>
              <a:rPr sz="2000"/>
            </a:br>
            <a:br>
              <a:rPr sz="2000"/>
            </a:b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Формирование у дошкольников правил дорожной грамотности, как составной части общей</a:t>
            </a:r>
            <a:r>
              <a:rPr b="1" i="1" lang="ru-RU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культуры</a:t>
            </a:r>
            <a:r>
              <a:rPr b="1" i="1" lang="ru-RU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реб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12944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инципы построение проекта: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инцип интеграции образовательных областей в соответствии с возрастными, полоролевыми возможностями и особенностями детей;</a:t>
            </a:r>
            <a:br>
              <a:rPr sz="2400"/>
            </a:b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Комплексно-тематический принцип;</a:t>
            </a:r>
            <a:br>
              <a:rPr sz="2400"/>
            </a:b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Решение поставленных задач предусматривается в совместной деятельности взрослого и детей, в самостоятельной деятельности детей, при проведении режимных моментов;</a:t>
            </a:r>
            <a:br>
              <a:rPr sz="2400"/>
            </a:br>
            <a:r>
              <a:rPr b="1" i="1" lang="en-GB" sz="24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инцип доступности, последовательности и системат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201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оект представлен во всех формах совместной деятельности взрослого и ребенка, самостоятельной деятельности дет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16000" y="1557000"/>
            <a:ext cx="7128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Игров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 - дидактические игры, сюжетно-ролевые иг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</a:t>
            </a: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Коммуникативн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– беседы, ситуативный разговор,   загад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Трудов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– формирование представлений о труде, профессиях, совместные действия, пор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Двигательн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–  подвижные игры, прогулки, игровые упражнения, соревн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Познавательно-исследовательск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– наблюдение, решение проблемных ситуаций, моделирование, рассматривание иллюстраций, викторины, демонстрация фильмов, работа с плака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Музыкально-художественн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– слушание, исполнение, праздники,  развлечения, досуги, импровизация, драматиз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Восприятие художественной литературы 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– чтение</a:t>
            </a:r>
            <a:r>
              <a:rPr b="1" i="1" lang="ru-RU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оизведений, обсуждение, разучи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i="1" lang="en-GB" sz="1800" spc="-1" strike="noStrike" u="sng">
                <a:solidFill>
                  <a:srgbClr val="254061"/>
                </a:solidFill>
                <a:uFillTx/>
                <a:latin typeface="Calibri"/>
                <a:ea typeface="Times New Roman"/>
              </a:rPr>
              <a:t>Продуктивная</a:t>
            </a:r>
            <a:r>
              <a:rPr b="1" i="1" lang="en-GB" sz="1800" spc="-1" strike="noStrike">
                <a:solidFill>
                  <a:srgbClr val="254061"/>
                </a:solidFill>
                <a:latin typeface="Calibri"/>
                <a:ea typeface="Times New Roman"/>
              </a:rPr>
              <a:t>  - рисунок, лепка, аппликация, ручной тр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9680" indent="-3196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3924360" y="836640"/>
            <a:ext cx="410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Проектная деятельность осущест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через образовательные обл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Соци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Чте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Художественное 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d0d0d"/>
                </a:solidFill>
                <a:latin typeface="Arial"/>
                <a:ea typeface="Times New Roman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&amp;Scy;&amp;vcy;&amp;iecy;&amp;tcy;&amp;ocy;&amp;fcy;&amp;ocy;&amp;rcy; - &amp;Ocy;&amp;lcy;&amp;softcy;&amp;gcy;&amp;acy; &amp;Vcy;&amp;acy;&amp;scy;&amp;icy;&amp;lcy;&amp;softcy;&amp;iecy;&amp;vcy;&amp;ncy;&amp;acy; &amp;Scy;&amp;mcy;&amp;icy;&amp;rcy;&amp;ncy;&amp;ocy;&amp;vcy;&amp;acy;"/>
          <p:cNvPicPr/>
          <p:nvPr/>
        </p:nvPicPr>
        <p:blipFill>
          <a:blip r:embed="rId1"/>
          <a:stretch/>
        </p:blipFill>
        <p:spPr>
          <a:xfrm>
            <a:off x="1187280" y="765000"/>
            <a:ext cx="225756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Знакомство с улиц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 –трен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ы пешеход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572000" y="3213000"/>
            <a:ext cx="3786120" cy="291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3600360" cy="288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гра «Водители и пешеход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1" descr=""/>
          <p:cNvPicPr/>
          <p:nvPr/>
        </p:nvPicPr>
        <p:blipFill>
          <a:blip r:embed="rId1"/>
          <a:stretch/>
        </p:blipFill>
        <p:spPr>
          <a:xfrm>
            <a:off x="1403280" y="1417680"/>
            <a:ext cx="4248360" cy="2979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284720" y="3573360"/>
            <a:ext cx="3830760" cy="2548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ммуникативная непосредственная образо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728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ое внимание уделяется составлению рассказов: по опорным словам, по серии картинок, на тему «Улица города», «Моя улица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ак я шёл с мамой в детский сад», опираясь на имеющиеся у детей знания о правилах движения и повед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3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шеходов на улиц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3961080" cy="2222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4572000" y="3909960"/>
            <a:ext cx="3676680" cy="221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Acer</cp:lastModifiedBy>
  <dcterms:modified xsi:type="dcterms:W3CDTF">2017-04-17T09:38:57Z</dcterms:modified>
  <cp:revision>19</cp:revision>
  <dc:subject/>
  <dc:title>Слайд 1</dc:title>
</cp:coreProperties>
</file>