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796-7D9A-45DC-A731-5EB03F71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BB6-5619-48F4-86FA-880C7078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906-56F1-45ED-AA82-6CBE9989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BE56-F60B-4CD8-9F0D-82A6D603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1511-09B0-464D-A2FF-34C91E0F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3257-3ABD-4ADD-9EE4-170348C5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7C3F-DE2C-47A2-A9F4-D02DC936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3106-8FDD-4C71-B91B-71376F16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0428-707C-4F6A-93B3-03B71560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AD1D-4777-47CC-851A-7A76EDFC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F2B1-BF1C-45D3-8E87-34770D98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A3F-D237-4F65-9BE4-D8AEA51A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2C61-6F58-4E54-BEB0-50F0071A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2C77-6FC7-4972-AD03-591BD145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F237-4365-4E2E-9C1F-18D7B4DF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423B-B064-4734-B9F8-501A3FDC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746A-C183-41DC-83A9-02BF1FE7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7BDE-6E1E-4984-A85F-4DA22EF1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634-BCE9-4EB3-9C9E-1E75907C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B1A-4058-4B7C-85FD-810745BD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499-FE6D-4E53-94E9-6DF0864F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71A-8879-4CFC-80EB-29272E72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C8F-595D-4BF2-B826-AFA6AE03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85E0-AC69-42FB-AACD-4DC95106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B4AC-84F3-48A4-B73A-70499C405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3B2C-CD16-4529-81C1-11C8A7FF95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9200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539640" y="220500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ff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шение уравн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ff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00000" y="2276280"/>
            <a:ext cx="4896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Математику уже затем учить следует, что она ум в порядок приводи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                                         </a:t>
            </a: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М.В.Ломонос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911320" cy="3240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-9а +8 = - 10а -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-9а +8= - 10а – 2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-9а +10а = - 2 – 8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а = - 1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Ответ: а = - 1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763640" y="260280"/>
            <a:ext cx="54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ъяснит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то называют уравнение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Равенство, содержащее переменную, называют уравнением с одной перемен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йте определение корня уравн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Корнем уравнения называется значение переменной, при котором уравнение обращается в верное равен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формулируйте свойства уравн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Корни уравнения не изменяются, если его обе части умножить или разделить на одно и то же число, не равное нул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Корни уравнения не изменяются, если какое-нибудь слагаемое перенести из одной части уравнения в другую, изменив при этом его зна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971640" y="62064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тветьте на вопро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(1,2 – 0,2х)=2х – (0,4.х +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(1,2 – 0,2х) =2х – (0,4х +3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,6 – 0,2х = 2х – 0,4х+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,6 – 0,6х =2х – 0,4х – 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- 0,6х +2х -0,4х= -3 +3,6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-0,6х – 2х +0,4х= - 3 – 3,6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- 2,2х = -6,6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Х= -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Х=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твет: х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=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971640" y="476280"/>
            <a:ext cx="7129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дите ошибку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2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31" dur="2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1844640"/>
            <a:ext cx="84978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Вариант №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971640" y="476280"/>
            <a:ext cx="748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сшифруйт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71640" y="1916280"/>
          <a:ext cx="7953120" cy="3423960"/>
        </p:xfrm>
        <a:graphic>
          <a:graphicData uri="http://schemas.openxmlformats.org/drawingml/2006/table">
            <a:tbl>
              <a:tblPr/>
              <a:tblGrid>
                <a:gridCol w="434880"/>
                <a:gridCol w="3541680"/>
                <a:gridCol w="469800"/>
                <a:gridCol w="350676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Вариант№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х – 3 = 2х  + 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х – 5 =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(х – 6)= 7х+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х – 40 = 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1х+7 = 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х – 4 = 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х – (3х +3) = 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х – 1 =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x - 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х – 12 = 5х +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х – 7 = 2х +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 + 25у = 6 + 24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х + 1 = 8х +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 – 2у = 8 – 3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971640" y="5823000"/>
          <a:ext cx="7921440" cy="103644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792360"/>
                <a:gridCol w="792000"/>
                <a:gridCol w="792000"/>
                <a:gridCol w="792360"/>
                <a:gridCol w="792000"/>
                <a:gridCol w="792360"/>
                <a:gridCol w="79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6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ДИОФАНТ Александрийский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(ок. 3 в.), древнегреческий математик. В основном труде «Арифметика» (сохранились 6 книг из 13) дал решение задач, приводящихся к т. н. диофантовым уравнениям, и впервые ввел буквенную символику в алгебр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1835280" y="260280"/>
            <a:ext cx="53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офан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664000" cy="3024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908000" y="260280"/>
            <a:ext cx="48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ff5050"/>
                    </a:gs>
                  </a:gsLst>
                  <a:lin ang="189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карт      Рене</a:t>
            </a:r>
            <a:endParaRPr b="0" lang="en-US" sz="1800" spc="1" strike="noStrike">
              <a:ln w="1260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ff5050"/>
                  </a:gs>
                </a:gsLst>
                <a:lin ang="189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635280" y="1916280"/>
            <a:ext cx="51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Lucida Sans Unicode"/>
              </a:rPr>
              <a:t>ДЕКАРТ Рене (1596-1650), французский философ, математик, физик и физиолог. С 1629 в Нидерландах. Заложил основы аналитической геометрии, дал понятия переменной величины и функции, ввел многие алгебраические обознач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ff"/>
                </a:solidFill>
                <a:latin typeface="Monotype Corsiva"/>
              </a:rPr>
              <a:t>Закончен урок</a:t>
            </a:r>
            <a:r>
              <a:rPr b="0" lang="en-US" sz="54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0" lang="ru-RU" sz="5400" spc="-1" strike="noStrike">
                <a:solidFill>
                  <a:srgbClr val="ff00ff"/>
                </a:solidFill>
                <a:latin typeface="Monotype Corsiva"/>
              </a:rPr>
              <a:t>,</a:t>
            </a:r>
            <a:r>
              <a:rPr b="0" lang="en-US" sz="5400" spc="-1" strike="noStrike">
                <a:solidFill>
                  <a:srgbClr val="ff00ff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ff"/>
                </a:solidFill>
                <a:latin typeface="Monotype Corsiva"/>
              </a:rPr>
              <a:t>Но каждый должен знать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ff"/>
                </a:solidFill>
                <a:latin typeface="Monotype Corsiva"/>
              </a:rPr>
              <a:t>Только в труд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ff"/>
                </a:solidFill>
                <a:latin typeface="Monotype Corsiva"/>
              </a:rPr>
              <a:t>Знанья приходят к теб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2:34:46Z</dcterms:created>
  <dc:creator>Тупиков</dc:creator>
  <dc:description/>
  <dc:language>en-US</dc:language>
  <cp:lastModifiedBy>User</cp:lastModifiedBy>
  <dcterms:modified xsi:type="dcterms:W3CDTF">2017-05-05T11:00:52Z</dcterms:modified>
  <cp:revision>13</cp:revision>
  <dc:subject/>
  <dc:title>Слайд 1</dc:title>
</cp:coreProperties>
</file>