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DA5-8BBE-4341-B5D2-486AD945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B30-27C3-4FDD-9904-9536247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6FA-0791-4628-9795-6190F424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880-A58B-4A38-B57F-3D5FC22D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1D0-07C5-4C93-9D0F-487820FC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1401-18EB-42F6-B98D-6D5D3AE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3C77-2DC2-4FFA-854A-9CF22CC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A90B-0C8D-4559-88E2-0E81792F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103-DEC2-4CA3-934F-A36F087F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E741-B107-46F9-8877-D2396E4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E863-7AD4-41C0-8A4B-88967D75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6B9-1FE1-4D61-B2D9-C4CD308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16A-441F-4D0F-A769-5AAD53A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4E9D-4BCE-4F96-9D44-F3CF364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C841-519B-4408-806D-A418E9E0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F69-7EAF-48FF-A569-775735D3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F6F-A164-4509-8727-30C3C0CC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C32-E53E-4C32-AF9D-71F953C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3B3-17F0-4D9F-92D7-3BBF551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D47-E620-458C-9DD4-D5C407A0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26F-2D3D-4834-8803-F8B5BD1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7E6-A64F-4D14-BF3D-F35943E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556-61C6-48DF-A5B6-9C41EAB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233-9388-4276-AC28-06EB0DD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E37-5437-4F8E-AFE8-D43DBA9E3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E24F-36D6-4922-AE55-3DA25D9F7E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20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539640" y="220500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шение уравн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489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тематику уже затем учить следует, что она ум в порядок привод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                                        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.В.Ломоно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8 = - 10а -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8= - 10а – 2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-9а +10а = - 2 – 8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а = - 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Ответ: а = - 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763640" y="260280"/>
            <a:ext cx="54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ъяс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называют уравнени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Равенство, содержащее переменную, называют уравнением с одной перемен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йте определение корня уравн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ем уравнения называется значение переменной, при котором уравнение обращается в верное раве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формулируйте свойства урав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и уравнения не изменяются, если его обе части умножить или разделить на одно и то же число, не равное ну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Корни уравнения не изменяются, если какое-нибудь слагаемое перенести из одной части уравнения в другую, изменив при этом его зн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97164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ветьте на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(1,2 – 0,2х)=2х – (0,4.х +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(1,2 – 0,2х) =2х – (0,4х +3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,6 – 0,2х = 2х – 0,4х+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,6 – 0,6х =2х – 0,4х – 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0,6х +2х -0,4х= -3 +3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0,6х – 2х +0,4х= - 3 – 3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2,2х = -6,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Х= 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Х=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вет: 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=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971640" y="47628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ошибку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3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497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Вариант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971640" y="476280"/>
            <a:ext cx="74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шифруйт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71640" y="1916280"/>
          <a:ext cx="7953120" cy="3423960"/>
        </p:xfrm>
        <a:graphic>
          <a:graphicData uri="http://schemas.openxmlformats.org/drawingml/2006/table">
            <a:tbl>
              <a:tblPr/>
              <a:tblGrid>
                <a:gridCol w="434880"/>
                <a:gridCol w="3541680"/>
                <a:gridCol w="469800"/>
                <a:gridCol w="35067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Вариант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х – 3 = 2х  +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х – 5 =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(х – 6)= 7х+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40 =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х+7 =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4 =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х – (3х +3) =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х – 1 =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x - 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х – 12 = 5х +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х – 7 = 2х +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+ 25у = 6 + 24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х + 1 = 8х +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– 2у = 8 – 3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966ff"/>
                      </a:solidFill>
                    </a:lnL>
                    <a:lnR w="5760">
                      <a:solidFill>
                        <a:srgbClr val="9966ff"/>
                      </a:solidFill>
                    </a:lnR>
                    <a:lnT w="5760">
                      <a:solidFill>
                        <a:srgbClr val="9966ff"/>
                      </a:solidFill>
                    </a:lnT>
                    <a:lnB w="5760">
                      <a:solidFill>
                        <a:srgbClr val="99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71640" y="5823000"/>
          <a:ext cx="7921440" cy="10364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ИОФАНТ Александрийски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ок. 3 в.), древнегреческий математик. В основном труде «Арифметика» (сохранились 6 книг из 13) дал решение задач, приводящихся к т. н. диофантовым уравнениям, и впервые ввел буквенную символику в алгеб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835280" y="26028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офан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908000" y="260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5050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карт      Рене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ff5050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635280" y="191628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Lucida Sans Unicode"/>
              </a:rPr>
              <a:t>ДЕКАРТ Рене (1596-1650), французский философ, математик, физик и физиолог. С 1629 в Нидерландах. Заложил основы аналитической геометрии, дал понятия переменной величины и функции, ввел многие алгебраические обозна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Закончен урок</a:t>
            </a: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,</a:t>
            </a: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Но каждый должен знать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Только в труд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Monotype Corsiva"/>
              </a:rPr>
              <a:t>Знанья приходят к теб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2:34:46Z</dcterms:created>
  <dc:creator>Тупиков</dc:creator>
  <dc:description/>
  <dc:language>en-US</dc:language>
  <cp:lastModifiedBy>User</cp:lastModifiedBy>
  <dcterms:modified xsi:type="dcterms:W3CDTF">2017-05-05T11:00:52Z</dcterms:modified>
  <cp:revision>13</cp:revision>
  <dc:subject/>
  <dc:title>Слайд 1</dc:title>
</cp:coreProperties>
</file>