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BCE7-9193-47AB-9B29-540EB303FB43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A2E5-70F4-40EC-9CB2-94D9322125AD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5E9-1F10-4DCD-99AD-B41F6CC5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CD8-2534-4805-AD05-B48870FF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296-9756-4487-B9FA-1C4ECA02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1F3-B5F5-4A02-899F-AB79FCC7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3FC-7911-470B-BEA4-95673B01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8B0-1B96-4E49-9578-1C02D2AF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EE6-6B68-4DA7-BBF8-8F1D5E2D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3E9-B958-4DC3-8E66-6AB5DFAB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5C0-79D6-42C5-8F37-18744CC0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91F-7F2A-475E-9C90-53773FA9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24D-D5BB-4B61-9E9D-C7578DB5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957-4CB8-4B15-9D36-8BCACD70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4BFD-80F5-4897-9244-FF7900BAB097}" type="slidenum"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059280" y="3573360"/>
            <a:ext cx="42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514760" y="428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0" name="Picture 9" descr="пушкин"/>
          <p:cNvPicPr/>
          <p:nvPr/>
        </p:nvPicPr>
        <p:blipFill>
          <a:blip r:embed="rId1"/>
          <a:stretch/>
        </p:blipFill>
        <p:spPr>
          <a:xfrm>
            <a:off x="3419640" y="3284640"/>
            <a:ext cx="2539800" cy="3022560"/>
          </a:xfrm>
          <a:prstGeom prst="rect">
            <a:avLst/>
          </a:prstGeom>
          <a:ln w="0">
            <a:noFill/>
          </a:ln>
        </p:spPr>
      </p:pic>
      <p:sp>
        <p:nvSpPr>
          <p:cNvPr id="51" name="WordArt 10"/>
          <p:cNvSpPr txBox="1"/>
          <p:nvPr/>
        </p:nvSpPr>
        <p:spPr>
          <a:xfrm>
            <a:off x="1692360" y="2205000"/>
            <a:ext cx="589572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знь и творчество пушки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152280" y="457200"/>
            <a:ext cx="8782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равочные материалы к уроку литерату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172200" y="52578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Презентацию выполнила учитель ЦО № 173 Никифорова С.Н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AutoShape 13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сын 1"/>
          <p:cNvPicPr/>
          <p:nvPr/>
        </p:nvPicPr>
        <p:blipFill>
          <a:blip r:embed="rId1"/>
          <a:stretch/>
        </p:blipFill>
        <p:spPr>
          <a:xfrm>
            <a:off x="1187280" y="1700280"/>
            <a:ext cx="1847880" cy="2581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сын 2"/>
          <p:cNvPicPr/>
          <p:nvPr/>
        </p:nvPicPr>
        <p:blipFill>
          <a:blip r:embed="rId2"/>
          <a:stretch/>
        </p:blipFill>
        <p:spPr>
          <a:xfrm>
            <a:off x="5389560" y="1700280"/>
            <a:ext cx="2160720" cy="24494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427640" y="450864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оспитанник Пажеского корпуса. Корнет, ротмистр лейб-гвардейского Конного полка, переведен в министерство внутренних дел, где дослужился до старшего советника. С 1866 по 1899 годы жил в селе Михайловском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5280" y="4581360"/>
            <a:ext cx="37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оспитанник 2-ой Петербургской гимназии и Пажеского корпуса. Награжден золотым Георгиевским оружием с надписью "За храбрость" и орденом Святого Владимира IV степени с мечами и бантом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68360" y="620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 Unicode MS"/>
              </a:rPr>
              <a:t>Старший сын Александр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03640" y="69228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 Unicode MS"/>
              </a:rPr>
              <a:t>Младший сын Григорий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AutoShape 12">
            <a:hlinkClick r:id="" action="ppaction://hlinkshowjump?jump=firstslide"/>
          </p:cNvPr>
          <p:cNvSpPr/>
          <p:nvPr/>
        </p:nvSpPr>
        <p:spPr>
          <a:xfrm>
            <a:off x="878364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AutoShape 13">
            <a:hlinkClick r:id="" action="ppaction://hlinkshowjump?jump=previousslide"/>
          </p:cNvPr>
          <p:cNvSpPr/>
          <p:nvPr/>
        </p:nvSpPr>
        <p:spPr>
          <a:xfrm>
            <a:off x="845964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3213000"/>
            <a:ext cx="757080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Слово о Пушкине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Александр Сергеевич Пушкин - самый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любимый писатель в нашей стране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Он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входит в нашу жизнь и самом начале и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уже не покидает нас до конца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–говорит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А.Твардовский.    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7" name="Picture 4" descr="крым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AutoShape 7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Щит разделен горизонталью на две части, из коих в верхней в горностаевом поле на Пурпурной подушке с золочеными кистями положена Княжеская Шапка. В нижней части в правом голубом поле изображена в серебряных латах правая Рука с мечем, вверх подъятым; в левом золотом поле голубой Орел с распростертыми Крыльями, имеющий в когтях Меч и Державу голубого ж цвета. Щит увенчан обыкновенным Дворянским Шлемом с дворянской на нем Короною и тремя Страусовыми перьями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1547640" y="620640"/>
            <a:ext cx="6120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б рода Пушкиных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8" descr="герб"/>
          <p:cNvPicPr/>
          <p:nvPr/>
        </p:nvPicPr>
        <p:blipFill>
          <a:blip r:embed="rId3"/>
          <a:stretch/>
        </p:blipFill>
        <p:spPr>
          <a:xfrm>
            <a:off x="5105520" y="1523880"/>
            <a:ext cx="315252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9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AutoShape 10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AutoShape 11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708360" y="1989000"/>
            <a:ext cx="48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187280" y="2349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635280" y="256536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5148360" y="234936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Прадедушка, Абрам Петрович Ганнибал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"Арап Петра Великого", абиссинский князек. Он умер в 1781г. генерал-аншефом и александровским кавалером, оставив 7 человек детей и более 1400 душ. Это была "мягкая, трусливая, но вспыльчивая абиссинская натура", наклонная "к невообразимой, необдуманной решимости"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1" name="Picture 31" descr="прадед"/>
          <p:cNvPicPr/>
          <p:nvPr/>
        </p:nvPicPr>
        <p:blipFill>
          <a:blip r:embed="rId1"/>
          <a:stretch/>
        </p:blipFill>
        <p:spPr>
          <a:xfrm>
            <a:off x="1042920" y="1916280"/>
            <a:ext cx="2722680" cy="3456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2"/>
          <p:cNvSpPr txBox="1"/>
          <p:nvPr/>
        </p:nvSpPr>
        <p:spPr>
          <a:xfrm>
            <a:off x="1763640" y="549360"/>
            <a:ext cx="58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ЬЯ ПОЭТ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AutoShape 33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AutoShape 34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AutoShape 35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2" descr="Копия бабушка"/>
          <p:cNvPicPr/>
          <p:nvPr/>
        </p:nvPicPr>
        <p:blipFill>
          <a:blip r:embed="rId1"/>
          <a:stretch/>
        </p:blipFill>
        <p:spPr>
          <a:xfrm>
            <a:off x="1187280" y="2205000"/>
            <a:ext cx="2592720" cy="3095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Урожденная Пушкина, мать Н.О. Пушкиной. По словам П.И. Бартенева, "...любила вспоминать старину, и от нее А.С. Пушкин наслышился семейных преданий, коими так дорожил впоследствии"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1116000" y="260280"/>
            <a:ext cx="74199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Бабушка,Мария Алексеевна Ганниб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1745-1818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-457344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AutoShape 15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AutoShape 16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AutoShape 17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 1796г. капитан-поручик лейб-гвардейского Егерского полка, с 1800г. - в Комиссариатском штате в Москве, в 1811г. - военный советник, в 1824г. - начальник Комиссариатской комиссии резервной армиии в Варшаве, с 1817г. в отставке, статский советник. Сергей Львович был тесно связан с литературными кругами, знаком с Д.И. Фонвизиным, К.Н. Батюшковым, П.А. Вяземским, В.А. Жуковским, Н.М. Карамзиным и многими другими литераторами. Пушкин-отец писал стихи и даже целые поэмы, оставил краткие воспоминания о сыне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-450072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1403280" y="260280"/>
            <a:ext cx="6543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тец, Сергей Львович Пушки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1770-1838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6" name="Picture 9" descr="отец"/>
          <p:cNvPicPr/>
          <p:nvPr/>
        </p:nvPicPr>
        <p:blipFill>
          <a:blip r:embed="rId1"/>
          <a:stretch/>
        </p:blipFill>
        <p:spPr>
          <a:xfrm>
            <a:off x="5580000" y="2205000"/>
            <a:ext cx="2664000" cy="3240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0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AutoShape 11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AutoShape 12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Урожденная Ганнибал, в 1796г. вышла замуж за С.Л. Пушкина, в 1814г. вместе с детьми, Ольгой и Львом, переезжает из Москвы в Петербург, постоянно навещает сына Алекссандра в Лицее. Принимает участие в судьбе ссыльного поэта, с одобрения В.А. Жуковского и Н.М. Карамзина, но без ведома сына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1187280" y="260280"/>
            <a:ext cx="6896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ь, Надежда Осиповна Пушк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1775-1836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8" descr="мать"/>
          <p:cNvPicPr/>
          <p:nvPr/>
        </p:nvPicPr>
        <p:blipFill>
          <a:blip r:embed="rId1"/>
          <a:stretch/>
        </p:blipFill>
        <p:spPr>
          <a:xfrm>
            <a:off x="5651640" y="2276640"/>
            <a:ext cx="2881080" cy="3600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-457344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AutoShape 10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AutoShape 11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AutoShape 12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Урожденная Гончарова, вышла замуж за А.С. Пушкина в 1831г. Между супругами с самого начала сложились сердечные и дружеские отношения. К концу 1831г. Наталья Николаевна знакомится с Дантесом. При всей сдержанности в ее поведении с Дантесом, в светских кругах стала распространяться сплетня о ее, якобы, неверности мужу. Это послужило поводом к дуэли и смерти поэта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952560" y="189000"/>
            <a:ext cx="721980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Жена, Наталья Николаевна Пушк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(1812-1863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8" descr="жена"/>
          <p:cNvPicPr/>
          <p:nvPr/>
        </p:nvPicPr>
        <p:blipFill>
          <a:blip r:embed="rId1"/>
          <a:stretch/>
        </p:blipFill>
        <p:spPr>
          <a:xfrm>
            <a:off x="797040" y="2060640"/>
            <a:ext cx="2993760" cy="36734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9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AutoShape 10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AutoShape 11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8"/>
          <p:cNvSpPr txBox="1"/>
          <p:nvPr/>
        </p:nvSpPr>
        <p:spPr>
          <a:xfrm>
            <a:off x="1692360" y="404640"/>
            <a:ext cx="597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ти А.С.Пушк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Picture 11" descr="дочь 2"/>
          <p:cNvPicPr/>
          <p:nvPr/>
        </p:nvPicPr>
        <p:blipFill>
          <a:blip r:embed="rId1"/>
          <a:stretch/>
        </p:blipFill>
        <p:spPr>
          <a:xfrm>
            <a:off x="1042920" y="1268280"/>
            <a:ext cx="2446560" cy="2936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4500720" y="5373720"/>
            <a:ext cx="42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олучила домашнее образование. С 1852г. - фрейлина. С 1860г. замужем за генерал-майором Л.Н.Гартунгом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6" name="Picture 16" descr="маша"/>
          <p:cNvPicPr/>
          <p:nvPr/>
        </p:nvPicPr>
        <p:blipFill>
          <a:blip r:embed="rId2"/>
          <a:stretch/>
        </p:blipFill>
        <p:spPr>
          <a:xfrm>
            <a:off x="5769000" y="1351080"/>
            <a:ext cx="1760400" cy="2736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539640" y="486900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олучила домашнее образование. Вышла замуж за М.Л. Дубельта. Во втором браке - Меренберг. Современники называли ее "прекрасной дочерью прекрасной матери"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443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Unicode MS"/>
              </a:rPr>
              <a:t>Младшая дочь Наталья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4788000" y="4365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Unicode MS"/>
              </a:rPr>
              <a:t>Старшая дочь Мария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AutoShape 20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AutoShape 21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AutoShape 22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4:45:57Z</dcterms:created>
  <dc:creator>учитель</dc:creator>
  <dc:description/>
  <dc:language>en-US</dc:language>
  <cp:lastModifiedBy>Е.М. Никифорова</cp:lastModifiedBy>
  <dcterms:modified xsi:type="dcterms:W3CDTF">2017-05-10T07:08:31Z</dcterms:modified>
  <cp:revision>14</cp:revision>
  <dc:subject/>
  <dc:title>Слайд 1</dc:title>
</cp:coreProperties>
</file>