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E30-378F-42F6-A2A3-E961D730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C75-750E-4F5A-8766-846327FF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A6C-31D3-45E1-9805-4816E12E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DC3-FD7A-4369-ADEA-3DE459CE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0DF4-E6F1-4066-AA7C-B5D8F334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9DD0-3985-4D56-AA87-E80BFE3E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0625-C6CD-413C-9209-C6C22973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9E03-074D-479C-BAA0-EA615454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813E-3F6D-4E19-971B-FD9369F2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0EE5-620C-45AD-A75A-C0DF1083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8438-C008-4C3F-A52B-1750BCA8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D33-296F-49E5-AA95-EFA91794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8434-27F6-4BE7-B1B6-DAC23F69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FF06-A9C8-4898-BF63-92DC2138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F6F5-772C-41FC-9990-4DC92780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4030-2ED1-4CE8-B22D-840412C0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9BC3-910A-4B7A-9BBA-53F1DA6C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720-C7BE-4300-B280-1F7BCE59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955-613D-41D9-B731-55311756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18C-FDCC-4BBB-928F-5A2ACD35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309-C7D2-448C-B537-7C0F4D5D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790B-C06D-4E38-B8E6-75EE3377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094-E23A-4E7E-854F-60A040EB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C93-58AA-40C8-B27F-EA2A42F5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0582-1CBA-4EF9-8B28-FF4A7DEFC4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574A-A675-4752-9039-0117350656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-africa.ru/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r>
              <a:rPr b="0" lang="ru-RU" sz="5800" spc="-1" strike="noStrike">
                <a:solidFill>
                  <a:srgbClr val="999900"/>
                </a:solidFill>
                <a:latin typeface="Comic Sans MS"/>
              </a:rPr>
              <a:t>Африка</a:t>
            </a:r>
            <a:br>
              <a:rPr sz="5800"/>
            </a:br>
            <a:br>
              <a:rPr sz="5800"/>
            </a:br>
            <a:r>
              <a:rPr b="0" lang="ru-RU" sz="5800" spc="-1" strike="noStrike">
                <a:solidFill>
                  <a:srgbClr val="999900"/>
                </a:solidFill>
                <a:latin typeface="Comic Sans MS"/>
              </a:rPr>
              <a:t>Субрегионы Африки.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6" descr="J0215079"/>
          <p:cNvPicPr/>
          <p:nvPr/>
        </p:nvPicPr>
        <p:blipFill>
          <a:blip r:embed="rId1"/>
          <a:stretch/>
        </p:blipFill>
        <p:spPr>
          <a:xfrm>
            <a:off x="6629400" y="4191120"/>
            <a:ext cx="2119320" cy="215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9900"/>
                </a:solidFill>
                <a:latin typeface="Comic Sans MS"/>
              </a:rPr>
              <a:t>   </a:t>
            </a:r>
            <a:r>
              <a:rPr b="0" lang="ru-RU" sz="4800" spc="-1" strike="noStrike">
                <a:solidFill>
                  <a:srgbClr val="999900"/>
                </a:solidFill>
                <a:latin typeface="Comic Sans MS"/>
              </a:rPr>
              <a:t>Арабский тип города.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2420640"/>
            <a:ext cx="403848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Касб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укрепление, цитад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Медин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старый город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ременная часть гор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7" descr="Morocco-Marrakech-Djemaa-el.jpg"/>
          <p:cNvPicPr/>
          <p:nvPr/>
        </p:nvPicPr>
        <p:blipFill>
          <a:blip r:embed="rId1"/>
          <a:stretch/>
        </p:blipFill>
        <p:spPr>
          <a:xfrm>
            <a:off x="468360" y="1557360"/>
            <a:ext cx="4038480" cy="208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6600">
                <a:alpha val="50000"/>
              </a:srgbClr>
            </a:outerShdw>
          </a:effectLst>
        </p:spPr>
      </p:pic>
      <p:pic>
        <p:nvPicPr>
          <p:cNvPr id="163" name="Picture 8" descr="Нажмите, чтобы посмотреть в полный размер"/>
          <p:cNvPicPr/>
          <p:nvPr/>
        </p:nvPicPr>
        <p:blipFill>
          <a:blip r:embed="rId2"/>
          <a:stretch/>
        </p:blipFill>
        <p:spPr>
          <a:xfrm>
            <a:off x="468360" y="364500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foto_egypt10.jpg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9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Нажмите, чтобы посмотреть в полный размер"/>
          <p:cNvPicPr/>
          <p:nvPr/>
        </p:nvPicPr>
        <p:blipFill>
          <a:blip r:embed="rId2"/>
          <a:stretch/>
        </p:blipFill>
        <p:spPr>
          <a:xfrm>
            <a:off x="5651640" y="4221000"/>
            <a:ext cx="3292200" cy="244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0"/>
          <p:cNvSpPr/>
          <p:nvPr/>
        </p:nvSpPr>
        <p:spPr>
          <a:xfrm>
            <a:off x="1010880" y="355680"/>
            <a:ext cx="78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креационные ресурсы северной Афр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11" descr="PEOPL063"/>
          <p:cNvPicPr/>
          <p:nvPr/>
        </p:nvPicPr>
        <p:blipFill>
          <a:blip r:embed="rId3"/>
          <a:stretch/>
        </p:blipFill>
        <p:spPr>
          <a:xfrm>
            <a:off x="250920" y="5589720"/>
            <a:ext cx="741240" cy="10540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12"/>
          <p:cNvSpPr/>
          <p:nvPr/>
        </p:nvSpPr>
        <p:spPr>
          <a:xfrm>
            <a:off x="1187280" y="4653000"/>
            <a:ext cx="2521080" cy="792000"/>
          </a:xfrm>
          <a:prstGeom prst="wedgeEllipseCallout">
            <a:avLst>
              <a:gd name="adj1" fmla="val -61902"/>
              <a:gd name="adj2" fmla="val 65833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1311120" y="472428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 оптимальне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ва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468360" y="404640"/>
            <a:ext cx="4967280" cy="3133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27"/>
          <p:cNvPicPr/>
          <p:nvPr/>
        </p:nvPicPr>
        <p:blipFill>
          <a:blip r:embed="rId2"/>
          <a:stretch/>
        </p:blipFill>
        <p:spPr>
          <a:xfrm>
            <a:off x="5940360" y="404640"/>
            <a:ext cx="2762280" cy="4680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PEOPL063"/>
          <p:cNvPicPr/>
          <p:nvPr/>
        </p:nvPicPr>
        <p:blipFill>
          <a:blip r:embed="rId3"/>
          <a:stretch/>
        </p:blipFill>
        <p:spPr>
          <a:xfrm>
            <a:off x="324000" y="5589720"/>
            <a:ext cx="741240" cy="105408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0"/>
          <p:cNvSpPr/>
          <p:nvPr/>
        </p:nvSpPr>
        <p:spPr>
          <a:xfrm>
            <a:off x="1476360" y="3645000"/>
            <a:ext cx="4175280" cy="1800000"/>
          </a:xfrm>
          <a:prstGeom prst="wedgeEllipseCallout">
            <a:avLst>
              <a:gd name="adj1" fmla="val -59125"/>
              <a:gd name="adj2" fmla="val 60050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 вывести хозяйственную жизнь региона за приделы приморской полосы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Тропическая Африка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лощадь около 20 млн. к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селение 650 млн. челове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ая сфера деятельности сельское хозяй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468360" y="3716280"/>
            <a:ext cx="4048200" cy="2797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Нажмите, чтобы посмотреть в полный размер"/>
          <p:cNvPicPr/>
          <p:nvPr/>
        </p:nvPicPr>
        <p:blipFill>
          <a:blip r:embed="rId2"/>
          <a:stretch/>
        </p:blipFill>
        <p:spPr>
          <a:xfrm>
            <a:off x="5292720" y="4221000"/>
            <a:ext cx="350856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Comic Sans MS"/>
              </a:rPr>
              <a:t>Проблемы тропической Африки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мировом хозяйстве самая отсталая часть всего развивающегося мира (29 стран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туральное и малотоварное сельское хозяйство. (засухи, муха це-ц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именее индустриализированный регион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сталая транспортная се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худшающаяся экология(опустынивание, обезлес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4" descr="PEOPL063"/>
          <p:cNvPicPr/>
          <p:nvPr/>
        </p:nvPicPr>
        <p:blipFill>
          <a:blip r:embed="rId1"/>
          <a:stretch/>
        </p:blipFill>
        <p:spPr>
          <a:xfrm>
            <a:off x="8013600" y="5300640"/>
            <a:ext cx="943200" cy="134136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>
            <a:off x="5867280" y="4005360"/>
            <a:ext cx="1944720" cy="753840"/>
          </a:xfrm>
          <a:prstGeom prst="wedgeEllipseCallout">
            <a:avLst>
              <a:gd name="adj1" fmla="val 87879"/>
              <a:gd name="adj2" fmla="val 101370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6161040" y="40305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5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6112"/>
          <p:cNvPicPr/>
          <p:nvPr/>
        </p:nvPicPr>
        <p:blipFill>
          <a:blip r:embed="rId2"/>
          <a:stretch/>
        </p:blipFill>
        <p:spPr>
          <a:xfrm>
            <a:off x="250920" y="333360"/>
            <a:ext cx="2628720" cy="2206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</p:pic>
      <p:pic>
        <p:nvPicPr>
          <p:cNvPr id="189" name="Picture 7" descr="6018"/>
          <p:cNvPicPr/>
          <p:nvPr/>
        </p:nvPicPr>
        <p:blipFill>
          <a:blip r:embed="rId3"/>
          <a:stretch/>
        </p:blipFill>
        <p:spPr>
          <a:xfrm>
            <a:off x="6877080" y="4005360"/>
            <a:ext cx="2004840" cy="2687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966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9900"/>
                </a:solidFill>
                <a:latin typeface="Comic Sans MS"/>
              </a:rPr>
              <a:t>ЮАР.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7280" y="1599840"/>
            <a:ext cx="47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лощадь территории 1221 тыс.к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5,5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исленность населения 45 млн. чел.(7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5 % ВВ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0 % продукции обрабатывающей промышле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0 % автопа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10" descr="ЮАР. Туры в ЮАР. Визы в ЮАР. Авиабилеты. Южная Африка. Отдых в ЮАР. Отзывы. Отели ЮАР. Форум. Новости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429000"/>
            <a:ext cx="4038480" cy="188136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6600"/>
            </a:outerShdw>
          </a:effectLst>
        </p:spPr>
      </p:pic>
      <p:pic>
        <p:nvPicPr>
          <p:cNvPr id="193" name="Picture 11" descr="iox"/>
          <p:cNvPicPr/>
          <p:nvPr/>
        </p:nvPicPr>
        <p:blipFill>
          <a:blip r:embed="rId3"/>
          <a:stretch/>
        </p:blipFill>
        <p:spPr>
          <a:xfrm>
            <a:off x="395280" y="1484280"/>
            <a:ext cx="4002120" cy="18018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6600"/>
            </a:outerShdw>
          </a:effectLst>
        </p:spPr>
      </p:pic>
      <p:pic>
        <p:nvPicPr>
          <p:cNvPr id="194" name="Picture 12" descr="fla10"/>
          <p:cNvPicPr/>
          <p:nvPr/>
        </p:nvPicPr>
        <p:blipFill>
          <a:blip r:embed="rId4"/>
          <a:stretch/>
        </p:blipFill>
        <p:spPr>
          <a:xfrm>
            <a:off x="7596360" y="260280"/>
            <a:ext cx="1172880" cy="879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6600"/>
            </a:outerShdw>
          </a:effectLst>
        </p:spPr>
      </p:pic>
      <p:pic>
        <p:nvPicPr>
          <p:cNvPr id="195" name="Picture 13" descr="sam17"/>
          <p:cNvPicPr/>
          <p:nvPr/>
        </p:nvPicPr>
        <p:blipFill>
          <a:blip r:embed="rId5"/>
          <a:stretch/>
        </p:blipFill>
        <p:spPr>
          <a:xfrm>
            <a:off x="395280" y="5025960"/>
            <a:ext cx="20160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Comic Sans MS"/>
              </a:rPr>
              <a:t>1.Страна, где на 4 % территории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999900"/>
                </a:solidFill>
                <a:latin typeface="Comic Sans MS"/>
              </a:rPr>
              <a:t>сосредоточено</a:t>
            </a:r>
            <a:r>
              <a:rPr b="0" lang="en-US" sz="3600" spc="-1" strike="noStrike">
                <a:solidFill>
                  <a:srgbClr val="9999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999900"/>
                </a:solidFill>
                <a:latin typeface="Comic Sans MS"/>
              </a:rPr>
              <a:t>98% населения. 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95280" y="1988640"/>
            <a:ext cx="649116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ЮА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гипе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фиоп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игер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35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Comic Sans MS"/>
              </a:rPr>
              <a:t>2. Крупнейший в Африке производитель и экспортёр нефти, член ОПЕК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195280" y="2707920"/>
            <a:ext cx="649116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онг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ЮА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лжи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адагаска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Comic Sans MS"/>
              </a:rPr>
              <a:t>3.Регионы Африки – установите соответствие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01" name="Picture 3" descr="AFRICA"/>
          <p:cNvPicPr/>
          <p:nvPr/>
        </p:nvPicPr>
        <p:blipFill>
          <a:blip r:embed="rId1"/>
          <a:stretch/>
        </p:blipFill>
        <p:spPr>
          <a:xfrm>
            <a:off x="684360" y="1989000"/>
            <a:ext cx="3609720" cy="4078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6600"/>
            </a:outerShdw>
          </a:effectLst>
        </p:spPr>
      </p:pic>
      <p:sp>
        <p:nvSpPr>
          <p:cNvPr id="202" name="Freeform 4"/>
          <p:cNvSpPr/>
          <p:nvPr/>
        </p:nvSpPr>
        <p:spPr>
          <a:xfrm>
            <a:off x="2195640" y="4653000"/>
            <a:ext cx="1655640" cy="144000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938" h="823">
                <a:moveTo>
                  <a:pt x="0" y="202"/>
                </a:moveTo>
                <a:cubicBezTo>
                  <a:pt x="79" y="205"/>
                  <a:pt x="236" y="159"/>
                  <a:pt x="292" y="247"/>
                </a:cubicBezTo>
                <a:cubicBezTo>
                  <a:pt x="328" y="238"/>
                  <a:pt x="353" y="215"/>
                  <a:pt x="390" y="211"/>
                </a:cubicBezTo>
                <a:cubicBezTo>
                  <a:pt x="434" y="206"/>
                  <a:pt x="479" y="205"/>
                  <a:pt x="523" y="202"/>
                </a:cubicBezTo>
                <a:cubicBezTo>
                  <a:pt x="545" y="95"/>
                  <a:pt x="511" y="186"/>
                  <a:pt x="558" y="167"/>
                </a:cubicBezTo>
                <a:cubicBezTo>
                  <a:pt x="568" y="163"/>
                  <a:pt x="568" y="148"/>
                  <a:pt x="576" y="140"/>
                </a:cubicBezTo>
                <a:cubicBezTo>
                  <a:pt x="602" y="114"/>
                  <a:pt x="627" y="119"/>
                  <a:pt x="664" y="114"/>
                </a:cubicBezTo>
                <a:cubicBezTo>
                  <a:pt x="673" y="108"/>
                  <a:pt x="680" y="96"/>
                  <a:pt x="691" y="96"/>
                </a:cubicBezTo>
                <a:cubicBezTo>
                  <a:pt x="733" y="96"/>
                  <a:pt x="709" y="123"/>
                  <a:pt x="726" y="140"/>
                </a:cubicBezTo>
                <a:cubicBezTo>
                  <a:pt x="733" y="147"/>
                  <a:pt x="744" y="146"/>
                  <a:pt x="753" y="149"/>
                </a:cubicBezTo>
                <a:cubicBezTo>
                  <a:pt x="783" y="105"/>
                  <a:pt x="767" y="102"/>
                  <a:pt x="735" y="61"/>
                </a:cubicBezTo>
                <a:cubicBezTo>
                  <a:pt x="738" y="43"/>
                  <a:pt x="733" y="21"/>
                  <a:pt x="744" y="7"/>
                </a:cubicBezTo>
                <a:cubicBezTo>
                  <a:pt x="750" y="0"/>
                  <a:pt x="762" y="16"/>
                  <a:pt x="771" y="16"/>
                </a:cubicBezTo>
                <a:cubicBezTo>
                  <a:pt x="815" y="16"/>
                  <a:pt x="860" y="10"/>
                  <a:pt x="904" y="7"/>
                </a:cubicBezTo>
                <a:cubicBezTo>
                  <a:pt x="921" y="59"/>
                  <a:pt x="938" y="129"/>
                  <a:pt x="877" y="149"/>
                </a:cubicBezTo>
                <a:cubicBezTo>
                  <a:pt x="871" y="158"/>
                  <a:pt x="854" y="166"/>
                  <a:pt x="859" y="176"/>
                </a:cubicBezTo>
                <a:cubicBezTo>
                  <a:pt x="863" y="184"/>
                  <a:pt x="879" y="174"/>
                  <a:pt x="886" y="167"/>
                </a:cubicBezTo>
                <a:cubicBezTo>
                  <a:pt x="893" y="160"/>
                  <a:pt x="888" y="147"/>
                  <a:pt x="895" y="140"/>
                </a:cubicBezTo>
                <a:cubicBezTo>
                  <a:pt x="901" y="134"/>
                  <a:pt x="912" y="135"/>
                  <a:pt x="921" y="132"/>
                </a:cubicBezTo>
                <a:cubicBezTo>
                  <a:pt x="918" y="105"/>
                  <a:pt x="921" y="78"/>
                  <a:pt x="913" y="52"/>
                </a:cubicBezTo>
                <a:cubicBezTo>
                  <a:pt x="910" y="43"/>
                  <a:pt x="905" y="69"/>
                  <a:pt x="904" y="78"/>
                </a:cubicBezTo>
                <a:cubicBezTo>
                  <a:pt x="899" y="116"/>
                  <a:pt x="906" y="157"/>
                  <a:pt x="895" y="194"/>
                </a:cubicBezTo>
                <a:cubicBezTo>
                  <a:pt x="892" y="203"/>
                  <a:pt x="877" y="200"/>
                  <a:pt x="868" y="202"/>
                </a:cubicBezTo>
                <a:cubicBezTo>
                  <a:pt x="795" y="220"/>
                  <a:pt x="851" y="202"/>
                  <a:pt x="797" y="220"/>
                </a:cubicBezTo>
                <a:cubicBezTo>
                  <a:pt x="770" y="263"/>
                  <a:pt x="773" y="310"/>
                  <a:pt x="744" y="353"/>
                </a:cubicBezTo>
                <a:cubicBezTo>
                  <a:pt x="741" y="386"/>
                  <a:pt x="752" y="423"/>
                  <a:pt x="735" y="451"/>
                </a:cubicBezTo>
                <a:cubicBezTo>
                  <a:pt x="726" y="466"/>
                  <a:pt x="698" y="450"/>
                  <a:pt x="682" y="459"/>
                </a:cubicBezTo>
                <a:cubicBezTo>
                  <a:pt x="674" y="464"/>
                  <a:pt x="676" y="477"/>
                  <a:pt x="673" y="486"/>
                </a:cubicBezTo>
                <a:cubicBezTo>
                  <a:pt x="662" y="678"/>
                  <a:pt x="700" y="637"/>
                  <a:pt x="567" y="681"/>
                </a:cubicBezTo>
                <a:cubicBezTo>
                  <a:pt x="557" y="710"/>
                  <a:pt x="563" y="743"/>
                  <a:pt x="549" y="770"/>
                </a:cubicBezTo>
                <a:cubicBezTo>
                  <a:pt x="545" y="778"/>
                  <a:pt x="532" y="777"/>
                  <a:pt x="523" y="778"/>
                </a:cubicBezTo>
                <a:cubicBezTo>
                  <a:pt x="494" y="782"/>
                  <a:pt x="464" y="784"/>
                  <a:pt x="434" y="787"/>
                </a:cubicBezTo>
                <a:cubicBezTo>
                  <a:pt x="380" y="823"/>
                  <a:pt x="317" y="802"/>
                  <a:pt x="257" y="823"/>
                </a:cubicBezTo>
                <a:cubicBezTo>
                  <a:pt x="193" y="802"/>
                  <a:pt x="227" y="788"/>
                  <a:pt x="204" y="734"/>
                </a:cubicBezTo>
                <a:cubicBezTo>
                  <a:pt x="196" y="714"/>
                  <a:pt x="168" y="681"/>
                  <a:pt x="168" y="681"/>
                </a:cubicBezTo>
                <a:cubicBezTo>
                  <a:pt x="154" y="598"/>
                  <a:pt x="174" y="653"/>
                  <a:pt x="133" y="601"/>
                </a:cubicBezTo>
                <a:cubicBezTo>
                  <a:pt x="120" y="584"/>
                  <a:pt x="97" y="548"/>
                  <a:pt x="97" y="548"/>
                </a:cubicBezTo>
                <a:cubicBezTo>
                  <a:pt x="83" y="481"/>
                  <a:pt x="88" y="410"/>
                  <a:pt x="71" y="344"/>
                </a:cubicBezTo>
                <a:cubicBezTo>
                  <a:pt x="68" y="334"/>
                  <a:pt x="53" y="332"/>
                  <a:pt x="44" y="326"/>
                </a:cubicBezTo>
                <a:cubicBezTo>
                  <a:pt x="8" y="272"/>
                  <a:pt x="0" y="266"/>
                  <a:pt x="0" y="202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Freeform 5"/>
          <p:cNvSpPr/>
          <p:nvPr/>
        </p:nvSpPr>
        <p:spPr>
          <a:xfrm>
            <a:off x="690480" y="2011320"/>
            <a:ext cx="2799000" cy="1336680"/>
          </a:xfrm>
          <a:custGeom>
            <a:avLst/>
            <a:gdLst>
              <a:gd name="textAreaLeft" fmla="*/ 0 w 2799000"/>
              <a:gd name="textAreaRight" fmla="*/ 2799360 w 27990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1763" h="842">
                <a:moveTo>
                  <a:pt x="44" y="789"/>
                </a:moveTo>
                <a:cubicBezTo>
                  <a:pt x="193" y="803"/>
                  <a:pt x="102" y="785"/>
                  <a:pt x="185" y="842"/>
                </a:cubicBezTo>
                <a:cubicBezTo>
                  <a:pt x="306" y="818"/>
                  <a:pt x="202" y="818"/>
                  <a:pt x="398" y="807"/>
                </a:cubicBezTo>
                <a:cubicBezTo>
                  <a:pt x="408" y="477"/>
                  <a:pt x="374" y="398"/>
                  <a:pt x="425" y="550"/>
                </a:cubicBezTo>
                <a:cubicBezTo>
                  <a:pt x="432" y="570"/>
                  <a:pt x="466" y="562"/>
                  <a:pt x="487" y="567"/>
                </a:cubicBezTo>
                <a:cubicBezTo>
                  <a:pt x="502" y="618"/>
                  <a:pt x="483" y="574"/>
                  <a:pt x="522" y="612"/>
                </a:cubicBezTo>
                <a:cubicBezTo>
                  <a:pt x="530" y="619"/>
                  <a:pt x="532" y="631"/>
                  <a:pt x="540" y="638"/>
                </a:cubicBezTo>
                <a:cubicBezTo>
                  <a:pt x="573" y="664"/>
                  <a:pt x="622" y="652"/>
                  <a:pt x="664" y="656"/>
                </a:cubicBezTo>
                <a:cubicBezTo>
                  <a:pt x="707" y="686"/>
                  <a:pt x="679" y="693"/>
                  <a:pt x="726" y="709"/>
                </a:cubicBezTo>
                <a:cubicBezTo>
                  <a:pt x="763" y="701"/>
                  <a:pt x="797" y="704"/>
                  <a:pt x="814" y="665"/>
                </a:cubicBezTo>
                <a:cubicBezTo>
                  <a:pt x="822" y="648"/>
                  <a:pt x="816" y="622"/>
                  <a:pt x="832" y="612"/>
                </a:cubicBezTo>
                <a:cubicBezTo>
                  <a:pt x="877" y="582"/>
                  <a:pt x="898" y="583"/>
                  <a:pt x="956" y="576"/>
                </a:cubicBezTo>
                <a:cubicBezTo>
                  <a:pt x="962" y="567"/>
                  <a:pt x="966" y="556"/>
                  <a:pt x="974" y="550"/>
                </a:cubicBezTo>
                <a:cubicBezTo>
                  <a:pt x="1008" y="524"/>
                  <a:pt x="1025" y="560"/>
                  <a:pt x="1054" y="567"/>
                </a:cubicBezTo>
                <a:cubicBezTo>
                  <a:pt x="1080" y="573"/>
                  <a:pt x="1107" y="573"/>
                  <a:pt x="1133" y="576"/>
                </a:cubicBezTo>
                <a:cubicBezTo>
                  <a:pt x="1162" y="586"/>
                  <a:pt x="1183" y="616"/>
                  <a:pt x="1213" y="621"/>
                </a:cubicBezTo>
                <a:cubicBezTo>
                  <a:pt x="1279" y="633"/>
                  <a:pt x="1243" y="627"/>
                  <a:pt x="1320" y="638"/>
                </a:cubicBezTo>
                <a:cubicBezTo>
                  <a:pt x="1329" y="644"/>
                  <a:pt x="1340" y="648"/>
                  <a:pt x="1346" y="656"/>
                </a:cubicBezTo>
                <a:cubicBezTo>
                  <a:pt x="1379" y="698"/>
                  <a:pt x="1325" y="674"/>
                  <a:pt x="1382" y="691"/>
                </a:cubicBezTo>
                <a:cubicBezTo>
                  <a:pt x="1388" y="682"/>
                  <a:pt x="1397" y="675"/>
                  <a:pt x="1399" y="665"/>
                </a:cubicBezTo>
                <a:cubicBezTo>
                  <a:pt x="1420" y="579"/>
                  <a:pt x="1379" y="575"/>
                  <a:pt x="1435" y="594"/>
                </a:cubicBezTo>
                <a:cubicBezTo>
                  <a:pt x="1518" y="591"/>
                  <a:pt x="1600" y="590"/>
                  <a:pt x="1683" y="585"/>
                </a:cubicBezTo>
                <a:cubicBezTo>
                  <a:pt x="1704" y="584"/>
                  <a:pt x="1731" y="592"/>
                  <a:pt x="1745" y="576"/>
                </a:cubicBezTo>
                <a:cubicBezTo>
                  <a:pt x="1763" y="555"/>
                  <a:pt x="1729" y="512"/>
                  <a:pt x="1718" y="496"/>
                </a:cubicBezTo>
                <a:cubicBezTo>
                  <a:pt x="1708" y="449"/>
                  <a:pt x="1705" y="434"/>
                  <a:pt x="1665" y="408"/>
                </a:cubicBezTo>
                <a:cubicBezTo>
                  <a:pt x="1649" y="359"/>
                  <a:pt x="1651" y="397"/>
                  <a:pt x="1683" y="372"/>
                </a:cubicBezTo>
                <a:cubicBezTo>
                  <a:pt x="1691" y="366"/>
                  <a:pt x="1695" y="355"/>
                  <a:pt x="1701" y="346"/>
                </a:cubicBezTo>
                <a:cubicBezTo>
                  <a:pt x="1698" y="316"/>
                  <a:pt x="1701" y="285"/>
                  <a:pt x="1692" y="257"/>
                </a:cubicBezTo>
                <a:cubicBezTo>
                  <a:pt x="1685" y="236"/>
                  <a:pt x="1634" y="205"/>
                  <a:pt x="1612" y="204"/>
                </a:cubicBezTo>
                <a:cubicBezTo>
                  <a:pt x="1532" y="199"/>
                  <a:pt x="1453" y="198"/>
                  <a:pt x="1373" y="195"/>
                </a:cubicBezTo>
                <a:cubicBezTo>
                  <a:pt x="1344" y="185"/>
                  <a:pt x="1322" y="170"/>
                  <a:pt x="1293" y="160"/>
                </a:cubicBezTo>
                <a:cubicBezTo>
                  <a:pt x="1278" y="163"/>
                  <a:pt x="1258" y="157"/>
                  <a:pt x="1249" y="169"/>
                </a:cubicBezTo>
                <a:cubicBezTo>
                  <a:pt x="1184" y="257"/>
                  <a:pt x="1285" y="218"/>
                  <a:pt x="1213" y="239"/>
                </a:cubicBezTo>
                <a:cubicBezTo>
                  <a:pt x="1004" y="224"/>
                  <a:pt x="1162" y="255"/>
                  <a:pt x="1063" y="186"/>
                </a:cubicBezTo>
                <a:cubicBezTo>
                  <a:pt x="1029" y="136"/>
                  <a:pt x="995" y="149"/>
                  <a:pt x="930" y="142"/>
                </a:cubicBezTo>
                <a:cubicBezTo>
                  <a:pt x="951" y="78"/>
                  <a:pt x="967" y="27"/>
                  <a:pt x="885" y="0"/>
                </a:cubicBezTo>
                <a:cubicBezTo>
                  <a:pt x="737" y="50"/>
                  <a:pt x="851" y="17"/>
                  <a:pt x="531" y="27"/>
                </a:cubicBezTo>
                <a:cubicBezTo>
                  <a:pt x="517" y="31"/>
                  <a:pt x="484" y="38"/>
                  <a:pt x="469" y="45"/>
                </a:cubicBezTo>
                <a:cubicBezTo>
                  <a:pt x="445" y="57"/>
                  <a:pt x="442" y="67"/>
                  <a:pt x="416" y="71"/>
                </a:cubicBezTo>
                <a:cubicBezTo>
                  <a:pt x="381" y="76"/>
                  <a:pt x="345" y="77"/>
                  <a:pt x="309" y="80"/>
                </a:cubicBezTo>
                <a:cubicBezTo>
                  <a:pt x="250" y="100"/>
                  <a:pt x="272" y="128"/>
                  <a:pt x="256" y="186"/>
                </a:cubicBezTo>
                <a:cubicBezTo>
                  <a:pt x="248" y="216"/>
                  <a:pt x="185" y="248"/>
                  <a:pt x="185" y="248"/>
                </a:cubicBezTo>
                <a:cubicBezTo>
                  <a:pt x="169" y="295"/>
                  <a:pt x="181" y="267"/>
                  <a:pt x="141" y="328"/>
                </a:cubicBezTo>
                <a:cubicBezTo>
                  <a:pt x="131" y="344"/>
                  <a:pt x="142" y="379"/>
                  <a:pt x="123" y="381"/>
                </a:cubicBezTo>
                <a:cubicBezTo>
                  <a:pt x="99" y="384"/>
                  <a:pt x="76" y="387"/>
                  <a:pt x="52" y="390"/>
                </a:cubicBezTo>
                <a:cubicBezTo>
                  <a:pt x="26" y="478"/>
                  <a:pt x="65" y="337"/>
                  <a:pt x="35" y="567"/>
                </a:cubicBezTo>
                <a:cubicBezTo>
                  <a:pt x="33" y="586"/>
                  <a:pt x="23" y="603"/>
                  <a:pt x="17" y="621"/>
                </a:cubicBezTo>
                <a:cubicBezTo>
                  <a:pt x="14" y="630"/>
                  <a:pt x="8" y="647"/>
                  <a:pt x="8" y="647"/>
                </a:cubicBezTo>
                <a:cubicBezTo>
                  <a:pt x="11" y="656"/>
                  <a:pt x="11" y="667"/>
                  <a:pt x="17" y="674"/>
                </a:cubicBezTo>
                <a:cubicBezTo>
                  <a:pt x="42" y="704"/>
                  <a:pt x="64" y="677"/>
                  <a:pt x="17" y="709"/>
                </a:cubicBezTo>
                <a:cubicBezTo>
                  <a:pt x="10" y="730"/>
                  <a:pt x="0" y="741"/>
                  <a:pt x="17" y="762"/>
                </a:cubicBezTo>
                <a:cubicBezTo>
                  <a:pt x="46" y="798"/>
                  <a:pt x="44" y="765"/>
                  <a:pt x="44" y="789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Freeform 6"/>
          <p:cNvSpPr/>
          <p:nvPr/>
        </p:nvSpPr>
        <p:spPr>
          <a:xfrm>
            <a:off x="684360" y="2781360"/>
            <a:ext cx="1800000" cy="115236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1081" h="687">
                <a:moveTo>
                  <a:pt x="1060" y="64"/>
                </a:moveTo>
                <a:cubicBezTo>
                  <a:pt x="1075" y="125"/>
                  <a:pt x="1081" y="169"/>
                  <a:pt x="1060" y="233"/>
                </a:cubicBezTo>
                <a:cubicBezTo>
                  <a:pt x="1050" y="319"/>
                  <a:pt x="1047" y="292"/>
                  <a:pt x="1025" y="357"/>
                </a:cubicBezTo>
                <a:cubicBezTo>
                  <a:pt x="1028" y="366"/>
                  <a:pt x="1028" y="376"/>
                  <a:pt x="1034" y="383"/>
                </a:cubicBezTo>
                <a:cubicBezTo>
                  <a:pt x="1041" y="391"/>
                  <a:pt x="1065" y="392"/>
                  <a:pt x="1060" y="401"/>
                </a:cubicBezTo>
                <a:cubicBezTo>
                  <a:pt x="1050" y="420"/>
                  <a:pt x="1007" y="436"/>
                  <a:pt x="1007" y="436"/>
                </a:cubicBezTo>
                <a:cubicBezTo>
                  <a:pt x="1004" y="454"/>
                  <a:pt x="1006" y="474"/>
                  <a:pt x="998" y="490"/>
                </a:cubicBezTo>
                <a:cubicBezTo>
                  <a:pt x="993" y="499"/>
                  <a:pt x="979" y="500"/>
                  <a:pt x="972" y="507"/>
                </a:cubicBezTo>
                <a:cubicBezTo>
                  <a:pt x="964" y="515"/>
                  <a:pt x="959" y="524"/>
                  <a:pt x="954" y="534"/>
                </a:cubicBezTo>
                <a:cubicBezTo>
                  <a:pt x="944" y="553"/>
                  <a:pt x="953" y="583"/>
                  <a:pt x="936" y="596"/>
                </a:cubicBezTo>
                <a:cubicBezTo>
                  <a:pt x="921" y="607"/>
                  <a:pt x="901" y="602"/>
                  <a:pt x="883" y="605"/>
                </a:cubicBezTo>
                <a:cubicBezTo>
                  <a:pt x="838" y="634"/>
                  <a:pt x="870" y="642"/>
                  <a:pt x="821" y="658"/>
                </a:cubicBezTo>
                <a:cubicBezTo>
                  <a:pt x="779" y="687"/>
                  <a:pt x="764" y="677"/>
                  <a:pt x="724" y="649"/>
                </a:cubicBezTo>
                <a:cubicBezTo>
                  <a:pt x="699" y="612"/>
                  <a:pt x="693" y="619"/>
                  <a:pt x="653" y="605"/>
                </a:cubicBezTo>
                <a:cubicBezTo>
                  <a:pt x="618" y="617"/>
                  <a:pt x="582" y="622"/>
                  <a:pt x="546" y="631"/>
                </a:cubicBezTo>
                <a:cubicBezTo>
                  <a:pt x="475" y="680"/>
                  <a:pt x="430" y="661"/>
                  <a:pt x="325" y="667"/>
                </a:cubicBezTo>
                <a:cubicBezTo>
                  <a:pt x="316" y="670"/>
                  <a:pt x="307" y="679"/>
                  <a:pt x="298" y="676"/>
                </a:cubicBezTo>
                <a:cubicBezTo>
                  <a:pt x="267" y="666"/>
                  <a:pt x="222" y="624"/>
                  <a:pt x="192" y="605"/>
                </a:cubicBezTo>
                <a:cubicBezTo>
                  <a:pt x="183" y="599"/>
                  <a:pt x="174" y="593"/>
                  <a:pt x="165" y="587"/>
                </a:cubicBezTo>
                <a:cubicBezTo>
                  <a:pt x="156" y="581"/>
                  <a:pt x="139" y="569"/>
                  <a:pt x="139" y="569"/>
                </a:cubicBezTo>
                <a:cubicBezTo>
                  <a:pt x="101" y="513"/>
                  <a:pt x="83" y="457"/>
                  <a:pt x="24" y="419"/>
                </a:cubicBezTo>
                <a:cubicBezTo>
                  <a:pt x="3" y="356"/>
                  <a:pt x="0" y="383"/>
                  <a:pt x="15" y="339"/>
                </a:cubicBezTo>
                <a:cubicBezTo>
                  <a:pt x="18" y="321"/>
                  <a:pt x="7" y="293"/>
                  <a:pt x="24" y="286"/>
                </a:cubicBezTo>
                <a:cubicBezTo>
                  <a:pt x="54" y="273"/>
                  <a:pt x="112" y="292"/>
                  <a:pt x="148" y="303"/>
                </a:cubicBezTo>
                <a:cubicBezTo>
                  <a:pt x="154" y="312"/>
                  <a:pt x="155" y="327"/>
                  <a:pt x="165" y="330"/>
                </a:cubicBezTo>
                <a:cubicBezTo>
                  <a:pt x="198" y="338"/>
                  <a:pt x="248" y="307"/>
                  <a:pt x="281" y="303"/>
                </a:cubicBezTo>
                <a:cubicBezTo>
                  <a:pt x="313" y="299"/>
                  <a:pt x="346" y="298"/>
                  <a:pt x="378" y="295"/>
                </a:cubicBezTo>
                <a:cubicBezTo>
                  <a:pt x="381" y="286"/>
                  <a:pt x="386" y="277"/>
                  <a:pt x="387" y="268"/>
                </a:cubicBezTo>
                <a:cubicBezTo>
                  <a:pt x="392" y="185"/>
                  <a:pt x="373" y="99"/>
                  <a:pt x="396" y="20"/>
                </a:cubicBezTo>
                <a:cubicBezTo>
                  <a:pt x="402" y="0"/>
                  <a:pt x="429" y="48"/>
                  <a:pt x="449" y="55"/>
                </a:cubicBezTo>
                <a:cubicBezTo>
                  <a:pt x="458" y="58"/>
                  <a:pt x="467" y="61"/>
                  <a:pt x="476" y="64"/>
                </a:cubicBezTo>
                <a:cubicBezTo>
                  <a:pt x="487" y="101"/>
                  <a:pt x="502" y="106"/>
                  <a:pt x="538" y="117"/>
                </a:cubicBezTo>
                <a:cubicBezTo>
                  <a:pt x="596" y="157"/>
                  <a:pt x="524" y="113"/>
                  <a:pt x="626" y="144"/>
                </a:cubicBezTo>
                <a:cubicBezTo>
                  <a:pt x="636" y="147"/>
                  <a:pt x="643" y="157"/>
                  <a:pt x="653" y="162"/>
                </a:cubicBezTo>
                <a:cubicBezTo>
                  <a:pt x="678" y="175"/>
                  <a:pt x="706" y="188"/>
                  <a:pt x="733" y="197"/>
                </a:cubicBezTo>
                <a:cubicBezTo>
                  <a:pt x="748" y="194"/>
                  <a:pt x="765" y="198"/>
                  <a:pt x="777" y="188"/>
                </a:cubicBezTo>
                <a:cubicBezTo>
                  <a:pt x="786" y="180"/>
                  <a:pt x="779" y="162"/>
                  <a:pt x="786" y="153"/>
                </a:cubicBezTo>
                <a:cubicBezTo>
                  <a:pt x="792" y="146"/>
                  <a:pt x="803" y="147"/>
                  <a:pt x="812" y="144"/>
                </a:cubicBezTo>
                <a:cubicBezTo>
                  <a:pt x="832" y="84"/>
                  <a:pt x="804" y="143"/>
                  <a:pt x="848" y="109"/>
                </a:cubicBezTo>
                <a:cubicBezTo>
                  <a:pt x="857" y="102"/>
                  <a:pt x="857" y="88"/>
                  <a:pt x="866" y="82"/>
                </a:cubicBezTo>
                <a:cubicBezTo>
                  <a:pt x="882" y="72"/>
                  <a:pt x="901" y="70"/>
                  <a:pt x="919" y="64"/>
                </a:cubicBezTo>
                <a:cubicBezTo>
                  <a:pt x="928" y="61"/>
                  <a:pt x="945" y="55"/>
                  <a:pt x="945" y="55"/>
                </a:cubicBezTo>
                <a:cubicBezTo>
                  <a:pt x="951" y="46"/>
                  <a:pt x="953" y="32"/>
                  <a:pt x="963" y="29"/>
                </a:cubicBezTo>
                <a:cubicBezTo>
                  <a:pt x="985" y="23"/>
                  <a:pt x="1038" y="47"/>
                  <a:pt x="1060" y="55"/>
                </a:cubicBezTo>
                <a:cubicBezTo>
                  <a:pt x="1050" y="88"/>
                  <a:pt x="1048" y="91"/>
                  <a:pt x="1060" y="64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2011320" y="2897280"/>
            <a:ext cx="1219320" cy="22143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768" h="1395">
                <a:moveTo>
                  <a:pt x="124" y="1374"/>
                </a:moveTo>
                <a:cubicBezTo>
                  <a:pt x="235" y="1352"/>
                  <a:pt x="200" y="1355"/>
                  <a:pt x="399" y="1374"/>
                </a:cubicBezTo>
                <a:cubicBezTo>
                  <a:pt x="418" y="1376"/>
                  <a:pt x="452" y="1392"/>
                  <a:pt x="452" y="1392"/>
                </a:cubicBezTo>
                <a:cubicBezTo>
                  <a:pt x="464" y="1389"/>
                  <a:pt x="486" y="1395"/>
                  <a:pt x="488" y="1383"/>
                </a:cubicBezTo>
                <a:cubicBezTo>
                  <a:pt x="496" y="1333"/>
                  <a:pt x="479" y="1282"/>
                  <a:pt x="479" y="1232"/>
                </a:cubicBezTo>
                <a:cubicBezTo>
                  <a:pt x="479" y="1223"/>
                  <a:pt x="480" y="1211"/>
                  <a:pt x="488" y="1206"/>
                </a:cubicBezTo>
                <a:cubicBezTo>
                  <a:pt x="504" y="1197"/>
                  <a:pt x="523" y="1200"/>
                  <a:pt x="541" y="1197"/>
                </a:cubicBezTo>
                <a:cubicBezTo>
                  <a:pt x="544" y="1185"/>
                  <a:pt x="538" y="1165"/>
                  <a:pt x="550" y="1161"/>
                </a:cubicBezTo>
                <a:cubicBezTo>
                  <a:pt x="610" y="1143"/>
                  <a:pt x="665" y="1192"/>
                  <a:pt x="718" y="1206"/>
                </a:cubicBezTo>
                <a:cubicBezTo>
                  <a:pt x="732" y="1164"/>
                  <a:pt x="714" y="1166"/>
                  <a:pt x="700" y="1126"/>
                </a:cubicBezTo>
                <a:cubicBezTo>
                  <a:pt x="710" y="1054"/>
                  <a:pt x="716" y="1068"/>
                  <a:pt x="736" y="1011"/>
                </a:cubicBezTo>
                <a:cubicBezTo>
                  <a:pt x="733" y="996"/>
                  <a:pt x="733" y="980"/>
                  <a:pt x="727" y="966"/>
                </a:cubicBezTo>
                <a:cubicBezTo>
                  <a:pt x="718" y="947"/>
                  <a:pt x="691" y="913"/>
                  <a:pt x="691" y="913"/>
                </a:cubicBezTo>
                <a:cubicBezTo>
                  <a:pt x="697" y="895"/>
                  <a:pt x="707" y="879"/>
                  <a:pt x="709" y="860"/>
                </a:cubicBezTo>
                <a:cubicBezTo>
                  <a:pt x="712" y="828"/>
                  <a:pt x="708" y="794"/>
                  <a:pt x="718" y="763"/>
                </a:cubicBezTo>
                <a:cubicBezTo>
                  <a:pt x="721" y="753"/>
                  <a:pt x="736" y="751"/>
                  <a:pt x="745" y="745"/>
                </a:cubicBezTo>
                <a:cubicBezTo>
                  <a:pt x="761" y="691"/>
                  <a:pt x="768" y="654"/>
                  <a:pt x="718" y="621"/>
                </a:cubicBezTo>
                <a:cubicBezTo>
                  <a:pt x="685" y="572"/>
                  <a:pt x="718" y="610"/>
                  <a:pt x="674" y="585"/>
                </a:cubicBezTo>
                <a:cubicBezTo>
                  <a:pt x="656" y="575"/>
                  <a:pt x="621" y="550"/>
                  <a:pt x="621" y="550"/>
                </a:cubicBezTo>
                <a:cubicBezTo>
                  <a:pt x="573" y="477"/>
                  <a:pt x="636" y="565"/>
                  <a:pt x="576" y="506"/>
                </a:cubicBezTo>
                <a:cubicBezTo>
                  <a:pt x="534" y="465"/>
                  <a:pt x="584" y="488"/>
                  <a:pt x="532" y="470"/>
                </a:cubicBezTo>
                <a:cubicBezTo>
                  <a:pt x="514" y="417"/>
                  <a:pt x="487" y="387"/>
                  <a:pt x="470" y="337"/>
                </a:cubicBezTo>
                <a:cubicBezTo>
                  <a:pt x="486" y="292"/>
                  <a:pt x="475" y="316"/>
                  <a:pt x="514" y="257"/>
                </a:cubicBezTo>
                <a:cubicBezTo>
                  <a:pt x="520" y="248"/>
                  <a:pt x="532" y="231"/>
                  <a:pt x="532" y="231"/>
                </a:cubicBezTo>
                <a:cubicBezTo>
                  <a:pt x="547" y="185"/>
                  <a:pt x="563" y="142"/>
                  <a:pt x="505" y="125"/>
                </a:cubicBezTo>
                <a:cubicBezTo>
                  <a:pt x="459" y="94"/>
                  <a:pt x="418" y="75"/>
                  <a:pt x="372" y="45"/>
                </a:cubicBezTo>
                <a:cubicBezTo>
                  <a:pt x="338" y="23"/>
                  <a:pt x="295" y="25"/>
                  <a:pt x="257" y="0"/>
                </a:cubicBezTo>
                <a:cubicBezTo>
                  <a:pt x="248" y="3"/>
                  <a:pt x="235" y="1"/>
                  <a:pt x="231" y="9"/>
                </a:cubicBezTo>
                <a:cubicBezTo>
                  <a:pt x="227" y="17"/>
                  <a:pt x="239" y="27"/>
                  <a:pt x="239" y="36"/>
                </a:cubicBezTo>
                <a:cubicBezTo>
                  <a:pt x="239" y="247"/>
                  <a:pt x="294" y="219"/>
                  <a:pt x="204" y="249"/>
                </a:cubicBezTo>
                <a:cubicBezTo>
                  <a:pt x="198" y="258"/>
                  <a:pt x="186" y="264"/>
                  <a:pt x="186" y="275"/>
                </a:cubicBezTo>
                <a:cubicBezTo>
                  <a:pt x="186" y="294"/>
                  <a:pt x="204" y="328"/>
                  <a:pt x="204" y="328"/>
                </a:cubicBezTo>
                <a:cubicBezTo>
                  <a:pt x="201" y="355"/>
                  <a:pt x="205" y="383"/>
                  <a:pt x="195" y="408"/>
                </a:cubicBezTo>
                <a:cubicBezTo>
                  <a:pt x="192" y="417"/>
                  <a:pt x="175" y="410"/>
                  <a:pt x="169" y="417"/>
                </a:cubicBezTo>
                <a:cubicBezTo>
                  <a:pt x="154" y="432"/>
                  <a:pt x="166" y="464"/>
                  <a:pt x="151" y="479"/>
                </a:cubicBezTo>
                <a:cubicBezTo>
                  <a:pt x="142" y="488"/>
                  <a:pt x="127" y="485"/>
                  <a:pt x="115" y="488"/>
                </a:cubicBezTo>
                <a:cubicBezTo>
                  <a:pt x="112" y="506"/>
                  <a:pt x="120" y="528"/>
                  <a:pt x="107" y="541"/>
                </a:cubicBezTo>
                <a:cubicBezTo>
                  <a:pt x="94" y="554"/>
                  <a:pt x="69" y="542"/>
                  <a:pt x="53" y="550"/>
                </a:cubicBezTo>
                <a:cubicBezTo>
                  <a:pt x="44" y="555"/>
                  <a:pt x="42" y="567"/>
                  <a:pt x="36" y="576"/>
                </a:cubicBezTo>
                <a:cubicBezTo>
                  <a:pt x="33" y="588"/>
                  <a:pt x="35" y="602"/>
                  <a:pt x="27" y="612"/>
                </a:cubicBezTo>
                <a:cubicBezTo>
                  <a:pt x="21" y="619"/>
                  <a:pt x="0" y="612"/>
                  <a:pt x="0" y="621"/>
                </a:cubicBezTo>
                <a:cubicBezTo>
                  <a:pt x="0" y="637"/>
                  <a:pt x="57" y="646"/>
                  <a:pt x="62" y="647"/>
                </a:cubicBezTo>
                <a:cubicBezTo>
                  <a:pt x="59" y="683"/>
                  <a:pt x="60" y="719"/>
                  <a:pt x="53" y="754"/>
                </a:cubicBezTo>
                <a:cubicBezTo>
                  <a:pt x="51" y="764"/>
                  <a:pt x="38" y="770"/>
                  <a:pt x="36" y="780"/>
                </a:cubicBezTo>
                <a:cubicBezTo>
                  <a:pt x="35" y="789"/>
                  <a:pt x="43" y="798"/>
                  <a:pt x="45" y="807"/>
                </a:cubicBezTo>
                <a:cubicBezTo>
                  <a:pt x="67" y="891"/>
                  <a:pt x="37" y="872"/>
                  <a:pt x="98" y="887"/>
                </a:cubicBezTo>
                <a:cubicBezTo>
                  <a:pt x="110" y="921"/>
                  <a:pt x="102" y="960"/>
                  <a:pt x="115" y="993"/>
                </a:cubicBezTo>
                <a:cubicBezTo>
                  <a:pt x="118" y="1002"/>
                  <a:pt x="142" y="993"/>
                  <a:pt x="142" y="1002"/>
                </a:cubicBezTo>
                <a:cubicBezTo>
                  <a:pt x="145" y="1126"/>
                  <a:pt x="130" y="1250"/>
                  <a:pt x="124" y="1374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5076720" y="2276640"/>
            <a:ext cx="625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5076720" y="2997360"/>
            <a:ext cx="625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5076720" y="3716280"/>
            <a:ext cx="625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5076720" y="4365720"/>
            <a:ext cx="625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5076720" y="5084640"/>
            <a:ext cx="625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608472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5997960" y="2190600"/>
            <a:ext cx="20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Юж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965200" y="292572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сточ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6022440" y="364644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евер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6134760" y="4351320"/>
            <a:ext cx="23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пад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6112800" y="4998960"/>
            <a:ext cx="28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ентраль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Freeform 19"/>
          <p:cNvSpPr/>
          <p:nvPr/>
        </p:nvSpPr>
        <p:spPr>
          <a:xfrm>
            <a:off x="3886200" y="4740120"/>
            <a:ext cx="390600" cy="849600"/>
          </a:xfrm>
          <a:custGeom>
            <a:avLst/>
            <a:gdLst>
              <a:gd name="textAreaLeft" fmla="*/ 0 w 390600"/>
              <a:gd name="textAreaRight" fmla="*/ 390960 w 390600"/>
              <a:gd name="textAreaTop" fmla="*/ 0 h 849600"/>
              <a:gd name="textAreaBottom" fmla="*/ 849960 h 849600"/>
            </a:gdLst>
            <a:ahLst/>
            <a:rect l="textAreaLeft" t="textAreaTop" r="textAreaRight" b="textAreaBottom"/>
            <a:pathLst>
              <a:path w="246" h="473">
                <a:moveTo>
                  <a:pt x="60" y="124"/>
                </a:moveTo>
                <a:cubicBezTo>
                  <a:pt x="103" y="139"/>
                  <a:pt x="73" y="138"/>
                  <a:pt x="104" y="107"/>
                </a:cubicBezTo>
                <a:cubicBezTo>
                  <a:pt x="112" y="99"/>
                  <a:pt x="122" y="95"/>
                  <a:pt x="131" y="89"/>
                </a:cubicBezTo>
                <a:cubicBezTo>
                  <a:pt x="146" y="44"/>
                  <a:pt x="146" y="16"/>
                  <a:pt x="193" y="0"/>
                </a:cubicBezTo>
                <a:cubicBezTo>
                  <a:pt x="235" y="29"/>
                  <a:pt x="212" y="4"/>
                  <a:pt x="228" y="62"/>
                </a:cubicBezTo>
                <a:cubicBezTo>
                  <a:pt x="233" y="80"/>
                  <a:pt x="246" y="116"/>
                  <a:pt x="246" y="116"/>
                </a:cubicBezTo>
                <a:cubicBezTo>
                  <a:pt x="215" y="161"/>
                  <a:pt x="214" y="214"/>
                  <a:pt x="184" y="257"/>
                </a:cubicBezTo>
                <a:cubicBezTo>
                  <a:pt x="176" y="280"/>
                  <a:pt x="176" y="306"/>
                  <a:pt x="166" y="328"/>
                </a:cubicBezTo>
                <a:cubicBezTo>
                  <a:pt x="157" y="347"/>
                  <a:pt x="131" y="381"/>
                  <a:pt x="131" y="381"/>
                </a:cubicBezTo>
                <a:cubicBezTo>
                  <a:pt x="116" y="473"/>
                  <a:pt x="111" y="454"/>
                  <a:pt x="16" y="443"/>
                </a:cubicBezTo>
                <a:cubicBezTo>
                  <a:pt x="0" y="398"/>
                  <a:pt x="14" y="187"/>
                  <a:pt x="24" y="142"/>
                </a:cubicBezTo>
                <a:cubicBezTo>
                  <a:pt x="27" y="129"/>
                  <a:pt x="51" y="133"/>
                  <a:pt x="60" y="124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24"/>
          <p:cNvSpPr/>
          <p:nvPr/>
        </p:nvSpPr>
        <p:spPr>
          <a:xfrm>
            <a:off x="1904400" y="2219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25"/>
          <p:cNvSpPr/>
          <p:nvPr/>
        </p:nvSpPr>
        <p:spPr>
          <a:xfrm>
            <a:off x="147276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2409480" y="39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2768040" y="5316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3633480" y="3516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9900"/>
                </a:solidFill>
                <a:latin typeface="Comic Sans MS"/>
              </a:rPr>
              <a:t>Цели урока: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смотреть территориальное деление Африки на субрегио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крыть образ и самобытность регионов Афр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крыть причины особенностей современного этапа экономического развития африканских регион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яснить причины особенного положения ЮАР в экономике Афр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  </a:t>
            </a: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4. Установите соответствие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ефт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ед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олот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Железная руд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. Конг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. Либер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. Алжи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Г. ЮА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675640" cy="16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Comic Sans MS"/>
              </a:rPr>
              <a:t>5.В каком варианте правильно перечислены страны принимающие наибольшее количество туристов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фиопия, Судан, Коморские о–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гипет, Тунис, К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ана, Нигер, Танз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ЮАР, Намибия, Конг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Comic Sans MS"/>
              </a:rPr>
              <a:t>6. Какая из перечисленных стран не является монархией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05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арокко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Лесото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вазиленд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Ливия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5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Comic Sans MS"/>
              </a:rPr>
              <a:t>7.В состав какого региона Африки входят страны: Конго, Габон, Чад, Ангола, Камерун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835280" y="242100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Южная Африк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еверная Африк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падная Африк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Центральная Африк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Comic Sans MS"/>
              </a:rPr>
              <a:t>8. Почему ЮАР называют страной с двойной экономикой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й присущи черты экономически развитых и развивающихся стра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кономика побережья отличается от экономики глубинных район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ане присущи развитая промышленность и отсталое сельское хозяйств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Comic Sans MS"/>
              </a:rPr>
              <a:t>9. На долю ЮАР приходится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8229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7% населения, 2/3 ВВП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5% населения, ½ ВВП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25% населения, ¾ ВВП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Comic Sans MS"/>
              </a:rPr>
              <a:t>10. «Трагедией Сахеля» являются периодически повторяющиеся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сух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аводн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мороз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емлетрясения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Выдели правильный ответ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мая крупная по населению страна Африки… Египет, Эфиопия, Нигерия, ЮА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ажнейшими видами полезных ископаемых Северной Африки являются… уголь, железная руда, бокситы, нефть, природный газ, фосфори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 числу наименее развитых стран Африки относятся… Алжир, Эфиопия, Чад, Нигер, ЮА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лавными экспортными с/х культурами Африки являются… пшеница, рис, хлопчатник, цитрусовые, кукуруза, кофе, овощи, какао, каучук, сизал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2268360" y="3716280"/>
            <a:ext cx="324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3708360" y="2276640"/>
            <a:ext cx="1079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3851280" y="4869000"/>
            <a:ext cx="295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2340000" y="6308640"/>
            <a:ext cx="719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4356000" y="6308640"/>
            <a:ext cx="792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920" y="277920"/>
            <a:ext cx="70581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Установи соответствие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игер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ЮА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лжи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адагаска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Лесот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мб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дный поя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тровное госуда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нарх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жим апартеи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пасы неф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 место по численности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2556000" y="1915920"/>
            <a:ext cx="2232000" cy="3313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2916360" y="1989000"/>
            <a:ext cx="1871640" cy="2880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1908000" y="2492280"/>
            <a:ext cx="2951280" cy="1368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10"/>
          <p:cNvSpPr/>
          <p:nvPr/>
        </p:nvSpPr>
        <p:spPr>
          <a:xfrm flipV="1">
            <a:off x="3564000" y="2421000"/>
            <a:ext cx="1224000" cy="1512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 flipV="1">
            <a:off x="2556000" y="3357360"/>
            <a:ext cx="2232000" cy="1223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411280" y="3284640"/>
            <a:ext cx="2448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Выберите правильный ответ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ольшинство стран Африки добилось независимости во второй половин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фрика – регион самой высокой рождаемости и самой высокой смертности в ми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стран Африки характерны высокие темпы урбаниз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лавная отрасль специализации Нигерии – лесное хозяй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468360" y="1628640"/>
            <a:ext cx="409680" cy="405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468360" y="2565360"/>
            <a:ext cx="409680" cy="405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468360" y="4005360"/>
            <a:ext cx="409680" cy="404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Определите где находятся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Медный пояс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упнейшее по площади государ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нутриконтинентальное государ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осударство наиболее посещаемое турист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осударство наиболее богатое минеральными ресурс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10" descr="AFRICA"/>
          <p:cNvPicPr/>
          <p:nvPr/>
        </p:nvPicPr>
        <p:blipFill>
          <a:blip r:embed="rId1"/>
          <a:stretch/>
        </p:blipFill>
        <p:spPr>
          <a:xfrm>
            <a:off x="439560" y="1628640"/>
            <a:ext cx="4016520" cy="4537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6600"/>
            </a:outerShdw>
          </a:effectLst>
        </p:spPr>
      </p:pic>
      <p:sp>
        <p:nvSpPr>
          <p:cNvPr id="119" name="Oval 11"/>
          <p:cNvSpPr/>
          <p:nvPr/>
        </p:nvSpPr>
        <p:spPr>
          <a:xfrm>
            <a:off x="2916360" y="4508640"/>
            <a:ext cx="338040" cy="36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Oval 13"/>
          <p:cNvSpPr/>
          <p:nvPr/>
        </p:nvSpPr>
        <p:spPr>
          <a:xfrm>
            <a:off x="2700360" y="5661000"/>
            <a:ext cx="338040" cy="36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Oval 14"/>
          <p:cNvSpPr/>
          <p:nvPr/>
        </p:nvSpPr>
        <p:spPr>
          <a:xfrm>
            <a:off x="1979640" y="2708280"/>
            <a:ext cx="338040" cy="36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 15"/>
          <p:cNvSpPr/>
          <p:nvPr/>
        </p:nvSpPr>
        <p:spPr>
          <a:xfrm>
            <a:off x="2987640" y="2997360"/>
            <a:ext cx="338040" cy="36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16"/>
          <p:cNvSpPr/>
          <p:nvPr/>
        </p:nvSpPr>
        <p:spPr>
          <a:xfrm>
            <a:off x="3059280" y="2205000"/>
            <a:ext cx="338040" cy="36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      </a:t>
            </a: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Субрегионы Африки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747720" y="1916280"/>
            <a:ext cx="2168640" cy="230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987640" y="1916280"/>
            <a:ext cx="2090880" cy="2304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2987640" y="4149720"/>
            <a:ext cx="2094120" cy="2303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755640" y="4149720"/>
            <a:ext cx="2144880" cy="2305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594036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5148360" y="1773360"/>
            <a:ext cx="39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кономическое районирование Африки ещё не сложилос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кончатель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6443640" y="3860640"/>
            <a:ext cx="2016000" cy="897120"/>
          </a:xfrm>
          <a:prstGeom prst="wedgeEllipseCallout">
            <a:avLst>
              <a:gd name="adj1" fmla="val -53384"/>
              <a:gd name="adj2" fmla="val 60263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613200" y="407664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13" descr="PEOPL063"/>
          <p:cNvPicPr/>
          <p:nvPr/>
        </p:nvPicPr>
        <p:blipFill>
          <a:blip r:embed="rId5"/>
          <a:stretch/>
        </p:blipFill>
        <p:spPr>
          <a:xfrm>
            <a:off x="5435640" y="4941720"/>
            <a:ext cx="10112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Субрегионы Африки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5" name="Picture 6" descr="AFRICA"/>
          <p:cNvPicPr/>
          <p:nvPr/>
        </p:nvPicPr>
        <p:blipFill>
          <a:blip r:embed="rId1"/>
          <a:stretch/>
        </p:blipFill>
        <p:spPr>
          <a:xfrm>
            <a:off x="684360" y="1989000"/>
            <a:ext cx="3609720" cy="4078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6600"/>
            </a:outerShdw>
          </a:effectLst>
        </p:spPr>
      </p:pic>
      <p:sp>
        <p:nvSpPr>
          <p:cNvPr id="136" name="Freeform 9"/>
          <p:cNvSpPr/>
          <p:nvPr/>
        </p:nvSpPr>
        <p:spPr>
          <a:xfrm>
            <a:off x="2195640" y="4653000"/>
            <a:ext cx="1655640" cy="144000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938" h="823">
                <a:moveTo>
                  <a:pt x="0" y="202"/>
                </a:moveTo>
                <a:cubicBezTo>
                  <a:pt x="79" y="205"/>
                  <a:pt x="236" y="159"/>
                  <a:pt x="292" y="247"/>
                </a:cubicBezTo>
                <a:cubicBezTo>
                  <a:pt x="328" y="238"/>
                  <a:pt x="353" y="215"/>
                  <a:pt x="390" y="211"/>
                </a:cubicBezTo>
                <a:cubicBezTo>
                  <a:pt x="434" y="206"/>
                  <a:pt x="479" y="205"/>
                  <a:pt x="523" y="202"/>
                </a:cubicBezTo>
                <a:cubicBezTo>
                  <a:pt x="545" y="95"/>
                  <a:pt x="511" y="186"/>
                  <a:pt x="558" y="167"/>
                </a:cubicBezTo>
                <a:cubicBezTo>
                  <a:pt x="568" y="163"/>
                  <a:pt x="568" y="148"/>
                  <a:pt x="576" y="140"/>
                </a:cubicBezTo>
                <a:cubicBezTo>
                  <a:pt x="602" y="114"/>
                  <a:pt x="627" y="119"/>
                  <a:pt x="664" y="114"/>
                </a:cubicBezTo>
                <a:cubicBezTo>
                  <a:pt x="673" y="108"/>
                  <a:pt x="680" y="96"/>
                  <a:pt x="691" y="96"/>
                </a:cubicBezTo>
                <a:cubicBezTo>
                  <a:pt x="733" y="96"/>
                  <a:pt x="709" y="123"/>
                  <a:pt x="726" y="140"/>
                </a:cubicBezTo>
                <a:cubicBezTo>
                  <a:pt x="733" y="147"/>
                  <a:pt x="744" y="146"/>
                  <a:pt x="753" y="149"/>
                </a:cubicBezTo>
                <a:cubicBezTo>
                  <a:pt x="783" y="105"/>
                  <a:pt x="767" y="102"/>
                  <a:pt x="735" y="61"/>
                </a:cubicBezTo>
                <a:cubicBezTo>
                  <a:pt x="738" y="43"/>
                  <a:pt x="733" y="21"/>
                  <a:pt x="744" y="7"/>
                </a:cubicBezTo>
                <a:cubicBezTo>
                  <a:pt x="750" y="0"/>
                  <a:pt x="762" y="16"/>
                  <a:pt x="771" y="16"/>
                </a:cubicBezTo>
                <a:cubicBezTo>
                  <a:pt x="815" y="16"/>
                  <a:pt x="860" y="10"/>
                  <a:pt x="904" y="7"/>
                </a:cubicBezTo>
                <a:cubicBezTo>
                  <a:pt x="921" y="59"/>
                  <a:pt x="938" y="129"/>
                  <a:pt x="877" y="149"/>
                </a:cubicBezTo>
                <a:cubicBezTo>
                  <a:pt x="871" y="158"/>
                  <a:pt x="854" y="166"/>
                  <a:pt x="859" y="176"/>
                </a:cubicBezTo>
                <a:cubicBezTo>
                  <a:pt x="863" y="184"/>
                  <a:pt x="879" y="174"/>
                  <a:pt x="886" y="167"/>
                </a:cubicBezTo>
                <a:cubicBezTo>
                  <a:pt x="893" y="160"/>
                  <a:pt x="888" y="147"/>
                  <a:pt x="895" y="140"/>
                </a:cubicBezTo>
                <a:cubicBezTo>
                  <a:pt x="901" y="134"/>
                  <a:pt x="912" y="135"/>
                  <a:pt x="921" y="132"/>
                </a:cubicBezTo>
                <a:cubicBezTo>
                  <a:pt x="918" y="105"/>
                  <a:pt x="921" y="78"/>
                  <a:pt x="913" y="52"/>
                </a:cubicBezTo>
                <a:cubicBezTo>
                  <a:pt x="910" y="43"/>
                  <a:pt x="905" y="69"/>
                  <a:pt x="904" y="78"/>
                </a:cubicBezTo>
                <a:cubicBezTo>
                  <a:pt x="899" y="116"/>
                  <a:pt x="906" y="157"/>
                  <a:pt x="895" y="194"/>
                </a:cubicBezTo>
                <a:cubicBezTo>
                  <a:pt x="892" y="203"/>
                  <a:pt x="877" y="200"/>
                  <a:pt x="868" y="202"/>
                </a:cubicBezTo>
                <a:cubicBezTo>
                  <a:pt x="795" y="220"/>
                  <a:pt x="851" y="202"/>
                  <a:pt x="797" y="220"/>
                </a:cubicBezTo>
                <a:cubicBezTo>
                  <a:pt x="770" y="263"/>
                  <a:pt x="773" y="310"/>
                  <a:pt x="744" y="353"/>
                </a:cubicBezTo>
                <a:cubicBezTo>
                  <a:pt x="741" y="386"/>
                  <a:pt x="752" y="423"/>
                  <a:pt x="735" y="451"/>
                </a:cubicBezTo>
                <a:cubicBezTo>
                  <a:pt x="726" y="466"/>
                  <a:pt x="698" y="450"/>
                  <a:pt x="682" y="459"/>
                </a:cubicBezTo>
                <a:cubicBezTo>
                  <a:pt x="674" y="464"/>
                  <a:pt x="676" y="477"/>
                  <a:pt x="673" y="486"/>
                </a:cubicBezTo>
                <a:cubicBezTo>
                  <a:pt x="662" y="678"/>
                  <a:pt x="700" y="637"/>
                  <a:pt x="567" y="681"/>
                </a:cubicBezTo>
                <a:cubicBezTo>
                  <a:pt x="557" y="710"/>
                  <a:pt x="563" y="743"/>
                  <a:pt x="549" y="770"/>
                </a:cubicBezTo>
                <a:cubicBezTo>
                  <a:pt x="545" y="778"/>
                  <a:pt x="532" y="777"/>
                  <a:pt x="523" y="778"/>
                </a:cubicBezTo>
                <a:cubicBezTo>
                  <a:pt x="494" y="782"/>
                  <a:pt x="464" y="784"/>
                  <a:pt x="434" y="787"/>
                </a:cubicBezTo>
                <a:cubicBezTo>
                  <a:pt x="380" y="823"/>
                  <a:pt x="317" y="802"/>
                  <a:pt x="257" y="823"/>
                </a:cubicBezTo>
                <a:cubicBezTo>
                  <a:pt x="193" y="802"/>
                  <a:pt x="227" y="788"/>
                  <a:pt x="204" y="734"/>
                </a:cubicBezTo>
                <a:cubicBezTo>
                  <a:pt x="196" y="714"/>
                  <a:pt x="168" y="681"/>
                  <a:pt x="168" y="681"/>
                </a:cubicBezTo>
                <a:cubicBezTo>
                  <a:pt x="154" y="598"/>
                  <a:pt x="174" y="653"/>
                  <a:pt x="133" y="601"/>
                </a:cubicBezTo>
                <a:cubicBezTo>
                  <a:pt x="120" y="584"/>
                  <a:pt x="97" y="548"/>
                  <a:pt x="97" y="548"/>
                </a:cubicBezTo>
                <a:cubicBezTo>
                  <a:pt x="83" y="481"/>
                  <a:pt x="88" y="410"/>
                  <a:pt x="71" y="344"/>
                </a:cubicBezTo>
                <a:cubicBezTo>
                  <a:pt x="68" y="334"/>
                  <a:pt x="53" y="332"/>
                  <a:pt x="44" y="326"/>
                </a:cubicBezTo>
                <a:cubicBezTo>
                  <a:pt x="8" y="272"/>
                  <a:pt x="0" y="266"/>
                  <a:pt x="0" y="202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Freeform 11"/>
          <p:cNvSpPr/>
          <p:nvPr/>
        </p:nvSpPr>
        <p:spPr>
          <a:xfrm>
            <a:off x="690480" y="2011320"/>
            <a:ext cx="2799000" cy="1336680"/>
          </a:xfrm>
          <a:custGeom>
            <a:avLst/>
            <a:gdLst>
              <a:gd name="textAreaLeft" fmla="*/ 0 w 2799000"/>
              <a:gd name="textAreaRight" fmla="*/ 2799360 w 27990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1763" h="842">
                <a:moveTo>
                  <a:pt x="44" y="789"/>
                </a:moveTo>
                <a:cubicBezTo>
                  <a:pt x="193" y="803"/>
                  <a:pt x="102" y="785"/>
                  <a:pt x="185" y="842"/>
                </a:cubicBezTo>
                <a:cubicBezTo>
                  <a:pt x="306" y="818"/>
                  <a:pt x="202" y="818"/>
                  <a:pt x="398" y="807"/>
                </a:cubicBezTo>
                <a:cubicBezTo>
                  <a:pt x="408" y="477"/>
                  <a:pt x="374" y="398"/>
                  <a:pt x="425" y="550"/>
                </a:cubicBezTo>
                <a:cubicBezTo>
                  <a:pt x="432" y="570"/>
                  <a:pt x="466" y="562"/>
                  <a:pt x="487" y="567"/>
                </a:cubicBezTo>
                <a:cubicBezTo>
                  <a:pt x="502" y="618"/>
                  <a:pt x="483" y="574"/>
                  <a:pt x="522" y="612"/>
                </a:cubicBezTo>
                <a:cubicBezTo>
                  <a:pt x="530" y="619"/>
                  <a:pt x="532" y="631"/>
                  <a:pt x="540" y="638"/>
                </a:cubicBezTo>
                <a:cubicBezTo>
                  <a:pt x="573" y="664"/>
                  <a:pt x="622" y="652"/>
                  <a:pt x="664" y="656"/>
                </a:cubicBezTo>
                <a:cubicBezTo>
                  <a:pt x="707" y="686"/>
                  <a:pt x="679" y="693"/>
                  <a:pt x="726" y="709"/>
                </a:cubicBezTo>
                <a:cubicBezTo>
                  <a:pt x="763" y="701"/>
                  <a:pt x="797" y="704"/>
                  <a:pt x="814" y="665"/>
                </a:cubicBezTo>
                <a:cubicBezTo>
                  <a:pt x="822" y="648"/>
                  <a:pt x="816" y="622"/>
                  <a:pt x="832" y="612"/>
                </a:cubicBezTo>
                <a:cubicBezTo>
                  <a:pt x="877" y="582"/>
                  <a:pt x="898" y="583"/>
                  <a:pt x="956" y="576"/>
                </a:cubicBezTo>
                <a:cubicBezTo>
                  <a:pt x="962" y="567"/>
                  <a:pt x="966" y="556"/>
                  <a:pt x="974" y="550"/>
                </a:cubicBezTo>
                <a:cubicBezTo>
                  <a:pt x="1008" y="524"/>
                  <a:pt x="1025" y="560"/>
                  <a:pt x="1054" y="567"/>
                </a:cubicBezTo>
                <a:cubicBezTo>
                  <a:pt x="1080" y="573"/>
                  <a:pt x="1107" y="573"/>
                  <a:pt x="1133" y="576"/>
                </a:cubicBezTo>
                <a:cubicBezTo>
                  <a:pt x="1162" y="586"/>
                  <a:pt x="1183" y="616"/>
                  <a:pt x="1213" y="621"/>
                </a:cubicBezTo>
                <a:cubicBezTo>
                  <a:pt x="1279" y="633"/>
                  <a:pt x="1243" y="627"/>
                  <a:pt x="1320" y="638"/>
                </a:cubicBezTo>
                <a:cubicBezTo>
                  <a:pt x="1329" y="644"/>
                  <a:pt x="1340" y="648"/>
                  <a:pt x="1346" y="656"/>
                </a:cubicBezTo>
                <a:cubicBezTo>
                  <a:pt x="1379" y="698"/>
                  <a:pt x="1325" y="674"/>
                  <a:pt x="1382" y="691"/>
                </a:cubicBezTo>
                <a:cubicBezTo>
                  <a:pt x="1388" y="682"/>
                  <a:pt x="1397" y="675"/>
                  <a:pt x="1399" y="665"/>
                </a:cubicBezTo>
                <a:cubicBezTo>
                  <a:pt x="1420" y="579"/>
                  <a:pt x="1379" y="575"/>
                  <a:pt x="1435" y="594"/>
                </a:cubicBezTo>
                <a:cubicBezTo>
                  <a:pt x="1518" y="591"/>
                  <a:pt x="1600" y="590"/>
                  <a:pt x="1683" y="585"/>
                </a:cubicBezTo>
                <a:cubicBezTo>
                  <a:pt x="1704" y="584"/>
                  <a:pt x="1731" y="592"/>
                  <a:pt x="1745" y="576"/>
                </a:cubicBezTo>
                <a:cubicBezTo>
                  <a:pt x="1763" y="555"/>
                  <a:pt x="1729" y="512"/>
                  <a:pt x="1718" y="496"/>
                </a:cubicBezTo>
                <a:cubicBezTo>
                  <a:pt x="1708" y="449"/>
                  <a:pt x="1705" y="434"/>
                  <a:pt x="1665" y="408"/>
                </a:cubicBezTo>
                <a:cubicBezTo>
                  <a:pt x="1649" y="359"/>
                  <a:pt x="1651" y="397"/>
                  <a:pt x="1683" y="372"/>
                </a:cubicBezTo>
                <a:cubicBezTo>
                  <a:pt x="1691" y="366"/>
                  <a:pt x="1695" y="355"/>
                  <a:pt x="1701" y="346"/>
                </a:cubicBezTo>
                <a:cubicBezTo>
                  <a:pt x="1698" y="316"/>
                  <a:pt x="1701" y="285"/>
                  <a:pt x="1692" y="257"/>
                </a:cubicBezTo>
                <a:cubicBezTo>
                  <a:pt x="1685" y="236"/>
                  <a:pt x="1634" y="205"/>
                  <a:pt x="1612" y="204"/>
                </a:cubicBezTo>
                <a:cubicBezTo>
                  <a:pt x="1532" y="199"/>
                  <a:pt x="1453" y="198"/>
                  <a:pt x="1373" y="195"/>
                </a:cubicBezTo>
                <a:cubicBezTo>
                  <a:pt x="1344" y="185"/>
                  <a:pt x="1322" y="170"/>
                  <a:pt x="1293" y="160"/>
                </a:cubicBezTo>
                <a:cubicBezTo>
                  <a:pt x="1278" y="163"/>
                  <a:pt x="1258" y="157"/>
                  <a:pt x="1249" y="169"/>
                </a:cubicBezTo>
                <a:cubicBezTo>
                  <a:pt x="1184" y="257"/>
                  <a:pt x="1285" y="218"/>
                  <a:pt x="1213" y="239"/>
                </a:cubicBezTo>
                <a:cubicBezTo>
                  <a:pt x="1004" y="224"/>
                  <a:pt x="1162" y="255"/>
                  <a:pt x="1063" y="186"/>
                </a:cubicBezTo>
                <a:cubicBezTo>
                  <a:pt x="1029" y="136"/>
                  <a:pt x="995" y="149"/>
                  <a:pt x="930" y="142"/>
                </a:cubicBezTo>
                <a:cubicBezTo>
                  <a:pt x="951" y="78"/>
                  <a:pt x="967" y="27"/>
                  <a:pt x="885" y="0"/>
                </a:cubicBezTo>
                <a:cubicBezTo>
                  <a:pt x="737" y="50"/>
                  <a:pt x="851" y="17"/>
                  <a:pt x="531" y="27"/>
                </a:cubicBezTo>
                <a:cubicBezTo>
                  <a:pt x="517" y="31"/>
                  <a:pt x="484" y="38"/>
                  <a:pt x="469" y="45"/>
                </a:cubicBezTo>
                <a:cubicBezTo>
                  <a:pt x="445" y="57"/>
                  <a:pt x="442" y="67"/>
                  <a:pt x="416" y="71"/>
                </a:cubicBezTo>
                <a:cubicBezTo>
                  <a:pt x="381" y="76"/>
                  <a:pt x="345" y="77"/>
                  <a:pt x="309" y="80"/>
                </a:cubicBezTo>
                <a:cubicBezTo>
                  <a:pt x="250" y="100"/>
                  <a:pt x="272" y="128"/>
                  <a:pt x="256" y="186"/>
                </a:cubicBezTo>
                <a:cubicBezTo>
                  <a:pt x="248" y="216"/>
                  <a:pt x="185" y="248"/>
                  <a:pt x="185" y="248"/>
                </a:cubicBezTo>
                <a:cubicBezTo>
                  <a:pt x="169" y="295"/>
                  <a:pt x="181" y="267"/>
                  <a:pt x="141" y="328"/>
                </a:cubicBezTo>
                <a:cubicBezTo>
                  <a:pt x="131" y="344"/>
                  <a:pt x="142" y="379"/>
                  <a:pt x="123" y="381"/>
                </a:cubicBezTo>
                <a:cubicBezTo>
                  <a:pt x="99" y="384"/>
                  <a:pt x="76" y="387"/>
                  <a:pt x="52" y="390"/>
                </a:cubicBezTo>
                <a:cubicBezTo>
                  <a:pt x="26" y="478"/>
                  <a:pt x="65" y="337"/>
                  <a:pt x="35" y="567"/>
                </a:cubicBezTo>
                <a:cubicBezTo>
                  <a:pt x="33" y="586"/>
                  <a:pt x="23" y="603"/>
                  <a:pt x="17" y="621"/>
                </a:cubicBezTo>
                <a:cubicBezTo>
                  <a:pt x="14" y="630"/>
                  <a:pt x="8" y="647"/>
                  <a:pt x="8" y="647"/>
                </a:cubicBezTo>
                <a:cubicBezTo>
                  <a:pt x="11" y="656"/>
                  <a:pt x="11" y="667"/>
                  <a:pt x="17" y="674"/>
                </a:cubicBezTo>
                <a:cubicBezTo>
                  <a:pt x="42" y="704"/>
                  <a:pt x="64" y="677"/>
                  <a:pt x="17" y="709"/>
                </a:cubicBezTo>
                <a:cubicBezTo>
                  <a:pt x="10" y="730"/>
                  <a:pt x="0" y="741"/>
                  <a:pt x="17" y="762"/>
                </a:cubicBezTo>
                <a:cubicBezTo>
                  <a:pt x="46" y="798"/>
                  <a:pt x="44" y="765"/>
                  <a:pt x="44" y="789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84360" y="2781360"/>
            <a:ext cx="1800000" cy="113328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1081" h="687">
                <a:moveTo>
                  <a:pt x="1060" y="64"/>
                </a:moveTo>
                <a:cubicBezTo>
                  <a:pt x="1075" y="125"/>
                  <a:pt x="1081" y="169"/>
                  <a:pt x="1060" y="233"/>
                </a:cubicBezTo>
                <a:cubicBezTo>
                  <a:pt x="1050" y="319"/>
                  <a:pt x="1047" y="292"/>
                  <a:pt x="1025" y="357"/>
                </a:cubicBezTo>
                <a:cubicBezTo>
                  <a:pt x="1028" y="366"/>
                  <a:pt x="1028" y="376"/>
                  <a:pt x="1034" y="383"/>
                </a:cubicBezTo>
                <a:cubicBezTo>
                  <a:pt x="1041" y="391"/>
                  <a:pt x="1065" y="392"/>
                  <a:pt x="1060" y="401"/>
                </a:cubicBezTo>
                <a:cubicBezTo>
                  <a:pt x="1050" y="420"/>
                  <a:pt x="1007" y="436"/>
                  <a:pt x="1007" y="436"/>
                </a:cubicBezTo>
                <a:cubicBezTo>
                  <a:pt x="1004" y="454"/>
                  <a:pt x="1006" y="474"/>
                  <a:pt x="998" y="490"/>
                </a:cubicBezTo>
                <a:cubicBezTo>
                  <a:pt x="993" y="499"/>
                  <a:pt x="979" y="500"/>
                  <a:pt x="972" y="507"/>
                </a:cubicBezTo>
                <a:cubicBezTo>
                  <a:pt x="964" y="515"/>
                  <a:pt x="959" y="524"/>
                  <a:pt x="954" y="534"/>
                </a:cubicBezTo>
                <a:cubicBezTo>
                  <a:pt x="944" y="553"/>
                  <a:pt x="953" y="583"/>
                  <a:pt x="936" y="596"/>
                </a:cubicBezTo>
                <a:cubicBezTo>
                  <a:pt x="921" y="607"/>
                  <a:pt x="901" y="602"/>
                  <a:pt x="883" y="605"/>
                </a:cubicBezTo>
                <a:cubicBezTo>
                  <a:pt x="838" y="634"/>
                  <a:pt x="870" y="642"/>
                  <a:pt x="821" y="658"/>
                </a:cubicBezTo>
                <a:cubicBezTo>
                  <a:pt x="779" y="687"/>
                  <a:pt x="764" y="677"/>
                  <a:pt x="724" y="649"/>
                </a:cubicBezTo>
                <a:cubicBezTo>
                  <a:pt x="699" y="612"/>
                  <a:pt x="693" y="619"/>
                  <a:pt x="653" y="605"/>
                </a:cubicBezTo>
                <a:cubicBezTo>
                  <a:pt x="618" y="617"/>
                  <a:pt x="582" y="622"/>
                  <a:pt x="546" y="631"/>
                </a:cubicBezTo>
                <a:cubicBezTo>
                  <a:pt x="475" y="680"/>
                  <a:pt x="430" y="661"/>
                  <a:pt x="325" y="667"/>
                </a:cubicBezTo>
                <a:cubicBezTo>
                  <a:pt x="316" y="670"/>
                  <a:pt x="307" y="679"/>
                  <a:pt x="298" y="676"/>
                </a:cubicBezTo>
                <a:cubicBezTo>
                  <a:pt x="267" y="666"/>
                  <a:pt x="222" y="624"/>
                  <a:pt x="192" y="605"/>
                </a:cubicBezTo>
                <a:cubicBezTo>
                  <a:pt x="183" y="599"/>
                  <a:pt x="174" y="593"/>
                  <a:pt x="165" y="587"/>
                </a:cubicBezTo>
                <a:cubicBezTo>
                  <a:pt x="156" y="581"/>
                  <a:pt x="139" y="569"/>
                  <a:pt x="139" y="569"/>
                </a:cubicBezTo>
                <a:cubicBezTo>
                  <a:pt x="101" y="513"/>
                  <a:pt x="83" y="457"/>
                  <a:pt x="24" y="419"/>
                </a:cubicBezTo>
                <a:cubicBezTo>
                  <a:pt x="3" y="356"/>
                  <a:pt x="0" y="383"/>
                  <a:pt x="15" y="339"/>
                </a:cubicBezTo>
                <a:cubicBezTo>
                  <a:pt x="18" y="321"/>
                  <a:pt x="7" y="293"/>
                  <a:pt x="24" y="286"/>
                </a:cubicBezTo>
                <a:cubicBezTo>
                  <a:pt x="54" y="273"/>
                  <a:pt x="112" y="292"/>
                  <a:pt x="148" y="303"/>
                </a:cubicBezTo>
                <a:cubicBezTo>
                  <a:pt x="154" y="312"/>
                  <a:pt x="155" y="327"/>
                  <a:pt x="165" y="330"/>
                </a:cubicBezTo>
                <a:cubicBezTo>
                  <a:pt x="198" y="338"/>
                  <a:pt x="248" y="307"/>
                  <a:pt x="281" y="303"/>
                </a:cubicBezTo>
                <a:cubicBezTo>
                  <a:pt x="313" y="299"/>
                  <a:pt x="346" y="298"/>
                  <a:pt x="378" y="295"/>
                </a:cubicBezTo>
                <a:cubicBezTo>
                  <a:pt x="381" y="286"/>
                  <a:pt x="386" y="277"/>
                  <a:pt x="387" y="268"/>
                </a:cubicBezTo>
                <a:cubicBezTo>
                  <a:pt x="392" y="185"/>
                  <a:pt x="373" y="99"/>
                  <a:pt x="396" y="20"/>
                </a:cubicBezTo>
                <a:cubicBezTo>
                  <a:pt x="402" y="0"/>
                  <a:pt x="429" y="48"/>
                  <a:pt x="449" y="55"/>
                </a:cubicBezTo>
                <a:cubicBezTo>
                  <a:pt x="458" y="58"/>
                  <a:pt x="467" y="61"/>
                  <a:pt x="476" y="64"/>
                </a:cubicBezTo>
                <a:cubicBezTo>
                  <a:pt x="487" y="101"/>
                  <a:pt x="502" y="106"/>
                  <a:pt x="538" y="117"/>
                </a:cubicBezTo>
                <a:cubicBezTo>
                  <a:pt x="596" y="157"/>
                  <a:pt x="524" y="113"/>
                  <a:pt x="626" y="144"/>
                </a:cubicBezTo>
                <a:cubicBezTo>
                  <a:pt x="636" y="147"/>
                  <a:pt x="643" y="157"/>
                  <a:pt x="653" y="162"/>
                </a:cubicBezTo>
                <a:cubicBezTo>
                  <a:pt x="678" y="175"/>
                  <a:pt x="706" y="188"/>
                  <a:pt x="733" y="197"/>
                </a:cubicBezTo>
                <a:cubicBezTo>
                  <a:pt x="748" y="194"/>
                  <a:pt x="765" y="198"/>
                  <a:pt x="777" y="188"/>
                </a:cubicBezTo>
                <a:cubicBezTo>
                  <a:pt x="786" y="180"/>
                  <a:pt x="779" y="162"/>
                  <a:pt x="786" y="153"/>
                </a:cubicBezTo>
                <a:cubicBezTo>
                  <a:pt x="792" y="146"/>
                  <a:pt x="803" y="147"/>
                  <a:pt x="812" y="144"/>
                </a:cubicBezTo>
                <a:cubicBezTo>
                  <a:pt x="832" y="84"/>
                  <a:pt x="804" y="143"/>
                  <a:pt x="848" y="109"/>
                </a:cubicBezTo>
                <a:cubicBezTo>
                  <a:pt x="857" y="102"/>
                  <a:pt x="857" y="88"/>
                  <a:pt x="866" y="82"/>
                </a:cubicBezTo>
                <a:cubicBezTo>
                  <a:pt x="882" y="72"/>
                  <a:pt x="901" y="70"/>
                  <a:pt x="919" y="64"/>
                </a:cubicBezTo>
                <a:cubicBezTo>
                  <a:pt x="928" y="61"/>
                  <a:pt x="945" y="55"/>
                  <a:pt x="945" y="55"/>
                </a:cubicBezTo>
                <a:cubicBezTo>
                  <a:pt x="951" y="46"/>
                  <a:pt x="953" y="32"/>
                  <a:pt x="963" y="29"/>
                </a:cubicBezTo>
                <a:cubicBezTo>
                  <a:pt x="985" y="23"/>
                  <a:pt x="1038" y="47"/>
                  <a:pt x="1060" y="55"/>
                </a:cubicBezTo>
                <a:cubicBezTo>
                  <a:pt x="1050" y="88"/>
                  <a:pt x="1048" y="91"/>
                  <a:pt x="1060" y="64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Freeform 15"/>
          <p:cNvSpPr/>
          <p:nvPr/>
        </p:nvSpPr>
        <p:spPr>
          <a:xfrm>
            <a:off x="2011320" y="2897280"/>
            <a:ext cx="1219320" cy="22143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768" h="1395">
                <a:moveTo>
                  <a:pt x="124" y="1374"/>
                </a:moveTo>
                <a:cubicBezTo>
                  <a:pt x="235" y="1352"/>
                  <a:pt x="200" y="1355"/>
                  <a:pt x="399" y="1374"/>
                </a:cubicBezTo>
                <a:cubicBezTo>
                  <a:pt x="418" y="1376"/>
                  <a:pt x="452" y="1392"/>
                  <a:pt x="452" y="1392"/>
                </a:cubicBezTo>
                <a:cubicBezTo>
                  <a:pt x="464" y="1389"/>
                  <a:pt x="486" y="1395"/>
                  <a:pt x="488" y="1383"/>
                </a:cubicBezTo>
                <a:cubicBezTo>
                  <a:pt x="496" y="1333"/>
                  <a:pt x="479" y="1282"/>
                  <a:pt x="479" y="1232"/>
                </a:cubicBezTo>
                <a:cubicBezTo>
                  <a:pt x="479" y="1223"/>
                  <a:pt x="480" y="1211"/>
                  <a:pt x="488" y="1206"/>
                </a:cubicBezTo>
                <a:cubicBezTo>
                  <a:pt x="504" y="1197"/>
                  <a:pt x="523" y="1200"/>
                  <a:pt x="541" y="1197"/>
                </a:cubicBezTo>
                <a:cubicBezTo>
                  <a:pt x="544" y="1185"/>
                  <a:pt x="538" y="1165"/>
                  <a:pt x="550" y="1161"/>
                </a:cubicBezTo>
                <a:cubicBezTo>
                  <a:pt x="610" y="1143"/>
                  <a:pt x="665" y="1192"/>
                  <a:pt x="718" y="1206"/>
                </a:cubicBezTo>
                <a:cubicBezTo>
                  <a:pt x="732" y="1164"/>
                  <a:pt x="714" y="1166"/>
                  <a:pt x="700" y="1126"/>
                </a:cubicBezTo>
                <a:cubicBezTo>
                  <a:pt x="710" y="1054"/>
                  <a:pt x="716" y="1068"/>
                  <a:pt x="736" y="1011"/>
                </a:cubicBezTo>
                <a:cubicBezTo>
                  <a:pt x="733" y="996"/>
                  <a:pt x="733" y="980"/>
                  <a:pt x="727" y="966"/>
                </a:cubicBezTo>
                <a:cubicBezTo>
                  <a:pt x="718" y="947"/>
                  <a:pt x="691" y="913"/>
                  <a:pt x="691" y="913"/>
                </a:cubicBezTo>
                <a:cubicBezTo>
                  <a:pt x="697" y="895"/>
                  <a:pt x="707" y="879"/>
                  <a:pt x="709" y="860"/>
                </a:cubicBezTo>
                <a:cubicBezTo>
                  <a:pt x="712" y="828"/>
                  <a:pt x="708" y="794"/>
                  <a:pt x="718" y="763"/>
                </a:cubicBezTo>
                <a:cubicBezTo>
                  <a:pt x="721" y="753"/>
                  <a:pt x="736" y="751"/>
                  <a:pt x="745" y="745"/>
                </a:cubicBezTo>
                <a:cubicBezTo>
                  <a:pt x="761" y="691"/>
                  <a:pt x="768" y="654"/>
                  <a:pt x="718" y="621"/>
                </a:cubicBezTo>
                <a:cubicBezTo>
                  <a:pt x="685" y="572"/>
                  <a:pt x="718" y="610"/>
                  <a:pt x="674" y="585"/>
                </a:cubicBezTo>
                <a:cubicBezTo>
                  <a:pt x="656" y="575"/>
                  <a:pt x="621" y="550"/>
                  <a:pt x="621" y="550"/>
                </a:cubicBezTo>
                <a:cubicBezTo>
                  <a:pt x="573" y="477"/>
                  <a:pt x="636" y="565"/>
                  <a:pt x="576" y="506"/>
                </a:cubicBezTo>
                <a:cubicBezTo>
                  <a:pt x="534" y="465"/>
                  <a:pt x="584" y="488"/>
                  <a:pt x="532" y="470"/>
                </a:cubicBezTo>
                <a:cubicBezTo>
                  <a:pt x="514" y="417"/>
                  <a:pt x="487" y="387"/>
                  <a:pt x="470" y="337"/>
                </a:cubicBezTo>
                <a:cubicBezTo>
                  <a:pt x="486" y="292"/>
                  <a:pt x="475" y="316"/>
                  <a:pt x="514" y="257"/>
                </a:cubicBezTo>
                <a:cubicBezTo>
                  <a:pt x="520" y="248"/>
                  <a:pt x="532" y="231"/>
                  <a:pt x="532" y="231"/>
                </a:cubicBezTo>
                <a:cubicBezTo>
                  <a:pt x="547" y="185"/>
                  <a:pt x="563" y="142"/>
                  <a:pt x="505" y="125"/>
                </a:cubicBezTo>
                <a:cubicBezTo>
                  <a:pt x="459" y="94"/>
                  <a:pt x="418" y="75"/>
                  <a:pt x="372" y="45"/>
                </a:cubicBezTo>
                <a:cubicBezTo>
                  <a:pt x="338" y="23"/>
                  <a:pt x="295" y="25"/>
                  <a:pt x="257" y="0"/>
                </a:cubicBezTo>
                <a:cubicBezTo>
                  <a:pt x="248" y="3"/>
                  <a:pt x="235" y="1"/>
                  <a:pt x="231" y="9"/>
                </a:cubicBezTo>
                <a:cubicBezTo>
                  <a:pt x="227" y="17"/>
                  <a:pt x="239" y="27"/>
                  <a:pt x="239" y="36"/>
                </a:cubicBezTo>
                <a:cubicBezTo>
                  <a:pt x="239" y="247"/>
                  <a:pt x="294" y="219"/>
                  <a:pt x="204" y="249"/>
                </a:cubicBezTo>
                <a:cubicBezTo>
                  <a:pt x="198" y="258"/>
                  <a:pt x="186" y="264"/>
                  <a:pt x="186" y="275"/>
                </a:cubicBezTo>
                <a:cubicBezTo>
                  <a:pt x="186" y="294"/>
                  <a:pt x="204" y="328"/>
                  <a:pt x="204" y="328"/>
                </a:cubicBezTo>
                <a:cubicBezTo>
                  <a:pt x="201" y="355"/>
                  <a:pt x="205" y="383"/>
                  <a:pt x="195" y="408"/>
                </a:cubicBezTo>
                <a:cubicBezTo>
                  <a:pt x="192" y="417"/>
                  <a:pt x="175" y="410"/>
                  <a:pt x="169" y="417"/>
                </a:cubicBezTo>
                <a:cubicBezTo>
                  <a:pt x="154" y="432"/>
                  <a:pt x="166" y="464"/>
                  <a:pt x="151" y="479"/>
                </a:cubicBezTo>
                <a:cubicBezTo>
                  <a:pt x="142" y="488"/>
                  <a:pt x="127" y="485"/>
                  <a:pt x="115" y="488"/>
                </a:cubicBezTo>
                <a:cubicBezTo>
                  <a:pt x="112" y="506"/>
                  <a:pt x="120" y="528"/>
                  <a:pt x="107" y="541"/>
                </a:cubicBezTo>
                <a:cubicBezTo>
                  <a:pt x="94" y="554"/>
                  <a:pt x="69" y="542"/>
                  <a:pt x="53" y="550"/>
                </a:cubicBezTo>
                <a:cubicBezTo>
                  <a:pt x="44" y="555"/>
                  <a:pt x="42" y="567"/>
                  <a:pt x="36" y="576"/>
                </a:cubicBezTo>
                <a:cubicBezTo>
                  <a:pt x="33" y="588"/>
                  <a:pt x="35" y="602"/>
                  <a:pt x="27" y="612"/>
                </a:cubicBezTo>
                <a:cubicBezTo>
                  <a:pt x="21" y="619"/>
                  <a:pt x="0" y="612"/>
                  <a:pt x="0" y="621"/>
                </a:cubicBezTo>
                <a:cubicBezTo>
                  <a:pt x="0" y="637"/>
                  <a:pt x="57" y="646"/>
                  <a:pt x="62" y="647"/>
                </a:cubicBezTo>
                <a:cubicBezTo>
                  <a:pt x="59" y="683"/>
                  <a:pt x="60" y="719"/>
                  <a:pt x="53" y="754"/>
                </a:cubicBezTo>
                <a:cubicBezTo>
                  <a:pt x="51" y="764"/>
                  <a:pt x="38" y="770"/>
                  <a:pt x="36" y="780"/>
                </a:cubicBezTo>
                <a:cubicBezTo>
                  <a:pt x="35" y="789"/>
                  <a:pt x="43" y="798"/>
                  <a:pt x="45" y="807"/>
                </a:cubicBezTo>
                <a:cubicBezTo>
                  <a:pt x="67" y="891"/>
                  <a:pt x="37" y="872"/>
                  <a:pt x="98" y="887"/>
                </a:cubicBezTo>
                <a:cubicBezTo>
                  <a:pt x="110" y="921"/>
                  <a:pt x="102" y="960"/>
                  <a:pt x="115" y="993"/>
                </a:cubicBezTo>
                <a:cubicBezTo>
                  <a:pt x="118" y="1002"/>
                  <a:pt x="142" y="993"/>
                  <a:pt x="142" y="1002"/>
                </a:cubicBezTo>
                <a:cubicBezTo>
                  <a:pt x="145" y="1126"/>
                  <a:pt x="130" y="1250"/>
                  <a:pt x="124" y="1374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5076720" y="2276640"/>
            <a:ext cx="62568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5076720" y="2997360"/>
            <a:ext cx="625680" cy="3603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5076720" y="3716280"/>
            <a:ext cx="625680" cy="36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5076720" y="4365720"/>
            <a:ext cx="625680" cy="3603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5076720" y="5084640"/>
            <a:ext cx="62568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608472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5997960" y="2190600"/>
            <a:ext cx="20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Юж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5965200" y="292572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сточ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6022440" y="364644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евер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6134760" y="4351320"/>
            <a:ext cx="23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пад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6112800" y="4998960"/>
            <a:ext cx="28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ентральная Афр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Freeform 27"/>
          <p:cNvSpPr/>
          <p:nvPr/>
        </p:nvSpPr>
        <p:spPr>
          <a:xfrm>
            <a:off x="3886200" y="4740120"/>
            <a:ext cx="390600" cy="849600"/>
          </a:xfrm>
          <a:custGeom>
            <a:avLst/>
            <a:gdLst>
              <a:gd name="textAreaLeft" fmla="*/ 0 w 390600"/>
              <a:gd name="textAreaRight" fmla="*/ 390960 w 390600"/>
              <a:gd name="textAreaTop" fmla="*/ 0 h 849600"/>
              <a:gd name="textAreaBottom" fmla="*/ 849960 h 849600"/>
            </a:gdLst>
            <a:ahLst/>
            <a:rect l="textAreaLeft" t="textAreaTop" r="textAreaRight" b="textAreaBottom"/>
            <a:pathLst>
              <a:path w="246" h="473">
                <a:moveTo>
                  <a:pt x="60" y="124"/>
                </a:moveTo>
                <a:cubicBezTo>
                  <a:pt x="103" y="139"/>
                  <a:pt x="73" y="138"/>
                  <a:pt x="104" y="107"/>
                </a:cubicBezTo>
                <a:cubicBezTo>
                  <a:pt x="112" y="99"/>
                  <a:pt x="122" y="95"/>
                  <a:pt x="131" y="89"/>
                </a:cubicBezTo>
                <a:cubicBezTo>
                  <a:pt x="146" y="44"/>
                  <a:pt x="146" y="16"/>
                  <a:pt x="193" y="0"/>
                </a:cubicBezTo>
                <a:cubicBezTo>
                  <a:pt x="235" y="29"/>
                  <a:pt x="212" y="4"/>
                  <a:pt x="228" y="62"/>
                </a:cubicBezTo>
                <a:cubicBezTo>
                  <a:pt x="233" y="80"/>
                  <a:pt x="246" y="116"/>
                  <a:pt x="246" y="116"/>
                </a:cubicBezTo>
                <a:cubicBezTo>
                  <a:pt x="215" y="161"/>
                  <a:pt x="214" y="214"/>
                  <a:pt x="184" y="257"/>
                </a:cubicBezTo>
                <a:cubicBezTo>
                  <a:pt x="176" y="280"/>
                  <a:pt x="176" y="306"/>
                  <a:pt x="166" y="328"/>
                </a:cubicBezTo>
                <a:cubicBezTo>
                  <a:pt x="157" y="347"/>
                  <a:pt x="131" y="381"/>
                  <a:pt x="131" y="381"/>
                </a:cubicBezTo>
                <a:cubicBezTo>
                  <a:pt x="116" y="473"/>
                  <a:pt x="111" y="454"/>
                  <a:pt x="16" y="443"/>
                </a:cubicBezTo>
                <a:cubicBezTo>
                  <a:pt x="0" y="398"/>
                  <a:pt x="14" y="187"/>
                  <a:pt x="24" y="142"/>
                </a:cubicBezTo>
                <a:cubicBezTo>
                  <a:pt x="27" y="129"/>
                  <a:pt x="51" y="133"/>
                  <a:pt x="60" y="124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29"/>
          <p:cNvSpPr/>
          <p:nvPr/>
        </p:nvSpPr>
        <p:spPr>
          <a:xfrm>
            <a:off x="703440" y="2770200"/>
            <a:ext cx="2828880" cy="534960"/>
          </a:xfrm>
          <a:custGeom>
            <a:avLst/>
            <a:gdLst>
              <a:gd name="textAreaLeft" fmla="*/ 0 w 2828880"/>
              <a:gd name="textAreaRight" fmla="*/ 2829240 w 282888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782" h="337">
                <a:moveTo>
                  <a:pt x="0" y="302"/>
                </a:moveTo>
                <a:cubicBezTo>
                  <a:pt x="60" y="282"/>
                  <a:pt x="125" y="303"/>
                  <a:pt x="177" y="337"/>
                </a:cubicBezTo>
                <a:cubicBezTo>
                  <a:pt x="236" y="328"/>
                  <a:pt x="297" y="336"/>
                  <a:pt x="355" y="320"/>
                </a:cubicBezTo>
                <a:cubicBezTo>
                  <a:pt x="364" y="318"/>
                  <a:pt x="359" y="301"/>
                  <a:pt x="363" y="293"/>
                </a:cubicBezTo>
                <a:cubicBezTo>
                  <a:pt x="368" y="284"/>
                  <a:pt x="375" y="276"/>
                  <a:pt x="381" y="267"/>
                </a:cubicBezTo>
                <a:cubicBezTo>
                  <a:pt x="384" y="181"/>
                  <a:pt x="380" y="95"/>
                  <a:pt x="390" y="10"/>
                </a:cubicBezTo>
                <a:cubicBezTo>
                  <a:pt x="391" y="0"/>
                  <a:pt x="400" y="29"/>
                  <a:pt x="408" y="36"/>
                </a:cubicBezTo>
                <a:cubicBezTo>
                  <a:pt x="448" y="71"/>
                  <a:pt x="449" y="68"/>
                  <a:pt x="487" y="80"/>
                </a:cubicBezTo>
                <a:cubicBezTo>
                  <a:pt x="507" y="140"/>
                  <a:pt x="574" y="143"/>
                  <a:pt x="629" y="151"/>
                </a:cubicBezTo>
                <a:cubicBezTo>
                  <a:pt x="671" y="179"/>
                  <a:pt x="646" y="166"/>
                  <a:pt x="709" y="187"/>
                </a:cubicBezTo>
                <a:cubicBezTo>
                  <a:pt x="718" y="190"/>
                  <a:pt x="736" y="196"/>
                  <a:pt x="736" y="196"/>
                </a:cubicBezTo>
                <a:cubicBezTo>
                  <a:pt x="754" y="193"/>
                  <a:pt x="772" y="193"/>
                  <a:pt x="789" y="187"/>
                </a:cubicBezTo>
                <a:cubicBezTo>
                  <a:pt x="818" y="177"/>
                  <a:pt x="834" y="142"/>
                  <a:pt x="860" y="125"/>
                </a:cubicBezTo>
                <a:cubicBezTo>
                  <a:pt x="866" y="116"/>
                  <a:pt x="868" y="103"/>
                  <a:pt x="877" y="98"/>
                </a:cubicBezTo>
                <a:cubicBezTo>
                  <a:pt x="890" y="90"/>
                  <a:pt x="908" y="94"/>
                  <a:pt x="922" y="89"/>
                </a:cubicBezTo>
                <a:cubicBezTo>
                  <a:pt x="932" y="85"/>
                  <a:pt x="938" y="76"/>
                  <a:pt x="948" y="72"/>
                </a:cubicBezTo>
                <a:cubicBezTo>
                  <a:pt x="959" y="67"/>
                  <a:pt x="972" y="66"/>
                  <a:pt x="984" y="63"/>
                </a:cubicBezTo>
                <a:cubicBezTo>
                  <a:pt x="1026" y="34"/>
                  <a:pt x="1043" y="51"/>
                  <a:pt x="1090" y="63"/>
                </a:cubicBezTo>
                <a:cubicBezTo>
                  <a:pt x="1120" y="106"/>
                  <a:pt x="1134" y="107"/>
                  <a:pt x="1188" y="116"/>
                </a:cubicBezTo>
                <a:cubicBezTo>
                  <a:pt x="1217" y="136"/>
                  <a:pt x="1243" y="141"/>
                  <a:pt x="1276" y="151"/>
                </a:cubicBezTo>
                <a:cubicBezTo>
                  <a:pt x="1309" y="184"/>
                  <a:pt x="1328" y="180"/>
                  <a:pt x="1365" y="205"/>
                </a:cubicBezTo>
                <a:cubicBezTo>
                  <a:pt x="1377" y="202"/>
                  <a:pt x="1394" y="206"/>
                  <a:pt x="1400" y="196"/>
                </a:cubicBezTo>
                <a:cubicBezTo>
                  <a:pt x="1406" y="185"/>
                  <a:pt x="1391" y="172"/>
                  <a:pt x="1391" y="160"/>
                </a:cubicBezTo>
                <a:cubicBezTo>
                  <a:pt x="1391" y="142"/>
                  <a:pt x="1397" y="125"/>
                  <a:pt x="1400" y="107"/>
                </a:cubicBezTo>
                <a:cubicBezTo>
                  <a:pt x="1471" y="110"/>
                  <a:pt x="1542" y="116"/>
                  <a:pt x="1613" y="116"/>
                </a:cubicBezTo>
                <a:cubicBezTo>
                  <a:pt x="1624" y="116"/>
                  <a:pt x="1782" y="123"/>
                  <a:pt x="1719" y="63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1093680" y="236376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верная Афр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31"/>
          <p:cNvSpPr/>
          <p:nvPr/>
        </p:nvSpPr>
        <p:spPr>
          <a:xfrm>
            <a:off x="1264320" y="350028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опическая Афр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Северная Африка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лощадь около 10 млн. к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селение 170 млн. челове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468360" y="2637000"/>
            <a:ext cx="5398920" cy="3995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Нажмите, чтобы посмотреть в полный размер"/>
          <p:cNvPicPr/>
          <p:nvPr/>
        </p:nvPicPr>
        <p:blipFill>
          <a:blip r:embed="rId2"/>
          <a:stretch/>
        </p:blipFill>
        <p:spPr>
          <a:xfrm>
            <a:off x="6084720" y="1484280"/>
            <a:ext cx="2841840" cy="2131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5867280" y="3860640"/>
            <a:ext cx="33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VII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-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XII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в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рабская колонизац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XII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-ХХ вв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лонизац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европейских государст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1:33:43Z</dcterms:created>
  <dc:creator>Курица</dc:creator>
  <dc:description/>
  <dc:language>en-US</dc:language>
  <cp:lastModifiedBy>Оля</cp:lastModifiedBy>
  <dcterms:modified xsi:type="dcterms:W3CDTF">2013-10-17T16:34:23Z</dcterms:modified>
  <cp:revision>45</cp:revision>
  <dc:subject/>
  <dc:title>Слайд 1</dc:title>
</cp:coreProperties>
</file>