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2D99-411F-409C-84C6-90EA41A7E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F231-7266-4813-9ED6-F87EF6FD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876F-AF0B-4FE9-8206-C8F37313D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0224-538F-48B6-A449-57B5BB313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75B1-66DB-4D01-9EBA-8A048098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BA6F-E827-45FD-9B62-1FABE127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79E7-85A9-484E-BC31-D3AB909C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3A85-B215-43DA-8801-8491BE1A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7579-5C12-44D0-8768-DC230249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FCA6-66AD-40EA-B363-C7349C4E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AF5D-B925-40B1-91B2-0D34A29F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8469-C64C-490A-BD63-C74ADFED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839B-F7F5-4D85-AFCE-29983476D7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ed-kopilka.ru/vneklasnaja-rabota/zagadki-schitalki-i-skorogovorki/zagadki-pro-vesnu.html" TargetMode="External"/><Relationship Id="rId2" Type="http://schemas.openxmlformats.org/officeDocument/2006/relationships/hyperlink" Target="http://zanimatika.narod.ru/Nachalka5_vesna.htm" TargetMode="External"/><Relationship Id="rId3" Type="http://schemas.openxmlformats.org/officeDocument/2006/relationships/hyperlink" Target="http://docfish.ru/documents/zagadki-o-vesne-dlya-shkolnikov-detey-detskie-s-otvetami-spring-riddles-answer" TargetMode="External"/><Relationship Id="rId4" Type="http://schemas.openxmlformats.org/officeDocument/2006/relationships/hyperlink" Target="http://img1.liveinternet.ru/images/attach/c/5/88/489/88489681_MIMOZA.png" TargetMode="External"/><Relationship Id="rId5" Type="http://schemas.openxmlformats.org/officeDocument/2006/relationships/hyperlink" Target="http://www.playcast.ru/uploads/2015/04/02/12974764.gif" TargetMode="External"/><Relationship Id="rId6" Type="http://schemas.openxmlformats.org/officeDocument/2006/relationships/hyperlink" Target="http://www.beesona.ru/upload/502/a1fa3bfd36849b1ecdc2410b0c2c1517.jpg" TargetMode="External"/><Relationship Id="rId7" Type="http://schemas.openxmlformats.org/officeDocument/2006/relationships/hyperlink" Target="http://20th.su/wp-content/uploads/2011/06/deti_i_korabliki.jpg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c3300"/>
                </a:solidFill>
                <a:latin typeface="Arial"/>
              </a:rPr>
              <a:t>Государственное бюджетное образовательное учреждение школа № 487 г. Санкт-Петербур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31640" y="3213000"/>
            <a:ext cx="547236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Загад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Презентация к урокам чт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для учащихся 2 – 4 классов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VIII </a:t>
            </a: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ви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Составитель: Крестовникова Г.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12974764"/>
          <p:cNvPicPr/>
          <p:nvPr/>
        </p:nvPicPr>
        <p:blipFill>
          <a:blip r:embed="rId1"/>
          <a:stretch/>
        </p:blipFill>
        <p:spPr>
          <a:xfrm rot="5076600">
            <a:off x="-603720" y="1707120"/>
            <a:ext cx="4406760" cy="3510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10"/>
          <p:cNvSpPr txBox="1"/>
          <p:nvPr/>
        </p:nvSpPr>
        <p:spPr>
          <a:xfrm>
            <a:off x="3059280" y="1700280"/>
            <a:ext cx="5760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Матушка весна всем красна".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24360" y="836280"/>
            <a:ext cx="496872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ад примерил белый цв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оловей поет сон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 зелень наш оделся кр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ас теплом встречае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(М.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Звонкий, громкий и весел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розвучит он в ма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Детвору из средней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 зрелость выпуск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(Последний з….к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88489681_MIMOZA"/>
          <p:cNvPicPr/>
          <p:nvPr/>
        </p:nvPicPr>
        <p:blipFill>
          <a:blip r:embed="rId1"/>
          <a:stretch/>
        </p:blipFill>
        <p:spPr>
          <a:xfrm>
            <a:off x="5867280" y="2924280"/>
            <a:ext cx="1225800" cy="645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1367224806_221283875"/>
          <p:cNvPicPr/>
          <p:nvPr/>
        </p:nvPicPr>
        <p:blipFill>
          <a:blip r:embed="rId2"/>
          <a:stretch/>
        </p:blipFill>
        <p:spPr>
          <a:xfrm>
            <a:off x="324000" y="1197000"/>
            <a:ext cx="3527280" cy="4319640"/>
          </a:xfrm>
          <a:prstGeom prst="rect">
            <a:avLst/>
          </a:prstGeom>
          <a:ln w="507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0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c3300"/>
                </a:solidFill>
                <a:latin typeface="Arial"/>
              </a:rPr>
              <a:t>Источники:</a:t>
            </a:r>
            <a:br>
              <a:rPr sz="1000"/>
            </a:br>
            <a:r>
              <a:rPr b="0" lang="ru-RU" sz="10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ped-kopilka.ru/vneklasnaja-rabota/zagadki-schitalki-i-skorogovorki/zagadki-pro-vesnu.html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000"/>
            </a:br>
            <a:r>
              <a:rPr b="0" lang="ru-RU" sz="10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http://zanimatika.narod.ru/Nachalka5_vesna.htm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u-RU" sz="1000" spc="-1" strike="noStrike" u="sng">
                <a:solidFill>
                  <a:srgbClr val="cc3300"/>
                </a:solidFill>
                <a:uFillTx/>
                <a:latin typeface="Arial"/>
                <a:hlinkClick r:id="rId3"/>
              </a:rPr>
              <a:t>http://docfish.ru/documents/zagadki-o-vesne-dlya-shkolnikov-detey-detskie-s-otvetami-spring-riddles-answer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u-RU" sz="1000" spc="-1" strike="noStrike" u="sng">
                <a:solidFill>
                  <a:srgbClr val="cc3300"/>
                </a:solidFill>
                <a:uFillTx/>
                <a:latin typeface="Arial"/>
                <a:hlinkClick r:id="rId4"/>
              </a:rPr>
              <a:t>http://img1.liveinternet.ru/images/attach/c/5/88/489/88489681_MIMOZA.png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u-RU" sz="1000" spc="-1" strike="noStrike" u="sng">
                <a:solidFill>
                  <a:srgbClr val="cc3300"/>
                </a:solidFill>
                <a:uFillTx/>
                <a:latin typeface="Arial"/>
                <a:hlinkClick r:id="rId5"/>
              </a:rPr>
              <a:t>http://www.playcast.ru/uploads/2015/04/02/12974764.gif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000"/>
            </a:br>
            <a:r>
              <a:rPr b="0" lang="ru-RU" sz="1000" spc="-1" strike="noStrike" u="sng">
                <a:solidFill>
                  <a:srgbClr val="cc3300"/>
                </a:solidFill>
                <a:uFillTx/>
                <a:latin typeface="Arial"/>
                <a:hlinkClick r:id="rId6"/>
              </a:rPr>
              <a:t>http://www.beesona.ru/upload/502/a1fa3bfd36849b1ecdc2410b0c2c1517.jpg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u-RU" sz="1000" spc="-1" strike="noStrike" u="sng">
                <a:solidFill>
                  <a:srgbClr val="cc3300"/>
                </a:solidFill>
                <a:uFillTx/>
                <a:latin typeface="Arial"/>
                <a:hlinkClick r:id="rId7"/>
              </a:rPr>
              <a:t>http://20th.su/wp-content/uploads/2011/06/deti_i_korabliki.jpg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http://okartinkah.ru/smimg/podsnezhniki-kartinki-dlya-detey-1779/podsnezhniki-kartinki-dlya-detey-1.jpg  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http://puteshestvievmirprirodi.com/wp-content/uploads/2015/03/cvetok-landysha-m.jpg 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http://mail.detkityumen.ru/media/cache/ad/49/ad49e14028c68c2fc22b60dd616faf2a.jpg 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http://img0.liveinternet.ru/images/attach/c/6/93/454/93454132_3623822_343.jpg 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http://bestgif.su/_ph/36/2/869569946.gif 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http://99px.ru/sstorage/53/2014/12/mid_117004_8016.jpg 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http://goo.kz/media/img/journal/5174f28177be6.JPG 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http://skyslogan.ru/uploads/posts/2013-04/1367224806_221283875.jpg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http://forum.materinstvo.ru/uploads/1205957767/post-40296-1206092786.jpg 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http://img-fotki.yandex.ru/get/4508/owen1141952.49/0_41db4_3874d05f_XL.jpg 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http://www.stihi.ru/pics/2012/08/08/2142.jp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51280" y="476280"/>
            <a:ext cx="4835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Тает снеж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Ожил луж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День прибыв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Когда это бывает? (В…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Рыхлый снег на солнце т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етерок в ветвях игр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Звонче птичьи гол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Знач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К нам пришла…(В…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a1fa3bfd36849b1ecdc2410b0c2c1517"/>
          <p:cNvPicPr/>
          <p:nvPr/>
        </p:nvPicPr>
        <p:blipFill>
          <a:blip r:embed="rId1"/>
          <a:stretch/>
        </p:blipFill>
        <p:spPr>
          <a:xfrm>
            <a:off x="468360" y="1125360"/>
            <a:ext cx="3240000" cy="4391280"/>
          </a:xfrm>
          <a:prstGeom prst="rect">
            <a:avLst/>
          </a:prstGeom>
          <a:ln w="50760">
            <a:solidFill>
              <a:srgbClr val="cc3300"/>
            </a:solidFill>
            <a:miter/>
          </a:ln>
        </p:spPr>
      </p:pic>
      <p:pic>
        <p:nvPicPr>
          <p:cNvPr id="48" name="Picture 14" descr="88489681_MIMOZA"/>
          <p:cNvPicPr/>
          <p:nvPr/>
        </p:nvPicPr>
        <p:blipFill>
          <a:blip r:embed="rId2"/>
          <a:stretch/>
        </p:blipFill>
        <p:spPr>
          <a:xfrm>
            <a:off x="5867280" y="2781360"/>
            <a:ext cx="86544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50920" y="1052280"/>
            <a:ext cx="50418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Ручейки бегут быстре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ветит солнышко тепл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оробей погоде р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cc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Заглянул к нам месяц…(М..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Мишка вылез из берлог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Грязь и лужи на дорог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 небе жаворонка тр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cc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 гости к нам прише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(А….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88489681_MIMOZA"/>
          <p:cNvPicPr/>
          <p:nvPr/>
        </p:nvPicPr>
        <p:blipFill>
          <a:blip r:embed="rId1"/>
          <a:stretch/>
        </p:blipFill>
        <p:spPr>
          <a:xfrm>
            <a:off x="5940360" y="2924280"/>
            <a:ext cx="1079640" cy="645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deti_i_korabliki"/>
          <p:cNvPicPr/>
          <p:nvPr/>
        </p:nvPicPr>
        <p:blipFill>
          <a:blip r:embed="rId2"/>
          <a:stretch/>
        </p:blipFill>
        <p:spPr>
          <a:xfrm>
            <a:off x="250920" y="1413000"/>
            <a:ext cx="3313080" cy="4322520"/>
          </a:xfrm>
          <a:prstGeom prst="rect">
            <a:avLst/>
          </a:prstGeom>
          <a:ln w="507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211280" y="836280"/>
            <a:ext cx="44751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ервым вылез из земл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а протали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Он мороза не бои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Хоть и малень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(П……..к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Белые горош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а зеленой нож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(Л….ш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podsnezhniki-kartinki-dlya-detey-1"/>
          <p:cNvPicPr/>
          <p:nvPr/>
        </p:nvPicPr>
        <p:blipFill>
          <a:blip r:embed="rId1"/>
          <a:stretch/>
        </p:blipFill>
        <p:spPr>
          <a:xfrm>
            <a:off x="539640" y="692280"/>
            <a:ext cx="3384720" cy="2449440"/>
          </a:xfrm>
          <a:prstGeom prst="rect">
            <a:avLst/>
          </a:prstGeom>
          <a:ln w="50760">
            <a:solidFill>
              <a:srgbClr val="cc3300"/>
            </a:solidFill>
            <a:miter/>
          </a:ln>
        </p:spPr>
      </p:pic>
      <p:pic>
        <p:nvPicPr>
          <p:cNvPr id="56" name="Picture 9" descr="88489681_MIMOZA"/>
          <p:cNvPicPr/>
          <p:nvPr/>
        </p:nvPicPr>
        <p:blipFill>
          <a:blip r:embed="rId2"/>
          <a:stretch/>
        </p:blipFill>
        <p:spPr>
          <a:xfrm>
            <a:off x="6156360" y="3429000"/>
            <a:ext cx="936720" cy="646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cvetok-landysha-m"/>
          <p:cNvPicPr/>
          <p:nvPr/>
        </p:nvPicPr>
        <p:blipFill>
          <a:blip r:embed="rId3"/>
          <a:stretch/>
        </p:blipFill>
        <p:spPr>
          <a:xfrm>
            <a:off x="539640" y="3645000"/>
            <a:ext cx="3384720" cy="2503440"/>
          </a:xfrm>
          <a:prstGeom prst="rect">
            <a:avLst/>
          </a:prstGeom>
          <a:ln w="507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140000" y="333000"/>
            <a:ext cx="48243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аконец река проснула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 боку на бок повернулась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Затрещал, ломаясь, лёд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Значит скор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(Л…..д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есна поет, звенит капел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очистил крылья вороб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Кричит скворцу о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е робей! Иди куп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о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(Р…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88489681_MIMOZA"/>
          <p:cNvPicPr/>
          <p:nvPr/>
        </p:nvPicPr>
        <p:blipFill>
          <a:blip r:embed="rId1"/>
          <a:stretch/>
        </p:blipFill>
        <p:spPr>
          <a:xfrm>
            <a:off x="5940360" y="2708280"/>
            <a:ext cx="936720" cy="646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ad49e14028c68c2fc22b60dd616faf2a"/>
          <p:cNvPicPr/>
          <p:nvPr/>
        </p:nvPicPr>
        <p:blipFill>
          <a:blip r:embed="rId2"/>
          <a:stretch/>
        </p:blipFill>
        <p:spPr>
          <a:xfrm>
            <a:off x="468360" y="476280"/>
            <a:ext cx="3240000" cy="2232000"/>
          </a:xfrm>
          <a:prstGeom prst="rect">
            <a:avLst/>
          </a:prstGeom>
          <a:ln w="50760">
            <a:solidFill>
              <a:srgbClr val="cc3300"/>
            </a:solidFill>
            <a:miter/>
          </a:ln>
        </p:spPr>
      </p:pic>
      <p:pic>
        <p:nvPicPr>
          <p:cNvPr id="62" name="Picture 10" descr="93454132_3623822_343"/>
          <p:cNvPicPr/>
          <p:nvPr/>
        </p:nvPicPr>
        <p:blipFill>
          <a:blip r:embed="rId3"/>
          <a:stretch/>
        </p:blipFill>
        <p:spPr>
          <a:xfrm>
            <a:off x="468360" y="3645000"/>
            <a:ext cx="3311640" cy="2476440"/>
          </a:xfrm>
          <a:prstGeom prst="rect">
            <a:avLst/>
          </a:prstGeom>
          <a:ln w="507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56000" y="692280"/>
            <a:ext cx="47880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Этот домик – из фанерки, У него насест и двер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тичек ждет удобный д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Им уютно будет а н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(С……..к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овоселье у сквор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Он ликует без кон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Чтоб у нас жил пересмешни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мастерили мы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(С……..к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88489681_MIMOZA"/>
          <p:cNvPicPr/>
          <p:nvPr/>
        </p:nvPicPr>
        <p:blipFill>
          <a:blip r:embed="rId1"/>
          <a:stretch/>
        </p:blipFill>
        <p:spPr>
          <a:xfrm>
            <a:off x="6227640" y="2781360"/>
            <a:ext cx="1008360" cy="646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6fdcaf63dca593426e1aa1e2e5eb48f7"/>
          <p:cNvPicPr/>
          <p:nvPr/>
        </p:nvPicPr>
        <p:blipFill>
          <a:blip r:embed="rId2"/>
          <a:stretch/>
        </p:blipFill>
        <p:spPr>
          <a:xfrm>
            <a:off x="324000" y="1268280"/>
            <a:ext cx="3456000" cy="4496040"/>
          </a:xfrm>
          <a:prstGeom prst="rect">
            <a:avLst/>
          </a:prstGeom>
          <a:ln w="507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56000" y="836640"/>
            <a:ext cx="4330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рилетает к нам с тепл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уть проделав длин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Лепит домик над ок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Из травы и гл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(Л……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Черный, провор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Кричит: «Крак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- Червякам вра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(Г..ч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88489681_MIMOZA"/>
          <p:cNvPicPr/>
          <p:nvPr/>
        </p:nvPicPr>
        <p:blipFill>
          <a:blip r:embed="rId1"/>
          <a:stretch/>
        </p:blipFill>
        <p:spPr>
          <a:xfrm>
            <a:off x="6084720" y="3141720"/>
            <a:ext cx="1008360" cy="646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0_41db4_3874d05f_XL"/>
          <p:cNvPicPr/>
          <p:nvPr/>
        </p:nvPicPr>
        <p:blipFill>
          <a:blip r:embed="rId2"/>
          <a:stretch/>
        </p:blipFill>
        <p:spPr>
          <a:xfrm>
            <a:off x="468360" y="907920"/>
            <a:ext cx="3527280" cy="2233800"/>
          </a:xfrm>
          <a:prstGeom prst="rect">
            <a:avLst/>
          </a:prstGeom>
          <a:ln w="50760">
            <a:solidFill>
              <a:srgbClr val="cc3300"/>
            </a:solidFill>
            <a:miter/>
          </a:ln>
        </p:spPr>
      </p:pic>
      <p:pic>
        <p:nvPicPr>
          <p:cNvPr id="71" name="Picture 10" descr="96983e1be2e96ac4467256450ef797aa_i-264"/>
          <p:cNvPicPr/>
          <p:nvPr/>
        </p:nvPicPr>
        <p:blipFill>
          <a:blip r:embed="rId3"/>
          <a:stretch/>
        </p:blipFill>
        <p:spPr>
          <a:xfrm>
            <a:off x="395280" y="3933720"/>
            <a:ext cx="3600360" cy="2232000"/>
          </a:xfrm>
          <a:prstGeom prst="rect">
            <a:avLst/>
          </a:prstGeom>
          <a:ln w="507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0" y="476280"/>
            <a:ext cx="4546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За окном звенит 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И поет: «Пришла весн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И холодные сосуль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ревратила в эти струйки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Слышно с крыш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«Шлеп-шлеп-шлеп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Это маленький пото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(К….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Снег в ле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Сугробов м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Но слышна синицы тр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С крыши, прямо на доро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Звонко капает… (К….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88489681_MIMOZA"/>
          <p:cNvPicPr/>
          <p:nvPr/>
        </p:nvPicPr>
        <p:blipFill>
          <a:blip r:embed="rId1"/>
          <a:stretch/>
        </p:blipFill>
        <p:spPr>
          <a:xfrm>
            <a:off x="5724360" y="3357720"/>
            <a:ext cx="1295640" cy="645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869569946"/>
          <p:cNvPicPr/>
          <p:nvPr/>
        </p:nvPicPr>
        <p:blipFill>
          <a:blip r:embed="rId2"/>
          <a:stretch/>
        </p:blipFill>
        <p:spPr>
          <a:xfrm>
            <a:off x="250920" y="765000"/>
            <a:ext cx="41767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67280" y="692280"/>
            <a:ext cx="461952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робиваюсь я в апреле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се поля позеленел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окрываю, как кове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оле, луг и школьный дв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(Т…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а окне она в горшочка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Есть томаты и цвет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Только началась вес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А она уж зелен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(Р…..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88489681_MIMOZA"/>
          <p:cNvPicPr/>
          <p:nvPr/>
        </p:nvPicPr>
        <p:blipFill>
          <a:blip r:embed="rId1"/>
          <a:stretch/>
        </p:blipFill>
        <p:spPr>
          <a:xfrm>
            <a:off x="5796000" y="2924280"/>
            <a:ext cx="1152360" cy="645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mid_117004_8016"/>
          <p:cNvPicPr/>
          <p:nvPr/>
        </p:nvPicPr>
        <p:blipFill>
          <a:blip r:embed="rId2"/>
          <a:stretch/>
        </p:blipFill>
        <p:spPr>
          <a:xfrm>
            <a:off x="324000" y="692280"/>
            <a:ext cx="3456000" cy="2305080"/>
          </a:xfrm>
          <a:prstGeom prst="rect">
            <a:avLst/>
          </a:prstGeom>
          <a:ln w="50760">
            <a:solidFill>
              <a:srgbClr val="cc3300"/>
            </a:solidFill>
            <a:miter/>
          </a:ln>
        </p:spPr>
      </p:pic>
      <p:pic>
        <p:nvPicPr>
          <p:cNvPr id="80" name="Picture 13" descr="5174f28177be6"/>
          <p:cNvPicPr/>
          <p:nvPr/>
        </p:nvPicPr>
        <p:blipFill>
          <a:blip r:embed="rId3"/>
          <a:stretch/>
        </p:blipFill>
        <p:spPr>
          <a:xfrm>
            <a:off x="324000" y="3789360"/>
            <a:ext cx="3456000" cy="2332080"/>
          </a:xfrm>
          <a:prstGeom prst="rect">
            <a:avLst/>
          </a:prstGeom>
          <a:ln w="507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30T17:06:49Z</dcterms:created>
  <dc:creator>галя</dc:creator>
  <dc:description/>
  <dc:language>en-US</dc:language>
  <cp:lastModifiedBy>галла</cp:lastModifiedBy>
  <dcterms:modified xsi:type="dcterms:W3CDTF">2016-04-02T17:32:12Z</dcterms:modified>
  <cp:revision>37</cp:revision>
  <dc:subject/>
  <dc:title>Слайд 1</dc:title>
</cp:coreProperties>
</file>