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DC4A-AFD7-4ED6-8408-9752DB1F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E5C2-E53D-4F8F-B18B-6DBC93E3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C66C-CA20-447B-BFA3-DA28A152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CF72-65AC-4032-BD46-A0F34B4C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323D-DE8E-435E-8DB2-AD986A76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AD09-F565-4ADB-89CA-84E897F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9CC6-7D6D-4920-8BFA-0D58EAA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383-DD5A-4F91-9E3B-06012587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B76-4C10-4307-AFAA-A8EE2E97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6BC-56A9-4C86-8144-5BD10054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209C-C40F-4C85-AA5E-9D491D0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FC45-69C9-4587-B786-A325262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C28-F95C-4407-A09B-FC59C73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9E8-639C-4D43-B9D5-8BF1033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735E-112F-40C3-917A-672C9726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C89-3B3A-453C-8C58-F9B43EF4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048-B6FC-4BCD-B5E9-93A3397B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D5A2-F6A8-44D6-95B8-F247DC6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86A1-EFB6-4B9C-83E4-D71251D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E9E1-F89C-4A9C-98CB-7A0CB970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C4CD-13C4-44B1-AC7A-6FF29322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547A-5847-4CDD-A6E3-306850A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A0E9-02D8-4424-B13E-450E0B3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C9EF-1EA0-4C33-9EB7-E7DD68A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E25-6108-4108-8A6C-479A6D1272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EB28-F9D6-4B25-8891-2373C28BC0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1125360"/>
            <a:ext cx="6048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дагогический мониторинг УУД как основа планирования образовательного процесса</a:t>
            </a:r>
            <a:br>
              <a:rPr sz="4400"/>
            </a:br>
            <a:br>
              <a:rPr sz="44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79280" y="3716280"/>
          <a:ext cx="295128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716280"/>
                    <a:ext cx="295128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водная таблица (регулятивное УУД)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ченика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1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класса 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Иванова Ив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341360"/>
          <a:ext cx="8280360" cy="4821480"/>
        </p:xfrm>
        <a:graphic>
          <a:graphicData uri="http://schemas.openxmlformats.org/drawingml/2006/table">
            <a:tbl>
              <a:tblPr/>
              <a:tblGrid>
                <a:gridCol w="1703520"/>
                <a:gridCol w="1523880"/>
                <a:gridCol w="1193760"/>
                <a:gridCol w="1262160"/>
                <a:gridCol w="1123920"/>
                <a:gridCol w="677880"/>
                <a:gridCol w="795240"/>
              </a:tblGrid>
              <a:tr h="9795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сформированности универсальных учебных дей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ческ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их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за выполненное комплексное задание (комплексная контрольная работа на межпредметной основ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(портфель достижени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.  Сформированность регулятив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й б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 Действие целеполаг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 Действие план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 Действия контроля и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 Действие 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 Саморегуля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4"/>
          <p:cNvSpPr/>
          <p:nvPr/>
        </p:nvSpPr>
        <p:spPr>
          <a:xfrm>
            <a:off x="250920" y="6217200"/>
            <a:ext cx="43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100% - 12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высок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90%-50% - 10-6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средн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иже 50% - менее 6 бал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изк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8640720" cy="5430960"/>
        </p:xfrm>
        <a:graphic>
          <a:graphicData uri="http://schemas.openxmlformats.org/drawingml/2006/table">
            <a:tbl>
              <a:tblPr/>
              <a:tblGrid>
                <a:gridCol w="666720"/>
                <a:gridCol w="2509920"/>
                <a:gridCol w="666720"/>
                <a:gridCol w="4292640"/>
                <a:gridCol w="214200"/>
                <a:gridCol w="290520"/>
              </a:tblGrid>
              <a:tr h="87480">
                <a:tc gridSpan="2" row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овывать свое рабочее место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ует своё место в соответствии с требованиями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рганизовать своё мест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ть цель выполнения заданий на уроке, во внеурочной деятельности, в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ет цель выполнения заданий с помощью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о целях заданий учителе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пределить цель выполнения заданий даже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ть план выполнения заданий на уроках, внеурочной деятельности,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ет план выполнения заданий с помощью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уется повторное напоминание о плане выполнения заданий учителе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определить план выполнения заданий даже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результатов своей  работ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бъективно оценивать свою работу  и соотносить  с готовым результат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соотношении работы обнаруживается расхождение в оцен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жет соотнести свою работу с готовым результатом, оценка необъектив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 gridSpan="4">
                  <a:txBody>
                    <a:bodyPr lIns="26280" rIns="262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10-9 баллов  высокий уровень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-5 баллов  средний уровень, 0-4 балла низкий уровен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3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gridSpan="4" rowSpan="2"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И  ФОРМИРОВАНИЯ     УУД (регулятивных, познавательных , коммуникативных, личностн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-33 баллов - высокий уровень;32-18 баллов  - средний уровень;  0-17 баллов - низкий уровен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96"/>
          <p:cNvSpPr/>
          <p:nvPr/>
        </p:nvSpPr>
        <p:spPr>
          <a:xfrm>
            <a:off x="179280" y="-183600"/>
            <a:ext cx="89647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Диагностическая  карта формирования УУ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1 кла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(На примере РУУ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r" pos="664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водная таблица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формированности регулятивных  УУД  </a:t>
            </a:r>
            <a:br>
              <a:rPr sz="3600"/>
            </a:br>
            <a:br>
              <a:rPr sz="35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Таблица 4" descr=""/>
          <p:cNvPicPr/>
          <p:nvPr/>
        </p:nvPicPr>
        <p:blipFill>
          <a:blip r:embed="rId1"/>
          <a:stretch/>
        </p:blipFill>
        <p:spPr>
          <a:xfrm>
            <a:off x="176040" y="1322280"/>
            <a:ext cx="8791920" cy="5327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3"/>
          <p:cNvSpPr/>
          <p:nvPr/>
        </p:nvSpPr>
        <p:spPr>
          <a:xfrm>
            <a:off x="446256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6" descr=""/>
          <p:cNvPicPr/>
          <p:nvPr/>
        </p:nvPicPr>
        <p:blipFill>
          <a:blip r:embed="rId1"/>
          <a:stretch/>
        </p:blipFill>
        <p:spPr>
          <a:xfrm>
            <a:off x="0" y="-6480"/>
            <a:ext cx="8826480" cy="6681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414360"/>
          <a:ext cx="8605800" cy="6451560"/>
        </p:xfrm>
        <a:graphic>
          <a:graphicData uri="http://schemas.openxmlformats.org/drawingml/2006/table">
            <a:tbl>
              <a:tblPr/>
              <a:tblGrid>
                <a:gridCol w="36000"/>
                <a:gridCol w="896760"/>
                <a:gridCol w="225000"/>
                <a:gridCol w="226440"/>
                <a:gridCol w="225360"/>
                <a:gridCol w="225000"/>
                <a:gridCol w="416520"/>
                <a:gridCol w="416880"/>
                <a:gridCol w="225000"/>
                <a:gridCol w="225360"/>
                <a:gridCol w="226440"/>
                <a:gridCol w="225000"/>
                <a:gridCol w="416880"/>
                <a:gridCol w="415080"/>
                <a:gridCol w="226800"/>
                <a:gridCol w="225000"/>
                <a:gridCol w="225000"/>
                <a:gridCol w="404280"/>
                <a:gridCol w="402480"/>
                <a:gridCol w="226800"/>
                <a:gridCol w="47520"/>
                <a:gridCol w="104760"/>
                <a:gridCol w="299520"/>
                <a:gridCol w="402480"/>
                <a:gridCol w="448560"/>
                <a:gridCol w="717840"/>
                <a:gridCol w="133200"/>
                <a:gridCol w="36000"/>
                <a:gridCol w="303840"/>
              </a:tblGrid>
              <a:tr h="610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3СВ-НОО</a:t>
                      </a:r>
                      <a:endParaRPr b="0" lang="en-US" sz="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дная таблица  по определению уровня сформированности УУД уч-ся __________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gridSpan="26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словные обозначения: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– 3, средний уровень – 2, низкий уровень – 1 баллов (34-31 баллов - высокий уровень;30-16 баллов  - средний уровень;  0-15 баллов - низкий уровен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972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читель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_______________________________________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ата заполн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и уч-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 характеристики школьника (УУ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БАЛЛ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(УРОВЕНЬ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670960" cy="6545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5"/>
          <p:cNvSpPr/>
          <p:nvPr/>
        </p:nvSpPr>
        <p:spPr>
          <a:xfrm>
            <a:off x="1116000" y="62064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C:\Users\Люда\Desktop\livepreview.jpg"/>
          <p:cNvPicPr/>
          <p:nvPr/>
        </p:nvPicPr>
        <p:blipFill>
          <a:blip r:embed="rId1"/>
          <a:stretch/>
        </p:blipFill>
        <p:spPr>
          <a:xfrm>
            <a:off x="1755720" y="1620720"/>
            <a:ext cx="6497640" cy="433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47640" y="836640"/>
            <a:ext cx="73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дагогическое наблю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работ на межпредметной осн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диагностическое об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содержания портфеля дости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MCj03117780000[1]"/>
          <p:cNvPicPr/>
          <p:nvPr/>
        </p:nvPicPr>
        <p:blipFill>
          <a:blip r:embed="rId1"/>
          <a:stretch/>
        </p:blipFill>
        <p:spPr>
          <a:xfrm>
            <a:off x="7308720" y="4149720"/>
            <a:ext cx="1433520" cy="2135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15640" y="549000"/>
            <a:ext cx="7010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ый эта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Cj02403570000[1]"/>
          <p:cNvPicPr/>
          <p:nvPr/>
        </p:nvPicPr>
        <p:blipFill>
          <a:blip r:embed="rId1"/>
          <a:stretch/>
        </p:blipFill>
        <p:spPr>
          <a:xfrm>
            <a:off x="7451640" y="549360"/>
            <a:ext cx="1406520" cy="18320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395280" y="2205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ление и корректировка циклограммы меропри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ование  взаимодействия педагога и психолога в проведении монитор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ик административного контроля предметных и метапредметных 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836280"/>
            <a:ext cx="70106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торой  эта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ДИАГНОС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8360" y="24922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работка технологии мониторинговых исследов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бор информации и ее  анализ на различном уров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PE01561_"/>
          <p:cNvPicPr/>
          <p:nvPr/>
        </p:nvPicPr>
        <p:blipFill>
          <a:blip r:embed="rId1"/>
          <a:stretch/>
        </p:blipFill>
        <p:spPr>
          <a:xfrm>
            <a:off x="5003640" y="4470480"/>
            <a:ext cx="360072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2000" y="47592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оотношение систем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96360" cy="537552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1584360"/>
                <a:gridCol w="1511280"/>
                <a:gridCol w="1368360"/>
              </a:tblGrid>
              <a:tr h="210276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евый под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ий под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ь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 баль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22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достижение опорного уров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ны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332000" y="4057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Индивидуальная карта  сформированности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81000"/>
          <a:ext cx="8640720" cy="5818320"/>
        </p:xfrm>
        <a:graphic>
          <a:graphicData uri="http://schemas.openxmlformats.org/drawingml/2006/table">
            <a:tbl>
              <a:tblPr/>
              <a:tblGrid>
                <a:gridCol w="2609640"/>
                <a:gridCol w="1189080"/>
                <a:gridCol w="1443240"/>
                <a:gridCol w="1423800"/>
                <a:gridCol w="1208160"/>
                <a:gridCol w="766800"/>
              </a:tblGrid>
              <a:tr h="140184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казатели сформированности универсальных учебных дей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дагогическая 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сих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ценка за выполненное комплексное зад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ценка портфеля дост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формированность личност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Самоопределение (самооценка, основы гражданствен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Смыслообразование (учебно-познавательная  мотивац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Морально-этическая ориент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формированность регулятивных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Действие целеполаг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Действие план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Действия контроля и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aaaab8"/>
                      </a:solidFill>
                    </a:lnL>
                    <a:lnR w="5760">
                      <a:solidFill>
                        <a:srgbClr val="aaaab8"/>
                      </a:solidFill>
                    </a:lnR>
                    <a:lnT w="5760">
                      <a:solidFill>
                        <a:srgbClr val="aaaab8"/>
                      </a:solidFill>
                    </a:lnT>
                    <a:lnB w="5760">
                      <a:solidFill>
                        <a:srgbClr val="aaaab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0066"/>
                </a:solidFill>
                <a:latin typeface="Arial"/>
              </a:rPr>
              <a:t>«Моё настроение в течении дня»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4" descr="C:\Users\Люба\AppData\Local\Microsoft\Windows\Temporary Internet Files\Content.Word\IMG_6777.jpg"/>
          <p:cNvPicPr/>
          <p:nvPr/>
        </p:nvPicPr>
        <p:blipFill>
          <a:blip r:embed="rId1"/>
          <a:stretch/>
        </p:blipFill>
        <p:spPr>
          <a:xfrm>
            <a:off x="1187280" y="1197000"/>
            <a:ext cx="7632720" cy="525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2646360" y="33336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зовые ум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68360" y="1220760"/>
            <a:ext cx="842472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00"/>
                </a:solidFill>
                <a:latin typeface="Times New Roman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1. Умение группировать содержание, поскольку любой график включает несколько позиций (групп) для срав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2. Умение устанавливать связи и отношения между групп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3. Умение замещать предмет или группу предметов знаком, цветом, разм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4. Умение сравнивать количественные величины и определять равенство-неравен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           </a:t>
            </a:r>
            <a:r>
              <a:rPr b="1" lang="ru-RU" sz="2800" spc="-1" strike="noStrike">
                <a:solidFill>
                  <a:srgbClr val="e5e500"/>
                </a:solidFill>
                <a:latin typeface="Arial"/>
                <a:ea typeface="Calibri"/>
              </a:rPr>
              <a:t>5. Умение соотносить часть и цел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1:13:44Z</dcterms:created>
  <dc:creator>User</dc:creator>
  <dc:description/>
  <dc:language>en-US</dc:language>
  <cp:lastModifiedBy>Группа 07</cp:lastModifiedBy>
  <dcterms:modified xsi:type="dcterms:W3CDTF">2017-05-10T09:43:23Z</dcterms:modified>
  <cp:revision>131</cp:revision>
  <dc:subject/>
  <dc:title>Мониторинг в образовательном учреждении</dc:title>
</cp:coreProperties>
</file>