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0C24-43AA-48BE-A2C6-8AEF2457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56A0-EB85-4E6E-B04B-D1CDEFA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84EE-9ECC-41E6-9901-E9FD5BA9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074D-C4E9-41BF-A61F-A99DD232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8A00-E0D8-40F7-A853-5C12EAD6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1E54-D087-440F-B459-663F23C0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E993-9693-4273-80D5-B852E8A4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F5E1-2BD3-4D91-8681-923A37D1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338C-C2FE-44D2-BB39-FE5637A7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665B-5F76-41A7-9E73-5DEE2E64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1F88-902B-4A9E-8643-464322C3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1538-7CA5-4DAE-A995-EF69120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9DC5-298F-4846-87C6-7FB63E01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465-A45F-4C94-A8E3-0EF4A5AC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6EF7-910F-47F9-8A40-9238744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1C31-724B-4FFF-B2BE-2F781425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3D1-80D1-48B4-9F0A-C8EE73E7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29A8-214C-48DB-B05B-B6128990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81E2-2407-4D8E-AA04-1E58BD78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42C3-4DE7-4B23-AFAB-80E457A2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8E0F-CBFB-4B48-AFF4-1442A192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3265-1C62-4042-9EF4-E4D9E4F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E246-9F39-41F7-863E-08C44B7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DC75-91EA-49E8-BC5F-9D6081C4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F2F2-AB89-4378-A1E7-DFB2A17349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F5A6-148E-4C15-AEF1-F496D3C98F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280" y="1125360"/>
            <a:ext cx="60483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дагогический мониторинг УУД как основа планирования образовательного процесса</a:t>
            </a:r>
            <a:br>
              <a:rPr sz="4400"/>
            </a:br>
            <a:br>
              <a:rPr sz="44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79280" y="3716280"/>
          <a:ext cx="295128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716280"/>
                    <a:ext cx="295128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водная таблица (регулятивное УУД)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ченика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1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класса 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Иванова Ив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1341360"/>
          <a:ext cx="8280360" cy="4821480"/>
        </p:xfrm>
        <a:graphic>
          <a:graphicData uri="http://schemas.openxmlformats.org/drawingml/2006/table">
            <a:tbl>
              <a:tblPr/>
              <a:tblGrid>
                <a:gridCol w="1703520"/>
                <a:gridCol w="1523880"/>
                <a:gridCol w="1193760"/>
                <a:gridCol w="1262160"/>
                <a:gridCol w="1123920"/>
                <a:gridCol w="677880"/>
                <a:gridCol w="795240"/>
              </a:tblGrid>
              <a:tr h="9795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сформированности универсальных учебных дей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ческая 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сих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за выполненное комплексное задание (комплексная контрольная работа на межпредметной основ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(портфель достижени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rowSpan="2"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.  Сформированность регулятивных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ий б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 Действие целеполаг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 Действие план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 Действия контроля и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 Действие 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 Саморегуля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Rectangle 4"/>
          <p:cNvSpPr/>
          <p:nvPr/>
        </p:nvSpPr>
        <p:spPr>
          <a:xfrm>
            <a:off x="250920" y="6217200"/>
            <a:ext cx="43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100% - 12 бал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высоки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90%-50% - 10-6 бал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средни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иже 50% - менее 6 бал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низки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268280"/>
          <a:ext cx="8640720" cy="5430960"/>
        </p:xfrm>
        <a:graphic>
          <a:graphicData uri="http://schemas.openxmlformats.org/drawingml/2006/table">
            <a:tbl>
              <a:tblPr/>
              <a:tblGrid>
                <a:gridCol w="666720"/>
                <a:gridCol w="2509920"/>
                <a:gridCol w="666720"/>
                <a:gridCol w="4292640"/>
                <a:gridCol w="214200"/>
                <a:gridCol w="290520"/>
              </a:tblGrid>
              <a:tr h="87480">
                <a:tc gridSpan="2" rowSpan="2"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л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овывать свое рабочее место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ует своё место в соответствии с требованиями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уется повторное напоминание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жет организовать своё место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ть цель выполнения заданий на уроке, во внеурочной деятельности, в жизненных ситуациях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ет цель выполнения заданий с помощью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уется повторное напоминание о целях заданий учителе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жет определить цель выполнения заданий даже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ть план выполнения заданий на уроках, внеурочной деятельности, жизненных ситуациях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ет план выполнения заданий с помощью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уется повторное напоминание о плане выполнения заданий учителе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жет определить план выполнения заданий даже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результатов своей  работ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объективно оценивать свою работу  и соотносить  с готовым результат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соотношении работы обнаруживается расхождение в оценк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жет соотнести свою работу с готовым результатом, оценка необъективн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 gridSpan="4">
                  <a:txBody>
                    <a:bodyPr lIns="26280" rIns="262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 10-9 баллов  высокий уровень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-5 баллов  средний уровень, 0-4 балла низкий уровен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grid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gridSpan="4" row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И  ФОРМИРОВАНИЯ     УУД (регулятивных, познавательных , коммуникативных, личностны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-33 баллов - высокий уровень;32-18 баллов  - средний уровень;  0-17 баллов - низкий уровен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96"/>
          <p:cNvSpPr/>
          <p:nvPr/>
        </p:nvSpPr>
        <p:spPr>
          <a:xfrm>
            <a:off x="179280" y="-183600"/>
            <a:ext cx="89647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Диагностическая  карта формирования УУ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1 клас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(На примере РУУ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водная таблица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формированности регулятивных  УУД  </a:t>
            </a:r>
            <a:br>
              <a:rPr sz="3600"/>
            </a:br>
            <a:br>
              <a:rPr sz="35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Таблица 4" descr=""/>
          <p:cNvPicPr/>
          <p:nvPr/>
        </p:nvPicPr>
        <p:blipFill>
          <a:blip r:embed="rId1"/>
          <a:stretch/>
        </p:blipFill>
        <p:spPr>
          <a:xfrm>
            <a:off x="176040" y="1322280"/>
            <a:ext cx="8791920" cy="5327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3"/>
          <p:cNvSpPr/>
          <p:nvPr/>
        </p:nvSpPr>
        <p:spPr>
          <a:xfrm>
            <a:off x="446256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Диаграмма 6" descr=""/>
          <p:cNvPicPr/>
          <p:nvPr/>
        </p:nvPicPr>
        <p:blipFill>
          <a:blip r:embed="rId1"/>
          <a:stretch/>
        </p:blipFill>
        <p:spPr>
          <a:xfrm>
            <a:off x="0" y="-6480"/>
            <a:ext cx="8826480" cy="6681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414360"/>
          <a:ext cx="8605800" cy="6451560"/>
        </p:xfrm>
        <a:graphic>
          <a:graphicData uri="http://schemas.openxmlformats.org/drawingml/2006/table">
            <a:tbl>
              <a:tblPr/>
              <a:tblGrid>
                <a:gridCol w="36000"/>
                <a:gridCol w="896760"/>
                <a:gridCol w="225000"/>
                <a:gridCol w="226440"/>
                <a:gridCol w="225360"/>
                <a:gridCol w="225000"/>
                <a:gridCol w="416520"/>
                <a:gridCol w="416880"/>
                <a:gridCol w="225000"/>
                <a:gridCol w="225360"/>
                <a:gridCol w="226440"/>
                <a:gridCol w="225000"/>
                <a:gridCol w="416880"/>
                <a:gridCol w="415080"/>
                <a:gridCol w="226800"/>
                <a:gridCol w="225000"/>
                <a:gridCol w="225000"/>
                <a:gridCol w="404280"/>
                <a:gridCol w="402480"/>
                <a:gridCol w="226800"/>
                <a:gridCol w="47520"/>
                <a:gridCol w="104760"/>
                <a:gridCol w="299520"/>
                <a:gridCol w="402480"/>
                <a:gridCol w="448560"/>
                <a:gridCol w="717840"/>
                <a:gridCol w="133200"/>
                <a:gridCol w="36000"/>
                <a:gridCol w="303840"/>
              </a:tblGrid>
              <a:tr h="610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3СВ-НОО</a:t>
                      </a:r>
                      <a:endParaRPr b="0" lang="en-US" sz="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дная таблица  по определению уровня сформированности УУД уч-ся __________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gridSpan="26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Условные обозначения: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уровень – 3, средний уровень – 2, низкий уровень – 1 баллов (34-31 баллов - высокий уровень;30-16 баллов  - средний уровень;  0-15 баллов - низкий уровен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9720"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Учитель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_______________________________________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Дата заполне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милии уч-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ы характеристики школьника (УУД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(БАЛЛ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(УРОВЕНЬ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тив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Объект 4" descr=""/>
          <p:cNvPicPr/>
          <p:nvPr/>
        </p:nvPicPr>
        <p:blipFill>
          <a:blip r:embed="rId1"/>
          <a:stretch/>
        </p:blipFill>
        <p:spPr>
          <a:xfrm>
            <a:off x="200160" y="138240"/>
            <a:ext cx="8670960" cy="6545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5"/>
          <p:cNvSpPr/>
          <p:nvPr/>
        </p:nvSpPr>
        <p:spPr>
          <a:xfrm>
            <a:off x="1116000" y="62064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C:\Users\Люда\Desktop\livepreview.jpg"/>
          <p:cNvPicPr/>
          <p:nvPr/>
        </p:nvPicPr>
        <p:blipFill>
          <a:blip r:embed="rId1"/>
          <a:stretch/>
        </p:blipFill>
        <p:spPr>
          <a:xfrm>
            <a:off x="1755720" y="1620720"/>
            <a:ext cx="6497640" cy="433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47640" y="836640"/>
            <a:ext cx="73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дагогическое наблю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работ на межпредметной осн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одиагностическое обслед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лиз содержания портфеля дости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MCj03117780000[1]"/>
          <p:cNvPicPr/>
          <p:nvPr/>
        </p:nvPicPr>
        <p:blipFill>
          <a:blip r:embed="rId1"/>
          <a:stretch/>
        </p:blipFill>
        <p:spPr>
          <a:xfrm>
            <a:off x="7308720" y="4149720"/>
            <a:ext cx="1433520" cy="2135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15640" y="549000"/>
            <a:ext cx="7010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ый этап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Cj02403570000[1]"/>
          <p:cNvPicPr/>
          <p:nvPr/>
        </p:nvPicPr>
        <p:blipFill>
          <a:blip r:embed="rId1"/>
          <a:stretch/>
        </p:blipFill>
        <p:spPr>
          <a:xfrm>
            <a:off x="7451640" y="549360"/>
            <a:ext cx="1406520" cy="18320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395280" y="2205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ление и корректировка циклограммы меропри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ование  взаимодействия педагога и психолога в проведении монитор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ик административного контроля предметных и метапредметных 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836280"/>
            <a:ext cx="70106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торой  этап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ДИАГНОС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8360" y="249228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работка технологии мониторинговых исследова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бор информации и ее  анализ на различном уров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PE01561_"/>
          <p:cNvPicPr/>
          <p:nvPr/>
        </p:nvPicPr>
        <p:blipFill>
          <a:blip r:embed="rId1"/>
          <a:stretch/>
        </p:blipFill>
        <p:spPr>
          <a:xfrm>
            <a:off x="5003640" y="4470480"/>
            <a:ext cx="360072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2000" y="47592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оотношение систем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268280"/>
          <a:ext cx="8496360" cy="5375520"/>
        </p:xfrm>
        <a:graphic>
          <a:graphicData uri="http://schemas.openxmlformats.org/drawingml/2006/table">
            <a:tbl>
              <a:tblPr/>
              <a:tblGrid>
                <a:gridCol w="1871640"/>
                <a:gridCol w="2160720"/>
                <a:gridCol w="1584360"/>
                <a:gridCol w="1511280"/>
                <a:gridCol w="1368360"/>
              </a:tblGrid>
              <a:tr h="210276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евый под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ческий под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н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ьн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 бальн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22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достижение опорного уров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ч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рный 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ный 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332000" y="4057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Calibri"/>
              </a:rPr>
              <a:t>Индивидуальная карта  сформированности 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981000"/>
          <a:ext cx="8640720" cy="5818320"/>
        </p:xfrm>
        <a:graphic>
          <a:graphicData uri="http://schemas.openxmlformats.org/drawingml/2006/table">
            <a:tbl>
              <a:tblPr/>
              <a:tblGrid>
                <a:gridCol w="2609640"/>
                <a:gridCol w="1189080"/>
                <a:gridCol w="1443240"/>
                <a:gridCol w="1423800"/>
                <a:gridCol w="1208160"/>
                <a:gridCol w="766800"/>
              </a:tblGrid>
              <a:tr h="140184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казатели сформированности универсальных учебных дей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едагогическая 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сих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ценка за выполненное комплексное зад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ценка портфеля достиж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Сформированность личностных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Самоопределение (самооценка, основы гражданственно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Смыслообразование (учебно-познавательная  мотивац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Морально-этическая ориент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Сформированность регулятивных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Действие целеполаг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Действие план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Действия контроля и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0066"/>
                </a:solidFill>
                <a:latin typeface="Arial"/>
              </a:rPr>
              <a:t>«Моё настроение в течении дня»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4" descr="C:\Users\Люба\AppData\Local\Microsoft\Windows\Temporary Internet Files\Content.Word\IMG_6777.jpg"/>
          <p:cNvPicPr/>
          <p:nvPr/>
        </p:nvPicPr>
        <p:blipFill>
          <a:blip r:embed="rId1"/>
          <a:stretch/>
        </p:blipFill>
        <p:spPr>
          <a:xfrm>
            <a:off x="1187280" y="1197000"/>
            <a:ext cx="7632720" cy="525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2646360" y="33336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зовые ум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68360" y="1220760"/>
            <a:ext cx="842472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00"/>
                </a:solidFill>
                <a:latin typeface="Times New Roman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1. Умение группировать содержание, поскольку любой график включает несколько позиций (групп) для срав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2. Умение устанавливать связи и отношения между групп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3. Умение замещать предмет или группу предметов знаком, цветом, разме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4. Умение сравнивать количественные величины и определять равенство-неравенст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5. Умение соотносить часть и цел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1:13:44Z</dcterms:created>
  <dc:creator>User</dc:creator>
  <dc:description/>
  <dc:language>en-US</dc:language>
  <cp:lastModifiedBy>Группа 07</cp:lastModifiedBy>
  <dcterms:modified xsi:type="dcterms:W3CDTF">2017-05-10T09:43:23Z</dcterms:modified>
  <cp:revision>131</cp:revision>
  <dc:subject/>
  <dc:title>Мониторинг в образовательном учреждении</dc:title>
</cp:coreProperties>
</file>