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1A6-EA50-4599-86B8-5ABBB479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B210-CF6B-45A9-8A7F-25BF948E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AD02-4C7E-4CF3-A6EC-AE874059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9662-C835-470C-A83C-A1B545C9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0E0D-A3EE-4373-A411-5A4D4C62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13CD-A9E7-4514-A827-0D987D1B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D9A7-3215-441E-8804-9CE492DE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083D-18A3-4034-B752-7D50D7AC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8734-D75F-43E5-AF09-0C00D9AB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8C9C-3FB4-4130-82D4-1823CBD9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D7DD-485E-4FE6-A4CF-D7B312D0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747B-06CC-4930-9B2D-F742AF6E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9721-3049-4D47-BB98-7F50DA2F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F00C-D1B4-4BA9-8D3F-91202725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E053-A254-4080-9E76-5D5E6DB0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1D0E-0BF5-4400-870A-A0EC6B8A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2B26-93D7-41CE-9396-AEAC911B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43AC-58EC-4295-804E-6F8A8E2F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6B91-8902-44A2-B82D-F967ED08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AF8C-CB77-4530-B468-8C36FFF0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A6D0-2D06-40B3-B3BB-90F15D39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E108-039F-48ED-AB9F-8211CD5D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B8F7-E9D6-4FE5-9391-2710990E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1EA-4357-4AC7-8A5F-71598E37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A5FD-A61A-4C92-961B-04FDFCAA38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0C30-5744-4569-B2FD-D4A6CAB9EBF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1557360"/>
            <a:ext cx="845964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Чистота в нашем дом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02920" y="2565000"/>
            <a:ext cx="63500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флексивно-ситуационный классный  ча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http://talantbar.ru/images/board/original/691-506-57184_996.jpg"/>
          <p:cNvPicPr/>
          <p:nvPr/>
        </p:nvPicPr>
        <p:blipFill>
          <a:blip r:embed="rId1"/>
          <a:srcRect l="0" t="10607" r="0" b="12120"/>
          <a:stretch/>
        </p:blipFill>
        <p:spPr>
          <a:xfrm>
            <a:off x="2843280" y="3284640"/>
            <a:ext cx="3181320" cy="1800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468360" y="264960"/>
            <a:ext cx="831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ОБРАЗОВАНИЯ, НАУКИ И МОЛОДЕЖНОЙ ПОЛИТИКИ ВОРОНЕЖСКОЙ ОБЛА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СУДАРСТВЕННОЕ БЮДЖЕТНОЕ ПРОФЕССИОНАЛЬНОЕ ОБРАЗОВАТЕЛЬНОЕ УЧРЕЖДЕНИЕ ВОРОНЕЖСКОЙ ОБЛА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ВОРОНЕЖСКИЙ ГОСУДАРСТВЕННЫЙ ПРОФЕССИОНАЛЬНО-ПЕДАГОГИЧЕСКИЙ КОЛЛЕДЖ"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854160" y="630900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ронеж 20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одзаголовок 2"/>
          <p:cNvSpPr/>
          <p:nvPr/>
        </p:nvSpPr>
        <p:spPr>
          <a:xfrm>
            <a:off x="5580000" y="5229360"/>
            <a:ext cx="32720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ролуцкая О.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БПОУ ВО ВГППК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803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Информация к размышлению: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Ответственный дежур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График дежур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Моющие сред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Экран чист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зультат: Кабинет не убирается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http://belenpersonalinjurylawyer.com/data_images/5745b4462e3db.jpg"/>
          <p:cNvPicPr/>
          <p:nvPr/>
        </p:nvPicPr>
        <p:blipFill>
          <a:blip r:embed="rId1"/>
          <a:stretch/>
        </p:blipFill>
        <p:spPr>
          <a:xfrm>
            <a:off x="5364000" y="2637000"/>
            <a:ext cx="315468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Я – позиция и её прич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Всегда ли Вы убираете кабине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Удовлетворены ли Вы результатом уборки кабинет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Что мешает каждому из Вас убирать кабине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Я-позиция и общественно значимая норм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в малых группах: Обсудите и аргументируйте 2 пози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В учебном кабинете убирать нуж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Можно не заниматься уборкой кабин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скуссия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аши предложения по организации эффективного дежурства по кабинету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2798280"/>
            <a:ext cx="8007480" cy="32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корректировать график дежур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риобрести хороший инвентарь и перчатки для убор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тветьте на вопрос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Что Вы считаете полезным для себя в этом обсуждении? Почем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Что понравилось? Почем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Что не понравилось? Почем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img1.liveinternet.ru/images/attach/c/1/51/356/51356234_Ocenka_dezhurstva.JPG"/>
          <p:cNvPicPr/>
          <p:nvPr/>
        </p:nvPicPr>
        <p:blipFill>
          <a:blip r:embed="rId1"/>
          <a:stretch/>
        </p:blipFill>
        <p:spPr>
          <a:xfrm>
            <a:off x="1332000" y="404640"/>
            <a:ext cx="666756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502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43080" algn="just">
              <a:lnSpc>
                <a:spcPct val="90000"/>
              </a:lnSpc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инство из Вас знает, что «Чистота-залог здоровья». Большинство из вас согласны с тем, что необходимо жить в чистоте. Решить эту задачу в условиях колледжа достаточно сложно. Можно и дальше жить  в антисанитарных условиях, но большинство из нас понимает, что такое существование вредит нашему здоровью. Поэтому, давайте попробуем улучшить свою среду обитания, изменив своё отношение к дежурству по кабине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lnSpc>
                <a:spcPct val="90000"/>
              </a:lnSpc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рез месяц вернёмся к обсуждению результатов дежурства и посмотрим, появится ли у нас позитивная динам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01:21:02Z</dcterms:created>
  <dc:creator>KPlus</dc:creator>
  <dc:description/>
  <dc:language>en-US</dc:language>
  <cp:lastModifiedBy>User</cp:lastModifiedBy>
  <dcterms:modified xsi:type="dcterms:W3CDTF">2017-05-11T08:17:24Z</dcterms:modified>
  <cp:revision>10</cp:revision>
  <dc:subject/>
  <dc:title>Чистота в нашем доме</dc:title>
</cp:coreProperties>
</file>