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F72-0510-451C-AF29-2981574A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BDD-98A2-419F-8243-2F3AD0DF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401-6368-4A00-9461-F6B603C1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36F-E067-4E58-A27E-64AB21C9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D529-A2DF-4484-9263-AAD81337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830E-B694-4658-8B54-11D01E0A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1638-A079-4A00-8E67-733DBE1E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48F6-8984-4870-A826-65F445F6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86E6-6E7A-40F1-9048-0573DC8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23F6-6F13-4819-81BE-75B6582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4D9E-E432-46AE-9F15-F9E79E71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102-E24A-4169-A75D-800B5D4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26E8-6CE4-4AB8-A61D-5640383A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5354-CC04-4043-A85B-6C844E9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61A3-E184-4E50-B056-FB738695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5816-1D02-4C21-A558-4ADE7FFC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C925-7B62-4A2D-9AD1-09E0206C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A71-C96F-4637-BDCF-820F7B90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A5A-55B1-404B-AF21-926C2AE1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388-47F7-482D-AB2E-21DDF8E6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47D-5188-4BF7-AA58-8A2DD19A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EEC-D21D-4E4B-AEC6-E55DCE9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D58-6AB7-4E37-BDAD-DFB9CED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CB0-B3D7-4FAB-9E9C-6077499B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67C9-6E2A-4BA6-9522-1AD112C2AA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F33-DFE8-4D26-9BA5-9D0726D452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845964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Чистота в нашем дом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2920" y="2565000"/>
            <a:ext cx="6350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флексивно-ситуационный классный  ча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http://talantbar.ru/images/board/original/691-506-57184_996.jpg"/>
          <p:cNvPicPr/>
          <p:nvPr/>
        </p:nvPicPr>
        <p:blipFill>
          <a:blip r:embed="rId1"/>
          <a:srcRect l="0" t="10607" r="0" b="12120"/>
          <a:stretch/>
        </p:blipFill>
        <p:spPr>
          <a:xfrm>
            <a:off x="2843280" y="3284640"/>
            <a:ext cx="318132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68360" y="264960"/>
            <a:ext cx="831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ОБРАЗОВАНИЯ, НАУКИ И МОЛОДЕЖНОЙ ПОЛИТИКИ ВОРОНЕЖ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ВОРОНЕЖ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ВОРОНЕЖСКИЙ ГОСУДАРСТВЕННЫЙ ПРОФЕССИОНАЛЬНО-ПЕДАГОГИЧЕСКИЙ КОЛЛЕДЖ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54160" y="63090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ронеж 2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одзаголовок 2"/>
          <p:cNvSpPr/>
          <p:nvPr/>
        </p:nvSpPr>
        <p:spPr>
          <a:xfrm>
            <a:off x="5580000" y="5229360"/>
            <a:ext cx="32720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луцкая О.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ПОУ ВО ВГППК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нформация к размышлению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тветственный дежур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График дежур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Моющ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Экран чист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: Кабинет не убирается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http://belenpersonalinjurylawyer.com/data_images/5745b4462e3db.jpg"/>
          <p:cNvPicPr/>
          <p:nvPr/>
        </p:nvPicPr>
        <p:blipFill>
          <a:blip r:embed="rId1"/>
          <a:stretch/>
        </p:blipFill>
        <p:spPr>
          <a:xfrm>
            <a:off x="5364000" y="2637000"/>
            <a:ext cx="315468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 – позиция и её прич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сегда ли Вы убираете кабин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Удовлетворены ли Вы результатом уборки кабине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Что мешает каждому из Вас убирать кабин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Я-позиция и общественно значимая норм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 малых группах: Обсудите и аргументируйте 2 пози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 учебном кабинете убирать нуж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Можно не заниматься уборкой кабин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уссия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аши предложения по организации эффективного дежурства по кабинету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798280"/>
            <a:ext cx="8007480" cy="32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корректировать график дежу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риобрести хороший инвентарь и перчатки для убо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ьте на вопрос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Что Вы считаете полезным для себя в этом обсуждении?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Что понравилось?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Что не понравилось?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img1.liveinternet.ru/images/attach/c/1/51/356/51356234_Ocenka_dezhurstva.JPG"/>
          <p:cNvPicPr/>
          <p:nvPr/>
        </p:nvPicPr>
        <p:blipFill>
          <a:blip r:embed="rId1"/>
          <a:stretch/>
        </p:blipFill>
        <p:spPr>
          <a:xfrm>
            <a:off x="1332000" y="404640"/>
            <a:ext cx="666756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0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3080" algn="just">
              <a:lnSpc>
                <a:spcPct val="9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из Вас знает, что «Чистота-залог здоровья». Большинство из вас согласны с тем, что необходимо жить в чистоте. Решить эту задачу в условиях колледжа достаточно сложно. Можно и дальше жить  в антисанитарных условиях, но большинство из нас понимает, что такое существование вредит нашему здоровью. Поэтому, давайте попробуем улучшить свою среду обитания, изменив своё отношение к дежурству по кабине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9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ез месяц вернёмся к обсуждению результатов дежурства и посмотрим, появится ли у нас позитивная динам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1:21:02Z</dcterms:created>
  <dc:creator>KPlus</dc:creator>
  <dc:description/>
  <dc:language>en-US</dc:language>
  <cp:lastModifiedBy>User</cp:lastModifiedBy>
  <dcterms:modified xsi:type="dcterms:W3CDTF">2017-05-11T08:17:24Z</dcterms:modified>
  <cp:revision>10</cp:revision>
  <dc:subject/>
  <dc:title>Чистота в нашем доме</dc:title>
</cp:coreProperties>
</file>