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79CF-7857-4798-8977-F1A130D7F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F5C8-3584-498D-8A49-F4F8DE50E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3344-6A48-46BC-865A-E784C9A77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5180-CB68-4BD4-A286-7B2832013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86D6-45E3-4E0F-ADEC-7DFDD0C04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9DD5-76E6-487E-836B-B840767DA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340C-C8EE-433D-8C60-CFDADD135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9951-4B53-4D9B-891F-A40BD2BF3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0412-4C72-491F-A34A-FFB2FB6B0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0D35-7D58-40A3-A478-8EF514334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1B0C-73F9-4EF3-93C2-E8EBE365B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0349-FAA0-4C19-BC26-67528DA59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7f0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68B62-A95A-4061-ACF8-4FA3C6E53BE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99760" y="-360"/>
            <a:ext cx="8543880" cy="194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7030a0"/>
                </a:solidFill>
                <a:uFillTx/>
                <a:latin typeface="Calibri"/>
              </a:rPr>
              <a:t>Интегрированная модель взаимодействия специалистов в организации коррекционно-развивающей работы с дошкольниками, имеющими двигательные наруш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0040" y="5357880"/>
            <a:ext cx="8043840" cy="112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Calibri"/>
              </a:rPr>
              <a:t>ГОУ детский сад компенсирующего вида №1671 Западного административного округ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Calibri"/>
              </a:rPr>
              <a:t>Педагог-психолог – Стрельцова Джульетта Сергеев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7030a0"/>
                </a:solidFill>
                <a:latin typeface="Calibri"/>
              </a:rPr>
              <a:t>Учитель-логопед - Васильева Елена Владимировн</a:t>
            </a:r>
            <a:r>
              <a:rPr b="0" lang="ru-RU" sz="2000" spc="-1" strike="noStrike">
                <a:solidFill>
                  <a:srgbClr val="7030a0"/>
                </a:solidFill>
                <a:latin typeface="Calibri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Содержимое 21" descr="IMG_9517.JPG"/>
          <p:cNvPicPr/>
          <p:nvPr/>
        </p:nvPicPr>
        <p:blipFill>
          <a:blip r:embed="rId1"/>
          <a:stretch/>
        </p:blipFill>
        <p:spPr>
          <a:xfrm>
            <a:off x="2071800" y="2000160"/>
            <a:ext cx="4782960" cy="3286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slow" advTm="17000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Calibri"/>
              </a:rPr>
              <a:t>Интегрированное занятие :</a:t>
            </a:r>
            <a:br>
              <a:rPr sz="3600"/>
            </a:br>
            <a:r>
              <a:rPr b="0" lang="ru-RU" sz="3600" spc="-1" strike="noStrike">
                <a:solidFill>
                  <a:srgbClr val="7030a0"/>
                </a:solidFill>
                <a:latin typeface="Calibri"/>
              </a:rPr>
              <a:t>«Путешествие с Винни-Пухом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Содержимое 4" descr="IMG_0446.jpg"/>
          <p:cNvPicPr/>
          <p:nvPr/>
        </p:nvPicPr>
        <p:blipFill>
          <a:blip r:embed="rId1"/>
          <a:stretch/>
        </p:blipFill>
        <p:spPr>
          <a:xfrm>
            <a:off x="142920" y="1571760"/>
            <a:ext cx="4595760" cy="3436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8" name="Содержимое 5" descr="IMG_0451.jpg"/>
          <p:cNvPicPr/>
          <p:nvPr/>
        </p:nvPicPr>
        <p:blipFill>
          <a:blip r:embed="rId2"/>
          <a:stretch/>
        </p:blipFill>
        <p:spPr>
          <a:xfrm>
            <a:off x="4214880" y="3071880"/>
            <a:ext cx="4467240" cy="3351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slow" advTm="10000">
    <p:zoom dir="out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1680" y="714240"/>
            <a:ext cx="7772400" cy="15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alibri"/>
              </a:rPr>
              <a:t>ИНТЕГРИРОВАННОЕ ЗАНЯТИЕ:</a:t>
            </a: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Calibri"/>
              </a:rPr>
              <a:t>«Я И МОЯ БУКВА»</a:t>
            </a: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Calibri"/>
              </a:rPr>
              <a:t>(СОВМЕСТНОЕ ЗАНЯТИЕ ПЕДАГОГА-ПСИХОЛОГА И УЧИТЕЛЯ-ЛОГОПЕД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22160" y="2214720"/>
            <a:ext cx="4206960" cy="4286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Calibri"/>
              </a:rPr>
              <a:t>Творческие задания к занятию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Calibri"/>
              </a:rPr>
              <a:t>Вылепить первую букву своего имени (цвет пластилина выбирается ребенком)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Calibri"/>
              </a:rPr>
              <a:t>Нарисовать автопортрет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Calibri"/>
              </a:rPr>
              <a:t>Сочинить сказку о приключениях букв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Рисунок 4" descr="IMG_4422.jpg"/>
          <p:cNvPicPr/>
          <p:nvPr/>
        </p:nvPicPr>
        <p:blipFill>
          <a:blip r:embed="rId1"/>
          <a:stretch/>
        </p:blipFill>
        <p:spPr>
          <a:xfrm>
            <a:off x="4214880" y="2411280"/>
            <a:ext cx="4786200" cy="3589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slow" advTm="13000">
    <p:zoom dir="out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Рисунок 1" descr="IMG_4632.jpg"/>
          <p:cNvPicPr/>
          <p:nvPr/>
        </p:nvPicPr>
        <p:blipFill>
          <a:blip r:embed="rId1"/>
          <a:stretch/>
        </p:blipFill>
        <p:spPr>
          <a:xfrm>
            <a:off x="428760" y="500040"/>
            <a:ext cx="3905280" cy="2928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3" name="Рисунок 2" descr="IMG_4637.jpg"/>
          <p:cNvPicPr/>
          <p:nvPr/>
        </p:nvPicPr>
        <p:blipFill>
          <a:blip r:embed="rId2"/>
          <a:stretch/>
        </p:blipFill>
        <p:spPr>
          <a:xfrm>
            <a:off x="4857840" y="428760"/>
            <a:ext cx="4071960" cy="3054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4" name="Рисунок 3" descr="IMG_4639.jpg"/>
          <p:cNvPicPr/>
          <p:nvPr/>
        </p:nvPicPr>
        <p:blipFill>
          <a:blip r:embed="rId3"/>
          <a:stretch/>
        </p:blipFill>
        <p:spPr>
          <a:xfrm>
            <a:off x="2428920" y="3143160"/>
            <a:ext cx="4500360" cy="3375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slow" advTm="11000">
    <p:zoom dir="in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0a0"/>
                </a:solidFill>
                <a:latin typeface="Calibri"/>
              </a:rPr>
              <a:t>СКАЗКА ЛЕЧИТ, СКАЗКА ГРЕЕТ, СКАЗКА УЧИТ ЖИТЬ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Содержимое 4" descr="IMG_9926.jpg"/>
          <p:cNvPicPr/>
          <p:nvPr/>
        </p:nvPicPr>
        <p:blipFill>
          <a:blip r:embed="rId1"/>
          <a:stretch/>
        </p:blipFill>
        <p:spPr>
          <a:xfrm>
            <a:off x="285840" y="1428840"/>
            <a:ext cx="4181400" cy="3800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7" name="Содержимое 5" descr="IMG_9927.jpg"/>
          <p:cNvPicPr/>
          <p:nvPr/>
        </p:nvPicPr>
        <p:blipFill>
          <a:blip r:embed="rId2"/>
          <a:stretch/>
        </p:blipFill>
        <p:spPr>
          <a:xfrm>
            <a:off x="4214880" y="2714760"/>
            <a:ext cx="4352760" cy="3786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slow" advTm="16000">
    <p:pull dir="ru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429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0a0"/>
                </a:solidFill>
                <a:latin typeface="Calibri"/>
              </a:rPr>
              <a:t>СКАЗКА «ТЕРЕМОК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Содержимое 4" descr="IMG_9524.JPG"/>
          <p:cNvPicPr/>
          <p:nvPr/>
        </p:nvPicPr>
        <p:blipFill>
          <a:blip r:embed="rId1"/>
          <a:stretch/>
        </p:blipFill>
        <p:spPr>
          <a:xfrm>
            <a:off x="142920" y="1285920"/>
            <a:ext cx="4503600" cy="3376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0" name="Содержимое 5" descr="IMG_9527.JPG"/>
          <p:cNvPicPr/>
          <p:nvPr/>
        </p:nvPicPr>
        <p:blipFill>
          <a:blip r:embed="rId2"/>
          <a:stretch/>
        </p:blipFill>
        <p:spPr>
          <a:xfrm>
            <a:off x="4429080" y="2643120"/>
            <a:ext cx="4473720" cy="3637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slow" advTm="16000">
    <p:pull dir="rd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0a0"/>
                </a:solidFill>
                <a:latin typeface="Calibri"/>
              </a:rPr>
              <a:t>ИГРЫ С ПЕСКО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Содержимое 4" descr="IMG_0519.JPG"/>
          <p:cNvPicPr/>
          <p:nvPr/>
        </p:nvPicPr>
        <p:blipFill>
          <a:blip r:embed="rId1"/>
          <a:stretch/>
        </p:blipFill>
        <p:spPr>
          <a:xfrm>
            <a:off x="428760" y="1285920"/>
            <a:ext cx="4429080" cy="3322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3" name="Содержимое 5" descr="IMG_9396.JPG"/>
          <p:cNvPicPr/>
          <p:nvPr/>
        </p:nvPicPr>
        <p:blipFill>
          <a:blip r:embed="rId2"/>
          <a:stretch/>
        </p:blipFill>
        <p:spPr>
          <a:xfrm>
            <a:off x="4452840" y="3357720"/>
            <a:ext cx="4372200" cy="3279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slow" advTm="14000">
    <p:pull dir="ru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Рисунок 1" descr="IMG_9428.JPG"/>
          <p:cNvPicPr/>
          <p:nvPr/>
        </p:nvPicPr>
        <p:blipFill>
          <a:blip r:embed="rId1"/>
          <a:stretch/>
        </p:blipFill>
        <p:spPr>
          <a:xfrm>
            <a:off x="285840" y="214200"/>
            <a:ext cx="4643280" cy="3483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5" name="Рисунок 2" descr="IMG_9447.JPG"/>
          <p:cNvPicPr/>
          <p:nvPr/>
        </p:nvPicPr>
        <p:blipFill>
          <a:blip r:embed="rId2"/>
          <a:stretch/>
        </p:blipFill>
        <p:spPr>
          <a:xfrm>
            <a:off x="3929040" y="2857680"/>
            <a:ext cx="4857840" cy="3643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slow" advTm="14000">
    <p:pull dir="rd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Рисунок 1" descr="IMG_3543.jpg"/>
          <p:cNvPicPr/>
          <p:nvPr/>
        </p:nvPicPr>
        <p:blipFill>
          <a:blip r:embed="rId1"/>
          <a:stretch/>
        </p:blipFill>
        <p:spPr>
          <a:xfrm>
            <a:off x="357120" y="268200"/>
            <a:ext cx="8429760" cy="6321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slow" advTm="14000">
    <p:zoom dir="out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0a0"/>
                </a:solidFill>
                <a:latin typeface="Calibri"/>
              </a:rPr>
              <a:t>АРТ - ТЕРАП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Содержимое 4" descr="IMG_9512.JPG"/>
          <p:cNvPicPr/>
          <p:nvPr/>
        </p:nvPicPr>
        <p:blipFill>
          <a:blip r:embed="rId1"/>
          <a:stretch/>
        </p:blipFill>
        <p:spPr>
          <a:xfrm>
            <a:off x="142920" y="1285920"/>
            <a:ext cx="4476600" cy="3357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9" name="Содержимое 5" descr="IMG_7362.JPG"/>
          <p:cNvPicPr/>
          <p:nvPr/>
        </p:nvPicPr>
        <p:blipFill>
          <a:blip r:embed="rId2"/>
          <a:stretch/>
        </p:blipFill>
        <p:spPr>
          <a:xfrm>
            <a:off x="4357800" y="3143160"/>
            <a:ext cx="4476600" cy="3357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slow" advTm="17000">
    <p:pull dir="rd"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Рисунок 1" descr="IMG_9962.jpg"/>
          <p:cNvPicPr/>
          <p:nvPr/>
        </p:nvPicPr>
        <p:blipFill>
          <a:blip r:embed="rId1"/>
          <a:stretch/>
        </p:blipFill>
        <p:spPr>
          <a:xfrm>
            <a:off x="357120" y="142920"/>
            <a:ext cx="4335480" cy="3921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1" name="Рисунок 2" descr="IMG_9976.jpg"/>
          <p:cNvPicPr/>
          <p:nvPr/>
        </p:nvPicPr>
        <p:blipFill>
          <a:blip r:embed="rId2"/>
          <a:stretch/>
        </p:blipFill>
        <p:spPr>
          <a:xfrm>
            <a:off x="3249720" y="3786120"/>
            <a:ext cx="5537160" cy="2692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slow" advTm="12000">
    <p:zoom dir="in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771f28"/>
                </a:solidFill>
                <a:uFillTx/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13840" y="-360"/>
            <a:ext cx="8587080" cy="664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Взаимодействие педагога-психолога и учителя-логопеда по развитию языковой личности ребён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alibri"/>
              </a:rPr>
              <a:t>МЛАДШИЙ ВОЗРАС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500040" y="1714680"/>
          <a:ext cx="7929720" cy="4998960"/>
        </p:xfrm>
        <a:graphic>
          <a:graphicData uri="http://schemas.openxmlformats.org/drawingml/2006/table">
            <a:tbl>
              <a:tblPr/>
              <a:tblGrid>
                <a:gridCol w="3965760"/>
                <a:gridCol w="396396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ересказывание и сочинение сказо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учитель-логопед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Игровая сказкотерап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педагог-психолог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</a:tr>
              <a:tr h="436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7030a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Знакомство с уменьшительно-ласкательным названием животных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7030a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Знакомство с формами повелительного наклонения глаголов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7030a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Подведение к умению иммитировать голоса животных с разной интонацией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7030a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Дифференциация речевых и неречевых звуков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7030a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Обучение построению простых фраз с использованием интонации целого предложения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ce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7030a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Побуждение к выразительной передаче в мимике и движениях эмоционального состояния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7030a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Развитие умения произвольно напрягать и расслаблять мышцы для снятия телесных барьеров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ced2"/>
                    </a:solidFill>
                  </a:tcPr>
                </a:tc>
              </a:tr>
            </a:tbl>
          </a:graphicData>
        </a:graphic>
      </p:graphicFrame>
    </p:spTree>
  </p:cSld>
  <p:transition spd="slow" advTm="14000">
    <p:zoom dir="in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Рисунок 1" descr="IMG_9459.JPG"/>
          <p:cNvPicPr/>
          <p:nvPr/>
        </p:nvPicPr>
        <p:blipFill>
          <a:blip r:embed="rId1"/>
          <a:stretch/>
        </p:blipFill>
        <p:spPr>
          <a:xfrm>
            <a:off x="285840" y="214200"/>
            <a:ext cx="4357440" cy="4050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3" name="Рисунок 2" descr="IMG_9452.JPG"/>
          <p:cNvPicPr/>
          <p:nvPr/>
        </p:nvPicPr>
        <p:blipFill>
          <a:blip r:embed="rId2"/>
          <a:stretch/>
        </p:blipFill>
        <p:spPr>
          <a:xfrm>
            <a:off x="3857760" y="2892600"/>
            <a:ext cx="5000400" cy="3751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slow" advTm="14000">
    <p:pull dir="lu"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Рисунок 1" descr="IMG_9460.JPG"/>
          <p:cNvPicPr/>
          <p:nvPr/>
        </p:nvPicPr>
        <p:blipFill>
          <a:blip r:embed="rId1"/>
          <a:stretch/>
        </p:blipFill>
        <p:spPr>
          <a:xfrm>
            <a:off x="-1440" y="285840"/>
            <a:ext cx="8859600" cy="6087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slow" advTm="14000">
    <p:zoom dir="out"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Рисунок 2" descr="IMG_7895.jpg"/>
          <p:cNvPicPr/>
          <p:nvPr/>
        </p:nvPicPr>
        <p:blipFill>
          <a:blip r:embed="rId1"/>
          <a:stretch/>
        </p:blipFill>
        <p:spPr>
          <a:xfrm>
            <a:off x="285840" y="142920"/>
            <a:ext cx="3214440" cy="3262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6" name="Рисунок 3" descr="IMG_7898.jpg"/>
          <p:cNvPicPr/>
          <p:nvPr/>
        </p:nvPicPr>
        <p:blipFill>
          <a:blip r:embed="rId2"/>
          <a:stretch/>
        </p:blipFill>
        <p:spPr>
          <a:xfrm>
            <a:off x="3227400" y="2714760"/>
            <a:ext cx="2717640" cy="3857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7" name="Рисунок 4" descr="IMG_7899.jpg"/>
          <p:cNvPicPr/>
          <p:nvPr/>
        </p:nvPicPr>
        <p:blipFill>
          <a:blip r:embed="rId3"/>
          <a:stretch/>
        </p:blipFill>
        <p:spPr>
          <a:xfrm>
            <a:off x="5429160" y="214200"/>
            <a:ext cx="3441960" cy="3357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slow" advTm="13000">
    <p:zoom dir="out"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42960" y="1143000"/>
            <a:ext cx="822960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i="1" lang="ru-RU" sz="5400" spc="-1" strike="noStrike">
                <a:solidFill>
                  <a:srgbClr val="7030a0"/>
                </a:solidFill>
                <a:latin typeface="Calibri"/>
              </a:rPr>
              <a:t>БЛАГОДАРИМ  </a:t>
            </a:r>
            <a:br>
              <a:rPr sz="5400"/>
            </a:br>
            <a:r>
              <a:rPr b="1" i="1" lang="ru-RU" sz="5400" spc="-1" strike="noStrike">
                <a:solidFill>
                  <a:srgbClr val="7030a0"/>
                </a:solidFill>
                <a:latin typeface="Calibri"/>
              </a:rPr>
              <a:t>ЗА</a:t>
            </a:r>
            <a:br>
              <a:rPr sz="5400"/>
            </a:br>
            <a:r>
              <a:rPr b="1" i="1" lang="ru-RU" sz="5400" spc="-1" strike="noStrike">
                <a:solidFill>
                  <a:srgbClr val="7030a0"/>
                </a:solidFill>
                <a:latin typeface="Calibri"/>
              </a:rPr>
              <a:t> ВНИМАНИЕ!</a:t>
            </a:r>
            <a:br>
              <a:rPr sz="5400"/>
            </a:b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7000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25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alibri"/>
              </a:rPr>
              <a:t>СРЕДНИЙ ВОЗРАСТ</a:t>
            </a: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28760" y="1401840"/>
          <a:ext cx="7858080" cy="4724280"/>
        </p:xfrm>
        <a:graphic>
          <a:graphicData uri="http://schemas.openxmlformats.org/drawingml/2006/table">
            <a:tbl>
              <a:tblPr/>
              <a:tblGrid>
                <a:gridCol w="3929040"/>
                <a:gridCol w="3929040"/>
              </a:tblGrid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ересказывание и сочинение сказо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учитель-логопед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Игровая сказкотерап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педагог-психолог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</a:tr>
              <a:tr h="344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7030a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Знакомство  с образными выражениями и сказочными повторами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7030a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Подведение к правильному интонированию реплик в проблемных ситуациях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7030a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Работа над темпо - ритмической стороной речи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7030a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Активизация в речи детей образных выражений и образование антонимов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7030a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Побуждение к выразительной передаче в мимике и движениях эмоционального состояния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7030a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Обучение детей продолжению предложений описывающих эмоциональное состояние героев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</a:tbl>
          </a:graphicData>
        </a:graphic>
      </p:graphicFrame>
    </p:spTree>
  </p:cSld>
  <p:transition spd="slow" advTm="14000">
    <p:pull dir="ru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7030a0"/>
                </a:solidFill>
                <a:latin typeface="Calibri"/>
              </a:rPr>
              <a:t>СТАРШИЙ ВОЗРАСТ</a:t>
            </a:r>
            <a:br>
              <a:rPr sz="2500"/>
            </a:br>
            <a:br>
              <a:rPr sz="25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500040" y="1397160"/>
          <a:ext cx="7858080" cy="3809880"/>
        </p:xfrm>
        <a:graphic>
          <a:graphicData uri="http://schemas.openxmlformats.org/drawingml/2006/table">
            <a:tbl>
              <a:tblPr/>
              <a:tblGrid>
                <a:gridCol w="3929040"/>
                <a:gridCol w="3929040"/>
              </a:tblGrid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ересказывание и сочинение сказо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учитель-логопед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Игровая сказкотерап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педагог-психолог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</a:tr>
              <a:tr h="25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7030a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Обучение различать и воспроизводить разные части сказок (начало, середина, конец)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7030a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Пересказ сказок с опорой на наглядный материал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7030a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Самостоятельное сочинение сказок по заданной теме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7030a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ce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7030a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Обучение воссозданию на словесной основе мысленно представляемые  эпизоды  и эмоциональные состояния героев в проблемной ситуации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7030a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Побуждение к выразительной передачи в мимике и движениях эмоционального состояния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ced2"/>
                    </a:solidFill>
                  </a:tcPr>
                </a:tc>
              </a:tr>
            </a:tbl>
          </a:graphicData>
        </a:graphic>
      </p:graphicFrame>
    </p:spTree>
  </p:cSld>
  <p:transition spd="slow" advTm="14000">
    <p:pull dir="lu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Calibri"/>
              </a:rPr>
              <a:t>КОМПЛЕКСНАЯ МОДЕЛЬ РАБОТЫ СПЕЦИАЛИСТО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56760" y="1571760"/>
            <a:ext cx="821556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7030a0"/>
                </a:solidFill>
                <a:latin typeface="Calibri"/>
              </a:rPr>
              <a:t>1.Организационный этап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Рисунок 3" descr="50.jpg"/>
          <p:cNvPicPr/>
          <p:nvPr/>
        </p:nvPicPr>
        <p:blipFill>
          <a:blip r:embed="rId1"/>
          <a:stretch/>
        </p:blipFill>
        <p:spPr>
          <a:xfrm>
            <a:off x="428760" y="2071800"/>
            <a:ext cx="3429000" cy="4572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4" name="Рисунок 4" descr="52.jpg"/>
          <p:cNvPicPr/>
          <p:nvPr/>
        </p:nvPicPr>
        <p:blipFill>
          <a:blip r:embed="rId2"/>
          <a:stretch/>
        </p:blipFill>
        <p:spPr>
          <a:xfrm>
            <a:off x="4840200" y="2071800"/>
            <a:ext cx="3483000" cy="4643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slow" advTm="13000">
    <p:zoom dir="out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1" descr="IMG_6919.jpg"/>
          <p:cNvPicPr/>
          <p:nvPr/>
        </p:nvPicPr>
        <p:blipFill>
          <a:blip r:embed="rId1"/>
          <a:stretch/>
        </p:blipFill>
        <p:spPr>
          <a:xfrm>
            <a:off x="142920" y="0"/>
            <a:ext cx="4714920" cy="3537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6" name="Рисунок 2" descr="IMG_6916.jpg"/>
          <p:cNvPicPr/>
          <p:nvPr/>
        </p:nvPicPr>
        <p:blipFill>
          <a:blip r:embed="rId2"/>
          <a:stretch/>
        </p:blipFill>
        <p:spPr>
          <a:xfrm>
            <a:off x="3786120" y="3182760"/>
            <a:ext cx="5289480" cy="3032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slow" advTm="13000">
    <p:zoom dir="out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1" descr="IMG_6048.jpg"/>
          <p:cNvPicPr/>
          <p:nvPr/>
        </p:nvPicPr>
        <p:blipFill>
          <a:blip r:embed="rId1"/>
          <a:stretch/>
        </p:blipFill>
        <p:spPr>
          <a:xfrm>
            <a:off x="357120" y="285840"/>
            <a:ext cx="3521160" cy="2666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8" name="Рисунок 2" descr="51.jpg"/>
          <p:cNvPicPr/>
          <p:nvPr/>
        </p:nvPicPr>
        <p:blipFill>
          <a:blip r:embed="rId2"/>
          <a:stretch/>
        </p:blipFill>
        <p:spPr>
          <a:xfrm>
            <a:off x="2857680" y="2786040"/>
            <a:ext cx="2928600" cy="3905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9" name="Рисунок 4" descr="IMG_6060.jpg"/>
          <p:cNvPicPr/>
          <p:nvPr/>
        </p:nvPicPr>
        <p:blipFill>
          <a:blip r:embed="rId3"/>
          <a:stretch/>
        </p:blipFill>
        <p:spPr>
          <a:xfrm>
            <a:off x="5286240" y="214200"/>
            <a:ext cx="3570480" cy="3062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slow" advTm="13000">
    <p:zoom dir="out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7030a0"/>
                </a:solidFill>
                <a:latin typeface="Calibri"/>
              </a:rPr>
              <a:t>2. Основной этап</a:t>
            </a:r>
            <a:br>
              <a:rPr sz="4000"/>
            </a:br>
            <a:r>
              <a:rPr b="0" lang="ru-RU" sz="3600" spc="-1" strike="noStrike">
                <a:solidFill>
                  <a:srgbClr val="7030a0"/>
                </a:solidFill>
                <a:latin typeface="Calibri"/>
              </a:rPr>
              <a:t>Интегрированное занятие:</a:t>
            </a:r>
            <a:br>
              <a:rPr sz="3600"/>
            </a:br>
            <a:r>
              <a:rPr b="0" lang="ru-RU" sz="3600" spc="-1" strike="noStrike">
                <a:solidFill>
                  <a:srgbClr val="7030a0"/>
                </a:solidFill>
                <a:latin typeface="Calibri"/>
              </a:rPr>
              <a:t>«Сказка о глупом мышонке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Содержимое 4" descr="100_0704.jpg"/>
          <p:cNvPicPr/>
          <p:nvPr/>
        </p:nvPicPr>
        <p:blipFill>
          <a:blip r:embed="rId1"/>
          <a:stretch/>
        </p:blipFill>
        <p:spPr>
          <a:xfrm>
            <a:off x="714240" y="1928880"/>
            <a:ext cx="3394080" cy="4525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2" name="Содержимое 5" descr="100_0706.jpg"/>
          <p:cNvPicPr/>
          <p:nvPr/>
        </p:nvPicPr>
        <p:blipFill>
          <a:blip r:embed="rId2"/>
          <a:stretch/>
        </p:blipFill>
        <p:spPr>
          <a:xfrm>
            <a:off x="4500720" y="2428920"/>
            <a:ext cx="4479840" cy="3521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slow" advTm="10000">
    <p:pull dir="ru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Calibri"/>
              </a:rPr>
              <a:t>Интегрированное занятие</a:t>
            </a:r>
            <a:br>
              <a:rPr sz="3600"/>
            </a:br>
            <a:r>
              <a:rPr b="0" lang="ru-RU" sz="3600" spc="-1" strike="noStrike">
                <a:solidFill>
                  <a:srgbClr val="7030a0"/>
                </a:solidFill>
                <a:latin typeface="Calibri"/>
              </a:rPr>
              <a:t>«Путешествие с капитаном Флинтом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Содержимое 4" descr="IMG_3141.jpg"/>
          <p:cNvPicPr/>
          <p:nvPr/>
        </p:nvPicPr>
        <p:blipFill>
          <a:blip r:embed="rId1"/>
          <a:stretch/>
        </p:blipFill>
        <p:spPr>
          <a:xfrm>
            <a:off x="214200" y="3429000"/>
            <a:ext cx="4286520" cy="3214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5" name="Содержимое 5" descr="IMG_3150.jpg"/>
          <p:cNvPicPr/>
          <p:nvPr/>
        </p:nvPicPr>
        <p:blipFill>
          <a:blip r:embed="rId2"/>
          <a:stretch/>
        </p:blipFill>
        <p:spPr>
          <a:xfrm>
            <a:off x="4000680" y="1714680"/>
            <a:ext cx="4881240" cy="3662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slow" advTm="10000">
    <p:pull dir="rd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6T04:36:52Z</dcterms:created>
  <dc:creator>GEG</dc:creator>
  <dc:description/>
  <dc:language>en-US</dc:language>
  <cp:lastModifiedBy>GEG</cp:lastModifiedBy>
  <dcterms:modified xsi:type="dcterms:W3CDTF">2017-05-11T12:09:35Z</dcterms:modified>
  <cp:revision>117</cp:revision>
  <dc:subject/>
  <dc:title>Слайд 1</dc:title>
</cp:coreProperties>
</file>