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9BFD-1F24-4A4D-B1FA-47D7C4CC5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97C8-AC1B-413B-A3D9-32B24150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3EA4-B7F8-4BF4-9063-78B43540C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3966-DF49-49DB-9446-8438AE704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33EB-BB89-4325-8042-BDEE5CE43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3A31-99D1-4F17-A241-DB79FAA50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C39C-FB6A-4725-BBA6-AB86EF78F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6970-922F-4C43-811D-F8CF5CD0D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2974-E026-404C-9AAF-1F97F31EF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3A00-2995-4785-A9B6-66F779C8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F377-18FB-44BF-9276-05D06F8C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E861-F0D6-40E0-801B-4BA80A31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520C7-2619-4597-B49A-C35953AB62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28760" y="57168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36600" algn="ctr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едположите ??????????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 algn="ctr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акова тема, цель урока  ??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знакомимся __________________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ыполним   _____________________..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9680" y="142560"/>
            <a:ext cx="818676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Тема нашего урока </a:t>
            </a: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«Герои сказки глазами художник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://img13.nnm.me/f/5/5/7/4/f5574d197b9af6fc1113780d2777acf4_full.jpg"/>
          <p:cNvPicPr/>
          <p:nvPr/>
        </p:nvPicPr>
        <p:blipFill>
          <a:blip r:embed="rId1"/>
          <a:stretch/>
        </p:blipFill>
        <p:spPr>
          <a:xfrm>
            <a:off x="1643040" y="1643040"/>
            <a:ext cx="5786640" cy="50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285560"/>
            <a:ext cx="878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выразительными средствами, которые помогают выявить характерные черты сказочных героев, как с помощью композиции передать отношение герое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57120" y="500040"/>
            <a:ext cx="3828960" cy="9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Познакомимся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363960" y="3000240"/>
            <a:ext cx="24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Выполним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3015720" y="3071880"/>
            <a:ext cx="521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люстрацию к любимой сказк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https://im1-tub-ru.yandex.net/i?id=5417ccba95a8ebb2ccd0827297677d69&amp;n=33&amp;h=215&amp;w=222"/>
          <p:cNvPicPr/>
          <p:nvPr/>
        </p:nvPicPr>
        <p:blipFill>
          <a:blip r:embed="rId1"/>
          <a:stretch/>
        </p:blipFill>
        <p:spPr>
          <a:xfrm>
            <a:off x="5857920" y="4071960"/>
            <a:ext cx="254304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28400" y="1642680"/>
            <a:ext cx="837252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мпозиционный центр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та часть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ая с наибольшей полнотой выража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ое в образном содержании сюжета ил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72120" y="5428800"/>
            <a:ext cx="32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егурочк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Врубе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http://data1.gallery.ru/albums/gallery/17310-a57e4-1569852-m750x740.jpg"/>
          <p:cNvPicPr/>
          <p:nvPr/>
        </p:nvPicPr>
        <p:blipFill>
          <a:blip r:embed="rId1"/>
          <a:stretch/>
        </p:blipFill>
        <p:spPr>
          <a:xfrm>
            <a:off x="2071800" y="285840"/>
            <a:ext cx="412416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572080" y="5428800"/>
            <a:ext cx="3571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йолика М.Врубеля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арь Берендей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http://www.artplot.ru/uploads/posts/2011-11/1321818873_vrubel-1.jpg"/>
          <p:cNvPicPr/>
          <p:nvPr/>
        </p:nvPicPr>
        <p:blipFill>
          <a:blip r:embed="rId1"/>
          <a:stretch/>
        </p:blipFill>
        <p:spPr>
          <a:xfrm>
            <a:off x="785880" y="500040"/>
            <a:ext cx="4875120" cy="57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680" y="1500120"/>
            <a:ext cx="82296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йолик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разновидность керамик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авливаемой из обожженной глины 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м расписной глазур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672160" y="5143320"/>
            <a:ext cx="3471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Врубель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Царевна - Лебедь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https://img.mp3.life/exphoto/tq2Hyb7gsLfm2JTS2A/le-vernissage.jpg"/>
          <p:cNvPicPr/>
          <p:nvPr/>
        </p:nvPicPr>
        <p:blipFill>
          <a:blip r:embed="rId1"/>
          <a:stretch/>
        </p:blipFill>
        <p:spPr>
          <a:xfrm>
            <a:off x="785880" y="571680"/>
            <a:ext cx="492912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казка о царе Салтане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Users\User\Desktop\практика пробных уроков\изо 3 кл герои сказки\1423937877_38.jpg"/>
          <p:cNvPicPr/>
          <p:nvPr/>
        </p:nvPicPr>
        <p:blipFill>
          <a:blip r:embed="rId2"/>
          <a:srcRect l="0" t="0" r="0" b="17858"/>
          <a:stretch/>
        </p:blipFill>
        <p:spPr>
          <a:xfrm>
            <a:off x="857160" y="1571760"/>
            <a:ext cx="737388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4T17:58:33Z</dcterms:created>
  <dc:creator>User</dc:creator>
  <dc:description/>
  <dc:language>en-US</dc:language>
  <cp:lastModifiedBy>User</cp:lastModifiedBy>
  <dcterms:modified xsi:type="dcterms:W3CDTF">2016-04-04T19:37:50Z</dcterms:modified>
  <cp:revision>10</cp:revision>
  <dc:subject/>
  <dc:title>Слайд 1</dc:title>
</cp:coreProperties>
</file>