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EA2-DA89-4411-B83F-1933FD7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B9C-8CBC-4E9C-9F09-C460454C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C99-1CA0-4947-A1B7-8D19CE7E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681-8C4D-4265-A983-0E0A609B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56D-C7B5-4220-A7EE-CF27F40C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7FE-B630-4075-BCF1-ACF18129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12A-FD44-4357-8E01-A110AF6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7D3-A047-4F6B-909E-39E3E8F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5B0-E558-45CD-A00B-7BF7E273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299-1239-4885-B8D5-5B12C1E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799-BD97-4A86-B3A7-455E782F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FB6-C02A-44AF-AB6C-351F9FE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A1AA-FBF2-4E2D-A8BE-3ED7F4E23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28760" y="57168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положите ?????????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ва тема, цель урока  ?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мся __________________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м   _____________________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86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нашего урока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Герои сказки глазами художн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g13.nnm.me/f/5/5/7/4/f5574d197b9af6fc1113780d2777acf4_full.jpg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зительными средствами, которые помогают выявить характерные черты сказочных героев, как с помощью композиции передать отношение герое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500040"/>
            <a:ext cx="382896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мся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63960" y="300024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олни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015720" y="307188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ю к любимой сказ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im1-tub-ru.yandex.net/i?id=5417ccba95a8ebb2ccd0827297677d69&amp;n=33&amp;h=215&amp;w=222"/>
          <p:cNvPicPr/>
          <p:nvPr/>
        </p:nvPicPr>
        <p:blipFill>
          <a:blip r:embed="rId1"/>
          <a:stretch/>
        </p:blipFill>
        <p:spPr>
          <a:xfrm>
            <a:off x="5857920" y="4071960"/>
            <a:ext cx="2543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1642680"/>
            <a:ext cx="83725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озиционный центр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а ча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с наибольшей полнотой выраж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в образном содержании сюжета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72120" y="5428800"/>
            <a:ext cx="32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уроч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руб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data1.gallery.ru/albums/gallery/17310-a57e4-1569852-m750x740.jpg"/>
          <p:cNvPicPr/>
          <p:nvPr/>
        </p:nvPicPr>
        <p:blipFill>
          <a:blip r:embed="rId1"/>
          <a:stretch/>
        </p:blipFill>
        <p:spPr>
          <a:xfrm>
            <a:off x="2071800" y="285840"/>
            <a:ext cx="4124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72080" y="542880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лика М.Врубел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Беренде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artplot.ru/uploads/posts/2011-11/1321818873_vrubel-1.jpg"/>
          <p:cNvPicPr/>
          <p:nvPr/>
        </p:nvPicPr>
        <p:blipFill>
          <a:blip r:embed="rId1"/>
          <a:stretch/>
        </p:blipFill>
        <p:spPr>
          <a:xfrm>
            <a:off x="785880" y="500040"/>
            <a:ext cx="4875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680" y="1500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ли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азновидность керами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емой из обожженной глины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расписной глазу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2160" y="514332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рубе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аревна - Лебед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s://img.mp3.life/exphoto/tq2Hyb7gsLfm2JTS2A/le-vernissage.jpg"/>
          <p:cNvPicPr/>
          <p:nvPr/>
        </p:nvPicPr>
        <p:blipFill>
          <a:blip r:embed="rId1"/>
          <a:stretch/>
        </p:blipFill>
        <p:spPr>
          <a:xfrm>
            <a:off x="785880" y="571680"/>
            <a:ext cx="4929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царе Салта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практика пробных уроков\изо 3 кл герои сказки\1423937877_38.jpg"/>
          <p:cNvPicPr/>
          <p:nvPr/>
        </p:nvPicPr>
        <p:blipFill>
          <a:blip r:embed="rId2"/>
          <a:srcRect l="0" t="0" r="0" b="17858"/>
          <a:stretch/>
        </p:blipFill>
        <p:spPr>
          <a:xfrm>
            <a:off x="857160" y="1571760"/>
            <a:ext cx="73738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7:58:33Z</dcterms:created>
  <dc:creator>User</dc:creator>
  <dc:description/>
  <dc:language>en-US</dc:language>
  <cp:lastModifiedBy>User</cp:lastModifiedBy>
  <dcterms:modified xsi:type="dcterms:W3CDTF">2016-04-04T19:37:50Z</dcterms:modified>
  <cp:revision>10</cp:revision>
  <dc:subject/>
  <dc:title>Слайд 1</dc:title>
</cp:coreProperties>
</file>