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5AA-CF5E-44BA-B2F2-111F554E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011-74E0-4A66-A5BF-54913F0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EB0-0193-4816-91FC-484E0D1D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2B8-346C-4F81-9726-619A0D24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33C-2B52-4EFB-A385-103BEB93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735-6B40-4866-A9D3-AE86B830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5FB-ECFE-44B0-A684-2AA0A416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6F6-2210-48D6-9807-0832A83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67B-8F5E-4D3E-B1E7-3F428D0A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71F-D9F5-4635-9E4C-0E6FFEC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A88-12F2-4800-9CAA-649B139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B30-619B-41B3-866A-0712D35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9BA0-ED80-4FB5-9A5D-A21A75F76E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Что такое животноводство?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Для чего нужно животноводство?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Каких домашних млекопитающих, птиц, рыб, насекомых разводят люди?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Какие продукты животноводства вы используете в пищу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Тепловые электростанции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ТЭС) –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ат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ичеств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сч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жигания топлив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го г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зу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2" descr="ТЭС2"/>
          <p:cNvPicPr/>
          <p:nvPr/>
        </p:nvPicPr>
        <p:blipFill>
          <a:blip r:embed="rId1"/>
          <a:stretch/>
        </p:blipFill>
        <p:spPr>
          <a:xfrm>
            <a:off x="4332240" y="1844640"/>
            <a:ext cx="48117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томные электростанции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АЭС) -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ют на атомн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 ядерном, топли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electro"/>
          <p:cNvPicPr/>
          <p:nvPr/>
        </p:nvPicPr>
        <p:blipFill>
          <a:blip r:embed="rId1"/>
          <a:stretch/>
        </p:blipFill>
        <p:spPr>
          <a:xfrm>
            <a:off x="4859280" y="1773360"/>
            <a:ext cx="40100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еталлургия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асль промышлен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торая обеспечива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ку металл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и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ь, алюмин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ь, цинк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ель и друг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а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09017401c59090d5c37a2e19d46ce7b0металлургия"/>
          <p:cNvPicPr/>
          <p:nvPr/>
        </p:nvPicPr>
        <p:blipFill>
          <a:blip r:embed="rId1"/>
          <a:stretch/>
        </p:blipFill>
        <p:spPr>
          <a:xfrm>
            <a:off x="4140360" y="2968560"/>
            <a:ext cx="4643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ашиностроение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 разнообраз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шины и механизмы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заво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фабр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машиностроение"/>
          <p:cNvPicPr/>
          <p:nvPr/>
        </p:nvPicPr>
        <p:blipFill>
          <a:blip r:embed="rId1"/>
          <a:stretch/>
        </p:blipFill>
        <p:spPr>
          <a:xfrm>
            <a:off x="3059280" y="3102120"/>
            <a:ext cx="583380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86440" y="-518616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овые и грузовые автомобил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SV_EK_~1"/>
          <p:cNvPicPr/>
          <p:nvPr/>
        </p:nvPicPr>
        <p:blipFill>
          <a:blip r:embed="rId1"/>
          <a:stretch/>
        </p:blipFill>
        <p:spPr>
          <a:xfrm>
            <a:off x="2484360" y="2565360"/>
            <a:ext cx="63961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ские и реч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005_1_~1"/>
          <p:cNvPicPr/>
          <p:nvPr/>
        </p:nvPicPr>
        <p:blipFill>
          <a:blip r:embed="rId1"/>
          <a:stretch/>
        </p:blipFill>
        <p:spPr>
          <a:xfrm>
            <a:off x="3995640" y="189000"/>
            <a:ext cx="49341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UKHOI~1"/>
          <p:cNvPicPr/>
          <p:nvPr/>
        </p:nvPicPr>
        <p:blipFill>
          <a:blip r:embed="rId1"/>
          <a:stretch/>
        </p:blipFill>
        <p:spPr>
          <a:xfrm>
            <a:off x="1258920" y="148428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86800" y="-506700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кторы и комбайн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962644~1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ужие и военную техни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P108-2~1"/>
          <p:cNvPicPr/>
          <p:nvPr/>
        </p:nvPicPr>
        <p:blipFill>
          <a:blip r:embed="rId1"/>
          <a:stretch/>
        </p:blipFill>
        <p:spPr>
          <a:xfrm>
            <a:off x="0" y="907920"/>
            <a:ext cx="5219640" cy="326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A3UU5L4CAGZRPRTCAJ47388CA74PTAWCA0PB58MCA401S5JCA8UV6T2CATLOIX6CAZA5Z5PCAABH7MSCAR016D4CABDUG6HCAB4O2TTCAG9BM5QCA9UUUC1CA4IZEG5CANWMML6CATDG896CAMYRQAHCAPGWVPD"/>
          <p:cNvPicPr/>
          <p:nvPr/>
        </p:nvPicPr>
        <p:blipFill>
          <a:blip r:embed="rId2"/>
          <a:stretch/>
        </p:blipFill>
        <p:spPr>
          <a:xfrm>
            <a:off x="5435640" y="3467160"/>
            <a:ext cx="3517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ылесосы, стиральные машины и другую техн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AYL40QKCAQ4J7ERCA7XACJPCAVJ176CCAYDNZNDCAD6YQL9CA76WGQFCA1BT1X0CATEXOEZCA7UPRPUCAQO7V0FCA018KORCAR6JXP7CA1MHDW9CAXLUQ0GCAX9W7B3CAK1U0KWCADT7S4UCABMER83CANS1EVS"/>
          <p:cNvPicPr/>
          <p:nvPr/>
        </p:nvPicPr>
        <p:blipFill>
          <a:blip r:embed="rId1"/>
          <a:stretch/>
        </p:blipFill>
        <p:spPr>
          <a:xfrm>
            <a:off x="3708360" y="765000"/>
            <a:ext cx="215100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9S3XAGCAFL052XCAYM7SHYCABQGV9FCA2KJZI2CA35LDAGCA259D7OCAIO8E8XCABQVWCWCAD2T46JCA7I02Z9CAVG30L6CAB1UDAUCAK6GQS2CATLDHFFCA53XR1CCAEG64KHCAOKA1A3CAWJBCFKCAZ2LYJO"/>
          <p:cNvPicPr/>
          <p:nvPr/>
        </p:nvPicPr>
        <p:blipFill>
          <a:blip r:embed="rId2"/>
          <a:stretch/>
        </p:blipFill>
        <p:spPr>
          <a:xfrm>
            <a:off x="1619280" y="2852640"/>
            <a:ext cx="302400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2JEM0YCAWEXNM3CAF0I1BKCA9LC0NUCAZJV3IBCALOCQV2CAMHG9QSCA0W2EQBCAS9N3K2CAQ06W41CA8NKL9TCAYTAPTJCASU1ZBSCAHGU284CAJI1FB6CAW22DMOCAON13O9CA03J0BMCADMJ280CAA4X1RQ"/>
          <p:cNvPicPr/>
          <p:nvPr/>
        </p:nvPicPr>
        <p:blipFill>
          <a:blip r:embed="rId3"/>
          <a:stretch/>
        </p:blipFill>
        <p:spPr>
          <a:xfrm>
            <a:off x="324000" y="105264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09SPBPCAKPWJ7NCAULBILZCA1IYTCSCAL2BQ1JCAC6YC31CAB1ZKTBCA91TD9ACAAQKT93CAUPVRKTCAZEOLUVCA4VO45NCAUER9TKCAGI1WBUCAR9T8IGCAGTKHERCABTC2B8CA3J2771CAYA33U6CAAFAHBI"/>
          <p:cNvPicPr/>
          <p:nvPr/>
        </p:nvPicPr>
        <p:blipFill>
          <a:blip r:embed="rId4"/>
          <a:stretch/>
        </p:blipFill>
        <p:spPr>
          <a:xfrm>
            <a:off x="4572000" y="386064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FYLZWNCANGXDMXCA0ZN1LRCA9CJO1ZCADZLRD5CACOBMZACA9HOJO9CAIP86HVCAI5752LCATBZNMHCAGG1PM1CAAHZJVOCAZU8P89CA5DX4HDCA656WFLCAV0YXNOCAXSSH8FCAF3K3O8CAJ7TTL7CAZRDTMQ"/>
          <p:cNvPicPr/>
          <p:nvPr/>
        </p:nvPicPr>
        <p:blipFill>
          <a:blip r:embed="rId5"/>
          <a:stretch/>
        </p:blipFill>
        <p:spPr>
          <a:xfrm>
            <a:off x="6877080" y="1268280"/>
            <a:ext cx="1873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Животноводство - это отрасль промышленности. Домашние животные разнообразны. Среди них есть млекопитающие, птицы, земноводные, насекомые. Особенно разнообразны домашние насекомые. Их содержат на фермах. Домашнюю рыбу - карпа - разводят в прудах. Домашние птицы живут на пасеках в специальных домиках - улья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Химическая промышленность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 множество веществ, которые используются в быту и хозяйстве страны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ральные порошки, моющие средств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стмассы, резин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бр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аки, краски и многое друг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86800" y="-5212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86800" y="1909800"/>
            <a:ext cx="1332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urok_himii-1600x1200"/>
          <p:cNvPicPr/>
          <p:nvPr/>
        </p:nvPicPr>
        <p:blipFill>
          <a:blip r:embed="rId1"/>
          <a:stretch/>
        </p:blipFill>
        <p:spPr>
          <a:xfrm>
            <a:off x="108000" y="115920"/>
            <a:ext cx="4221000" cy="31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F782T5CA7PMGGGCA2KZCSACAFC3ZHYCAHENAFUCAJ68X7GCAXR2EEECA84LPTDCAKEISXCCA60CJWTCAGKX86OCALFFBY0CAJ7B5OLCAP4BAUTCAA27QOHCAKN713VCAZRWWAOCABD54K7CA9M4CV2CAEGB2UY"/>
          <p:cNvPicPr/>
          <p:nvPr/>
        </p:nvPicPr>
        <p:blipFill>
          <a:blip r:embed="rId2"/>
          <a:stretch/>
        </p:blipFill>
        <p:spPr>
          <a:xfrm>
            <a:off x="4788000" y="33336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VDVETZCANHMKODCA30PWZ8CA1X54RECALS1H80CAYRBJJVCA6MS9W9CAXUSYR6CAG8D7DTCAE587CYCAK18H8YCAHWF2VCCA2R57NQCARC8AFKCAXS3DZ7CAGUUJR6CA7G8KLNCAJ0PU6ICAZBBLV2CA779DO0"/>
          <p:cNvPicPr/>
          <p:nvPr/>
        </p:nvPicPr>
        <p:blipFill>
          <a:blip r:embed="rId3"/>
          <a:stretch/>
        </p:blipFill>
        <p:spPr>
          <a:xfrm>
            <a:off x="2700360" y="2997360"/>
            <a:ext cx="3744720" cy="3470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24I0ZFCADUH4HLCAYAFGN8CANCVV5OCAH80ABDCAZMEVU3CAQIQDD4CAGQ0HKICA9RH1JZCAHEQJ21CAVK0V2KCAOQ9CEZCAA2O995CAIIYXS4CAS5I5LOCABF5KGBCAT7Y57UCARVXNHQCA5LK18VCA9B0NSP"/>
          <p:cNvPicPr/>
          <p:nvPr/>
        </p:nvPicPr>
        <p:blipFill>
          <a:blip r:embed="rId4"/>
          <a:stretch/>
        </p:blipFill>
        <p:spPr>
          <a:xfrm>
            <a:off x="6372360" y="4076640"/>
            <a:ext cx="2581200" cy="2581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AWVWHV4CAKT6PLKCAE6QX72CAAJSM3WCA04XKNQCATQFCIQCAJQSBYQCAPI6OIICAXG88F2CAM74B5OCA353IPGCAJFIEV5CA97U5GMCA66UM08CAQ24L73CAUSP1XNCAQV3WD6CAJFRC7NCAKSDKEWCAZ1IYMB"/>
          <p:cNvPicPr/>
          <p:nvPr/>
        </p:nvPicPr>
        <p:blipFill>
          <a:blip r:embed="rId5"/>
          <a:stretch/>
        </p:blipFill>
        <p:spPr>
          <a:xfrm>
            <a:off x="250920" y="4332240"/>
            <a:ext cx="31687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Легкая промышленность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 ткани, одежду, обу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image007"/>
          <p:cNvPicPr/>
          <p:nvPr/>
        </p:nvPicPr>
        <p:blipFill>
          <a:blip r:embed="rId1"/>
          <a:stretch/>
        </p:blipFill>
        <p:spPr>
          <a:xfrm>
            <a:off x="0" y="3948120"/>
            <a:ext cx="3814920" cy="29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3b7302ae3acc"/>
          <p:cNvPicPr/>
          <p:nvPr/>
        </p:nvPicPr>
        <p:blipFill>
          <a:blip r:embed="rId2"/>
          <a:stretch/>
        </p:blipFill>
        <p:spPr>
          <a:xfrm>
            <a:off x="4643280" y="2637000"/>
            <a:ext cx="43452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ищевая промышленность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людей продуктами питания. К предприятиям пищевой промышленности относятся: хлебозавод, молочный комбинат, мясокомбинат, сахарный завод, консервный завод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дитерская фабрика  и друг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food1"/>
          <p:cNvPicPr/>
          <p:nvPr/>
        </p:nvPicPr>
        <p:blipFill>
          <a:blip r:embed="rId1"/>
          <a:stretch/>
        </p:blipFill>
        <p:spPr>
          <a:xfrm>
            <a:off x="0" y="115920"/>
            <a:ext cx="4299120" cy="2865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A1HFCTCAA9QJT8CALGTCBSCADIDA0TCAVKDO1GCAH3T90RCAROEUOXCASNCBOKCAIPIHFCCAOWQVMYCAZCZGDXCAHVL455CAFU0JUQCAJ8FAX3CAIHUETSCA5F74ZUCAWMNTXCCAL4WD8GCABJIB4HCAURO8CH"/>
          <p:cNvPicPr/>
          <p:nvPr/>
        </p:nvPicPr>
        <p:blipFill>
          <a:blip r:embed="rId2"/>
          <a:stretch/>
        </p:blipFill>
        <p:spPr>
          <a:xfrm>
            <a:off x="3132000" y="1628640"/>
            <a:ext cx="3229200" cy="241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zhprom2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316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age_big_8707"/>
          <p:cNvPicPr/>
          <p:nvPr/>
        </p:nvPicPr>
        <p:blipFill>
          <a:blip r:embed="rId4"/>
          <a:stretch/>
        </p:blipFill>
        <p:spPr>
          <a:xfrm>
            <a:off x="179280" y="3668760"/>
            <a:ext cx="3273480" cy="318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i1541_16"/>
          <p:cNvPicPr/>
          <p:nvPr/>
        </p:nvPicPr>
        <p:blipFill>
          <a:blip r:embed="rId5"/>
          <a:stretch/>
        </p:blipFill>
        <p:spPr>
          <a:xfrm>
            <a:off x="5079960" y="3716280"/>
            <a:ext cx="40640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азличные отрасли промышленности                                тесно связаны между соб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1619280" y="1916280"/>
            <a:ext cx="2016000" cy="1153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547640" y="4724280"/>
            <a:ext cx="2233800" cy="151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щ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3851280" y="1484280"/>
            <a:ext cx="208908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ывающ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635280" y="3357720"/>
            <a:ext cx="216072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6300720" y="4149720"/>
            <a:ext cx="2087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6084720" y="2349360"/>
            <a:ext cx="2089440" cy="136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шиностро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708360" y="5489640"/>
            <a:ext cx="2664000" cy="1368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г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971640" y="3213000"/>
            <a:ext cx="20160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энерге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5940360" y="227664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7236000" y="378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6227640" y="544500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635280" y="5877000"/>
            <a:ext cx="144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195640" y="4508640"/>
            <a:ext cx="727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7"/>
          <p:cNvSpPr/>
          <p:nvPr/>
        </p:nvSpPr>
        <p:spPr>
          <a:xfrm flipH="1">
            <a:off x="2123640" y="299736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8"/>
          <p:cNvSpPr/>
          <p:nvPr/>
        </p:nvSpPr>
        <p:spPr>
          <a:xfrm flipV="1">
            <a:off x="3635280" y="2276640"/>
            <a:ext cx="21600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788000" y="2781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20"/>
          <p:cNvSpPr/>
          <p:nvPr/>
        </p:nvSpPr>
        <p:spPr>
          <a:xfrm flipV="1">
            <a:off x="5724360" y="3428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3348000" y="2924280"/>
            <a:ext cx="5032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987640" y="3860640"/>
            <a:ext cx="720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3419640" y="458100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4788000" y="479736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5796000" y="4149720"/>
            <a:ext cx="576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тр. 60 - 63  вопросы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ыполнить задания  рабочая тетрадь, стр. 36 – 37 № 4,5,6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10" descr="MC900223678[1]"/>
          <p:cNvPicPr/>
          <p:nvPr/>
        </p:nvPicPr>
        <p:blipFill>
          <a:blip r:embed="rId1"/>
          <a:stretch/>
        </p:blipFill>
        <p:spPr>
          <a:xfrm>
            <a:off x="5435640" y="2975040"/>
            <a:ext cx="3392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Какая бывает промышленность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j0187423"/>
          <p:cNvPicPr/>
          <p:nvPr/>
        </p:nvPicPr>
        <p:blipFill>
          <a:blip r:embed="rId1"/>
          <a:stretch/>
        </p:blipFill>
        <p:spPr>
          <a:xfrm>
            <a:off x="0" y="3762360"/>
            <a:ext cx="298440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900223678[1]"/>
          <p:cNvPicPr/>
          <p:nvPr/>
        </p:nvPicPr>
        <p:blipFill>
          <a:blip r:embed="rId2"/>
          <a:stretch/>
        </p:blipFill>
        <p:spPr>
          <a:xfrm>
            <a:off x="3564000" y="3860640"/>
            <a:ext cx="2449440" cy="280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MC900090224[1]"/>
          <p:cNvPicPr/>
          <p:nvPr/>
        </p:nvPicPr>
        <p:blipFill>
          <a:blip r:embed="rId3"/>
          <a:stretch/>
        </p:blipFill>
        <p:spPr>
          <a:xfrm>
            <a:off x="6156360" y="4724280"/>
            <a:ext cx="27147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Промышленность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производит большую часть необходимых людям товаров: от коробки печенья до автомобиля. Производством такой разной продукции занимаются различные отрасли промышл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трасли промышленност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ывающ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оэнерге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ллур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шино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мическ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щев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Добывающая промышленность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добыча полезных ископаемых: нефти, газа, угля и друг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8" descr="DETAIL_PICTURE_535069"/>
          <p:cNvPicPr/>
          <p:nvPr/>
        </p:nvPicPr>
        <p:blipFill>
          <a:blip r:embed="rId1"/>
          <a:stretch/>
        </p:blipFill>
        <p:spPr>
          <a:xfrm>
            <a:off x="3814920" y="2863800"/>
            <a:ext cx="5329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Электроэнергетика -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роизводство электрической энергии на электростанц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1-energetika"/>
          <p:cNvPicPr/>
          <p:nvPr/>
        </p:nvPicPr>
        <p:blipFill>
          <a:blip r:embed="rId1"/>
          <a:stretch/>
        </p:blipFill>
        <p:spPr>
          <a:xfrm>
            <a:off x="1835280" y="3135240"/>
            <a:ext cx="51847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уществует несколько видов электростанций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Oval 4"/>
          <p:cNvSpPr/>
          <p:nvPr/>
        </p:nvSpPr>
        <p:spPr>
          <a:xfrm>
            <a:off x="684360" y="2421000"/>
            <a:ext cx="2663640" cy="2232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ГЭС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580000" y="2133720"/>
            <a:ext cx="2519280" cy="1944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ТЭ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203640" y="4076640"/>
            <a:ext cx="2808360" cy="216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АЭ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дроэлектростанции 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ГЭС) -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оятся на реках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ат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ичеств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счет пото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дающ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лот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76871406_large_275041электроэнергетика"/>
          <p:cNvPicPr/>
          <p:nvPr/>
        </p:nvPicPr>
        <p:blipFill>
          <a:blip r:embed="rId1"/>
          <a:stretch/>
        </p:blipFill>
        <p:spPr>
          <a:xfrm>
            <a:off x="3635280" y="2637000"/>
            <a:ext cx="49626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2:33:12Z</dcterms:created>
  <dc:creator>Хабаров Дмитрий</dc:creator>
  <dc:description/>
  <dc:language>en-US</dc:language>
  <cp:lastModifiedBy>User</cp:lastModifiedBy>
  <dcterms:modified xsi:type="dcterms:W3CDTF">2017-03-05T17:11:26Z</dcterms:modified>
  <cp:revision>11</cp:revision>
  <dc:subject/>
  <dc:title>Какая бывает промышленность?</dc:title>
</cp:coreProperties>
</file>