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29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4C9-A593-4944-95AE-E6F7C938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468-061E-4D81-8A7B-5CB27DD6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F52-DECB-4A73-B4CC-9900C30D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CD4-890F-4488-A6EA-3FC5F721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98B5-881D-4014-B6DF-8B36FC18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0664-68F9-4619-A15D-93A028AA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AD51-FB64-4C86-9FE2-3E75FB84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8C07-3B19-4101-93D3-CDE838C6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3CCF-6EC2-459B-93A0-4773B731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13D2-43C6-4048-8561-D86B5A70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A410-3D5F-470F-9912-0EFC4E43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56A-1792-49B5-ACDA-63930682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FE52-2C0F-41B5-B964-1896D9F1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0E25-F758-48A1-A05E-055D1E8D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AE88-3303-4919-82AE-E3F0F607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4E7D-9AEA-451D-A523-88DF4C00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C97D-D36D-47F4-8202-2979447D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DC2-0D36-4673-A31B-0F4A4C88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0FE-15B4-4F68-AC04-6C4025FC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4FC-928A-43B4-A418-D8A94934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316-461C-4F9A-99B4-7000B9DA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ECE-0126-49A7-A5B5-1F627C77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5C32-FB44-41E2-A7CA-204875FD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0FB-6435-4756-BD05-3790A6D7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EEDC-5F40-4DFC-8806-3309BF2909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C631-1EA2-424F-840A-A651185C8B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7618" t="2971" r="7116" b="2709"/>
          <a:stretch/>
        </p:blipFill>
        <p:spPr>
          <a:xfrm>
            <a:off x="2771640" y="333360"/>
            <a:ext cx="5545440" cy="4656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140360" y="3789360"/>
            <a:ext cx="403200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5563" t="4803" r="0" b="10315"/>
          <a:stretch/>
        </p:blipFill>
        <p:spPr>
          <a:xfrm>
            <a:off x="1979640" y="0"/>
            <a:ext cx="5661000" cy="3816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476360" y="3860640"/>
            <a:ext cx="6985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ДЗЫВЫЛДАР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05520" y="3294000"/>
            <a:ext cx="4038480" cy="356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1320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56160" y="404640"/>
            <a:ext cx="45878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ЛÆГАУ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8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38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38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38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8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385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3168720" cy="3166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6153" t="6403" r="14808" b="0"/>
          <a:stretch/>
        </p:blipFill>
        <p:spPr>
          <a:xfrm>
            <a:off x="755640" y="3340080"/>
            <a:ext cx="2305080" cy="2282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13479" t="0" r="7829" b="0"/>
          <a:stretch/>
        </p:blipFill>
        <p:spPr>
          <a:xfrm>
            <a:off x="755640" y="549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22218" t="0" r="18544" b="9347"/>
          <a:stretch/>
        </p:blipFill>
        <p:spPr>
          <a:xfrm>
            <a:off x="6877080" y="620640"/>
            <a:ext cx="2014560" cy="302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3492360" y="4876920"/>
            <a:ext cx="1766880" cy="1981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968720" y="5516640"/>
            <a:ext cx="4175280" cy="96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ФЫДУАГ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3743280" cy="4005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3059280" cy="2852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блестящие картинки - цветы.gif"/>
          <p:cNvPicPr/>
          <p:nvPr/>
        </p:nvPicPr>
        <p:blipFill>
          <a:blip r:embed="rId3"/>
          <a:stretch/>
        </p:blipFill>
        <p:spPr>
          <a:xfrm rot="4386600">
            <a:off x="2487960" y="3279960"/>
            <a:ext cx="1928880" cy="3810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блестящие картинки - цветы.gif"/>
          <p:cNvPicPr/>
          <p:nvPr/>
        </p:nvPicPr>
        <p:blipFill>
          <a:blip r:embed="rId4"/>
          <a:stretch/>
        </p:blipFill>
        <p:spPr>
          <a:xfrm rot="3422400">
            <a:off x="2198880" y="2633040"/>
            <a:ext cx="1928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92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666880" y="1192320"/>
            <a:ext cx="3810240" cy="451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80000" y="5157720"/>
            <a:ext cx="4762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ЪОСТА- СЫВÆЛЛÆТТÆ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 rot="20836200">
            <a:off x="324000" y="476280"/>
            <a:ext cx="3681360" cy="381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36400">
            <a:off x="4932360" y="475920"/>
            <a:ext cx="3740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15608" t="2324" r="16005" b="35412"/>
          <a:stretch/>
        </p:blipFill>
        <p:spPr>
          <a:xfrm>
            <a:off x="1908000" y="333360"/>
            <a:ext cx="5256360" cy="424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332000" y="4797360"/>
            <a:ext cx="6624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ДЗÆБИДЫРДЗУАН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0" t="0" r="0" b="29357"/>
          <a:stretch/>
        </p:blipFill>
        <p:spPr>
          <a:xfrm rot="20720400">
            <a:off x="1187280" y="2128320"/>
            <a:ext cx="2451240" cy="3795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rot="833400">
            <a:off x="5271840" y="1937880"/>
            <a:ext cx="26812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8408" r="9076" b="38032"/>
          <a:stretch/>
        </p:blipFill>
        <p:spPr>
          <a:xfrm>
            <a:off x="0" y="0"/>
            <a:ext cx="4643280" cy="386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12409" t="8646" r="12409" b="29924"/>
          <a:stretch/>
        </p:blipFill>
        <p:spPr>
          <a:xfrm>
            <a:off x="5148360" y="0"/>
            <a:ext cx="3743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6400"/>
          <a:stretch/>
        </p:blipFill>
        <p:spPr>
          <a:xfrm rot="21334200">
            <a:off x="900000" y="1844640"/>
            <a:ext cx="2944800" cy="4495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0" t="0" r="21362" b="16429"/>
          <a:stretch/>
        </p:blipFill>
        <p:spPr>
          <a:xfrm rot="494400">
            <a:off x="5219640" y="1989000"/>
            <a:ext cx="3409920" cy="4496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184560" y="517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578480" cy="4108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692360" y="530064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А-ЛОЛ-ЛАЙ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941720" y="549360"/>
            <a:ext cx="4202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rot="20790600">
            <a:off x="468360" y="333000"/>
            <a:ext cx="3672000" cy="367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rot="1386600">
            <a:off x="5506560" y="333000"/>
            <a:ext cx="3314880" cy="3952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411280" y="4508640"/>
            <a:ext cx="460872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СКЪОЛАЙЫ ЛÆППУ»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6:15:02Z</dcterms:created>
  <dc:creator>User</dc:creator>
  <dc:description/>
  <dc:language>en-US</dc:language>
  <cp:lastModifiedBy>User</cp:lastModifiedBy>
  <dcterms:modified xsi:type="dcterms:W3CDTF">2012-04-24T19:33:03Z</dcterms:modified>
  <cp:revision>2</cp:revision>
  <dc:subject/>
  <dc:title>Слайд 1</dc:title>
</cp:coreProperties>
</file>