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3D2-8C8A-44BB-9A5F-FADEA08D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8DE-9A56-4EA2-BFEC-7EFD8AA8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DB3-F750-488E-9EE6-E64E0CF8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F61-1E65-4473-AA1B-6C43C697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055-32CF-4B7E-8F49-C882796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C42-409F-4EE5-9AB7-B69F733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245B-1576-4489-9DC6-4B267B1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38A-88A8-40E0-A1FC-DC2C69B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9742-3FBA-483F-8C47-6FAC218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EC7B-7807-4D43-A934-4D759C9C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E92-C774-43C2-8CB1-49DDF03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302-1B92-4C6E-A84E-61CC1C90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71E2-A9F4-4400-9F5E-7652264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477-21B6-4113-AEA3-F77FEF8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DD75-78AD-4524-B4B4-624BEC4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036-2FFC-4BD1-98B6-D6552485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66BF-F2F7-4D24-BEEB-A4E0DDC3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EA7-69E4-492A-B0CF-FE913017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981-2AA5-46C2-B20B-78B23B07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A01-FB78-447E-AD31-89D9860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582-6946-4D31-87BB-7E2CCE8E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A68-CCA4-4547-96C9-2F3A978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F8D-F45D-457A-90B9-3D1B2F8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10B-95DC-4B29-81FE-49AD6B8A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1C26-8901-4A4F-BDD0-01D40CF7DA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CA3-700D-4A43-B507-327D2B5759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7618" t="2971" r="7116" b="2709"/>
          <a:stretch/>
        </p:blipFill>
        <p:spPr>
          <a:xfrm>
            <a:off x="2771640" y="333360"/>
            <a:ext cx="5545440" cy="465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032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63" t="4803" r="0" b="10315"/>
          <a:stretch/>
        </p:blipFill>
        <p:spPr>
          <a:xfrm>
            <a:off x="1979640" y="0"/>
            <a:ext cx="5661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76360" y="3860640"/>
            <a:ext cx="69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ЫВЫЛДАР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05520" y="329400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132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56160" y="404640"/>
            <a:ext cx="4587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ЛÆГАУ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3168720" cy="3166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6153" t="6403" r="14808" b="0"/>
          <a:stretch/>
        </p:blipFill>
        <p:spPr>
          <a:xfrm>
            <a:off x="755640" y="3340080"/>
            <a:ext cx="2305080" cy="22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3479" t="0" r="7829" b="0"/>
          <a:stretch/>
        </p:blipFill>
        <p:spPr>
          <a:xfrm>
            <a:off x="755640" y="549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22218" t="0" r="18544" b="9347"/>
          <a:stretch/>
        </p:blipFill>
        <p:spPr>
          <a:xfrm>
            <a:off x="6877080" y="620640"/>
            <a:ext cx="20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492360" y="4876920"/>
            <a:ext cx="176688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968720" y="5516640"/>
            <a:ext cx="41752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ФЫДУАГ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74328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блестящие картинки - цветы.gif"/>
          <p:cNvPicPr/>
          <p:nvPr/>
        </p:nvPicPr>
        <p:blipFill>
          <a:blip r:embed="rId3"/>
          <a:stretch/>
        </p:blipFill>
        <p:spPr>
          <a:xfrm rot="4386600">
            <a:off x="2487960" y="3279960"/>
            <a:ext cx="1928880" cy="381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блестящие картинки - цветы.gif"/>
          <p:cNvPicPr/>
          <p:nvPr/>
        </p:nvPicPr>
        <p:blipFill>
          <a:blip r:embed="rId4"/>
          <a:stretch/>
        </p:blipFill>
        <p:spPr>
          <a:xfrm rot="3422400">
            <a:off x="2198880" y="2633040"/>
            <a:ext cx="19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9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1192320"/>
            <a:ext cx="3810240" cy="45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80000" y="5157720"/>
            <a:ext cx="4762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ЪОСТА- СЫВÆЛЛÆТТÆ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0836200">
            <a:off x="324000" y="476280"/>
            <a:ext cx="368136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36400">
            <a:off x="4932360" y="475920"/>
            <a:ext cx="3740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5608" t="2324" r="16005" b="35412"/>
          <a:stretch/>
        </p:blipFill>
        <p:spPr>
          <a:xfrm>
            <a:off x="1908000" y="333360"/>
            <a:ext cx="525636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32000" y="4797360"/>
            <a:ext cx="66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ÆБИДЫРДЗУАН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0" b="29357"/>
          <a:stretch/>
        </p:blipFill>
        <p:spPr>
          <a:xfrm rot="20720400">
            <a:off x="1187280" y="2128320"/>
            <a:ext cx="2451240" cy="379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833400">
            <a:off x="5271840" y="1937880"/>
            <a:ext cx="26812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8408" r="9076" b="38032"/>
          <a:stretch/>
        </p:blipFill>
        <p:spPr>
          <a:xfrm>
            <a:off x="0" y="0"/>
            <a:ext cx="4643280" cy="386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12409" t="8646" r="12409" b="29924"/>
          <a:stretch/>
        </p:blipFill>
        <p:spPr>
          <a:xfrm>
            <a:off x="5148360" y="0"/>
            <a:ext cx="3743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400"/>
          <a:stretch/>
        </p:blipFill>
        <p:spPr>
          <a:xfrm rot="21334200">
            <a:off x="900000" y="184464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21362" b="16429"/>
          <a:stretch/>
        </p:blipFill>
        <p:spPr>
          <a:xfrm rot="494400">
            <a:off x="5219640" y="1989000"/>
            <a:ext cx="3409920" cy="449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8456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578480" cy="410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92360" y="530064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А-ЛОЛ-ЛАЙ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41720" y="549360"/>
            <a:ext cx="4202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0790600">
            <a:off x="468360" y="333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386600">
            <a:off x="5506560" y="333000"/>
            <a:ext cx="3314880" cy="395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411280" y="4508640"/>
            <a:ext cx="4608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СКЪОЛАЙЫ ЛÆППУ»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15:02Z</dcterms:created>
  <dc:creator>User</dc:creator>
  <dc:description/>
  <dc:language>en-US</dc:language>
  <cp:lastModifiedBy>User</cp:lastModifiedBy>
  <dcterms:modified xsi:type="dcterms:W3CDTF">2012-04-24T19:33:03Z</dcterms:modified>
  <cp:revision>2</cp:revision>
  <dc:subject/>
  <dc:title>Слайд 1</dc:title>
</cp:coreProperties>
</file>