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ECB-DF1B-4164-99E2-CDAFB64B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1C3-6C9D-47DE-8B78-C9B3A190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EAC-20AD-4FF9-81E9-E86B1FCA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185-FBA3-48AF-92D2-30403F7A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8E12-A618-4F75-AA47-91F83E9A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B925-ADBE-4477-BD28-390DFB7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38E7-3968-4E9A-BEA3-5BC41F68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B2CA-512D-470D-8D33-EAE34425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14B1-C12A-41AA-9656-D82ACD2D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B72-19AD-48C0-B86B-99E7C148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AF7-686F-48E5-B2C4-1F66BCA5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75C-2D37-4842-94F8-30D4098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B2C4-12BC-499D-85CF-FAF027E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A5E-15BE-45E2-802E-E82109A3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CC7-30FB-4A0E-B776-4293BE2A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2298-011E-43AA-869C-3F7D8ADC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C1A8-47BD-4286-96CF-E7F789B4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27E-3040-4D54-872B-E82A37F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70C-F683-452A-91D1-509F791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6F2-525D-4FD0-BE27-3330076D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D44-19B5-43E1-A40A-1093F99B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AE7-059E-415B-86FC-8A8D871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657-BE95-47A0-9285-3973EDB1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2BE-2573-4C40-A3FB-C831CD1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4FB8-8CE7-4BDE-94F6-5351E8A486B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71E-6BFF-4C1D-9DC7-3FB2CE51258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79af7d"/>
                </a:solidFill>
                <a:latin typeface="Times New Roman"/>
              </a:rPr>
              <a:t>«Мой помощник – </a:t>
            </a:r>
            <a:br>
              <a:rPr sz="4800"/>
            </a:br>
            <a:r>
              <a:rPr b="1" i="1" lang="en-US" sz="4800" spc="-1" strike="noStrike">
                <a:solidFill>
                  <a:srgbClr val="79af7d"/>
                </a:solidFill>
                <a:latin typeface="Times New Roman"/>
              </a:rPr>
              <a:t>                       кабинет»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437000"/>
            <a:ext cx="5640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Сергеева Людмила Павловна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МБДОУ д/с № 1 «Солнышко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d47d"/>
                </a:solidFill>
                <a:latin typeface="Arial"/>
              </a:rPr>
              <a:t>п. Некрасовское, Ярославская обла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Речевые куб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акой же в слове первый зву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следний  в нем какой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есть ли «гласный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слове «лук»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-О-, -А- или другой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колько в слове том слогов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может сосчитать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упражнение выполнить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ё трудное поня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гимнастику   для губ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том  </a:t>
            </a:r>
            <a:r>
              <a:rPr b="1" i="1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речевой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поможет </a:t>
            </a:r>
            <a:r>
              <a:rPr b="1" i="1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куб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01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Шифровальщи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у-ка, русский алфавит,по-порядку становис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ружными рядами, прямо перед нам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пересчитайтесь и не потеряйтес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дем прятать мы слов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Шифр загадыва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у, а вы пообещайте не подглядыв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ы внимательно на числа посмотри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Заколдованное слово отыщи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295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Манные рисун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470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за чудо на подносе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о рассыпалась крупа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писать мы вас попроси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квы здесь или сло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у, а если захотит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но дом нарисова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ли солнце, или птичк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ли просто цифру пя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чень «манны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исунки получают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азки «манные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тсюда начинаются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73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Хитрые полос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Наши хитрые полос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Задают вопрос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«Что бывает жёлтым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Красны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И какой сегодня день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И во что игра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опасно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Нам беседовать не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лен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«Загадай загадку. Сп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Мне задай вопро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Расскажи, лимон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какой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У кого есть хвост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Нам полоски помогаю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Думать, говорить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Рассуждать и  не бояться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Развитыми бы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Цветные пёрыш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явилось, как из сказк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ёрышко цветно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унем мы – и полетит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но заводное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 ладошку тихо сяд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(Только ты лови!)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пушинками поглади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альчики тво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520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Я найду слова везде…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«Я найду слова везде…»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ак назвали мы игр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з газет, журналов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ниж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ля неё слова  бер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«Объяснял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ей игра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азки составля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знаём всё больше слов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арь свой расширя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88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Волшебные клякс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Пляшут кляксы-забия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На листе альбом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Одна на бабочку похож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А одна – на гном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Каждый лист 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Страна чудес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Страна Вообразил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На одном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Волшебный лес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На другом – репти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664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Загадочные мешоч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в мешочках, угадайт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учками потрогай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т, это там гороше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ли, может, жёлуд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т, камушки из речки?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Может, там немн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гречк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гадали, что в мешочках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альчикам спасиб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теперь в корзиночк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жим их красив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25923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Сказочный коллаж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 рисунк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не встретишь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т, сту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может, лес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очиним по ним мы сказк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ного будет в ней чудес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м коллаж тот  помог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ечь и память развив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ли чаще заниматься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ети будут много зн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19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Лэпбук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ро бумагу очень мн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вчера узна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все знания сво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в Лэпбук собра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м мы бумагу мя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ожем стрич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можем жеч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зная она быва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теперь  об этом зна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ы знания подытожить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м Лэпбук всегда помож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08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7386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Я никак в своей рабо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ез него не обойдус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– мой дру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моя радос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им задумками делю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им твор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 ним мечта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от уже порядок л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то он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вёрдо отвечаю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«Мой помощник – кабинет!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237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Умные трафарет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ручки взяли трафареты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онтур будем обводи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получатся зверят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ними будем мы дружи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х раскрасим осторожн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р, за край не заезж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Это, дети, нам помож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вёрдость в ручк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звива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08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Слово и сказ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ква за буквой 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ождается слов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о за слово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казка гото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пособ так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зволяет ребенк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ситуаци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вствовать тонк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ечь и фантазию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амять, мышле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развив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ез промедлень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Песочная стран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вот песочная стран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десных тайн она полн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Живут в ней сказк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загадк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в ней всегда свои порядки: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 кажды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увствовал успех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бщение радовало всех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 смог ребенок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лыбнуть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захотел сю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ернуть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26654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Фонотека кабин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Звучит негромко музык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Чайковский и Вивальд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И дети, успокоившис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Поглощены занятием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То сказки сочиняют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То ручки развиваютс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А музыка чудесная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Помощница во всё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226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у-Джок, и Марблс – все с полок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Грустно смотрят на меня,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едь без них в моей работе 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обходится ни дня.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они хотят, наверно, 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ышать о себе рассказ,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о об этом, непременно,</a:t>
            </a:r>
            <a:br>
              <a:rPr sz="2400"/>
            </a:b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сскажу в другой я раз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396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Желаю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всем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творческих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                        </a:t>
            </a:r>
            <a:r>
              <a:rPr b="1" i="1" lang="en-US" sz="4800" spc="-1" strike="noStrike">
                <a:solidFill>
                  <a:srgbClr val="f7d47d"/>
                </a:solidFill>
                <a:latin typeface="Arial"/>
              </a:rPr>
              <a:t>успехов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Arial"/>
              </a:rPr>
              <a:t>«Сухой бассейн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386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учки наши «искупае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в водичке, а в фасо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 там спряталось –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зна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азку сочиним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дут радоваться де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аши, Маши, О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тому что на заняти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нтересно с ним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097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Arial"/>
              </a:rPr>
              <a:t>«Говорящий плакат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тобы слово из слог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ыстренько сложи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, как пишется оно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тоже не забы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ть плакат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говор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нопку быстро нажима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лово правильно читай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5923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«Мячики-помощники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иние, зелены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Желтые и красны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ля развития дет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мощники прекрасные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ячики в полоск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ячики в кружочек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стесняйся, выбира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орогой дружочек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ячик крепко ты сжима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вои ручки развива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808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Логический поезд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можем общее найти и у кошки с утко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Чем похожи – объясним, даже рыбка с дудк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ы слышит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ш поезд колёсами стучи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 страну волшебных сказ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н быстро нас примч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696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Терем-теремок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d47d"/>
                </a:solidFill>
                <a:latin typeface="Arial"/>
              </a:rPr>
              <a:t>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соседств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Здесь живу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Зебра  и Лягушк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у каждого из ни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ть своя подруж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пройдём по этажа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 каждым побеседуе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А потом  расскажем ва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Обо всем поведа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, скажу вам честн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Будет интерес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Фокусники- дырокол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Развиваем пальчики -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се об этом зна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евочки и мальчи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Узоры верезают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о не ножницами, н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Выреза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е секрет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могают в этом н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дготовить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ля  школы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Фокусники-дыроколы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80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«Алфав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крепочкам-красавиц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Это очень нравитс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утешествова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по круг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есто уступать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друг друг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Если вдруг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Кто заблудилс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И с пути прост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сбил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Мы запомним алфави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учимся читат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Нам помогут скрепоч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Грамотными ст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09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12:41:15Z</dcterms:created>
  <dc:creator>Дом</dc:creator>
  <dc:description/>
  <dc:language>en-US</dc:language>
  <cp:lastModifiedBy>Дом</cp:lastModifiedBy>
  <dcterms:modified xsi:type="dcterms:W3CDTF">2017-05-10T12:24:41Z</dcterms:modified>
  <cp:revision>6</cp:revision>
  <dc:subject/>
  <dc:title> Всероссийский творческий конкурс «ЛИРА»  «Мой помощник –                         кабин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