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602-CA3C-4DD5-A9CD-30DE974A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72A-CB7B-4F59-AB77-247DA934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B77-B018-4652-9ABD-D9B20E81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805-43A2-48B1-B17C-C8D46C41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282F-35AE-43AE-B248-5BD8C281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02B8-E42B-4854-BC52-E3175A03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E101-06CA-4D6C-AB50-1F81FE1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02F9-2E19-437A-BEFD-4D88FB83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88C4-C0F9-48DA-8C86-31C30829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4ADF-35E4-4AEF-9541-D805F2EA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757-0406-403E-8AF9-852B1C48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CB9-35D1-41DA-80E9-44C6F39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88E5-DC1F-43C0-A7E1-67501A4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BE3C-260E-466D-9BD5-CE019224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354D-6CD4-4B73-8447-5AAAA02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DEC-7F74-4BE2-9DCD-96E55EDA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73CD-14BA-4E11-8767-175715F0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2A2A-E837-49D6-9647-6A490A93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8B4B-7440-49D3-AB2E-C4577B5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E5F5-FB65-42F0-BA05-A0A72512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CAFF-9E92-432C-98FF-20A23F15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8DCF-81E8-4B84-9728-9BECA5AA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0D2-6391-495A-9B77-B98C4722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3390-0866-468F-A391-29C1EFAD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3867-A456-4EE1-A943-A7EACFD9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E9D5-DAA5-41AB-B567-EA3E5B57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4553-6EB1-4B71-A1FE-E9E9C37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20AB-431D-4B10-BBC4-0C538990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8788-2D59-4778-935A-7F6606E9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C75C-7703-40F1-B8D8-1B127544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BD08-1147-4A87-87C3-CFE4C906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2474-EE7C-47CB-806C-4D8A02DA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10A2-964D-4038-A706-BA26D904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1AF-04E8-4814-909D-B5231D73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DAFD-E666-4793-A1CA-EFB852D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D9E1-E43A-4B49-A0B6-AD86A2D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DEB5-72F0-4A97-BCEC-37BEB9B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75D1-5964-4621-B75C-17C909D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F0B0-0AE6-41EA-8138-7B88DB95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5421-79F7-4E15-B3FD-6A285B8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E081-7CD1-460A-AD37-08CC78F6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F7DC-1112-45FA-9028-E56064A9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B396-0D7B-4EA7-B8CD-8DE178EC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39912-3859-4271-B036-CCE1C6DD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2D1-2576-43C2-975B-BFBAC02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D619-97DC-405A-84EC-02C1CCC9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30689-98E4-41C1-8069-300E5513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42C7-D104-4411-B48B-57BA5620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A24D-27A1-4658-98AC-D5B33253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15A7-85A3-4903-973A-E24EEEC0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1E093-1D9F-4494-B3F3-0B1E988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FDAF-72E4-43B3-B753-4309BB0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FCDC9-F9A9-4256-8641-2D191797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1BCB-E98B-4961-AE49-CCFBE169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01F9-E0C4-4987-8331-33F079C8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EC3-1FE5-4877-848A-4ED97C81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B085-B9E0-4D86-BFF9-E9CC1144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49D8-107D-4352-B420-BF75B6A9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DAB7-5585-416A-8ABD-E9DD3CA4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1077-514D-4AA5-B70F-81B5C906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62834-0761-43A8-ACE5-5F445471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A89E6-7F78-4A79-AA1A-BE1D76D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74DEF-4584-48DB-8601-4B334CF1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5578-A89C-4CB9-B499-8372EA0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C81E-14AD-48E9-9310-0D0CE5D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AFE4-2DA8-49FC-ABB0-0E96A1F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20F-6DF3-48D1-942A-6F80F862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7933-0E4B-4550-805A-DDB6FBC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63BF-9051-48D4-AF9B-D50AE769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3134-66F4-412E-BF3C-DF7CF100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F8BBD-D5FD-473A-869E-0BA96F14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02DE7-DF0B-464D-AAF3-8B17A8A7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E5F82-1DFD-419B-A9EA-A3605B9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E5DB-A8D1-4D73-B318-26B0BECD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D359-41A0-4FDB-905D-9F07F37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120" y="274320"/>
            <a:ext cx="999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8C37-CDDC-47D4-955E-22762338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F54A-68D6-4618-BF54-C60EB11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00A-A0D6-41B6-9D00-65612D1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5393-AFB3-4575-99C0-1E9B71C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F135B-4D42-4B47-B2BB-9E16E82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9C63-244A-4264-88C9-7928A3B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7640" y="39549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81F3-CE02-4CF0-84E2-33EC11D8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920" y="14475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1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920" y="3954960"/>
            <a:ext cx="3219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45AFE-0C37-4832-912D-3B1A5A44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12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7640" y="1447560"/>
            <a:ext cx="4879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120" y="3954960"/>
            <a:ext cx="999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5F9-5040-4E2C-ACE4-EE8E511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701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2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B92F2D-877C-4311-A457-6C560C3D9D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3960" y="0"/>
            <a:ext cx="9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701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2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3960" y="0"/>
            <a:ext cx="9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22B203-68D9-46DE-8705-834AA4A6EB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48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8320" y="2844720"/>
              <a:ext cx="1987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568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53855A-51D3-4109-86C0-7D1FE6B108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4D2A05-20A0-4256-8D92-FD9B30E76E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396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3960" y="0"/>
            <a:ext cx="9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B7A92B-F33D-4881-908B-08BD5759B1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47ACBB-8EB8-4EF8-B6E2-CCFB449E73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76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120" y="27432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120" y="1447560"/>
            <a:ext cx="999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1200" y="63050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6880" y="630504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68EFA9-A071-49FB-93A2-13F104CBD4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44240" y="0"/>
            <a:ext cx="10161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лимпиады для младших школьнико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6" descr="http://centerll.com/uploads/posts/2015-01/1422602472_1.jpg"/>
          <p:cNvPicPr/>
          <p:nvPr/>
        </p:nvPicPr>
        <p:blipFill>
          <a:blip r:embed="rId1"/>
          <a:stretch/>
        </p:blipFill>
        <p:spPr>
          <a:xfrm>
            <a:off x="5376960" y="2421000"/>
            <a:ext cx="60958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User</cp:lastModifiedBy>
  <dcterms:modified xsi:type="dcterms:W3CDTF">2017-05-11T08:36:07Z</dcterms:modified>
  <cp:revision>21</cp:revision>
  <dc:subject/>
  <dc:title>Презентация PowerPoint</dc:title>
</cp:coreProperties>
</file>