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35D-B328-4018-9ABF-4036247D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3F9-93BE-4CC3-BF6B-FD7CC5AB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819-41E6-43B5-9C0D-6C61007E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F46-241F-497B-A272-ABF885C4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FCCE-686A-4549-8092-3B9D0CD5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10D4-77F4-4353-9164-AE4DCE01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A2F6-AD19-4B1D-B262-07CF01C7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A785-8556-4F1B-96AF-E3CCAFA9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8C2E-B336-43F5-82EF-5022D95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C3CF-6B99-48B1-AC02-0DB0F6C4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8F5F-6A20-4B84-962B-3F6102D5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105-07E6-4547-A21C-22D6B0E8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B901-923F-4502-ACFF-D3463DD8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2299-BC73-4496-8CA1-D9AE1B66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A059-266A-491F-A3E3-6C23E0E7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F0C9-B37A-4681-BC36-E3FDD5FC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6B40-C429-4F60-A9B5-1AB808E2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D0C74-D6FB-4208-85A7-699C0DEC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2C14-7A9C-465C-A791-2DB08D9D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8ACE8-548B-474F-98AA-1DE39C35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34D5-91FF-4444-9A7D-67974FAA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BD61-8286-4A59-AEB5-07294027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898-F2B9-49A1-A7D8-EE420CA1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9A65-BD22-483C-857C-43EA8023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6D68-EC92-4A72-B72A-45563DFA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4F03-2F26-465D-BE8B-E75173CD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97D3-A679-41FA-869D-034AB7B6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47FAE-1C29-427E-B521-78416BCC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52EB-35AB-4F81-AC30-49864413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F013-80AD-4B6B-894D-37865D83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0133-674D-47F3-82C1-3C2BDB00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CD464-7B88-4778-8C45-0C64C7DB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8E4B-3CC5-4498-82AE-37695FC4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4C5-0F00-4B8F-8EC9-DC57E71B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EC4F1-26F4-44FF-95B9-D41B5486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3ABF2-2F25-4B43-A39A-41222C23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9048-D63C-44F7-936F-EFA75BAD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4E570-807D-48C0-A824-8E152592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82FA-C693-48BB-B41D-B5310F2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CA59-5240-454E-8EA8-B0E21CE5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BFF2-44D6-47AA-AA11-839D968B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A8ED2-A846-46FF-AC43-304BA484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E498-DFE4-4697-AAF6-A0E5EF55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C2BB3-F04E-4916-B0F3-24347882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6A0-7F5D-4958-8E61-0DF89D29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87B48-4D79-47CC-BF10-57A8151E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05244-4D9E-43F9-B6BA-E4C5CF24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9744B-B32A-4B79-8A2A-2FB77DC5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8575-F5CA-42FF-B9CE-458B0BDE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8BA07-2C43-4699-A17B-545CA67B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40161-56E5-4518-A801-133FBCF7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7D33A-6693-40EE-8A51-A1D50281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187DB-BF9A-42A6-BFF9-8D1088A3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89E7A-0D35-4B0E-B464-D9204129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D42B5-E547-476E-A821-0DC1AD27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16C-4484-49C2-A612-88E958A0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F829E-BC26-4135-A71E-77AE146E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DE21C-16E0-4F7C-A36B-A479A25C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48726-B056-495B-AC2E-3FF57477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DC663-1AD3-4090-8B7B-0244344E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3EE6E-0497-420A-9B0B-20472FE8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C5BF4-3A73-40D9-8D84-DB931FBF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4DB15-BE3E-4DC9-BC78-C94EF950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FD0E8-D016-4A96-9B9D-3CCE3DA0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01434-7393-45EF-8488-0A088F61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31A20-E554-4A5B-8964-E6AA6290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337-3903-4B59-A067-FDD9CDB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F5AC2-16D9-44EB-9098-33D5EE83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FC6BF-FF33-471D-AF7E-1B396AFF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903DC-BC5B-4AC3-921F-50F4882B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8BED0-A77D-47E8-900A-0BFDFED0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03EA6-54EF-481B-917F-59D45200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8B9BE-D0D0-4CE2-A1D3-35DC48CE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6F7F9-E59D-457D-A8C4-C347CAF1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A579A-7A71-4DE5-892A-74D60D7B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92312-4121-44FA-B93A-3AAFF9CE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F3F0-81B6-4EEB-8640-E13944B3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C68-515C-4ECB-9547-DDA11AA6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26D3-B7B0-4B39-9B8D-6B36981D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FCA92-D499-44A8-A777-4F472E9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0580-157A-4839-A6F3-E8289BD1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4ACB1-5931-427D-932E-E2FBE91E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D3418-6012-4E4E-880A-31CD610E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A2F9-75BB-4DAC-BC7C-8E097FCB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7016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24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0F5DE7-F8E0-4B17-BC29-FF70AA41E9A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3960" y="0"/>
            <a:ext cx="9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7016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24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3960" y="0"/>
            <a:ext cx="9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E8B91D-1175-4347-8658-B7080414AD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48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8320" y="2844720"/>
              <a:ext cx="1987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568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0C2084-4909-42A5-8EE2-7BC624C707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0DAB1C-22D0-4EBC-94C1-BB7E2EDACCA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396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3960" y="0"/>
            <a:ext cx="9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BFF121-E9F9-476F-8DB5-5E1D7D4A3EF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48B7A7-DAA8-43C2-AD7A-BD365DB649A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76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B5F616-E74B-49A5-A69A-A9B00654E2B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44240" y="0"/>
            <a:ext cx="10161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лимпиады для младших школьников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6" descr="http://centerll.com/uploads/posts/2015-01/1422602472_1.jpg"/>
          <p:cNvPicPr/>
          <p:nvPr/>
        </p:nvPicPr>
        <p:blipFill>
          <a:blip r:embed="rId1"/>
          <a:stretch/>
        </p:blipFill>
        <p:spPr>
          <a:xfrm>
            <a:off x="5376960" y="2421000"/>
            <a:ext cx="60958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698400" y="43783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tofey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6602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.р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4102200" y="41760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947880" y="4883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-erudi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rcRect l="14371" t="11334" r="72943" b="79911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306360" y="4051440"/>
            <a:ext cx="115794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660240" y="5059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znani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852480" y="4978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.olimpiada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017720" y="534960"/>
            <a:ext cx="98820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647640" y="481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990720" y="4951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rcRect l="12274" t="8022" r="55841" b="76880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yndychok-znani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523800" y="4473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ev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User</cp:lastModifiedBy>
  <dcterms:modified xsi:type="dcterms:W3CDTF">2017-05-11T08:36:07Z</dcterms:modified>
  <cp:revision>21</cp:revision>
  <dc:subject/>
  <dc:title>Презентация PowerPoint</dc:title>
</cp:coreProperties>
</file>