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8BD-FB45-487E-B676-1C0B6A0A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C59-1E47-4F1E-AA74-5DA790E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AA3-ECED-409C-89BA-4E41774F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712-343F-4FDA-9145-894E7BD0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F9F-4588-4201-B32C-EDF7A5A6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3E0E-2BAE-4637-A1DD-4B29588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D566-00FA-4A2D-9AA5-3EF5297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FFEE-64A8-4C8C-B9A5-36A6F73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98CC-507C-4E19-893E-6E85C8E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C937-FECD-4892-9AC8-1873A31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51D-3B06-4248-BF98-975BAC4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B5E-1AE0-4C6E-A21F-91ABDF9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6D5-867A-446B-A7B0-ACA6D81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620-0FB6-4899-A667-DECE4B9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127-3394-4EE7-83FE-7F9C508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186F-047B-4517-ABD2-B166F86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EB3-CF91-40A4-9E30-1D934D3B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0D5A-5215-4141-A522-23574A29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3D9E-334C-4FC7-B71A-2AD475FC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3F85-61D5-49CE-9125-BB769A7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9120-ECC6-45FE-BDD8-0ACE7F8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457C-9282-41EE-BB39-369989E5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D45-1C98-47CB-87D6-49D6F32B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5630-71E5-4326-A8F7-1FFCA58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7C7E-B65D-4473-A406-A93DEDB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6F3A-48D6-42D7-817D-EBD8037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174B-2724-4495-A3CF-3926CF6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09DE-F445-4780-BAB3-4DB32613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C8F8-3BF7-485B-9012-F6022D08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7C30-0AE2-43FA-9FCC-7D8C1EA7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AFA8-706B-4B84-B4D3-0A21905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454E-BCA2-45AF-8285-1AA632D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204B-02BB-4B00-AAD9-8B7E852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6B4-E47B-460A-8310-8E5D7D0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67CFB-819A-4572-83C4-D91C319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AB31-5029-49F0-891B-B32FC71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E695-AEB6-410E-81D0-928A5D06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7E72-4D2C-4377-B18B-07C87DC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723D-0D51-4188-A5F4-8F85911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A2AE-4FAC-4CB2-BD0D-C0D712A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90FA-D72D-4D74-AE2F-F98F723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D6B5-03FC-494F-9B74-A8FA2195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2374-FF9E-40D9-B5D2-ECB55123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0797-A707-44A2-883A-751BFB1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596-4E6E-434C-B2DE-9B39A1A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6BE62-5C45-4D66-9A6C-C85B83A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7681-EB42-4AAC-941C-6A085DC4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CF95-172C-45D2-B370-4A4FA6D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D123-D3F4-46B9-BD59-0A514C2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A961-84E4-43E0-B223-CF700FD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649B1-3E95-48CA-909F-C1A414F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1FAB-B666-4318-BF94-0ACF3C79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96FB-810A-4C8E-9A3A-9592B6E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2CEA-F7F4-4807-A31A-5139025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A982-EB29-4411-A775-75BA4DAF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2AF-03AB-498A-9CAC-9EA4F4F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2C4D-D672-4D5D-895A-0A756C08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6802-5778-41D4-8091-64F6B94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9C16-BF90-479D-9E22-6B35DC4F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B55D-582E-4BBF-B685-5604DEE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471D-5DC4-4D98-99D2-9E7D3656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78E04-BFDC-406F-9EFB-5322851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BB1D-A885-40F0-8209-55C6979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EF13-342F-4940-B0A8-973394A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FA71-86D5-4DB5-A449-A9011E2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556B-3B07-4242-A84A-F5F37CB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002-C696-4C2B-BFAA-233C251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F93D-EBFD-4684-A4CC-23255E9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517B5-FB27-4E70-B116-7F2348A8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C688-BDC0-4471-BEEB-28D54C21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418A-D43B-4A43-857F-91F94DE2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4EC1-6063-4DE5-AB07-0A96FFC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DBED-E904-4575-BD22-EA498DC2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CD27-D602-4DFB-B17A-0D5840D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ED162-20CE-477D-8196-2502CD5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A106-741D-4CC1-AD37-B30E1F7B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584E-A65F-4A93-896D-77B4591D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083-7A0C-43CA-B84A-E930C42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D41F-E6A3-46E1-8FCB-BCA65C1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75DA-D68D-40AD-BEE3-986FC62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B1FD-37E7-424B-87AE-EB43394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CC894-91FF-4600-A6F0-CB833D88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FCA01-4B4C-4392-8DDD-CAA87CF4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271-FBD6-4013-9E09-13B0079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EFB9E-08F7-426A-A2BD-9279366368C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356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356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37B49-8353-4EF6-83DB-25003D3043AA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356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356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6C441-66FB-4725-8567-59CA733D915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D4575-C2EF-4134-A716-B5BA4F7CB70A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F0FF0-23BF-4C7F-BE71-6D3A094D3A2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264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0A9AF-F8A6-4A98-8844-E7518D04D34E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06080" y="6248160"/>
            <a:ext cx="2538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248160"/>
            <a:ext cx="3861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9348480" y="6248160"/>
            <a:ext cx="2538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F5E08-A179-40F9-9345-87FFFC83C49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384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ОЛИМПИАДЫ ДЛЯ МЛАДШИХ ШКОЛЬНИКОВ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6122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rcRect l="14371" t="11334" r="72943" b="79916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rcRect l="12274" t="8022" r="55841" b="76885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cp:keywords/>
  <dc:language>en-US</dc:language>
  <cp:lastModifiedBy>Маргарита Стародубцева</cp:lastModifiedBy>
  <dcterms:modified xsi:type="dcterms:W3CDTF">2017-05-11T11:19:46Z</dcterms:modified>
  <cp:revision>13</cp:revision>
  <dc:subject/>
  <dc:title>Презентация PowerPoint</dc:title>
</cp:coreProperties>
</file>