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21E-7A8E-4B7D-A71F-431A8BD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08B-53F7-423F-BA5B-3F9912B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EF0-E038-4D32-BA14-4DDF8F42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E50-4F64-41B4-81E7-D17B66E3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8389-4280-4BB5-AD72-92217524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CF0-482E-44DD-80F8-58E4D3E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CC7F-EEA2-4FDF-8F2A-8EC3F206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DC9C-88AD-44AC-9A7D-A7983AC0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F332-9F53-4E8F-80E0-813B3BE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02C-FD51-4A9A-AC54-7DB7959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9A5-E2D1-4167-B8AB-866889D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78F-2DFE-415F-A3EB-B793ADA9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FF2-C252-4412-94CC-26A1555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825E-98C5-4892-8B5E-BFD7C52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F706-6976-4679-B14A-A09FA69A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195-C3E9-4690-B7CB-F125CE39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DBD-CD41-4F0A-A911-54E8B819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D3A6-E57D-4B94-9847-A8C386D4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E30D-7CE6-4C67-A791-45EF4419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B504-9E2B-43E9-8E69-7149C96B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685A-A0EF-4AE9-B8F3-F3CB365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9872-E071-4825-91A0-855A236A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CD3-FEC1-478E-80A4-37BE28C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DEDD-2554-45F3-9077-75D5466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3AF4-AC81-4BA0-8397-F0D891E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6683-3834-4A00-A8A3-AFF40A6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419A-B0DC-4C3B-A02C-24834E8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CEEE-B65B-4772-A5D7-7C8CE877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4A71-BDE4-4AF2-8892-65BA4EB0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F595-7223-456F-BC71-6A77A7DD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55FA-8AFA-48A6-BC9E-9EF5CFBC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2F76-BD2F-46D4-8A5C-5833F87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F849-D8F7-4F62-9963-77FCC0D0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F94-A21E-4B47-91D7-2BB39FA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3A79-261A-4AEB-BF39-C64887F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22D5-045D-42B4-8294-7C42607D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F11B-7E26-43E3-A5FF-F8B6F45A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2A4A-E441-4391-BDED-9A37BE0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741D-DF50-48E0-AC81-C512FE5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B17F-70CD-4280-BCB7-8BC6543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40FB-1125-4232-89E2-FB811BD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5DCF-E0F4-4F96-9528-9D381FDF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568B-F4CF-4C32-91AC-CD48C16F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83D7-BFAE-4807-818E-C164CF66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630-D831-451F-AAD8-B91D4A8B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DEC71-AD3E-4338-8303-09C0E22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1471-F57A-4BE7-B167-403AAB7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EC8F-EEF1-4CCE-A2B3-A1B81EA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E8DF-4DD9-434C-9E53-A9CB95C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1420-C2E7-4CEA-844C-9DECF5D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9A08A-F6A6-476B-8F98-EA32085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B7EB-53BE-4B50-93DA-39B0B7E8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90F7A-B153-4C42-9E46-219BDA2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9286E-0E34-4535-9A66-C9060CD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D61B-4232-4A1C-BDA8-30AD312D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E1E-0D99-4A57-A12A-B797C5F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BCDC-E122-4D26-A2C7-F903E4C1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5787-7D65-46D9-A593-3A84D278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7167C-E2F2-4A7E-B025-4838AE5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9994A-C951-4CC2-ADF4-1F66662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5904-9B06-4F0B-A967-EB17E8F4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104F-7466-4B07-9F63-B61E756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2810-8423-4FDD-8324-6172215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D261-1567-45D0-89FB-AD855522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C17D-684F-4E89-95BD-BF44F6E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9E28-C458-4F0D-AF67-A5E33E7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39E-DB5E-4F17-AC61-96ECC4E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2FB42-7B4E-4FB6-BCB1-8A0F201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85A8-E24C-4282-8F20-971F9941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70A9-65B8-4C98-9F13-FEB22179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38851-85FB-4F12-A0A6-6D101DE6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089CB-4F44-4670-A7D9-0A41CC18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0481D-3F06-4658-951B-7F2C953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1BB8-8188-436F-9D52-90718CB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0F2A-EC1E-4CFD-AC1D-4302148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3743B-F86D-40A1-9096-FD6B122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EBF7-2C49-4921-B28E-404E552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094-05E6-43D0-99D6-36EE096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CA4F5-CE68-4661-9AA8-438DAE4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7428-340C-4943-ACD8-1CC3714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D451A-8FBC-45A4-BBF2-A0CFAD53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A6C7F-B008-4D65-B535-6B405EA4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18C4-D523-463B-9F81-5911FF9B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38D-F514-481D-9ABF-3FF2C82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FDF-F232-4FAE-89B3-1253993B8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10387080" y="503856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828440" y="60134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828440" y="56498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189880" y="5753160"/>
            <a:ext cx="66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45D-6959-4709-B48C-F128DDC1CC1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88200" y="64800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948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CD3-AD60-4A4B-8384-4112B51CB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9360" y="612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10387080" y="9252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8624880" y="900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9274320" y="6477120"/>
            <a:ext cx="2844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49236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1267640" y="809280"/>
            <a:ext cx="669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1E6-7BA6-4A85-8BA4-82C2869855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387840" y="6481800"/>
            <a:ext cx="2841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609120" y="6481800"/>
            <a:ext cx="56818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18520" y="648324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B765-EA93-470F-9D44-DEB39ABC98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8372520" y="655632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514520" y="6556320"/>
            <a:ext cx="68580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11213640" y="6556320"/>
            <a:ext cx="66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FA7-4FDB-43F3-9A4A-4BD42051739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143920" y="6556320"/>
            <a:ext cx="2805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560240" y="6557760"/>
            <a:ext cx="659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10956960" y="6556320"/>
            <a:ext cx="4874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CA94-0A46-4E39-8112-23CB454307F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54040" y="1127160"/>
            <a:ext cx="11138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83720" y="4824360"/>
            <a:ext cx="105174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5" descr="Картинки по запросу олимпиада сундучок знаний"/>
          <p:cNvPicPr/>
          <p:nvPr/>
        </p:nvPicPr>
        <p:blipFill>
          <a:blip r:embed="rId1"/>
          <a:stretch/>
        </p:blipFill>
        <p:spPr>
          <a:xfrm>
            <a:off x="736560" y="1363680"/>
            <a:ext cx="10534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Картинки по запросу олимпиада британский бульдог"/>
          <p:cNvPicPr/>
          <p:nvPr/>
        </p:nvPicPr>
        <p:blipFill>
          <a:blip r:embed="rId1"/>
          <a:stretch/>
        </p:blipFill>
        <p:spPr>
          <a:xfrm>
            <a:off x="671400" y="509760"/>
            <a:ext cx="4797360" cy="4397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5" descr="Похожее изображение"/>
          <p:cNvPicPr/>
          <p:nvPr/>
        </p:nvPicPr>
        <p:blipFill>
          <a:blip r:embed="rId2"/>
          <a:stretch/>
        </p:blipFill>
        <p:spPr>
          <a:xfrm>
            <a:off x="6288120" y="477720"/>
            <a:ext cx="51991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46200" y="4714560"/>
            <a:ext cx="10515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5" descr="C:\Users\user\Desktop\IqsoH0Qz0Fk8R91o8mjW.jpg"/>
          <p:cNvPicPr/>
          <p:nvPr/>
        </p:nvPicPr>
        <p:blipFill>
          <a:blip r:embed="rId1"/>
          <a:stretch/>
        </p:blipFill>
        <p:spPr>
          <a:xfrm>
            <a:off x="279360" y="871560"/>
            <a:ext cx="6015240" cy="29862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477120" y="285840"/>
            <a:ext cx="5472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знание кажется многим школьникам сводом сухих и скучных правил. Чтобы преодолеть это заблуждение, открыть детям красоту науки о языке, с 2000 года ежегодно проводится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игра-конкурс "Русский медвежонок - языкознание для всех"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жегодно она привлекает более 2 миллионов участников из России и десятков зарубежных стран 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71360" y="349200"/>
            <a:ext cx="5369040" cy="4637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5572080" y="757080"/>
            <a:ext cx="6257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й дистанционный конкурс для учащихся 1-4 классов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2008 год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четыре метапредметных раунда: БЫСТРЫЙ, УМНЫЙ, СМЕЛЫЙ, ЛОВКИ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0760" y="4852800"/>
            <a:ext cx="11579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vuz.sfu-kras.ru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Картинки по запросу бельчонок олимпиады"/>
          <p:cNvPicPr/>
          <p:nvPr/>
        </p:nvPicPr>
        <p:blipFill>
          <a:blip r:embed="rId1"/>
          <a:stretch/>
        </p:blipFill>
        <p:spPr>
          <a:xfrm>
            <a:off x="600120" y="611280"/>
            <a:ext cx="3786120" cy="3797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4943520" y="219240"/>
            <a:ext cx="6991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а школьников «Бельчонок» (далее – Олимпиада) проводится Сибирским федеральным университетом с 2012 года. Первоначально она проводилась для школьников 5-8 классов по предметам: физика, математика, информатика. В этом году был расширен перечень предметов, добавились химия, биология и география, а также возраст учащихся (5-11 класс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сьбам учителей, учащихся, родителей организационным комитетом Олимпиады было принято решение в 2014-2015 учебном году добавить в перечень Олимпиады предметы: геология, экономика, русский язык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5-2016 гг. в олимпиаде приняли участие 15180 школьников из 19 субъектов РФ и ближнего зарубежья, и 289 из них стали победителями и призер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90720" y="4951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399960" y="312840"/>
            <a:ext cx="4872240" cy="48718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5872320" y="299880"/>
            <a:ext cx="581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23880" y="4896000"/>
            <a:ext cx="105156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14440" y="374760"/>
            <a:ext cx="7429320" cy="2322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5657760" y="2871720"/>
            <a:ext cx="60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е соревнования, рассчитанные на детей в возрасте от 6 до 18 лет, по одному из предметов школьной программы, которые проводятся в единый день за определённый промежуток времени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947880" y="489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Картинки по запросу олимпиада кенгуру"/>
          <p:cNvPicPr/>
          <p:nvPr/>
        </p:nvPicPr>
        <p:blipFill>
          <a:blip r:embed="rId1"/>
          <a:stretch/>
        </p:blipFill>
        <p:spPr>
          <a:xfrm>
            <a:off x="387360" y="457200"/>
            <a:ext cx="5942160" cy="44560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6743880" y="385920"/>
            <a:ext cx="510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3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5" descr="Картинки по запросу олимпиада рыжий кот"/>
          <p:cNvPicPr/>
          <p:nvPr/>
        </p:nvPicPr>
        <p:blipFill>
          <a:blip r:embed="rId1"/>
          <a:stretch/>
        </p:blipFill>
        <p:spPr>
          <a:xfrm>
            <a:off x="214200" y="501480"/>
            <a:ext cx="7545600" cy="3013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7829640" y="471600"/>
            <a:ext cx="413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00 дистанционных олимпиад и конкурсов ежегодно! Интересные и развивающие задания от педагогов высшей школ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723960" y="4959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Картинки по запросу олимпиада клевер"/>
          <p:cNvPicPr/>
          <p:nvPr/>
        </p:nvPicPr>
        <p:blipFill>
          <a:blip r:embed="rId1"/>
          <a:stretch/>
        </p:blipFill>
        <p:spPr>
          <a:xfrm>
            <a:off x="2101680" y="422280"/>
            <a:ext cx="771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5-11T12:05:22Z</dcterms:modified>
  <cp:revision>27</cp:revision>
  <dc:subject/>
  <dc:title>Презентация PowerPoint</dc:title>
</cp:coreProperties>
</file>