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BD8-CD9A-4D02-8CC4-3340BD0A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027-3129-4AE4-9F6D-DF949AC0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008-6D1F-46E9-A179-4FD08C7D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B29-6B5A-4B44-86E3-5DE7ADFA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F87-CDBE-4057-BAE0-0CBD0948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2E53-891D-4351-9F4F-E9307D1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736-A75E-430C-8B55-C767EC7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5518-D055-45D6-A7DE-196EFB0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80BC-3AD4-4D0A-8197-A80AA8B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046A-C34C-4BC9-AAE6-018799D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EF5C-C742-4310-B21B-6AC010FA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278-5E4A-4892-B98F-D40CB63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C3C-7727-4752-BBCF-0F797A0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2C48-43EF-49ED-BAA4-824EED38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36D9-6679-4D56-AB84-7C7A2D3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A7FB-2598-4B9A-997B-1945FD3C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6284-AD1A-4C62-8F5F-B071F5EB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9B89-5A65-4A7B-9D62-8D056E90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0241-BD2B-4EB9-831C-4DADAAC7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F68A-79C7-47D4-BA6A-05983B1F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0359-554E-437F-956D-7A5D897F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0856-53B6-4265-8135-DBEA4B3B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13C-7FC9-4543-B8A8-770551D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F4EF-FFF5-45CB-85AE-41B562D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CA5A-1BD1-4C4D-BF18-D5478976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DAA2-6E6D-4D94-BA10-ADF1A98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4D23-A2D4-4032-9DD9-CA6683A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220F-FB40-4BC7-87DF-F119930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638B-7CEA-49FF-B8F5-FEB45AE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D8C8-F7A6-49B7-AA93-EAFECE3C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180B-EB79-4469-89F2-FB769320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723D-0E8F-458A-AFF7-7EA1CD3F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1569-7BC4-4A33-B7CD-A9C8C3D7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8D9-3AD1-4BEC-9949-A06F53AF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FE49-77C2-49FD-B6F9-64266680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9019-D95C-49A4-BA31-2B860883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B253-7BD2-421B-A0B7-2367B15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4A7E-1D4B-4AF4-8F57-B6A0E29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FAD3-0714-4E00-9FC8-5FA3628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FF4B-B54C-489D-9FCD-D6D4FD0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E95E-5908-4383-8DA5-4E76051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3C99-7330-47E6-AEAF-8D6CC210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00FA-F8A9-48C0-AF45-DA439854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BA21-824A-45E7-860E-0627070F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F95-38A9-4ADE-8B1E-204677C1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D221-E6CF-4A2B-9C9E-0FFC2DF9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E721-61C0-46CB-B96C-BFC04A7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BECF-1E85-453C-8FDC-6E259164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772C-AB33-4987-9F02-7EC02A13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BBF5-C7F2-4DB0-8DFF-502D76B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030C2-DDD7-4B20-A2F4-27F0DA4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B703-AAEF-44C5-B939-DE5A05E3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7603-763C-40C2-9F59-D3BB072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EB5F-A851-46D6-B93B-EB17808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0B14-18F7-4F00-89E6-B82EE8AD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791-AA7D-4F2C-A843-96E6D6DD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8B50-4CE7-4F3A-81CC-6EA20FDC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66AD-3822-4869-8091-F35ABCA6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4902-8D7A-4843-AF6D-8876C16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ACD1-26D8-464E-90C0-89C8BAD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5A03-19F8-4964-97BB-9415D24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72DF-273D-4516-8812-3914F5A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E9F8-5E70-4799-B1E7-2FDBB62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A16D-68F8-458F-A41A-3EA1034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61C0-BBD5-46A1-A130-1F3FD06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B3C0A-A0B8-488A-8734-704193B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65E-D6D5-4349-A430-1B126E75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68E4-9B87-43FA-9691-AE3667D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AFE0-2191-4CA5-A83C-73573CD3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C3EE-EFDE-43B5-866B-A008C6DB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20FA-950A-45B2-A0AF-C8EB5AD6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0C63-BB7D-41DA-A7A3-9DCD20A5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9ACD-C2E3-489C-AF09-C377B3F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37CF-4D9D-4B69-8963-D062289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58BE-1FAA-430A-AE2B-1CEFCD4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D3E5-BC4A-4094-AE26-0B3D9562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C457-21A1-451D-9E05-60512E8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6E6-7248-45CE-9BC6-047C9E04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CADD-E6A0-4DB5-90E2-C0F8610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299E-6F8F-46A3-A450-20EEDF1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B51E-1840-48E8-80E5-12217A7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1EFA7-F1BE-4CEA-9448-4DA8E462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90ECB-7DC8-4576-AC44-E2B455E4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EFA-A002-452C-9D97-DC2EEFDA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8A4-D66E-49A5-A39A-F3F2FA5EFA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10387080" y="503856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828440" y="60134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828440" y="56498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189880" y="5753160"/>
            <a:ext cx="66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FCE-F1A5-44CA-99FD-941BA061B41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88200" y="64800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948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29B-437E-4A2E-87CA-043929B533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9360" y="612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10387080" y="9252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8624880" y="900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9274320" y="6477120"/>
            <a:ext cx="2844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49236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1267640" y="809280"/>
            <a:ext cx="669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4BB7-5C4B-4458-AE0F-46B51C7A6C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387840" y="6481800"/>
            <a:ext cx="2841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609120" y="6481800"/>
            <a:ext cx="56818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18520" y="648324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236-D970-4DB3-B920-8A9D63F430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8372520" y="655632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514520" y="6556320"/>
            <a:ext cx="68580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11213640" y="6556320"/>
            <a:ext cx="66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032C-1371-485C-8CDC-076E8534DF6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143920" y="6556320"/>
            <a:ext cx="2805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560240" y="6557760"/>
            <a:ext cx="659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10956960" y="6556320"/>
            <a:ext cx="4874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C7A-CD20-46F2-89C0-42247AD7076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54040" y="1127160"/>
            <a:ext cx="11138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83720" y="4824360"/>
            <a:ext cx="105174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5" descr="Картинки по запросу олимпиада сундучок знаний"/>
          <p:cNvPicPr/>
          <p:nvPr/>
        </p:nvPicPr>
        <p:blipFill>
          <a:blip r:embed="rId1"/>
          <a:stretch/>
        </p:blipFill>
        <p:spPr>
          <a:xfrm>
            <a:off x="736560" y="1363680"/>
            <a:ext cx="10534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Картинки по запросу олимпиада британский бульдог"/>
          <p:cNvPicPr/>
          <p:nvPr/>
        </p:nvPicPr>
        <p:blipFill>
          <a:blip r:embed="rId1"/>
          <a:stretch/>
        </p:blipFill>
        <p:spPr>
          <a:xfrm>
            <a:off x="671400" y="509760"/>
            <a:ext cx="4797360" cy="4397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5" descr="Похожее изображение"/>
          <p:cNvPicPr/>
          <p:nvPr/>
        </p:nvPicPr>
        <p:blipFill>
          <a:blip r:embed="rId2"/>
          <a:stretch/>
        </p:blipFill>
        <p:spPr>
          <a:xfrm>
            <a:off x="6288120" y="477720"/>
            <a:ext cx="51991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46200" y="4714560"/>
            <a:ext cx="10515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5" descr="C:\Users\user\Desktop\IqsoH0Qz0Fk8R91o8mjW.jpg"/>
          <p:cNvPicPr/>
          <p:nvPr/>
        </p:nvPicPr>
        <p:blipFill>
          <a:blip r:embed="rId1"/>
          <a:stretch/>
        </p:blipFill>
        <p:spPr>
          <a:xfrm>
            <a:off x="279360" y="871560"/>
            <a:ext cx="6015240" cy="29862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477120" y="285840"/>
            <a:ext cx="5472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знание кажется многим школьникам сводом сухих и скучных правил. Чтобы преодолеть это заблуждение, открыть детям красоту науки о языке, с 2000 года ежегодно проводится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игра-конкурс "Русский медвежонок - языкознание для всех"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жегодно она привлекает более 2 миллионов участников из России и десятков зарубежных стран 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71360" y="349200"/>
            <a:ext cx="5369040" cy="4637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5572080" y="757080"/>
            <a:ext cx="6257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й дистанционный конкурс для учащихся 1-4 классов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2008 год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четыре метапредметных раунда: БЫСТРЫЙ, УМНЫЙ, СМЕЛЫЙ, ЛОВКИ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0760" y="4852800"/>
            <a:ext cx="11579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vuz.sfu-kras.ru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Картинки по запросу бельчонок олимпиады"/>
          <p:cNvPicPr/>
          <p:nvPr/>
        </p:nvPicPr>
        <p:blipFill>
          <a:blip r:embed="rId1"/>
          <a:stretch/>
        </p:blipFill>
        <p:spPr>
          <a:xfrm>
            <a:off x="600120" y="611280"/>
            <a:ext cx="3786120" cy="3797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4943520" y="219240"/>
            <a:ext cx="6991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а школьников «Бельчонок» (далее – Олимпиада) проводится Сибирским федеральным университетом с 2012 года. Первоначально она проводилась для школьников 5-8 классов по предметам: физика, математика, информатика. В этом году был расширен перечень предметов, добавились химия, биология и география, а также возраст учащихся (5-11 класс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сьбам учителей, учащихся, родителей организационным комитетом Олимпиады было принято решение в 2014-2015 учебном году добавить в перечень Олимпиады предметы: геология, экономика, русский язык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5-2016 гг. в олимпиаде приняли участие 15180 школьников из 19 субъектов РФ и ближнего зарубежья, и 289 из них стали победителями и призер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90720" y="4951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399960" y="312840"/>
            <a:ext cx="4872240" cy="48718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5872320" y="299880"/>
            <a:ext cx="581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23880" y="4896000"/>
            <a:ext cx="1051560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14440" y="374760"/>
            <a:ext cx="7429320" cy="2322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5657760" y="2871720"/>
            <a:ext cx="60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е соревнования, рассчитанные на детей в возрасте от 6 до 18 лет, по одному из предметов школьной программы, которые проводятся в единый день за определённый промежуток времени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947880" y="489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Картинки по запросу олимпиада кенгуру"/>
          <p:cNvPicPr/>
          <p:nvPr/>
        </p:nvPicPr>
        <p:blipFill>
          <a:blip r:embed="rId1"/>
          <a:stretch/>
        </p:blipFill>
        <p:spPr>
          <a:xfrm>
            <a:off x="387360" y="457200"/>
            <a:ext cx="5942160" cy="44560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6743880" y="385920"/>
            <a:ext cx="510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3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5" descr="Картинки по запросу олимпиада рыжий кот"/>
          <p:cNvPicPr/>
          <p:nvPr/>
        </p:nvPicPr>
        <p:blipFill>
          <a:blip r:embed="rId1"/>
          <a:stretch/>
        </p:blipFill>
        <p:spPr>
          <a:xfrm>
            <a:off x="214200" y="501480"/>
            <a:ext cx="7545600" cy="3013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7829640" y="471600"/>
            <a:ext cx="413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00 дистанционных олимпиад и конкурсов ежегодно! Интересные и развивающие задания от педагогов высшей школ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723960" y="4959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Картинки по запросу олимпиада клевер"/>
          <p:cNvPicPr/>
          <p:nvPr/>
        </p:nvPicPr>
        <p:blipFill>
          <a:blip r:embed="rId1"/>
          <a:stretch/>
        </p:blipFill>
        <p:spPr>
          <a:xfrm>
            <a:off x="2101680" y="422280"/>
            <a:ext cx="771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5-11T12:05:22Z</dcterms:modified>
  <cp:revision>27</cp:revision>
  <dc:subject/>
  <dc:title>Презентация PowerPoint</dc:title>
</cp:coreProperties>
</file>