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22.jpeg" ContentType="image/jpeg"/>
  <Override PartName="/ppt/media/image1.jpeg" ContentType="image/jpeg"/>
  <Override PartName="/ppt/media/image5.png" ContentType="image/png"/>
  <Override PartName="/ppt/media/image2.jpeg" ContentType="image/jpeg"/>
  <Override PartName="/ppt/media/image10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6C41-7F15-4352-9935-5FE9416AE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5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85359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50800" y="3948480"/>
            <a:ext cx="85359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5EF2-6703-421D-A288-5FCFA92DF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5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5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624800" y="1600200"/>
            <a:ext cx="4165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50800" y="3948480"/>
            <a:ext cx="4165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624800" y="3948480"/>
            <a:ext cx="4165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1F05-F278-4227-85BF-11FE8D1FD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5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2748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136920" y="1600200"/>
            <a:ext cx="2748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023040" y="1600200"/>
            <a:ext cx="2748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50800" y="3948480"/>
            <a:ext cx="2748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6136920" y="3948480"/>
            <a:ext cx="2748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9023040" y="3948480"/>
            <a:ext cx="2748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D141-7D6E-406E-A5ED-FC3F8ADEC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70F94-5D20-4DA5-8518-47DDB6D29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5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250800" y="1600200"/>
            <a:ext cx="85359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0C88E-EF0F-4E45-9B3C-8B37E51F5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5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8535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8ED81-F4AA-43D6-BF30-B7B5148AE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5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5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7624800" y="1600200"/>
            <a:ext cx="4165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58467-1CBE-47E4-86BF-400A10187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5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504E9-FD1C-4600-9F67-374C1D584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250800" y="228240"/>
            <a:ext cx="85359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62681-4616-4E7D-8B9F-47A80CBB2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5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5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624800" y="1600200"/>
            <a:ext cx="4165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50800" y="3948480"/>
            <a:ext cx="4165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1E26B-8D97-4EC5-9EC8-FB05AC39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5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50800" y="1600200"/>
            <a:ext cx="85359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A24A-1769-41EF-806A-5E8289DCF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5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5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624800" y="1600200"/>
            <a:ext cx="4165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624800" y="3948480"/>
            <a:ext cx="4165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1E076-F029-4914-9CB1-449C16CE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5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5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624800" y="1600200"/>
            <a:ext cx="4165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250800" y="3948480"/>
            <a:ext cx="85359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DC837-BBC8-4162-A793-79E0655F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5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85359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50800" y="3948480"/>
            <a:ext cx="85359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703C1-9606-4E95-9613-86C87DD90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5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5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7624800" y="1600200"/>
            <a:ext cx="4165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50800" y="3948480"/>
            <a:ext cx="4165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624800" y="3948480"/>
            <a:ext cx="4165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48E4E-CFA3-48BA-8427-2C7F20C75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5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2748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136920" y="1600200"/>
            <a:ext cx="2748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023040" y="1600200"/>
            <a:ext cx="2748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250800" y="3948480"/>
            <a:ext cx="2748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6136920" y="3948480"/>
            <a:ext cx="2748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9023040" y="3948480"/>
            <a:ext cx="2748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5D38E-71F0-4456-AB8D-B5E1778FA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5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8535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CA16-EFFD-461A-8017-713759CB7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5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5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7624800" y="1600200"/>
            <a:ext cx="4165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9581-F325-4E7C-B0E1-5AF4D9736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5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1F6E-1966-42C7-B434-BCC773394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250800" y="228240"/>
            <a:ext cx="85359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DEB9-FDEB-485D-8160-8C859C389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5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5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7624800" y="1600200"/>
            <a:ext cx="4165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50800" y="3948480"/>
            <a:ext cx="4165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904D-B3B0-44F5-BDD6-9E6221ED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5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5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624800" y="1600200"/>
            <a:ext cx="4165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624800" y="3948480"/>
            <a:ext cx="4165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C58C-6F95-4606-8548-83A52085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5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5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624800" y="1600200"/>
            <a:ext cx="4165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50800" y="3948480"/>
            <a:ext cx="85359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B8F2-1109-42F6-9236-10B4C340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3555720" cy="6858000"/>
            <a:chOff x="0" y="0"/>
            <a:chExt cx="3555720" cy="6858000"/>
          </a:xfrm>
        </p:grpSpPr>
        <p:sp>
          <p:nvSpPr>
            <p:cNvPr id="1" name="Rectangle 3"/>
            <p:cNvSpPr/>
            <p:nvPr/>
          </p:nvSpPr>
          <p:spPr>
            <a:xfrm>
              <a:off x="26413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8530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5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50800" y="1600200"/>
            <a:ext cx="8535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02680" y="6248520"/>
            <a:ext cx="253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165200" y="6248520"/>
            <a:ext cx="3862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9246960" y="6248520"/>
            <a:ext cx="2539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48DF424-353C-4C90-AA38-4B62FD15A4C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3555720" cy="6858000"/>
            <a:chOff x="0" y="0"/>
            <a:chExt cx="3555720" cy="6858000"/>
          </a:xfrm>
        </p:grpSpPr>
        <p:sp>
          <p:nvSpPr>
            <p:cNvPr id="45" name="Rectangle 3"/>
            <p:cNvSpPr/>
            <p:nvPr/>
          </p:nvSpPr>
          <p:spPr>
            <a:xfrm>
              <a:off x="26413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85300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" name="Picture 2" descr="titlemaster_med"/>
          <p:cNvPicPr/>
          <p:nvPr/>
        </p:nvPicPr>
        <p:blipFill>
          <a:blip r:embed="rId3"/>
          <a:stretch/>
        </p:blipFill>
        <p:spPr>
          <a:xfrm>
            <a:off x="0" y="0"/>
            <a:ext cx="12193560" cy="68626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5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250800" y="1600200"/>
            <a:ext cx="8535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06080" y="6248520"/>
            <a:ext cx="2539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165200" y="6248520"/>
            <a:ext cx="3862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9348480" y="6248520"/>
            <a:ext cx="2539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DBC65C5-5ED2-4368-A062-0E3D69B005B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7080" y="691920"/>
            <a:ext cx="10161720" cy="216036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Олимпиады для младших школьников!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523800" y="447372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cleve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1508040" y="474840"/>
            <a:ext cx="8548920" cy="258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838080" y="492444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mega-talant.com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893960" y="660240"/>
            <a:ext cx="7996320" cy="27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660240" y="511488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rm.kirov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3965400" y="201600"/>
            <a:ext cx="3664080" cy="439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698400" y="437832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tofeyy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1495440" y="450720"/>
            <a:ext cx="8923320" cy="31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"/>
          <p:cNvSpPr/>
          <p:nvPr/>
        </p:nvSpPr>
        <p:spPr>
          <a:xfrm>
            <a:off x="660240" y="486900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.рф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4102200" y="417600"/>
            <a:ext cx="3732120" cy="373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838080" y="434988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vika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-69840" y="720720"/>
            <a:ext cx="11423520" cy="25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838080" y="394164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c-snail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1095480" y="912960"/>
            <a:ext cx="10001160" cy="208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947880" y="488304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i-erudit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rcRect l="14371" t="11334" r="72943" b="79911"/>
          <a:stretch/>
        </p:blipFill>
        <p:spPr>
          <a:xfrm>
            <a:off x="3002040" y="846000"/>
            <a:ext cx="5973840" cy="232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"/>
          <p:cNvSpPr/>
          <p:nvPr/>
        </p:nvSpPr>
        <p:spPr>
          <a:xfrm>
            <a:off x="306360" y="4051440"/>
            <a:ext cx="115794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vuz.sfu-kras.ru/belchonok/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4038480" y="196920"/>
            <a:ext cx="4114800" cy="412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"/>
          <p:cNvSpPr/>
          <p:nvPr/>
        </p:nvSpPr>
        <p:spPr>
          <a:xfrm>
            <a:off x="660240" y="505944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znanie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3379680" y="250920"/>
            <a:ext cx="4808520" cy="480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947880" y="489600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ssian-kenguru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2765520" y="355680"/>
            <a:ext cx="5530680" cy="41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"/>
          <p:cNvSpPr/>
          <p:nvPr/>
        </p:nvSpPr>
        <p:spPr>
          <a:xfrm>
            <a:off x="852480" y="497844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us.olimpiada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017720" y="534960"/>
            <a:ext cx="9882000" cy="306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647640" y="481500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fodu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1163520" y="887400"/>
            <a:ext cx="9483840" cy="27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990720" y="495144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kurskit.org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2660760" y="531720"/>
            <a:ext cx="6476760" cy="40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838080" y="496404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u.cerm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3916440" y="282600"/>
            <a:ext cx="4359240" cy="43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647640" y="486900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odog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2770200" y="306360"/>
            <a:ext cx="6026040" cy="405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1231920" y="353880"/>
            <a:ext cx="9126360" cy="36450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"/>
          <p:cNvSpPr/>
          <p:nvPr/>
        </p:nvSpPr>
        <p:spPr>
          <a:xfrm>
            <a:off x="2333520" y="4516560"/>
            <a:ext cx="7629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ginger-cat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"/>
          <p:cNvPicPr/>
          <p:nvPr/>
        </p:nvPicPr>
        <p:blipFill>
          <a:blip r:embed="rId1"/>
          <a:srcRect l="29370" t="25935" r="29301" b="33957"/>
          <a:stretch/>
        </p:blipFill>
        <p:spPr>
          <a:xfrm>
            <a:off x="2511360" y="136440"/>
            <a:ext cx="6796080" cy="37083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2"/>
          <p:cNvSpPr/>
          <p:nvPr/>
        </p:nvSpPr>
        <p:spPr>
          <a:xfrm>
            <a:off x="0" y="4227480"/>
            <a:ext cx="1219212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  <a:tab algn="l" pos="12130200"/>
              </a:tabLst>
            </a:pPr>
            <a:r>
              <a:rPr b="0" lang="ru-RU" sz="96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olympiadonline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" descr=""/>
          <p:cNvPicPr/>
          <p:nvPr/>
        </p:nvPicPr>
        <p:blipFill>
          <a:blip r:embed="rId1"/>
          <a:srcRect l="12274" t="8022" r="55841" b="76880"/>
          <a:stretch/>
        </p:blipFill>
        <p:spPr>
          <a:xfrm>
            <a:off x="1069920" y="490680"/>
            <a:ext cx="9885240" cy="26352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2"/>
          <p:cNvSpPr/>
          <p:nvPr/>
        </p:nvSpPr>
        <p:spPr>
          <a:xfrm>
            <a:off x="1069920" y="4681440"/>
            <a:ext cx="105156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yndychok-znaniy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666720" y="420048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mir-olimpiad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1154160" y="608040"/>
            <a:ext cx="9924840" cy="2435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09T09:12:15Z</dcterms:created>
  <dc:creator>User</dc:creator>
  <dc:description/>
  <dc:language>en-US</dc:language>
  <cp:lastModifiedBy>Zverdvd.org</cp:lastModifiedBy>
  <dcterms:modified xsi:type="dcterms:W3CDTF">2017-05-11T13:23:42Z</dcterms:modified>
  <cp:revision>13</cp:revision>
  <dc:subject/>
  <dc:title>Презентация PowerPoint</dc:title>
</cp:coreProperties>
</file>