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A329-F548-4E7A-9F42-D0CBB8E9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1B08-D67D-4D4D-BF8A-AC308D1B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4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F7A-49E0-44A1-9A1D-EFA93C1C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13692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2304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13692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2304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C507-78F2-41BD-AF87-25645F31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2631-6CFB-4825-91D2-1E6B607F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5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4AD2-988D-431F-90EA-558A0B50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5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2807-1D26-4106-A113-AC2C4E1B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3C18-6DFB-4FD2-8179-AE0920F4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C9AA-92A4-4C75-945A-430CC010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5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DC7E-5672-4B80-8E91-A2032923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A52B-C4C6-45F6-8BBA-7AB6FBC0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5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529-4064-400F-B585-18E0662D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4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9BAA-7A4C-4218-8772-AAE7A485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6C70-228E-41A6-B971-D55DBA41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4380-A20A-4A9C-8E28-025EE8AE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624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FE35-12C2-46BC-ADFC-8FD89D13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13692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02304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613692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902304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FF7D-291A-45E1-A7BB-6DE5DC14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5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131-45A6-40CD-86E2-CFBCADCD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4B8-E110-40FE-A2B2-388848E6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232-6BE1-4ABB-AF58-834E51C9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5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1E2-489B-431E-B649-00279D14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0B1-ECB8-46FB-A49E-E4530C3D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4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685-1110-45DC-A1E4-63D15F35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325-B5DC-49BD-AEE6-BDD65C67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555720" cy="6858000"/>
            <a:chOff x="0" y="0"/>
            <a:chExt cx="3555720" cy="6858000"/>
          </a:xfrm>
        </p:grpSpPr>
        <p:sp>
          <p:nvSpPr>
            <p:cNvPr id="1" name="Rectangle 3"/>
            <p:cNvSpPr/>
            <p:nvPr/>
          </p:nvSpPr>
          <p:spPr>
            <a:xfrm>
              <a:off x="26413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853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50800" y="1600200"/>
            <a:ext cx="8535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02680" y="6248520"/>
            <a:ext cx="253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2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9246960" y="624852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20EE50-C358-4865-B555-985A7ACE22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3555720" cy="6858000"/>
            <a:chOff x="0" y="0"/>
            <a:chExt cx="3555720" cy="6858000"/>
          </a:xfrm>
        </p:grpSpPr>
        <p:sp>
          <p:nvSpPr>
            <p:cNvPr id="45" name="Rectangle 3"/>
            <p:cNvSpPr/>
            <p:nvPr/>
          </p:nvSpPr>
          <p:spPr>
            <a:xfrm>
              <a:off x="26413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853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" descr="titlemaster_med"/>
          <p:cNvPicPr/>
          <p:nvPr/>
        </p:nvPicPr>
        <p:blipFill>
          <a:blip r:embed="rId3"/>
          <a:stretch/>
        </p:blipFill>
        <p:spPr>
          <a:xfrm>
            <a:off x="0" y="0"/>
            <a:ext cx="12193560" cy="6862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250800" y="1600200"/>
            <a:ext cx="8535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06080" y="624852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2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9348480" y="624852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22485F-6B7C-4679-A02A-D6A646B500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080" y="691920"/>
            <a:ext cx="10161720" cy="2160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лимпиады для младших школьников!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523800" y="44737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leve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08040" y="474840"/>
            <a:ext cx="8548920" cy="25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838080" y="4924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mega-talant.co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893960" y="660240"/>
            <a:ext cx="7996320" cy="27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660240" y="51148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rm.kirov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3965400" y="201600"/>
            <a:ext cx="366408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698400" y="43783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tofeyy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495440" y="450720"/>
            <a:ext cx="8923320" cy="31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660240" y="4869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.р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102200" y="417600"/>
            <a:ext cx="3732120" cy="37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838080" y="43498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vika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-69840" y="720720"/>
            <a:ext cx="1142352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838080" y="39416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-snail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095480" y="912960"/>
            <a:ext cx="1000116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947880" y="48830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i-erudit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rcRect l="14371" t="11334" r="72943" b="79911"/>
          <a:stretch/>
        </p:blipFill>
        <p:spPr>
          <a:xfrm>
            <a:off x="3002040" y="846000"/>
            <a:ext cx="597384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306360" y="4051440"/>
            <a:ext cx="115794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uz.sfu-kras.ru/belchonok/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038480" y="196920"/>
            <a:ext cx="4114800" cy="41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660240" y="5059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znanie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379680" y="250920"/>
            <a:ext cx="480852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947880" y="4896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ssian-kenguru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2765520" y="355680"/>
            <a:ext cx="5530680" cy="41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852480" y="4978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.olimpiada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17720" y="534960"/>
            <a:ext cx="988200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647640" y="4815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fodu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163520" y="887400"/>
            <a:ext cx="948384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990720" y="4951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skit.or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660760" y="531720"/>
            <a:ext cx="647676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838080" y="49640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u.cerm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916440" y="282600"/>
            <a:ext cx="435924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647640" y="4869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odog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770200" y="306360"/>
            <a:ext cx="6026040" cy="40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1231920" y="353880"/>
            <a:ext cx="9126360" cy="3645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2333520" y="4516560"/>
            <a:ext cx="762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ginger-cat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rcRect l="29370" t="25935" r="29301" b="33957"/>
          <a:stretch/>
        </p:blipFill>
        <p:spPr>
          <a:xfrm>
            <a:off x="2511360" y="136440"/>
            <a:ext cx="6796080" cy="3708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0" y="4227480"/>
            <a:ext cx="121921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0" lang="ru-RU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lympiadonline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rcRect l="12274" t="8022" r="55841" b="76880"/>
          <a:stretch/>
        </p:blipFill>
        <p:spPr>
          <a:xfrm>
            <a:off x="1069920" y="490680"/>
            <a:ext cx="9885240" cy="26352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1069920" y="4681440"/>
            <a:ext cx="10515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yndychok-znaniy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666720" y="42004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mir-olimpiad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154160" y="608040"/>
            <a:ext cx="9924840" cy="243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09:12:15Z</dcterms:created>
  <dc:creator>User</dc:creator>
  <dc:description/>
  <dc:language>en-US</dc:language>
  <cp:lastModifiedBy>Zverdvd.org</cp:lastModifiedBy>
  <dcterms:modified xsi:type="dcterms:W3CDTF">2017-05-11T13:23:42Z</dcterms:modified>
  <cp:revision>13</cp:revision>
  <dc:subject/>
  <dc:title>Презентация PowerPoint</dc:title>
</cp:coreProperties>
</file>