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AAF-B338-43DB-9496-782AACF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D7F-F630-4615-9A26-BF92F98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85F-E2FA-4EB0-925F-208239C8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FFC-EB44-484A-B3D8-95F18AB8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B68-4B8C-40DA-B1CC-DEE2D456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41F-9519-4E38-B693-69E20FC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B92-5729-4FED-86D1-1C15F64D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01D-0FB9-4E60-8CE5-48D4FC4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B5B-DC1B-4D71-807F-1F85A270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F4B-894C-4AA8-BEE0-11E3309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BA7-3504-4B1D-A159-458DB4A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B55-BF32-42EB-A583-DBB85BA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2B5-1E29-41D4-AC0C-D5069167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i/astronomija/Astronomy/0010-026-Eratosfen-Kirenskij-276-g.-do-n.e.-194-g.-do-n.e.-Grecheskij-uchennyj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9;&#1087;&#1088;.7%20&#1055;&#1088;&#1080;&#1079;&#1085;&#1072;&#1082;&#1080;%20&#1087;&#1072;&#1088;&#1072;&#1083;&#1083;&#1077;&#1083;&#1100;&#1085;&#1086;&#1089;&#1090;&#1080;%20&#1087;&#1088;&#1103;&#1084;&#1099;&#1093;.pps" TargetMode="External"/><Relationship Id="rId3" Type="http://schemas.openxmlformats.org/officeDocument/2006/relationships/hyperlink" Target="file:///&#1059;&#1087;&#1088;.7%20&#1055;&#1088;&#1080;&#1079;&#1085;&#1072;&#1082;&#1080;%20&#1087;&#1072;&#1088;&#1072;&#1083;&#1083;&#1077;&#1083;&#1100;&#1085;&#1086;&#1089;&#1090;&#1080;%20&#1087;&#1088;&#1103;&#1084;&#1099;&#1093;.pp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9;&#1087;&#1088;.8%20&#1055;&#1072;&#1088;&#1072;&#1083;&#1083;&#1077;&#1083;&#1100;&#1085;&#1099;&#1077;%20&#1087;&#1088;&#1103;&#1084;&#1099;&#1077;%20&#1080;%20&#1089;&#1077;&#1082;&#1091;&#1097;&#1080;&#1077;.pps" TargetMode="External"/><Relationship Id="rId3" Type="http://schemas.openxmlformats.org/officeDocument/2006/relationships/hyperlink" Target="file:///&#1059;&#1087;&#1088;.8%20&#1055;&#1072;&#1088;&#1072;&#1083;&#1083;&#1077;&#1083;&#1100;&#1085;&#1099;&#1077;%20&#1087;&#1088;&#1103;&#1084;&#1099;&#1077;%20&#1080;%20&#1089;&#1077;&#1082;&#1091;&#1097;&#1080;&#1077;.pp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77320" cy="192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АРАЛЛЕЛЬНЫЕ ПРЯ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714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Геометрия 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1972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Учитель математики МБОУ «Пурдошанская средняя общеобразовательная школа» Папулина Ольг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5"/>
          <p:cNvGrpSpPr/>
          <p:nvPr/>
        </p:nvGrpSpPr>
        <p:grpSpPr>
          <a:xfrm>
            <a:off x="304920" y="1709640"/>
            <a:ext cx="8534160" cy="5148360"/>
            <a:chOff x="304920" y="1709640"/>
            <a:chExt cx="8534160" cy="5148360"/>
          </a:xfrm>
        </p:grpSpPr>
        <p:sp>
          <p:nvSpPr>
            <p:cNvPr id="78" name="AutoShape 16"/>
            <p:cNvSpPr/>
            <p:nvPr/>
          </p:nvSpPr>
          <p:spPr>
            <a:xfrm>
              <a:off x="304920" y="1709640"/>
              <a:ext cx="8534160" cy="51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7"/>
            <p:cNvSpPr/>
            <p:nvPr/>
          </p:nvSpPr>
          <p:spPr>
            <a:xfrm>
              <a:off x="5392080" y="1709640"/>
              <a:ext cx="3178800" cy="31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лы 4 и 5 носят название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смеж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накрест лежащ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оответстве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односторонн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 flipV="1">
              <a:off x="873720" y="2539440"/>
              <a:ext cx="384840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V="1">
              <a:off x="1207800" y="4034160"/>
              <a:ext cx="368136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 flipV="1">
              <a:off x="2714400" y="2372760"/>
              <a:ext cx="167040" cy="34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81800" y="2705760"/>
              <a:ext cx="5025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2380320" y="3536280"/>
              <a:ext cx="3315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2881800" y="3370680"/>
              <a:ext cx="5025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2380320" y="2871360"/>
              <a:ext cx="3330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5"/>
            <p:cNvSpPr/>
            <p:nvPr/>
          </p:nvSpPr>
          <p:spPr>
            <a:xfrm>
              <a:off x="2380320" y="453276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6"/>
            <p:cNvSpPr/>
            <p:nvPr/>
          </p:nvSpPr>
          <p:spPr>
            <a:xfrm>
              <a:off x="2881800" y="4367160"/>
              <a:ext cx="3340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7"/>
            <p:cNvSpPr/>
            <p:nvPr/>
          </p:nvSpPr>
          <p:spPr>
            <a:xfrm>
              <a:off x="2380320" y="5196600"/>
              <a:ext cx="33408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8"/>
            <p:cNvSpPr/>
            <p:nvPr/>
          </p:nvSpPr>
          <p:spPr>
            <a:xfrm>
              <a:off x="2881800" y="503100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9"/>
            <p:cNvSpPr/>
            <p:nvPr/>
          </p:nvSpPr>
          <p:spPr>
            <a:xfrm>
              <a:off x="2547360" y="204192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4221000" y="2207520"/>
              <a:ext cx="3340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1"/>
            <p:cNvSpPr/>
            <p:nvPr/>
          </p:nvSpPr>
          <p:spPr>
            <a:xfrm>
              <a:off x="4388400" y="3536280"/>
              <a:ext cx="5011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09480" y="1371600"/>
            <a:ext cx="8153640" cy="5148360"/>
            <a:chOff x="609480" y="1371600"/>
            <a:chExt cx="8153640" cy="5148360"/>
          </a:xfrm>
        </p:grpSpPr>
        <p:sp>
          <p:nvSpPr>
            <p:cNvPr id="96" name="AutoShape 5"/>
            <p:cNvSpPr/>
            <p:nvPr/>
          </p:nvSpPr>
          <p:spPr>
            <a:xfrm>
              <a:off x="609480" y="1371600"/>
              <a:ext cx="8153640" cy="51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5469840" y="1371600"/>
              <a:ext cx="3036960" cy="31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ямы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араллельны ес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    2 =  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     1 =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      2 =  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      5 +     4 = 18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V="1">
              <a:off x="1153080" y="2201400"/>
              <a:ext cx="367668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1472040" y="3696120"/>
              <a:ext cx="3517200" cy="149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2911680" y="2034720"/>
              <a:ext cx="159480" cy="34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071520" y="2367720"/>
              <a:ext cx="4798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2592360" y="3198240"/>
              <a:ext cx="3168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3071520" y="3032640"/>
              <a:ext cx="4798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92360" y="2533320"/>
              <a:ext cx="3178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2592360" y="419472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3071520" y="4029120"/>
              <a:ext cx="3189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2592360" y="4858560"/>
              <a:ext cx="31896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71520" y="469296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2751840" y="1703880"/>
              <a:ext cx="31932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4350960" y="1869480"/>
              <a:ext cx="31896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4510800" y="3198240"/>
              <a:ext cx="478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8"/>
          <p:cNvGrpSpPr/>
          <p:nvPr/>
        </p:nvGrpSpPr>
        <p:grpSpPr>
          <a:xfrm>
            <a:off x="5943600" y="3048120"/>
            <a:ext cx="216000" cy="142920"/>
            <a:chOff x="5943600" y="3048120"/>
            <a:chExt cx="216000" cy="142920"/>
          </a:xfrm>
        </p:grpSpPr>
        <p:sp>
          <p:nvSpPr>
            <p:cNvPr id="113" name="Line 49"/>
            <p:cNvSpPr/>
            <p:nvPr/>
          </p:nvSpPr>
          <p:spPr>
            <a:xfrm flipH="1">
              <a:off x="5943600" y="30481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0"/>
            <p:cNvSpPr/>
            <p:nvPr/>
          </p:nvSpPr>
          <p:spPr>
            <a:xfrm>
              <a:off x="5943600" y="3191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8"/>
          <p:cNvGrpSpPr/>
          <p:nvPr/>
        </p:nvGrpSpPr>
        <p:grpSpPr>
          <a:xfrm>
            <a:off x="6781680" y="3048120"/>
            <a:ext cx="216000" cy="142920"/>
            <a:chOff x="6781680" y="3048120"/>
            <a:chExt cx="216000" cy="142920"/>
          </a:xfrm>
        </p:grpSpPr>
        <p:sp>
          <p:nvSpPr>
            <p:cNvPr id="116" name="Line 49"/>
            <p:cNvSpPr/>
            <p:nvPr/>
          </p:nvSpPr>
          <p:spPr>
            <a:xfrm flipH="1">
              <a:off x="6781680" y="30481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0"/>
            <p:cNvSpPr/>
            <p:nvPr/>
          </p:nvSpPr>
          <p:spPr>
            <a:xfrm>
              <a:off x="6781680" y="3191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8"/>
          <p:cNvGrpSpPr/>
          <p:nvPr/>
        </p:nvGrpSpPr>
        <p:grpSpPr>
          <a:xfrm>
            <a:off x="6019920" y="3733920"/>
            <a:ext cx="215640" cy="142920"/>
            <a:chOff x="6019920" y="3733920"/>
            <a:chExt cx="215640" cy="142920"/>
          </a:xfrm>
        </p:grpSpPr>
        <p:sp>
          <p:nvSpPr>
            <p:cNvPr id="119" name="Line 49"/>
            <p:cNvSpPr/>
            <p:nvPr/>
          </p:nvSpPr>
          <p:spPr>
            <a:xfrm flipH="1">
              <a:off x="6019920" y="37339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0"/>
            <p:cNvSpPr/>
            <p:nvPr/>
          </p:nvSpPr>
          <p:spPr>
            <a:xfrm>
              <a:off x="6019920" y="38768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8"/>
          <p:cNvGrpSpPr/>
          <p:nvPr/>
        </p:nvGrpSpPr>
        <p:grpSpPr>
          <a:xfrm>
            <a:off x="6858000" y="3733920"/>
            <a:ext cx="216000" cy="142920"/>
            <a:chOff x="6858000" y="3733920"/>
            <a:chExt cx="216000" cy="142920"/>
          </a:xfrm>
        </p:grpSpPr>
        <p:sp>
          <p:nvSpPr>
            <p:cNvPr id="122" name="Line 49"/>
            <p:cNvSpPr/>
            <p:nvPr/>
          </p:nvSpPr>
          <p:spPr>
            <a:xfrm flipH="1">
              <a:off x="6858000" y="37339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0"/>
            <p:cNvSpPr/>
            <p:nvPr/>
          </p:nvSpPr>
          <p:spPr>
            <a:xfrm>
              <a:off x="6858000" y="38768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8"/>
          <p:cNvGrpSpPr/>
          <p:nvPr/>
        </p:nvGrpSpPr>
        <p:grpSpPr>
          <a:xfrm>
            <a:off x="6019920" y="4495680"/>
            <a:ext cx="215640" cy="142920"/>
            <a:chOff x="6019920" y="4495680"/>
            <a:chExt cx="215640" cy="142920"/>
          </a:xfrm>
        </p:grpSpPr>
        <p:sp>
          <p:nvSpPr>
            <p:cNvPr id="125" name="Line 49"/>
            <p:cNvSpPr/>
            <p:nvPr/>
          </p:nvSpPr>
          <p:spPr>
            <a:xfrm flipH="1">
              <a:off x="6019920" y="449568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0"/>
            <p:cNvSpPr/>
            <p:nvPr/>
          </p:nvSpPr>
          <p:spPr>
            <a:xfrm>
              <a:off x="6019920" y="4638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8"/>
          <p:cNvGrpSpPr/>
          <p:nvPr/>
        </p:nvGrpSpPr>
        <p:grpSpPr>
          <a:xfrm>
            <a:off x="6934320" y="4495680"/>
            <a:ext cx="215640" cy="142920"/>
            <a:chOff x="6934320" y="4495680"/>
            <a:chExt cx="215640" cy="142920"/>
          </a:xfrm>
        </p:grpSpPr>
        <p:sp>
          <p:nvSpPr>
            <p:cNvPr id="128" name="Line 49"/>
            <p:cNvSpPr/>
            <p:nvPr/>
          </p:nvSpPr>
          <p:spPr>
            <a:xfrm flipH="1">
              <a:off x="6934320" y="449568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>
              <a:off x="6934320" y="4638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8"/>
          <p:cNvGrpSpPr/>
          <p:nvPr/>
        </p:nvGrpSpPr>
        <p:grpSpPr>
          <a:xfrm>
            <a:off x="6095880" y="5257800"/>
            <a:ext cx="216000" cy="142920"/>
            <a:chOff x="6095880" y="5257800"/>
            <a:chExt cx="216000" cy="142920"/>
          </a:xfrm>
        </p:grpSpPr>
        <p:sp>
          <p:nvSpPr>
            <p:cNvPr id="131" name="Line 49"/>
            <p:cNvSpPr/>
            <p:nvPr/>
          </p:nvSpPr>
          <p:spPr>
            <a:xfrm flipH="1">
              <a:off x="6095880" y="5257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0"/>
            <p:cNvSpPr/>
            <p:nvPr/>
          </p:nvSpPr>
          <p:spPr>
            <a:xfrm>
              <a:off x="6095880" y="5400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010280" y="5257800"/>
            <a:ext cx="216000" cy="142920"/>
            <a:chOff x="7010280" y="5257800"/>
            <a:chExt cx="216000" cy="142920"/>
          </a:xfrm>
        </p:grpSpPr>
        <p:sp>
          <p:nvSpPr>
            <p:cNvPr id="134" name="Line 49"/>
            <p:cNvSpPr/>
            <p:nvPr/>
          </p:nvSpPr>
          <p:spPr>
            <a:xfrm flipH="1">
              <a:off x="7010280" y="5257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0"/>
            <p:cNvSpPr/>
            <p:nvPr/>
          </p:nvSpPr>
          <p:spPr>
            <a:xfrm>
              <a:off x="7010280" y="5400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7773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ве прямые на плоскости называются параллельными, есл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они имеют одну общую точку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не имеют общих т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ве прямые на плоскости могут им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е общие точ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ри общие точ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дну общую точк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есчисленное множество т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║ b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┴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) с ║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,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) c 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┴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533520" y="1440000"/>
            <a:ext cx="8381880" cy="5418000"/>
            <a:chOff x="533520" y="1440000"/>
            <a:chExt cx="8381880" cy="5418000"/>
          </a:xfrm>
        </p:grpSpPr>
        <p:sp>
          <p:nvSpPr>
            <p:cNvPr id="144" name="AutoShape 6"/>
            <p:cNvSpPr/>
            <p:nvPr/>
          </p:nvSpPr>
          <p:spPr>
            <a:xfrm>
              <a:off x="533520" y="1440000"/>
              <a:ext cx="838188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529960" y="1440000"/>
              <a:ext cx="3122280" cy="33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а ║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=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т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равен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0</a:t>
              </a:r>
              <a:r>
                <a:rPr b="0" lang="ru-RU" sz="3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 flipV="1">
              <a:off x="1092240" y="2313720"/>
              <a:ext cx="3779640" cy="157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V="1">
              <a:off x="1420200" y="3886560"/>
              <a:ext cx="3615840" cy="157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2900160" y="2138040"/>
              <a:ext cx="164160" cy="36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3064320" y="2488320"/>
              <a:ext cx="493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2571840" y="3362400"/>
              <a:ext cx="3254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3064320" y="3188160"/>
              <a:ext cx="4935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2571840" y="2662560"/>
              <a:ext cx="3268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2571840" y="441108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3064320" y="4236840"/>
              <a:ext cx="3279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2571840" y="5109480"/>
              <a:ext cx="3279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3064320" y="493524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2736000" y="1789560"/>
              <a:ext cx="328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4379760" y="1964160"/>
              <a:ext cx="327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4543920" y="3362400"/>
              <a:ext cx="492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19920" y="2133720"/>
            <a:ext cx="215640" cy="304200"/>
            <a:chOff x="6019920" y="2133720"/>
            <a:chExt cx="215640" cy="304200"/>
          </a:xfrm>
        </p:grpSpPr>
        <p:sp>
          <p:nvSpPr>
            <p:cNvPr id="161" name="Line 38"/>
            <p:cNvSpPr/>
            <p:nvPr/>
          </p:nvSpPr>
          <p:spPr>
            <a:xfrm flipH="1">
              <a:off x="6019920" y="2133720"/>
              <a:ext cx="712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9"/>
            <p:cNvSpPr/>
            <p:nvPr/>
          </p:nvSpPr>
          <p:spPr>
            <a:xfrm>
              <a:off x="6019920" y="24379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7"/>
          <p:cNvGrpSpPr/>
          <p:nvPr/>
        </p:nvGrpSpPr>
        <p:grpSpPr>
          <a:xfrm>
            <a:off x="6095880" y="2819520"/>
            <a:ext cx="292320" cy="228600"/>
            <a:chOff x="6095880" y="2819520"/>
            <a:chExt cx="292320" cy="228600"/>
          </a:xfrm>
        </p:grpSpPr>
        <p:sp>
          <p:nvSpPr>
            <p:cNvPr id="164" name="Line 38"/>
            <p:cNvSpPr/>
            <p:nvPr/>
          </p:nvSpPr>
          <p:spPr>
            <a:xfrm flipH="1">
              <a:off x="6095880" y="2819520"/>
              <a:ext cx="96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6095880" y="304812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395280" y="666720"/>
            <a:ext cx="8139240" cy="6191280"/>
            <a:chOff x="395280" y="666720"/>
            <a:chExt cx="8139240" cy="6191280"/>
          </a:xfrm>
        </p:grpSpPr>
        <p:sp>
          <p:nvSpPr>
            <p:cNvPr id="168" name="AutoShape 5"/>
            <p:cNvSpPr/>
            <p:nvPr/>
          </p:nvSpPr>
          <p:spPr>
            <a:xfrm>
              <a:off x="395280" y="666720"/>
              <a:ext cx="813924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5247000" y="666720"/>
              <a:ext cx="3031920" cy="37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ди ошибку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 значит а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2,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ит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║b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3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значит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║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 flipV="1">
              <a:off x="937800" y="1665360"/>
              <a:ext cx="367020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V="1">
              <a:off x="1256400" y="3462480"/>
              <a:ext cx="351108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V="1">
              <a:off x="2693520" y="1464840"/>
              <a:ext cx="159120" cy="419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3650760" y="146484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2374560" y="2863440"/>
              <a:ext cx="3160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852640" y="2664360"/>
              <a:ext cx="4791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2374560" y="2063880"/>
              <a:ext cx="3175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2374560" y="406188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3491280" y="3263400"/>
              <a:ext cx="318600" cy="5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2374560" y="4860000"/>
              <a:ext cx="318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3491280" y="466092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2534040" y="106632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130280" y="1265400"/>
              <a:ext cx="3186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0"/>
            <p:cNvSpPr/>
            <p:nvPr/>
          </p:nvSpPr>
          <p:spPr>
            <a:xfrm>
              <a:off x="4289760" y="2863440"/>
              <a:ext cx="4780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 flipH="1">
              <a:off x="3810240" y="1464840"/>
              <a:ext cx="159120" cy="39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5638680" y="2819520"/>
            <a:ext cx="216000" cy="152280"/>
            <a:chOff x="5638680" y="2819520"/>
            <a:chExt cx="216000" cy="152280"/>
          </a:xfrm>
        </p:grpSpPr>
        <p:sp>
          <p:nvSpPr>
            <p:cNvPr id="186" name="Line 38"/>
            <p:cNvSpPr/>
            <p:nvPr/>
          </p:nvSpPr>
          <p:spPr>
            <a:xfrm flipH="1">
              <a:off x="5638680" y="281952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9"/>
            <p:cNvSpPr/>
            <p:nvPr/>
          </p:nvSpPr>
          <p:spPr>
            <a:xfrm>
              <a:off x="5638680" y="297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6400800" y="2819520"/>
            <a:ext cx="216000" cy="152280"/>
            <a:chOff x="6400800" y="2819520"/>
            <a:chExt cx="216000" cy="152280"/>
          </a:xfrm>
        </p:grpSpPr>
        <p:sp>
          <p:nvSpPr>
            <p:cNvPr id="189" name="Line 38"/>
            <p:cNvSpPr/>
            <p:nvPr/>
          </p:nvSpPr>
          <p:spPr>
            <a:xfrm flipH="1">
              <a:off x="6400800" y="281952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9"/>
            <p:cNvSpPr/>
            <p:nvPr/>
          </p:nvSpPr>
          <p:spPr>
            <a:xfrm>
              <a:off x="6400800" y="297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7"/>
          <p:cNvGrpSpPr/>
          <p:nvPr/>
        </p:nvGrpSpPr>
        <p:grpSpPr>
          <a:xfrm>
            <a:off x="5791320" y="3657600"/>
            <a:ext cx="215640" cy="152280"/>
            <a:chOff x="5791320" y="3657600"/>
            <a:chExt cx="215640" cy="152280"/>
          </a:xfrm>
        </p:grpSpPr>
        <p:sp>
          <p:nvSpPr>
            <p:cNvPr id="192" name="Line 38"/>
            <p:cNvSpPr/>
            <p:nvPr/>
          </p:nvSpPr>
          <p:spPr>
            <a:xfrm flipH="1">
              <a:off x="5791320" y="365760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5791320" y="38098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6553080" y="3657600"/>
            <a:ext cx="216000" cy="152280"/>
            <a:chOff x="6553080" y="3657600"/>
            <a:chExt cx="216000" cy="152280"/>
          </a:xfrm>
        </p:grpSpPr>
        <p:sp>
          <p:nvSpPr>
            <p:cNvPr id="195" name="Line 38"/>
            <p:cNvSpPr/>
            <p:nvPr/>
          </p:nvSpPr>
          <p:spPr>
            <a:xfrm flipH="1">
              <a:off x="6553080" y="3657600"/>
              <a:ext cx="71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>
              <a:off x="6553080" y="3809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7"/>
          <p:cNvGrpSpPr/>
          <p:nvPr/>
        </p:nvGrpSpPr>
        <p:grpSpPr>
          <a:xfrm>
            <a:off x="5638680" y="4495680"/>
            <a:ext cx="216000" cy="152640"/>
            <a:chOff x="5638680" y="4495680"/>
            <a:chExt cx="216000" cy="152640"/>
          </a:xfrm>
        </p:grpSpPr>
        <p:sp>
          <p:nvSpPr>
            <p:cNvPr id="198" name="Line 38"/>
            <p:cNvSpPr/>
            <p:nvPr/>
          </p:nvSpPr>
          <p:spPr>
            <a:xfrm flipH="1">
              <a:off x="5638680" y="4495680"/>
              <a:ext cx="71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9"/>
            <p:cNvSpPr/>
            <p:nvPr/>
          </p:nvSpPr>
          <p:spPr>
            <a:xfrm>
              <a:off x="5638680" y="46483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7"/>
          <p:cNvGrpSpPr/>
          <p:nvPr/>
        </p:nvGrpSpPr>
        <p:grpSpPr>
          <a:xfrm>
            <a:off x="6324480" y="4495680"/>
            <a:ext cx="228600" cy="152640"/>
            <a:chOff x="6324480" y="4495680"/>
            <a:chExt cx="228600" cy="152640"/>
          </a:xfrm>
        </p:grpSpPr>
        <p:sp>
          <p:nvSpPr>
            <p:cNvPr id="201" name="Line 38"/>
            <p:cNvSpPr/>
            <p:nvPr/>
          </p:nvSpPr>
          <p:spPr>
            <a:xfrm flipH="1">
              <a:off x="6324480" y="4495680"/>
              <a:ext cx="75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9"/>
            <p:cNvSpPr/>
            <p:nvPr/>
          </p:nvSpPr>
          <p:spPr>
            <a:xfrm>
              <a:off x="632448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рез точку М, не лежащую на прямой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жно прове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ве прямые, параллельны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численное множество прямых, параллельн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у прямую, параллельну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 b ║c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ет прямую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(а</a:t>
            </a:r>
            <a:r>
              <a:rPr b="0" i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┴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,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║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епить признаки параллельных прямых, свойства параллельных и аксиому параллельных прямы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вершенствовать навыки решения задач на применение признаков и свойств параллельных пря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Times New Roman"/>
              </a:rPr>
              <a:t>Правильные ответ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2895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600200"/>
            <a:ext cx="25909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ОЦЕНКА ЗА ТЕ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5» -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9 правильных ответов 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4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7 - 8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3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5 - 6</a:t>
            </a:r>
            <a:br>
              <a:rPr sz="4800"/>
            </a:b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«2»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- менее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готовому чертежу решить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ариант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ано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а ||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екущая;  1 = 4  2. Найти  1 и 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ариант 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ано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а ||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екущая;  1 –  2 = 30°. Найти  1 и 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2895480" cy="181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8"/>
          <p:cNvGrpSpPr/>
          <p:nvPr/>
        </p:nvGrpSpPr>
        <p:grpSpPr>
          <a:xfrm>
            <a:off x="838080" y="4419720"/>
            <a:ext cx="216000" cy="142920"/>
            <a:chOff x="838080" y="4419720"/>
            <a:chExt cx="216000" cy="142920"/>
          </a:xfrm>
        </p:grpSpPr>
        <p:sp>
          <p:nvSpPr>
            <p:cNvPr id="216" name="Line 49"/>
            <p:cNvSpPr/>
            <p:nvPr/>
          </p:nvSpPr>
          <p:spPr>
            <a:xfrm flipH="1">
              <a:off x="8380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0"/>
            <p:cNvSpPr/>
            <p:nvPr/>
          </p:nvSpPr>
          <p:spPr>
            <a:xfrm>
              <a:off x="8380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4267080" y="4419720"/>
            <a:ext cx="216000" cy="142920"/>
            <a:chOff x="4267080" y="4419720"/>
            <a:chExt cx="216000" cy="142920"/>
          </a:xfrm>
        </p:grpSpPr>
        <p:sp>
          <p:nvSpPr>
            <p:cNvPr id="219" name="Line 49"/>
            <p:cNvSpPr/>
            <p:nvPr/>
          </p:nvSpPr>
          <p:spPr>
            <a:xfrm flipH="1">
              <a:off x="42670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>
              <a:off x="42670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8"/>
          <p:cNvGrpSpPr/>
          <p:nvPr/>
        </p:nvGrpSpPr>
        <p:grpSpPr>
          <a:xfrm>
            <a:off x="5181480" y="4419720"/>
            <a:ext cx="216000" cy="142920"/>
            <a:chOff x="5181480" y="4419720"/>
            <a:chExt cx="216000" cy="142920"/>
          </a:xfrm>
        </p:grpSpPr>
        <p:sp>
          <p:nvSpPr>
            <p:cNvPr id="222" name="Line 49"/>
            <p:cNvSpPr/>
            <p:nvPr/>
          </p:nvSpPr>
          <p:spPr>
            <a:xfrm flipH="1">
              <a:off x="518148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0"/>
            <p:cNvSpPr/>
            <p:nvPr/>
          </p:nvSpPr>
          <p:spPr>
            <a:xfrm>
              <a:off x="5181480" y="456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8"/>
          <p:cNvGrpSpPr/>
          <p:nvPr/>
        </p:nvGrpSpPr>
        <p:grpSpPr>
          <a:xfrm>
            <a:off x="914400" y="5791320"/>
            <a:ext cx="216000" cy="142920"/>
            <a:chOff x="914400" y="5791320"/>
            <a:chExt cx="216000" cy="142920"/>
          </a:xfrm>
        </p:grpSpPr>
        <p:sp>
          <p:nvSpPr>
            <p:cNvPr id="225" name="Line 49"/>
            <p:cNvSpPr/>
            <p:nvPr/>
          </p:nvSpPr>
          <p:spPr>
            <a:xfrm flipH="1">
              <a:off x="91440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91440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8"/>
          <p:cNvGrpSpPr/>
          <p:nvPr/>
        </p:nvGrpSpPr>
        <p:grpSpPr>
          <a:xfrm>
            <a:off x="1752480" y="5791320"/>
            <a:ext cx="216000" cy="142920"/>
            <a:chOff x="1752480" y="5791320"/>
            <a:chExt cx="216000" cy="142920"/>
          </a:xfrm>
        </p:grpSpPr>
        <p:sp>
          <p:nvSpPr>
            <p:cNvPr id="228" name="Line 49"/>
            <p:cNvSpPr/>
            <p:nvPr/>
          </p:nvSpPr>
          <p:spPr>
            <a:xfrm flipH="1">
              <a:off x="175248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>
              <a:off x="175248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8"/>
          <p:cNvGrpSpPr/>
          <p:nvPr/>
        </p:nvGrpSpPr>
        <p:grpSpPr>
          <a:xfrm>
            <a:off x="5181480" y="5791320"/>
            <a:ext cx="216000" cy="142920"/>
            <a:chOff x="5181480" y="5791320"/>
            <a:chExt cx="216000" cy="142920"/>
          </a:xfrm>
        </p:grpSpPr>
        <p:sp>
          <p:nvSpPr>
            <p:cNvPr id="231" name="Line 49"/>
            <p:cNvSpPr/>
            <p:nvPr/>
          </p:nvSpPr>
          <p:spPr>
            <a:xfrm flipH="1">
              <a:off x="518148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0"/>
            <p:cNvSpPr/>
            <p:nvPr/>
          </p:nvSpPr>
          <p:spPr>
            <a:xfrm>
              <a:off x="5181480" y="5934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8"/>
          <p:cNvGrpSpPr/>
          <p:nvPr/>
        </p:nvGrpSpPr>
        <p:grpSpPr>
          <a:xfrm>
            <a:off x="6019920" y="5791320"/>
            <a:ext cx="215640" cy="142920"/>
            <a:chOff x="6019920" y="5791320"/>
            <a:chExt cx="215640" cy="142920"/>
          </a:xfrm>
        </p:grpSpPr>
        <p:sp>
          <p:nvSpPr>
            <p:cNvPr id="234" name="Line 49"/>
            <p:cNvSpPr/>
            <p:nvPr/>
          </p:nvSpPr>
          <p:spPr>
            <a:xfrm flipH="1">
              <a:off x="6019920" y="57913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6019920" y="59342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8"/>
          <p:cNvGrpSpPr/>
          <p:nvPr/>
        </p:nvGrpSpPr>
        <p:grpSpPr>
          <a:xfrm>
            <a:off x="2133720" y="4419720"/>
            <a:ext cx="215640" cy="142920"/>
            <a:chOff x="2133720" y="4419720"/>
            <a:chExt cx="215640" cy="142920"/>
          </a:xfrm>
        </p:grpSpPr>
        <p:sp>
          <p:nvSpPr>
            <p:cNvPr id="237" name="Line 49"/>
            <p:cNvSpPr/>
            <p:nvPr/>
          </p:nvSpPr>
          <p:spPr>
            <a:xfrm flipH="1">
              <a:off x="2133720" y="441972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2133720" y="4562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Times New Roman"/>
              </a:rPr>
              <a:t>Задание на 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ть пп. 24 – 29, стр. 54 – 6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3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5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1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>
                <a:solidFill>
                  <a:srgbClr val="cc3300"/>
                </a:solidFill>
                <a:latin typeface="Times New Roman"/>
              </a:rPr>
              <a:t>Спасибо за урок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76560" y="533160"/>
            <a:ext cx="373356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раллельные суть прямые, которые, находясь в одной плоскости и будучи продолжены в обе стороны неограниченно, ни с той, ни с другой «стороны» между собой не встречаютс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Евкл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Картинка 1 из 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143000"/>
            <a:ext cx="38224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</a:rPr>
              <a:t>План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еорет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ракт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Решение задач по готовым черте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Задание на 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оретический 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1. Дайте определение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2. Назовите пары углов, которые образуются при пересечении двух прямых секу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3. Сформулируйте признаки параллельности дву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4. Какие утверждения называются аксиом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5. Сформулируйте аксиому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6. Какое утверждение называется следств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7. Сформулируйте следствия из аксиомы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8. Какая теорема называется обрат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9. Сформулируйте свойства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актическ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92468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араллельные прямые\Упр.7 Признаки параллельности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прямых.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84836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ешение задач по готовым чертеж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араллельные прямые\Упр.8 Параллельные прямые и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секущие.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Две прямые на плоскости, которые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редложение, не требующее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Фигура, состоящая из трех точек, не лежащих на одной прямой и трех отрезков, попарно соединенных этими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Объединение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Раздел геометрии, в котором изучаются фигуры на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Слово “геометрия” в переводе на рус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Первая часть формулировки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Древнегреческий уче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380880"/>
          <a:ext cx="8534160" cy="59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5341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90720" y="1676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     А       Р      А      Л      Л      Е      Л       Ь      Н     Ы     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514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      К      С      И      О     М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191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Т        Р      Е      У      Г      О      Л       Ь     Н     И      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Ф     И       Г      У      Р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057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895480"/>
            <a:ext cx="38088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80880"/>
            <a:ext cx="380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057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895480"/>
            <a:ext cx="54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352680"/>
            <a:ext cx="39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572000"/>
            <a:ext cx="39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14600"/>
            <a:ext cx="511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30T19:1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