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86058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0880" y="4265640"/>
            <a:ext cx="86058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0520" y="15966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0880" y="426564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0520" y="426564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277092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50760" y="1596600"/>
            <a:ext cx="277092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60640" y="1596600"/>
            <a:ext cx="277092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0880" y="4265640"/>
            <a:ext cx="277092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50760" y="4265640"/>
            <a:ext cx="277092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60640" y="4265640"/>
            <a:ext cx="277092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0880" y="1596600"/>
            <a:ext cx="86058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86058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4199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0520" y="1596600"/>
            <a:ext cx="4199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0880" y="255600"/>
            <a:ext cx="860580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596600"/>
            <a:ext cx="4199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0880" y="426564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4199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5966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0520" y="426564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520" y="15966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0880" y="4265640"/>
            <a:ext cx="86058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0" y="1289160"/>
            <a:ext cx="10080720" cy="1154160"/>
          </a:xfrm>
          <a:prstGeom prst="roundRect">
            <a:avLst>
              <a:gd name="adj" fmla="val 1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 rot="10800000">
            <a:off x="-1800" y="720"/>
            <a:ext cx="10080360" cy="1311480"/>
          </a:xfrm>
          <a:prstGeom prst="roundRect">
            <a:avLst>
              <a:gd name="adj" fmla="val 12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0" y="6645240"/>
            <a:ext cx="10080720" cy="914400"/>
          </a:xfrm>
          <a:prstGeom prst="roundRect">
            <a:avLst>
              <a:gd name="adj" fmla="val 171"/>
            </a:avLst>
          </a:pr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4"/>
          <p:cNvSpPr/>
          <p:nvPr/>
        </p:nvSpPr>
        <p:spPr>
          <a:xfrm>
            <a:off x="4370400" y="6753240"/>
            <a:ext cx="5707080" cy="530280"/>
          </a:xfrm>
          <a:custGeom>
            <a:avLst/>
            <a:gdLst>
              <a:gd name="textAreaLeft" fmla="*/ 0 w 5707080"/>
              <a:gd name="textAreaRight" fmla="*/ 5707440 w 5707080"/>
              <a:gd name="textAreaTop" fmla="*/ 0 h 530280"/>
              <a:gd name="textAreaBottom" fmla="*/ 530640 h 530280"/>
            </a:gdLst>
            <a:ahLst/>
            <a:rect l="textAreaLeft" t="textAreaTop" r="textAreaRight" b="textAreaBottom"/>
            <a:pathLst>
              <a:path w="15854" h="1471">
                <a:moveTo>
                  <a:pt x="1349" y="785"/>
                </a:moveTo>
                <a:cubicBezTo>
                  <a:pt x="0" y="714"/>
                  <a:pt x="2880" y="741"/>
                  <a:pt x="2233" y="589"/>
                </a:cubicBezTo>
                <a:cubicBezTo>
                  <a:pt x="1586" y="437"/>
                  <a:pt x="4054" y="475"/>
                  <a:pt x="4351" y="376"/>
                </a:cubicBezTo>
                <a:cubicBezTo>
                  <a:pt x="4483" y="332"/>
                  <a:pt x="4406" y="234"/>
                  <a:pt x="4232" y="191"/>
                </a:cubicBezTo>
                <a:cubicBezTo>
                  <a:pt x="4222" y="189"/>
                  <a:pt x="2754" y="108"/>
                  <a:pt x="3042" y="54"/>
                </a:cubicBezTo>
                <a:cubicBezTo>
                  <a:pt x="3330" y="0"/>
                  <a:pt x="7237" y="404"/>
                  <a:pt x="7225" y="478"/>
                </a:cubicBezTo>
                <a:cubicBezTo>
                  <a:pt x="7213" y="552"/>
                  <a:pt x="5287" y="631"/>
                  <a:pt x="5287" y="631"/>
                </a:cubicBezTo>
                <a:lnTo>
                  <a:pt x="6234" y="730"/>
                </a:lnTo>
                <a:lnTo>
                  <a:pt x="7745" y="749"/>
                </a:lnTo>
                <a:lnTo>
                  <a:pt x="10213" y="873"/>
                </a:lnTo>
                <a:cubicBezTo>
                  <a:pt x="10213" y="873"/>
                  <a:pt x="11306" y="690"/>
                  <a:pt x="11073" y="714"/>
                </a:cubicBezTo>
                <a:cubicBezTo>
                  <a:pt x="10840" y="738"/>
                  <a:pt x="12145" y="726"/>
                  <a:pt x="12258" y="691"/>
                </a:cubicBezTo>
                <a:cubicBezTo>
                  <a:pt x="12371" y="656"/>
                  <a:pt x="12594" y="702"/>
                  <a:pt x="12605" y="703"/>
                </a:cubicBezTo>
                <a:cubicBezTo>
                  <a:pt x="13015" y="738"/>
                  <a:pt x="13279" y="777"/>
                  <a:pt x="13575" y="788"/>
                </a:cubicBezTo>
                <a:cubicBezTo>
                  <a:pt x="13871" y="799"/>
                  <a:pt x="14526" y="749"/>
                  <a:pt x="14904" y="769"/>
                </a:cubicBezTo>
                <a:cubicBezTo>
                  <a:pt x="15282" y="789"/>
                  <a:pt x="15853" y="703"/>
                  <a:pt x="15853" y="703"/>
                </a:cubicBezTo>
                <a:lnTo>
                  <a:pt x="15853" y="843"/>
                </a:lnTo>
                <a:cubicBezTo>
                  <a:pt x="15853" y="843"/>
                  <a:pt x="12355" y="1062"/>
                  <a:pt x="12370" y="1062"/>
                </a:cubicBezTo>
                <a:cubicBezTo>
                  <a:pt x="12385" y="1062"/>
                  <a:pt x="8552" y="1068"/>
                  <a:pt x="8566" y="1068"/>
                </a:cubicBezTo>
                <a:cubicBezTo>
                  <a:pt x="8580" y="1068"/>
                  <a:pt x="5987" y="1003"/>
                  <a:pt x="5987" y="1003"/>
                </a:cubicBezTo>
                <a:cubicBezTo>
                  <a:pt x="5987" y="1003"/>
                  <a:pt x="4574" y="973"/>
                  <a:pt x="4661" y="962"/>
                </a:cubicBezTo>
                <a:cubicBezTo>
                  <a:pt x="4748" y="951"/>
                  <a:pt x="3295" y="1470"/>
                  <a:pt x="3098" y="1434"/>
                </a:cubicBezTo>
                <a:cubicBezTo>
                  <a:pt x="2901" y="1398"/>
                  <a:pt x="2087" y="1186"/>
                  <a:pt x="2058" y="1198"/>
                </a:cubicBezTo>
                <a:cubicBezTo>
                  <a:pt x="2029" y="1210"/>
                  <a:pt x="3371" y="892"/>
                  <a:pt x="2898" y="867"/>
                </a:cubicBezTo>
                <a:lnTo>
                  <a:pt x="1349" y="785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5"/>
          <p:cNvSpPr/>
          <p:nvPr/>
        </p:nvSpPr>
        <p:spPr>
          <a:xfrm>
            <a:off x="131760" y="6634080"/>
            <a:ext cx="5762520" cy="381240"/>
          </a:xfrm>
          <a:custGeom>
            <a:avLst/>
            <a:gdLst>
              <a:gd name="textAreaLeft" fmla="*/ 0 w 5762520"/>
              <a:gd name="textAreaRight" fmla="*/ 5762880 w 57625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6006" h="1060">
                <a:moveTo>
                  <a:pt x="0" y="1059"/>
                </a:moveTo>
                <a:lnTo>
                  <a:pt x="5888" y="840"/>
                </a:lnTo>
                <a:lnTo>
                  <a:pt x="12768" y="716"/>
                </a:lnTo>
                <a:lnTo>
                  <a:pt x="16005" y="529"/>
                </a:lnTo>
                <a:lnTo>
                  <a:pt x="14542" y="311"/>
                </a:lnTo>
                <a:lnTo>
                  <a:pt x="10651" y="373"/>
                </a:lnTo>
                <a:lnTo>
                  <a:pt x="8534" y="0"/>
                </a:lnTo>
                <a:lnTo>
                  <a:pt x="6044" y="311"/>
                </a:lnTo>
                <a:lnTo>
                  <a:pt x="3554" y="435"/>
                </a:lnTo>
                <a:lnTo>
                  <a:pt x="1852" y="16"/>
                </a:lnTo>
                <a:lnTo>
                  <a:pt x="968" y="642"/>
                </a:lnTo>
                <a:lnTo>
                  <a:pt x="0" y="1059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6"/>
          <p:cNvSpPr/>
          <p:nvPr/>
        </p:nvSpPr>
        <p:spPr>
          <a:xfrm>
            <a:off x="2108160" y="6788160"/>
            <a:ext cx="2260800" cy="233280"/>
          </a:xfrm>
          <a:custGeom>
            <a:avLst/>
            <a:gdLst>
              <a:gd name="textAreaLeft" fmla="*/ 0 w 2260800"/>
              <a:gd name="textAreaRight" fmla="*/ 2261160 w 226080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6279" h="649">
                <a:moveTo>
                  <a:pt x="0" y="648"/>
                </a:moveTo>
                <a:lnTo>
                  <a:pt x="1082" y="608"/>
                </a:lnTo>
                <a:lnTo>
                  <a:pt x="4615" y="545"/>
                </a:lnTo>
                <a:lnTo>
                  <a:pt x="6278" y="449"/>
                </a:lnTo>
                <a:lnTo>
                  <a:pt x="5527" y="353"/>
                </a:lnTo>
                <a:lnTo>
                  <a:pt x="3469" y="43"/>
                </a:lnTo>
                <a:lnTo>
                  <a:pt x="2533" y="569"/>
                </a:lnTo>
                <a:lnTo>
                  <a:pt x="1260" y="0"/>
                </a:lnTo>
                <a:lnTo>
                  <a:pt x="232" y="339"/>
                </a:lnTo>
                <a:lnTo>
                  <a:pt x="0" y="648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7"/>
          <p:cNvSpPr/>
          <p:nvPr/>
        </p:nvSpPr>
        <p:spPr>
          <a:xfrm>
            <a:off x="0" y="6678720"/>
            <a:ext cx="5894280" cy="717480"/>
          </a:xfrm>
          <a:custGeom>
            <a:avLst/>
            <a:gdLst>
              <a:gd name="textAreaLeft" fmla="*/ 0 w 5894280"/>
              <a:gd name="textAreaRight" fmla="*/ 5894640 w 5894280"/>
              <a:gd name="textAreaTop" fmla="*/ 0 h 717480"/>
              <a:gd name="textAreaBottom" fmla="*/ 717840 h 717480"/>
            </a:gdLst>
            <a:ahLst/>
            <a:rect l="textAreaLeft" t="textAreaTop" r="textAreaRight" b="textAreaBottom"/>
            <a:pathLst>
              <a:path w="16374" h="1991">
                <a:moveTo>
                  <a:pt x="0" y="1447"/>
                </a:moveTo>
                <a:lnTo>
                  <a:pt x="10739" y="1585"/>
                </a:lnTo>
                <a:lnTo>
                  <a:pt x="14785" y="1834"/>
                </a:lnTo>
                <a:lnTo>
                  <a:pt x="16373" y="1990"/>
                </a:lnTo>
                <a:lnTo>
                  <a:pt x="15097" y="1523"/>
                </a:lnTo>
                <a:lnTo>
                  <a:pt x="12357" y="994"/>
                </a:lnTo>
                <a:lnTo>
                  <a:pt x="7377" y="745"/>
                </a:lnTo>
                <a:lnTo>
                  <a:pt x="4762" y="0"/>
                </a:lnTo>
                <a:lnTo>
                  <a:pt x="2490" y="776"/>
                </a:lnTo>
                <a:lnTo>
                  <a:pt x="0" y="1299"/>
                </a:lnTo>
                <a:lnTo>
                  <a:pt x="0" y="1447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740880" y="1596600"/>
            <a:ext cx="86058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5280" indent="-324000">
              <a:spcAft>
                <a:spcPts val="1426"/>
              </a:spcAft>
              <a:buSzPct val="110085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0560" indent="-287280">
              <a:spcAft>
                <a:spcPts val="1426"/>
              </a:spcAft>
              <a:buSzPct val="111603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spcAft>
                <a:spcPts val="1426"/>
              </a:spcAft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spcAft>
                <a:spcPts val="1426"/>
              </a:spcAft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spcAft>
                <a:spcPts val="1426"/>
              </a:spcAft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spcAft>
                <a:spcPts val="1426"/>
              </a:spcAft>
              <a:buSzPct val="100000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spcAft>
                <a:spcPts val="1426"/>
              </a:spcAft>
              <a:buSzPct val="100000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2400" y="995040"/>
            <a:ext cx="8607600" cy="42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r>
              <a:rPr b="0" lang="en-GB" sz="6000" spc="-1" strike="noStrike">
                <a:solidFill>
                  <a:srgbClr val="3333cc"/>
                </a:solidFill>
                <a:latin typeface="Times New Roman"/>
              </a:rPr>
              <a:t>Полезные ископаемые</a:t>
            </a:r>
            <a:br>
              <a:rPr sz="6000"/>
            </a:br>
            <a:br>
              <a:rPr sz="8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7280" y="684000"/>
            <a:ext cx="365148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Известня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503280" y="1979640"/>
            <a:ext cx="3894120" cy="34560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3"/>
          <p:cNvSpPr/>
          <p:nvPr/>
        </p:nvSpPr>
        <p:spPr>
          <a:xfrm>
            <a:off x="4608360" y="2266920"/>
            <a:ext cx="5038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Мрамор — твёрдый плотный камень разнообразной окраски, хорошо полируется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Используется для украшения зданий, из него делают колонны, статуи, лестн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4"/>
          <p:cNvSpPr/>
          <p:nvPr/>
        </p:nvSpPr>
        <p:spPr>
          <a:xfrm>
            <a:off x="4753080" y="5003640"/>
            <a:ext cx="50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0000" y="539640"/>
            <a:ext cx="287964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Неф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3600360" y="542880"/>
            <a:ext cx="6120000" cy="65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Нефть — это жидкое полезное ископаемое тёмного цвета. Её называют чёрным золотом. Происхождение нефти полностью не изучено. До сих пор учёные разных стран спорят о том, как же она появилась. Скорее всего,  она образовалась из каких-то живых организм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Самый обычный способ поиска и добычи нефти — бурение скважин. Бурить начинают в том месте, где, по мнению геологов, должна быть нефть. И бурят до тех пор, пока из скважины не вырвется чёрный фонта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Из нефти производят керосин, бензин, смазочные масла, вазелин, лекарства, мыло, технический спирт, ткан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0" y="2195640"/>
            <a:ext cx="3384720" cy="345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6360" y="900000"/>
            <a:ext cx="364968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Каменная сол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330800" y="1797120"/>
            <a:ext cx="502920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Раньше соль очень дорого ценилась, и за один килограмм соли платили серебром. Слово «солдат» произошло от сочетания «соль давать», так назывались вооруженные люди, охранявшие караваны с солью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179280" y="2160720"/>
            <a:ext cx="3959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7280" y="971280"/>
            <a:ext cx="309744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Железная руд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600000" y="1258920"/>
            <a:ext cx="626436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Слово «железо» возникло от санскритского слова «джальза» (металл, руда). На поверхности Земли находили железные метеориты и делали из них украшения, орудия труда, охот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Первым орудием труда древнего человека был  камень, привязанный к палке. Как-то раз в костёр попали куски окисленной руды, с виду обыкновенного камня,  и расплавились.  Так было положено начало металлург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Железная руда чёрного цвета, твёрдая и плотная, притягивает металлические предметы. Из неё делают машины, вагоны, рельсы, ножниц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0" y="2411280"/>
            <a:ext cx="3419640" cy="36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5640" y="539640"/>
            <a:ext cx="46083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Каменный угол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600000" y="1763640"/>
            <a:ext cx="648036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Уголь образовывается из остатков растений в течении многих миллионов ле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Когда остатки растений перегнивают практически без кислорода, образуется торф. Торф используется как топливо, а также как подстилку для домашних животны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23760" y="2482920"/>
            <a:ext cx="3360960" cy="28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6000" y="466560"/>
            <a:ext cx="42987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Каменный угол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Прямоугольник 2"/>
          <p:cNvSpPr/>
          <p:nvPr/>
        </p:nvSpPr>
        <p:spPr>
          <a:xfrm>
            <a:off x="4032360" y="1692360"/>
            <a:ext cx="554508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Затем торф превращается в бурый уголь, потом — в каменный уголь и затем в антрацит — уголь самого высокого кач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Каменный уголь чёрного цвета, твёрдый, но хрупкий, горю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Он используется для отопления жилых помещений, изготовления кокс-краски, лекарств, пластмассы, дух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114480" y="2340000"/>
            <a:ext cx="37908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718920" y="1763640"/>
            <a:ext cx="86072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ыполним практическую работу в рабочей тетрад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на странице 26 № 2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647640" y="466560"/>
            <a:ext cx="8607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Times New Roman"/>
              </a:rPr>
              <a:t>Практическая раб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8920" y="-360"/>
            <a:ext cx="860724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Задан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19280" y="6082920"/>
            <a:ext cx="864072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52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-324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107000"/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Прочитай статьи в учебнике «Для чего их добывают» и «Как их добывают» на странице 4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рассмотри фотографии в учебник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-324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107000"/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ыполни задание № 5 в рабочей тетрад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-324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107000"/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 старой шахте отыщите дорогу к кладу. № 6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Проверь у сосе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-324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107000"/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ыполни задание 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в рабочей тетради.  Самостоятельно впиши в клеточки названия полезных ископаемых. Проверь у сосе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0">
              <a:lnSpc>
                <a:spcPct val="95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0">
              <a:lnSpc>
                <a:spcPct val="95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0">
              <a:lnSpc>
                <a:spcPct val="95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92000" y="394920"/>
            <a:ext cx="860760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47640" y="466200"/>
            <a:ext cx="8607600" cy="29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. Учебник, 50, вопрос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. Рабочая тетрадь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№1, стр 29,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№ 7-8, стр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752400" y="1279440"/>
            <a:ext cx="8607600" cy="857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Какие материалы люди используют для строительства? Где их берут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Какие виды топлива вы знает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Как получают металлы? Где их используют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Люди каких профессий заняты при добыче полезных ископаемых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741240" y="299880"/>
            <a:ext cx="860760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Ответь на вопросы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9720360" y="4500720"/>
            <a:ext cx="360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7740720" y="7559640"/>
            <a:ext cx="900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979640" y="5759280"/>
            <a:ext cx="5396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900000" y="5400720"/>
            <a:ext cx="1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2400" y="1618920"/>
            <a:ext cx="8607600" cy="20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Тема урока: </a:t>
            </a:r>
            <a:br>
              <a:rPr sz="4400"/>
            </a:br>
            <a:br>
              <a:rPr sz="4400"/>
            </a:b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«Полезные ископаемые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92000" y="4140000"/>
            <a:ext cx="8607600" cy="16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</a:rPr>
              <a:t>Подумай,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что такое полезные ископаемые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20720" y="1260000"/>
            <a:ext cx="8607600" cy="51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3333cc"/>
                </a:solidFill>
                <a:latin typeface="Times New Roman"/>
              </a:rPr>
              <a:t>Полезные ископаемые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— это горные породы и минералы, которые человек использует в хозяйств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Одни используются в строительстве, другие служат топливом, из третьих получают металлы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Полезные ископаемые — огромное бесценное богатство Земл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-60480" y="0"/>
            <a:ext cx="1014120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378000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Пес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679640" y="684000"/>
            <a:ext cx="4668840" cy="65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Песок - это рыхлая, сыпучая порода, состоящая из минеральных частиц разного цвета, размером от 0,05-2 м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Песок — это продукт разрушения твёрдых пород под действием солнца, тепла, ветра. Чаще всего песок образуется из кварц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Используется в стекольном производстве; в литейном деле, при плавлении металла; в строительств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216000" y="1979640"/>
            <a:ext cx="3806640" cy="30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0000" y="610920"/>
            <a:ext cx="287964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Гли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032360" y="1332000"/>
            <a:ext cx="5580000" cy="51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Глина — это осадочная порода. Она образуется в результате выветривания различных горных пород, но переотлагается на дне морей и озё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Глина очень мелкая, бурого, жёлтого, белого, голубого цвет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Широко применяемый строительный материал. Кирпич делают из глины. Также изготовляют посуду,игрушки, фарфор, фаянс, огнеупорные материалы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216000" y="2340000"/>
            <a:ext cx="3708360" cy="32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31640" y="299880"/>
            <a:ext cx="331344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Грани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103640" y="755280"/>
            <a:ext cx="5616720" cy="62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озникает из глинистых сланцев и песчаников.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ернистый, твёрдый и прочный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Название гранит произошло от греческого «гранум», что означает зерно. Гранит состоит из зерен трех минералов – полевого шпата (красного цвета), кварца (светло-серого цвета) и слюды (черного цвета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Используется при строительстве и сооружении памятников. Гранитом облицованы набережные в Санкт-Петербурге, отделаны стены домов и станций метр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287280" y="2195640"/>
            <a:ext cx="35290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0360" y="684000"/>
            <a:ext cx="324000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Известня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960720" y="1116000"/>
            <a:ext cx="5399280" cy="60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Известняки залегают в земле громадными слоями. К известнякам относятся мел, обыкновенный известняк и мрамор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Мел — самый мягкий известняк. Им пишут на доске. Толчёным мелом белят стены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Обыкновенный известняк — плотный камень  белого, серого или желтоватого цвета. Используется при строительстве домов, мощении дорог, приготовлении извёст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0" y="2124000"/>
            <a:ext cx="3745080" cy="334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02-26T15:17:59Z</dcterms:modified>
  <cp:revision>16</cp:revision>
  <dc:subject/>
  <dc:title>Окружающий мир. 3 класс.  Полезные ископаемые.  </dc:title>
</cp:coreProperties>
</file>