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0.jpeg" ContentType="image/jpeg"/>
  <Override PartName="/ppt/media/image41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FE5B-F656-4EA1-AC60-A01F1C9C1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238D-B006-4CD4-83E9-D3C3368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880C-0B75-47F2-A3E1-3867C41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7B13-3818-4CC2-839A-8E6529936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564AD-A1A7-4836-AE9D-05D356522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2ACF6-B25F-4308-94B5-E3635A8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1F02-C0B6-4E70-89A2-D4E6C2E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D8DF-B4D3-4985-8CAC-0F923ED4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D04CE-9757-4A69-B633-4EB25CBF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7795-FFE6-4A81-87AC-79AEF348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070C-A236-4ED8-9C55-BA75D39E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E853-EA5F-41A9-8E98-9776522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AEF75-79F4-454C-A5FF-865C15E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45B10-B2A6-4825-9391-B5680EC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8CBBB-1FB7-4AA7-9E32-D1ACAA8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3B92C-7180-452A-8F91-D00F739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751D0-67DB-4007-A457-E656D5BF1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34B-A907-4522-9058-C0BA8ACCC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932-9B0C-4F53-A763-8A229489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9A1-5185-4327-8130-8460549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7D4B-C6B9-450A-A0EE-174A7BE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EC3F-B88F-49BE-BC6C-74DF262A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4D42-352B-4149-AF4F-71D29A15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0FC-C730-42F7-B009-8ADDDA81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79AE-95EE-4ABC-A61C-7B5B8086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3CC-A09B-4B55-8DB1-E629B39D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4A77-51EC-4691-833F-5661B23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655C-F341-4611-9BC2-E6DCEB7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74A1-CB8A-4309-9A7B-D7D665B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6AA2-5C36-4DAE-86AF-8FB030D92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33969-0A61-43C1-A0A1-C0FEC41636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F4DC4-AE6D-4702-BCE8-AD54F7E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71ED2-FC21-4435-8830-EFB0991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D277-CAEA-4D17-A79C-D2BEEC30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51940-988E-469E-96FE-7E201B4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828D1-B639-4BCD-B5AB-C2580570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E0F43-D018-459D-97CC-BB130E6E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1F0D7-CDDA-4FB0-B8EF-27C1954F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ACCF4-680B-45C8-8B9F-06AB0B6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217A8-D60F-410E-82A0-EEE840CB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A3648-E618-4639-A287-5EB867FA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94888-AEAD-40FF-86F6-E0B35CD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12624-FA45-445A-B40A-830DC2D3DC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5F49-3B04-4EBA-A85A-D900D31A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4B47-EFC7-4C4A-8188-482588FC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5A91-55E9-4FAE-8E74-DF558023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0FE3-B230-4628-9101-9EBB664C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B3F6-0ECC-4D15-86CE-DD035E3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5102280"/>
            <a:ext cx="9155160" cy="1760400"/>
            <a:chOff x="-6480" y="5102280"/>
            <a:chExt cx="9155160" cy="17604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516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256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-6480" y="-6480"/>
            <a:ext cx="9155160" cy="5119920"/>
            <a:chOff x="-6480" y="-6480"/>
            <a:chExt cx="9155160" cy="511992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B87798-31A6-4A39-AA11-2D236C97A31B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B33EA-026B-4DD5-8A29-AB0F69695F9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5102280"/>
            <a:ext cx="9155160" cy="1760400"/>
            <a:chOff x="-6480" y="5102280"/>
            <a:chExt cx="9155160" cy="176040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516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256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480" y="-6480"/>
            <a:ext cx="9155160" cy="5119920"/>
            <a:chOff x="-6480" y="-6480"/>
            <a:chExt cx="9155160" cy="511992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A465-651A-470B-B663-1D8419577D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-6480" y="3859200"/>
            <a:ext cx="9155160" cy="3003480"/>
            <a:chOff x="-6480" y="3859200"/>
            <a:chExt cx="9155160" cy="30034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516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480" y="-6480"/>
            <a:ext cx="9155160" cy="3875040"/>
            <a:chOff x="-6480" y="-6480"/>
            <a:chExt cx="9155160" cy="387504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51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256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6480" y="1596960"/>
            <a:ext cx="9155160" cy="5113440"/>
            <a:chOff x="-6480" y="1596960"/>
            <a:chExt cx="9155160" cy="511344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516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A7EC-D616-4D2F-AE98-DAE7DFC7C7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506760" y="5084640"/>
            <a:ext cx="56372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716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22716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38400" y="-103320"/>
            <a:ext cx="6375240" cy="3224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-182520" y="2646360"/>
            <a:ext cx="942336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39680" y="0"/>
            <a:ext cx="9004320" cy="1579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2920" y="119700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* Обновленная расшифровка ГТО звучит как: «Горжусь тобой, Отечество!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* Это название-призыв оказалось более личным, более теплым, в нем напрямую упоминается святое для русского человека слово «Отечеств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04920" y="4210200"/>
            <a:ext cx="4103640" cy="249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807080" y="4210200"/>
            <a:ext cx="379728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36680" y="18900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/>
          <p:nvPr/>
        </p:nvSpPr>
        <p:spPr>
          <a:xfrm>
            <a:off x="1336680" y="1268280"/>
            <a:ext cx="68356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 сдаче норм ГТО существует несколько ступеней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6-8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9-10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 школьники 11-12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школьники 13-15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упень –школьники 16-17 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79280" y="4538520"/>
            <a:ext cx="3210120" cy="23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72160" y="447660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63640" y="189000"/>
            <a:ext cx="55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 для мужчин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2421000"/>
            <a:ext cx="77914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6 ступень – мужчины 18 – 2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7 ступень – мужчины 30 – 3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8 ступень – мужчины 40 – 4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9 ступень – мужчины 50 – 5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0 ступень – мужчины 60 – 6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1 ступень – мужчины 70 лет и старш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47640" y="260280"/>
            <a:ext cx="531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тупени ГТО для женщин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4922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6 ступень – женщины 18 – 2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7 ступень – женщины 30 – 3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8 ступень – женщины 40 – 4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9 ступень – женщины 50 – 5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0 ступень – женщины 60 – 69 ле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1 ступень – женщины 70 лет и старш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484360" y="1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иды испытаний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71360" y="1852560"/>
            <a:ext cx="3138480" cy="641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2462040"/>
            <a:ext cx="926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лночный бег 3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0 м (сек) или бег на 30 м (сек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мешанное передвижение 1 к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ыжок в длину с места толчком двумя ногами (см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тягивание из виса на высокой перекладине или подтягивание из виса лёжа на низкой перекладин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кол-во раз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*  Сгибание и разгибание рук в упоре лежа на по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л-во раз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клон вперед из положения стоя с прямыми ногам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полу   (достать пол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7340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иды испытаний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290880" y="2205000"/>
            <a:ext cx="76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3025"/>
                </a:solidFill>
                <a:latin typeface="Trebuchet MS"/>
              </a:rPr>
              <a:t>По выбору (в зависимости от возраста)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579600" y="2997360"/>
            <a:ext cx="754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ние теннисного мяча в цель (кол – во раз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г на лыжах  (мин., сек.)  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осс по пересеченной местност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вание без учета времени (м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ние мяча 150 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ельба из пневматической винтов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уристический поход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440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780000" y="189000"/>
            <a:ext cx="467964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полнившие нормативы комплекса будут отмечены золотыми, серебряными или бронзовыми знаками отличия, а также получат массовые спортивные разряды и з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бладание такими знаками отличия даст бонусы при поступлении в высшие учебные завед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3240" cy="3219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440" y="3490920"/>
            <a:ext cx="30783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52920" y="374760"/>
            <a:ext cx="4572000" cy="6457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399960"/>
            <a:ext cx="457200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31880"/>
            <a:ext cx="64008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9280" y="101520"/>
            <a:ext cx="2698920" cy="1695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62000" y="1989000"/>
            <a:ext cx="2701800" cy="2232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62000" y="4508640"/>
            <a:ext cx="2716200" cy="2039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986200" y="1986120"/>
            <a:ext cx="6157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дать ГТО совсем непросто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ы ловким, сильным должен бы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Чтоб нормативы победи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начок в итоге получи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ойдя же все ступени вверх -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ы будешь верить в свой успе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 олимпийцем можешь стать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едали точно получат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384200" y="115920"/>
            <a:ext cx="6229440" cy="1200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4956120" cy="3298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81200" y="1189080"/>
            <a:ext cx="6299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бщероссийское движение «Готов к труду и обороне» -  программа физкультурной подготов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0240" y="2111400"/>
            <a:ext cx="3357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80" y="1528920"/>
            <a:ext cx="3746520" cy="5273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000" y="126828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Охватывала население в возрасте от 10 до 60 л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Необходимо было сдать определенные нормативы по физ.подготов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Сдавать нужно было такие виды упражнений, как бег, прыжки в длину и в высоту, плавание, метание мяча, лыжные гонки, подтягивание на перекладине, стрельба, велокросс, туристский поход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1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Из истории ГТО 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3480" y="1528920"/>
            <a:ext cx="3746520" cy="527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780000" y="126828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Охватывала население в возрасте от 10 до 60 л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Необходимо было сдать определенные нормативы по физ.подготов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Сдавать нужно было такие виды упражнений, как бег, прыжки в длину и в высоту, плавание, метание мяча, лыжные гонки, подтягивание на перекладине, стрельба, велокросс, туристский поход и д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1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Из истории ГТО 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496872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30 метров, подтянуться определённое количество раз, пройти на лыжах 2 к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1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зависимости от уровня достижений сдающие нормативы каждой ступени награждались золотым или серебряным значко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64000" y="38624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12000" y="20520"/>
            <a:ext cx="254628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610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4910040"/>
            <a:ext cx="65516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, кто сдавал нормативы в течение нескольких лет, получали знач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чётный значок ГТО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04000" y="4284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561000" y="2341440"/>
            <a:ext cx="258300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71640" y="404640"/>
            <a:ext cx="698508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75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Во времена обязательных нормативов ГТО граждане СССР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претендовали на медали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на многих международных соревнованиях, становились рекордсменами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почти во всех видах спорта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 algn="ctr">
              <a:lnSpc>
                <a:spcPct val="100000"/>
              </a:lnSpc>
              <a:spcBef>
                <a:spcPts val="675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К началу 1976 года свыше 220 миллионов человек имели значки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ГТО.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68360" y="3549600"/>
            <a:ext cx="4861080" cy="3308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85760" y="3357720"/>
            <a:ext cx="1938240" cy="2706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129440" y="3621240"/>
            <a:ext cx="19890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3880" y="4371840"/>
            <a:ext cx="651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2624040" y="349200"/>
            <a:ext cx="6400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 90 – е годы, комплекс ГТО был предан забвению, что существенно   отразилось на физической подготовке граждан и, в первую очередь, молодежи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-108000" y="44416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372360" y="4365720"/>
            <a:ext cx="2666880" cy="2390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085840" y="417996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1666800"/>
            <a:ext cx="3335400" cy="2498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52600" y="11160"/>
            <a:ext cx="222876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44880" y="1111320"/>
            <a:ext cx="518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SzPct val="13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500" spc="-1" strike="noStrike" u="sng">
                <a:solidFill>
                  <a:srgbClr val="002060"/>
                </a:solidFill>
                <a:uFillTx/>
                <a:latin typeface="Calibri"/>
              </a:rPr>
              <a:t>По Указу Президента РФ с 1 сентября 2014 года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в нашей стране вводится Всероссийский физкультурно-спортивный комплекс «Готов к труду и обороне» (ГТО) для решения проблемы продвижения ценностей здорового образа жизни и укрепления здоровья детей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1890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В наши дни ГТО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0680" y="1268280"/>
            <a:ext cx="3311280" cy="472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4:59:04Z</dcterms:created>
  <dc:creator>Пользователь Windows</dc:creator>
  <dc:description/>
  <dc:language>en-US</dc:language>
  <cp:lastModifiedBy/>
  <dcterms:modified xsi:type="dcterms:W3CDTF">2017-05-11T10:02:00Z</dcterms:modified>
  <cp:revision>30</cp:revision>
  <dc:subject/>
  <dc:title>Презентация PowerPoint</dc:title>
</cp:coreProperties>
</file>