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0.jpeg" ContentType="image/jpeg"/>
  <Override PartName="/ppt/media/image41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1218-AD3C-4EAE-B65C-DB9E1E748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0C65-EA92-4466-A130-AD0AB2A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F716-3E8F-4575-AAE0-76CAD10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7561-5922-48D1-ABD9-BA5BBB5554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DB1C-FF87-4ABF-B515-F52F0B29A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C5A12-380A-44D8-A6BE-CE912982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44D06-E7B3-4D6F-BFB3-B5EF8AA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68748-17E2-49A1-8088-9716AF7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D5CDC-8BCE-44E2-AAF2-ADD00831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57E22-F90A-491B-B0AE-8822831D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4D2C6-844F-4D82-9B48-4BAB4A5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F1B0-2771-425D-8429-9C8B4C21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1742A-5CAF-420B-B25E-F0B73451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AE3F2-ACDC-4742-B6D6-378F0E0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FA0E-DFA4-4D8D-93CF-3E60F44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CAF59-6D3A-4D6B-BB64-A9C4045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07277-3224-472F-8F1A-56ED6D13E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B00C-6D93-4836-8D26-5DE5B352E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397C-D112-4A2E-8D8C-C223EDA7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A61B-2D76-4866-8A01-CF4FCAE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1271-3F99-42C9-A618-B7103A4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850-3EEE-4E29-A060-FE262625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0BC2-BCB2-414D-A0B2-2D70A7F1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DA5-16E1-4EBF-B9BA-1F6210F2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6A4E-C7D0-4370-9DDB-AF4C8F98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3E6E-81E7-43A2-95D2-7DBD1AC7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C6DC-4DA2-427E-AD53-F53EBEB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6B81-340F-4C90-A7D0-BF0CDD22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15D-79AB-4521-BEE4-C2F71D0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192A-7DE3-4550-BA9C-F52CEA33F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28C83-5D6B-40D1-8CF8-081F1CCB5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81074-F5EB-4BB8-8F30-999F4D1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23A8B-0428-4FFB-89DD-3D1B1F4A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D909-7938-45E3-A542-8A37E66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4AE09-5BD7-400D-BA2E-968B8ECB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BABAC-CFA6-4858-BC31-678F0BB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C9BDB-726A-4A3E-B0FE-C292FB5D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116CB-9362-47F7-874D-7D830F55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CE833-3593-4667-8E94-1CC08FAD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FC809-0FF9-411F-A91B-80032E7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2FAF7-6717-4B3C-994B-1200C64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B8810-81F9-40C8-8111-C4FF3F5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5A5A5-E2C2-44CF-9055-53FBEBA91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283E-8C3A-47EB-BDF8-6E50F39F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D181-F279-4E60-9EED-8932B8F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CB5A-E84A-4AE9-B9C0-B6F9B0DB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6C52-CA0C-44E9-96FB-50F8EF2F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58A8-A281-4F8B-BE86-C956E138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5102280"/>
            <a:ext cx="9155160" cy="1760400"/>
            <a:chOff x="-6480" y="5102280"/>
            <a:chExt cx="9155160" cy="17604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516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256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-6480" y="-6480"/>
            <a:ext cx="9155160" cy="5119920"/>
            <a:chOff x="-6480" y="-6480"/>
            <a:chExt cx="9155160" cy="511992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256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CA7ED1-C263-49B9-8F99-C45C583CF6AE}" type="slidenum"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6480" y="3859200"/>
            <a:ext cx="9155160" cy="3003480"/>
            <a:chOff x="-6480" y="3859200"/>
            <a:chExt cx="9155160" cy="30034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51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6480" y="-6480"/>
            <a:ext cx="9155160" cy="3875040"/>
            <a:chOff x="-6480" y="-6480"/>
            <a:chExt cx="9155160" cy="38750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256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5C62D-0B2B-4E6E-9B13-543390D55C6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5102280"/>
            <a:ext cx="9155160" cy="1760400"/>
            <a:chOff x="-6480" y="5102280"/>
            <a:chExt cx="9155160" cy="176040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516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256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480" y="-6480"/>
            <a:ext cx="9155160" cy="5119920"/>
            <a:chOff x="-6480" y="-6480"/>
            <a:chExt cx="9155160" cy="511992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256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-6480" y="3859200"/>
            <a:ext cx="9155160" cy="3003480"/>
            <a:chOff x="-6480" y="3859200"/>
            <a:chExt cx="9155160" cy="3003480"/>
          </a:xfrm>
        </p:grpSpPr>
        <p:pic>
          <p:nvPicPr>
            <p:cNvPr id="113" name="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51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-6480" y="-6480"/>
            <a:ext cx="9155160" cy="3875040"/>
            <a:chOff x="-6480" y="-6480"/>
            <a:chExt cx="9155160" cy="3875040"/>
          </a:xfrm>
        </p:grpSpPr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51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256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F3D1E-80E1-4C60-8632-6EE07774A1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-6480" y="3859200"/>
            <a:ext cx="9155160" cy="3003480"/>
            <a:chOff x="-6480" y="3859200"/>
            <a:chExt cx="9155160" cy="30034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51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480" y="-6480"/>
            <a:ext cx="9155160" cy="3875040"/>
            <a:chOff x="-6480" y="-6480"/>
            <a:chExt cx="9155160" cy="387504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256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CF790-8953-4BFC-A34A-DE41B6B279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506760" y="5084640"/>
            <a:ext cx="56372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716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22716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38400" y="-103320"/>
            <a:ext cx="6375240" cy="3224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-182520" y="2646360"/>
            <a:ext cx="942336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39680" y="0"/>
            <a:ext cx="9004320" cy="1579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2920" y="119700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rebuchet MS"/>
              </a:rPr>
              <a:t>* Обновленная расшифровка ГТО звучит как: «Горжусь тобой, Отечество!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rebuchet MS"/>
              </a:rPr>
              <a:t>* Это название-призыв оказалось более личным, более теплым, в нем напрямую упоминается святое для русского человека слово «Отечеств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04920" y="4210200"/>
            <a:ext cx="4103640" cy="249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807080" y="4210200"/>
            <a:ext cx="379728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36680" y="18900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тупени ГТО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/>
          <p:nvPr/>
        </p:nvSpPr>
        <p:spPr>
          <a:xfrm>
            <a:off x="1336680" y="1268280"/>
            <a:ext cx="68356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 сдаче норм ГТО существует несколько ступеней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 школьники 6-8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 школьники 9-10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 школьники 11-12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школьники 13-15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школьники 16-17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79280" y="4538520"/>
            <a:ext cx="3210120" cy="23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72160" y="447660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63640" y="189000"/>
            <a:ext cx="55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тупени ГТО для мужчин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2421000"/>
            <a:ext cx="77914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6 ступень – мужчины 18 – 2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7 ступень – мужчины 30 – 3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8 ступень – мужчины 40 – 4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9 ступень – мужчины 50 – 5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0 ступень – мужчины 60 – 6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1 ступень – мужчины 70 лет и старш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47640" y="260280"/>
            <a:ext cx="531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тупени ГТО для женщин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49228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6 ступень – женщины 18 – 2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7 ступень – женщины 30 – 3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8 ступень – женщины 40 – 4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9 ступень – женщины 50 – 5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0 ступень – женщины 60 – 6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1 ступень – женщины 70 лет и старш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484360" y="1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Виды испытаний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71360" y="1852560"/>
            <a:ext cx="3138480" cy="641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2462040"/>
            <a:ext cx="926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лночный бег 3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0 м (сек) или бег на 30 м (сек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мешанное передвижение 1 к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ыжок в длину с места толчком двумя ногами (см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тягивание из виса на высокой перекладине или подтягивание из виса лёжа на низкой перекладин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кол-во раз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*  Сгибание и разгибание рук в упоре лежа на по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л-во раз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клон вперед из положения стоя с прямыми ногам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полу   (достать пол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7340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Виды испытаний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290880" y="2205000"/>
            <a:ext cx="76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3025"/>
                </a:solidFill>
                <a:latin typeface="Trebuchet MS"/>
              </a:rPr>
              <a:t>По выбору (в зависимости от возраста)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579600" y="2997360"/>
            <a:ext cx="754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ние теннисного мяча в цель (кол – во раз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г на лыжах  (мин., сек.)  и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осс по пересеченной местност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лавание без учета времени (м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ние мяча 150 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ельба из пневматической винтов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уристический поход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780000" y="189000"/>
            <a:ext cx="467964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полнившие нормативы комплекса будут отмечены золотыми, серебряными или бронзовыми знаками отличия, а также получат массовые спортивные разряды и зв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бладание такими знаками отличия даст бонусы при поступлении в высшие учебные завед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3240" cy="3219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440" y="3490920"/>
            <a:ext cx="30783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52920" y="374760"/>
            <a:ext cx="4572000" cy="6457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399960"/>
            <a:ext cx="457200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93880" y="4371840"/>
            <a:ext cx="651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731880"/>
            <a:ext cx="64008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79280" y="101520"/>
            <a:ext cx="2698920" cy="1695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62000" y="1989000"/>
            <a:ext cx="2701800" cy="2232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162000" y="4508640"/>
            <a:ext cx="2716200" cy="2039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986200" y="1986120"/>
            <a:ext cx="61578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дать ГТО совсем непросто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ы ловким, сильным должен быть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Чтоб нормативы победить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начок в итоге получит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ойдя же все ступени вверх -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ы будешь верить в свой успе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И олимпийцем можешь стать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едали точно получат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384200" y="115920"/>
            <a:ext cx="6229440" cy="1200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4956120" cy="3298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81200" y="1189080"/>
            <a:ext cx="6299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бщероссийское движение «Готов к труду и обороне» -  программа физкультурной подготов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0240" y="2111400"/>
            <a:ext cx="3357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80" y="1528920"/>
            <a:ext cx="3746520" cy="5273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000" y="1268280"/>
            <a:ext cx="51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Охватывала население в возрасте от 10 до 60 л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Необходимо было сдать определенные нормативы по физ.подготов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Сдавать нужно было такие виды упражнений, как бег, прыжки в длину и в высоту, плавание, метание мяча, лыжные гонки, подтягивание на перекладине, стрельба, велокросс, туристский поход и д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1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Из истории ГТО 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3480" y="1528920"/>
            <a:ext cx="3746520" cy="527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780000" y="1268280"/>
            <a:ext cx="51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Охватывала население в возрасте от 10 до 60 л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Необходимо было сдать определенные нормативы по физ.подготов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Сдавать нужно было такие виды упражнений, как бег, прыжки в длину и в высоту, плавание, метание мяча, лыжные гонки, подтягивание на перекладине, стрельба, велокросс, туристский поход и д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1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Из истории ГТО 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3880" y="4371840"/>
            <a:ext cx="651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4640"/>
            <a:ext cx="496872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181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30 метров, подтянуться определённое количество раз, пройти на лыжах 2 к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1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1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зависимости от уровня достижений сдающие нормативы каждой ступени награждались золотым или серебряным значко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64000" y="38624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012000" y="20520"/>
            <a:ext cx="254628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4610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4360" y="4910040"/>
            <a:ext cx="65516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, кто сдавал нормативы в течение нескольких лет, получали знач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чётный значок ГТО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804000" y="4284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561000" y="2341440"/>
            <a:ext cx="258300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71640" y="404640"/>
            <a:ext cx="69850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75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Во времена обязательных нормативов ГТО граждане СССР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претендовали на медали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на многих международных соревнованиях, становились рекордсменами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почти во всех видах спорта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 algn="ctr">
              <a:lnSpc>
                <a:spcPct val="100000"/>
              </a:lnSpc>
              <a:spcBef>
                <a:spcPts val="675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К началу 1976 года свыше 220 миллионов человек имели значки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ГТО.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68360" y="3549600"/>
            <a:ext cx="4861080" cy="3308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85760" y="3357720"/>
            <a:ext cx="1938240" cy="2706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7129440" y="3621240"/>
            <a:ext cx="19890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3880" y="4371840"/>
            <a:ext cx="651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/>
          <p:nvPr/>
        </p:nvSpPr>
        <p:spPr>
          <a:xfrm>
            <a:off x="2624040" y="349200"/>
            <a:ext cx="6400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В 90 – е годы, комплекс ГТО был предан забвению, что существенно   отразилось на физической подготовке граждан и, в первую очередь, молодежи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-108000" y="44416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372360" y="4365720"/>
            <a:ext cx="2666880" cy="2390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085840" y="417996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1666800"/>
            <a:ext cx="3335400" cy="2498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52600" y="11160"/>
            <a:ext cx="222876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44880" y="1111320"/>
            <a:ext cx="51847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500" spc="-1" strike="noStrike" u="sng">
                <a:solidFill>
                  <a:srgbClr val="002060"/>
                </a:solidFill>
                <a:uFillTx/>
                <a:latin typeface="Calibri"/>
              </a:rPr>
              <a:t>По Указу Президента РФ с 1 сентября 2014 года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в нашей стране вводится Всероссийский физкультурно-спортивный комплекс «Готов к труду и обороне» (ГТО) для решения проблемы продвижения ценностей здорового образа жизни и укрепления здоровья детей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1890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В наши дни ГТО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0680" y="1268280"/>
            <a:ext cx="3311280" cy="472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04:59:04Z</dcterms:created>
  <dc:creator>Пользователь Windows</dc:creator>
  <dc:description/>
  <dc:language>en-US</dc:language>
  <cp:lastModifiedBy/>
  <dcterms:modified xsi:type="dcterms:W3CDTF">2017-05-11T10:02:00Z</dcterms:modified>
  <cp:revision>30</cp:revision>
  <dc:subject/>
  <dc:title>Презентация PowerPoint</dc:title>
</cp:coreProperties>
</file>