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E16B-80DA-49BE-A616-48D56C7F7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9886-B93D-44B5-8D22-F73F0BD34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3C63-B225-433B-8A2F-C8C9FD28A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18C5-9AC3-4774-8802-F5A0A7366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C6722-2ADF-4D99-B844-8B669B4AA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6D255-D7DB-47EC-ABBD-925DB0D83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E5099-0F2A-49F2-9B5C-783BFCD54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573D6-E086-4A4B-8099-83B85AB89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E10A8-8E40-4456-9A69-0EE24CEEA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01FDF-9496-40C6-8A03-5027305DF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67655-AF45-4F75-844C-AFE79D4DE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A7FE-F58F-42CA-9506-85EAE6D2E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3099C-ACAF-4278-81EC-5B558058B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98D66-E2DB-4742-86D6-B153BA870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FF32E-802C-4319-8D36-3F15800A4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5FB07-26ED-4CC8-ADFD-70261C48E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86AB4-53CD-423A-B7C2-7C3A0AF30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EE84-ADAD-492A-8ACB-77463E9A5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0E83-3238-4606-B95C-AA960C7DC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4747-88C0-4F3F-B6D5-04D44B8E1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C1ED-B55C-466A-9B52-62EDBECB5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9C21-92DB-4EE3-9813-2E72D9796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2CF5-13DC-4719-A4F4-F88B472B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399F-B9FF-4104-843E-EE2DD0D54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2B546-89A0-48C9-A512-ECD78B849A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F9C5B-F729-4445-A2F5-D652EDAF2C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1219320" y="1676520"/>
            <a:ext cx="655308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ернатая азбук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553080" y="4800600"/>
            <a:ext cx="1828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Подготовил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воспитатель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Белых Т.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1371600" cy="9903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1676520" y="762120"/>
            <a:ext cx="1257120" cy="10666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2819520" y="228600"/>
            <a:ext cx="1371600" cy="10666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457200" y="3962520"/>
            <a:ext cx="1371600" cy="10666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1676520" y="4648320"/>
            <a:ext cx="1371600" cy="10666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6"/>
          <a:stretch/>
        </p:blipFill>
        <p:spPr>
          <a:xfrm>
            <a:off x="2895480" y="5486400"/>
            <a:ext cx="1447920" cy="10666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7"/>
          <a:stretch/>
        </p:blipFill>
        <p:spPr>
          <a:xfrm>
            <a:off x="4114800" y="762120"/>
            <a:ext cx="1447920" cy="10666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8"/>
          <a:stretch/>
        </p:blipFill>
        <p:spPr>
          <a:xfrm>
            <a:off x="5486400" y="380880"/>
            <a:ext cx="14097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У неё – как огонь оперенье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Пролетит – загорятся куст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А послышится звонкое пение –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умолкают дрозды и клесты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«Ориолус калбула тинь-тыни!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Голос иволги слышен в ноч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На забытой и странной латыни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Только песня по-русски звучит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А певец где-то прячется в чаще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Избегая людского суда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Ну а голос звучит как причастье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Как в ручье ключевая вода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Осторожная, нежная птица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Не трусишка и вовсе не плут –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Она страшно неволи боится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А её… дикой кошкой зовут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3733920" cy="312408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 txBox="1"/>
          <p:nvPr/>
        </p:nvSpPr>
        <p:spPr>
          <a:xfrm>
            <a:off x="1905120" y="304920"/>
            <a:ext cx="47242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волга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066680" y="52578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 птица в одно пер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е родит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648320" y="2057400"/>
            <a:ext cx="403848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У каждой птички есть избушка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Где можно выспаться к утру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И лишь бездомная кукуш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Печально плачет на ветру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Она не может, как синичка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Сама построить себе до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И вынуждена класть яичк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В чужое тёплое гнездо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А после за лесною далью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Подбросив тайное яйцо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С утра до вечера рыдае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Над горькой участью птенцов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А мы, от умиленья тая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Наивно думаем о том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Что она годы нам считае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Своим прекрасным языком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2209680" y="304920"/>
            <a:ext cx="4572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укушка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3581280" cy="342900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1127160" y="5638680"/>
            <a:ext cx="230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укушка кукует –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т бездомья горю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4648320" y="2057400"/>
            <a:ext cx="403848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Солнышко не греет, льёт прохладный свет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Уж конец апреля, а весны всё нет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Встану я украдкой солнышка коснусь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Ласточка-касатка принеси весну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Она мчит над полем – глаз не оторвать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И простор, и воля – только рисовать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Утром слышен лепет, гомонит весь дом –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То под крышей лепят ласточки гнездо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Засияло солнце, будит всех от сна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Отвори оконце – на дворе весна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3733920" cy="342900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 txBox="1"/>
          <p:nvPr/>
        </p:nvSpPr>
        <p:spPr>
          <a:xfrm>
            <a:off x="2133720" y="304920"/>
            <a:ext cx="47242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асточка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914400" y="563868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Ласточка весну начинае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 соловей конча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Мандаринка – смешное названье –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Это птица, иль сказочный плод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Будто с солнца её срисовали –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Она вся излучает тепло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Воротник у неё красно-рыжий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Изумрудом горит хохолок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А бока, словно золотом брызжу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И сияет огонь под крыло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Она любит лесные озёра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Тихих рек незаметный уклон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Обожает мальков краснопёрых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А гнездо своё прячет в дупло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Она может летать как голуб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Меж деревьев, сучков и кустов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Пусть живёт необычная утка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Украшая озёрный простор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3886200" cy="34290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 txBox="1"/>
          <p:nvPr/>
        </p:nvSpPr>
        <p:spPr>
          <a:xfrm>
            <a:off x="1905120" y="304920"/>
            <a:ext cx="53337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андаринка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219320" y="55627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расна птица пером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 человек ум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4648320" y="2057400"/>
            <a:ext cx="403848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Закрываю глаза – ясно вижу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Детство светлое, мелкий прудо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И над гладью воды – тёмно-рыж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С красным клювом весёлый нырок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Он не знает, что мы наблюдаем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Притаившись в прибрежных кустах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Как легко он и классно ныряет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Находясь под водою… до ста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И мы спорим до хрипа, до дрож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Разукрашены цвет-лебедой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Кто из нас героически сможе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Так же долго пробыть под водо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Мы ныряем,  нырку подражая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И сидим под водой, не дыша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Мы по-своему время считаем –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И ликует победно душа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3809880" cy="34290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2209680" y="304920"/>
            <a:ext cx="43434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ырок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127160" y="5562720"/>
            <a:ext cx="226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е всё перенять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что по воде плывё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4648320" y="1676520"/>
            <a:ext cx="403848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Тёмненькая спинка, жёлтенькое брюшко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Любит она  дзинькать на лесной опушк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Песни распевает над родной полянкой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В рощи проживает, а зовут… овсянко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Есть у невелички братец перелётный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Золотая птичка – воробей болотны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Всяк себе летает над своей лужайкой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А похолодает – соберутся в стайку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Как и воробьишки, жмутся ближе к сёла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А сегодня в книжку залетели хором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3962520" cy="32004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 txBox="1"/>
          <p:nvPr/>
        </p:nvSpPr>
        <p:spPr>
          <a:xfrm>
            <a:off x="2209680" y="304920"/>
            <a:ext cx="46483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всянка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38080" y="5410080"/>
            <a:ext cx="37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 крупице и птица собирае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 сыта быва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4648320" y="1904760"/>
            <a:ext cx="4038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Не то странник, не то побирушка –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Догадаться никак не мог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Неуклюжая, словно старушка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Бродит птица на том берег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Клюв огромный, длиннее аршина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А под клювом – большущий карман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Настоящая птица-страшил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Для того, кто в воде задремал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Но смотрите: всё детские лиц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В небо вскинулись – ах, что за вид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Там не Баба-Яга – баба-птиц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Над водой грациозно летит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Она любит заморские дали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Но дороже ей Волга-рек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Вы, наверно, уже догадались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Эта птица – рыбак-пеликан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3809880" cy="342900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 txBox="1"/>
          <p:nvPr/>
        </p:nvSpPr>
        <p:spPr>
          <a:xfrm>
            <a:off x="2133720" y="304920"/>
            <a:ext cx="47242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еликан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838080" y="556272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тица сильна крыльям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 человек – дружб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4648320" y="1904760"/>
            <a:ext cx="4038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Эта птица – большая хитрюга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И умом защищаясь от зла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От Керчи до полярного круг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Она вольно когда-то жил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Но её полюбили буржуи –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Не в полёте с вином на столе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Ни купец, ни заводчик, ни жули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Пьяных денег на дичь не жалел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Объедались тузы до икот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К ним тянулись артист и дантист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И пошла обложная охот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На прекрасных, беспомощных птиц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Негде рябчику больше гнездиться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Оборвались лесные пути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И теперь осторожную птиц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В Красной книге лишь можно найт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3809880" cy="320040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 txBox="1"/>
          <p:nvPr/>
        </p:nvSpPr>
        <p:spPr>
          <a:xfrm>
            <a:off x="2057400" y="304920"/>
            <a:ext cx="4572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ябчик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203480" y="5410080"/>
            <a:ext cx="221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е убил рябчика –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ешь свекл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Чёрный в крапинку скворец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Знают все – весны гонец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Птичка эта – мирная, только… бесквартирна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Он – прославленный солист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Пересмешник и артист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Для капризных внуков может помяукать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Он ужасно многолик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Может тенькать, как кулик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Как барашек мекать и даже… кукарекать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Он берёт и «фа», и «до»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А вот сам себе гнезд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Свить никак не может – давай ему поможем?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Чтобы мог он звонко пе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И дразниться, и свистеть,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На большой черешне сделаем скворечню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3657600" cy="342900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 txBox="1"/>
          <p:nvPr/>
        </p:nvSpPr>
        <p:spPr>
          <a:xfrm>
            <a:off x="1828800" y="304920"/>
            <a:ext cx="48769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кворец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33520" y="5562720"/>
            <a:ext cx="3825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Даром только скворец гнездо вьё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Да и ему скворечню постав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Словно девушка в ситцевом платье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Чёрный чепчик и галстук при ней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Не найдете вы птички опрятней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Симпатичнее и стройне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Благородно её воспитанье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Человека завидит в дали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Тут же шлёт ему песнь-щебетань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И головкой кивает: «Терличь!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Эта птичка печали не знает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Любит воду и синий простор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А как важно навстречу шагае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И трясёт с уваженьем хвосто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«Цити-цюри!» - кричит не по-русски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Так старается что-то сказать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Да ведь это, друзья, трясогуз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Приглашает с собой полетать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3657600" cy="350532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 txBox="1"/>
          <p:nvPr/>
        </p:nvSpPr>
        <p:spPr>
          <a:xfrm>
            <a:off x="1752480" y="3049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рясогузка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822240" y="5562720"/>
            <a:ext cx="264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алые птички свиваю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алые гнёз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Аист – важная, гордая птица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У него почти княжеский вид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Он хороших людей не боитс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И на крыше гнездо может свить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Может с хатою рядом, на дуб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Приспособить жилище сво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Только аист ужасно не любит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Если кто-нибудь лезет в жильё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Чуть заря – он уже на болоте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Притаившись. Почти не дыша –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Настоящий рыбак и охотник –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Ловко ловит зевак – лягушат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Аист рядом с трубой – очень кстати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Мир и счастье сулит то гнездо…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Если люди добром ему платят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Он детишек приносит в их дом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2514600" y="380880"/>
            <a:ext cx="3505320" cy="8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Аист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3276360" cy="37339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838080" y="56386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тице крылья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человеку – разу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Не задира, не плут, не вориш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А весёлая птичка – уд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Обожает, как все ребятиш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Виноградники и огород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С пастухами спешит подружитьс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Любит стадо – овец и коров –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Там ведь можно всегда поживитьс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Правда, птичка ужасно боитс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Старых кошек, собак и ворон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Его дразнят ещё худудушко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За короткий напев «ху – ду – ду!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Что звучит по утрам на опушк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Или рядом с пастушьей избушкой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А к обеду – на старом пруд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Пусть не может похвастать он пеньем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Пусть в гнезде его слышен душок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Но зато не земным оперенье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И завидным охотничьим зренье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Обладает лесной пастушок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3657600" cy="327672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 txBox="1"/>
          <p:nvPr/>
        </p:nvSpPr>
        <p:spPr>
          <a:xfrm>
            <a:off x="2362320" y="304920"/>
            <a:ext cx="3886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дод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57200" y="5410080"/>
            <a:ext cx="397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нняя птичка носок прочищае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 поздняя глаза протира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Кто боится высоты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Мыши, крысы и кроты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Зайцы, чёрные коты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Странные всё лица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А филин – не боитс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Кто боится пустоты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Мыши, крысы и кроты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Зайцы, чёрные коты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Снова те же лица…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А филин – не боится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Кто боится темноты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Мыши, крысы и кроты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Зайцы, чёрные коты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Ночью этим лица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От филина не скрыться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3809880" cy="342900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 txBox="1"/>
          <p:nvPr/>
        </p:nvSpPr>
        <p:spPr>
          <a:xfrm>
            <a:off x="2209680" y="304920"/>
            <a:ext cx="4343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Филин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09480" y="55990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мелому уху хлебать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 трусливому и тюри не вида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4648320" y="2057400"/>
            <a:ext cx="4038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Над водой – белокрылая чайка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Взмыла вверх и кричит на лету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Не найдёте вы крика печальне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Кто ж назвал её так – хохотун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И о чём эта птица хохоче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Своим смехом похожим на стон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Может, сильно так есть она хочет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Может, видится ей страшный сон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Птица смелая с гордой осанкой –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Символ верности и чистоты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Над кормой бьётся слабым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подранком –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Человеческой ждёт доброты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3657600" cy="342900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 txBox="1"/>
          <p:nvPr/>
        </p:nvSpPr>
        <p:spPr>
          <a:xfrm>
            <a:off x="2057400" y="304920"/>
            <a:ext cx="46483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Хохотун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203480" y="5562720"/>
            <a:ext cx="197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Чай примечай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уда чайки летя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4648320" y="1828440"/>
            <a:ext cx="40384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Над рекой туманы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Над болотом – тишь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Больно уж обманно не шумит камыш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В неуклюжей поз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С клювом, как игла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Будто бы в гипнозе цапля замерла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Ждёт с утра зеваку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Но зеваки нет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Стоит ему квакнуть – и готов обед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А при неудач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Замычит, как бык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Иль, как сыч, заплачет, перейдя на крик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Есть еда и в луже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Но, чтоб рыбку съесть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Надобно поглубже цапле в воду лезть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3581280" cy="327672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2286000" y="304920"/>
            <a:ext cx="4267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Цапля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990720" y="5446800"/>
            <a:ext cx="262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Чтобы рыбку съесть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до в воду лез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4648320" y="1904760"/>
            <a:ext cx="4038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Чибис мой чубатый –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Шапка набекрень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Парубок хохлатый, петь тебе не лень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Обогнать стремитс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Ласточку, скворца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Первым чтоб явиться с песнею гонц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А в июне росно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Слышатся в ноч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Грустные вопросы: «Чьи вы? Чьи вы? Чьи?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Запугали дачи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Трактор запугал –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Он гнездится, прячась, в заливных лугах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Оттого не спится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Не приходят сн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К пигалице-птице и гонцу весны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3809880" cy="327672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2209680" y="304920"/>
            <a:ext cx="42674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Чибис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5410080"/>
            <a:ext cx="31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Чибисы с вечера кричат –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 ясной погод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Чёрный берет, белый свитер в полосочку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Длинные ноги сквозь узкий разрез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Ходит как барыня с тонкою тросточкой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Клюв задирая до самых небес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Бродит вдоль берега с песенкой грустною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Звонкое эхо разносит: «Кли – и – кли!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Льётся печально мелодия русская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Будто снимается видеоклип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Чем-то похожа она на сапожника –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С клювом-иголкой ей шить да метать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И не случайно по промыслу божьем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Птицу в народе зовут – чеботарь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3657600" cy="373392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1828800" y="304920"/>
            <a:ext cx="54864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Шилоклювка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4648320" y="2057400"/>
            <a:ext cx="403848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Он в костюме необыкновенно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Щеголяет в парках и лесах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Для него Венеция и Ве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Рады бы мелодии писать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А поёт похлещи, чем Карузо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Без бемолей – только лишь мажор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Он у самой голосистой Муз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Самый выдающийся стажер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Не перепоёт его Козловски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Не тягаться Лемешеву с ним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Кроха, но пожалуй, самый броски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Среди всей щебечущей родни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3733920" cy="327672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2133720" y="304920"/>
            <a:ext cx="44193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Щегол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127160" y="5486400"/>
            <a:ext cx="204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евелика птичк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а голосис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4648320" y="175212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Толи в Австралии, то ли в Тасмании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Хлопоты все отложив на потом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Птица огромная – божье послание –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Осенью яйца кладёт под кусто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Хочется птице потомства здорового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Чтоб от туристов суметь убежать –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Ей под открытой небесною кровле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Так надоело трястись и дрожать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Так надоело пустое общение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Голос менять, упрощать свой наряд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И, чтобы вызвать к себе отвращение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Прятать свой ясный задумчивый взгляд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Страусы рядом гуляют напыщенно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Вроде бы братья, но кто их крестил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Смотрят на эму как будто на нищенку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Вот почему эму вечно грустит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3657600" cy="34290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2362320" y="304920"/>
            <a:ext cx="38098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Эму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4648320" y="2057040"/>
            <a:ext cx="4038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Звонкая трель оглашает окрестно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И отступает вечерняя мгла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Дикая пустошь – любимое мест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Крохотной птички с названьем юл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Птичка и вправду вертушка известная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Ловкая, шустрая – вылитый вьюн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С марта до августа балует песнями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Не уступая ничуть соловью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Высидит где-нибудь в зарослях птенчик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И переселится тут же на луг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Птичка для взрослых – невеста невенчана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А для детишек – доверчивый друг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3657600" cy="342900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2666880" y="304920"/>
            <a:ext cx="35816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Юла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898560" y="5562720"/>
            <a:ext cx="263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Жаворонки прилетите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расно лето принесит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4648320" y="2057400"/>
            <a:ext cx="403848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Он никого на свете не боится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Стремителен, проворен и хитёр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А если надо перевоплотиться –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Ведёт себя как истинный актёр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То запоёт, то сойкой притворитс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Освоив её медленный полёт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И вот уже доверчивая птиц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В его когтях беспомощно орёт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Как он красив – под стать Ален Делону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Янковскому, конечно же под стать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И если нет у птичек эталона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То ястреб должен эталоном стать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3733920" cy="342900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2209680" y="304920"/>
            <a:ext cx="47246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Ястреб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838080" y="5562720"/>
            <a:ext cx="314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Целовал ястреб курочк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о последнего пёрыш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647960" y="2438280"/>
            <a:ext cx="43434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Средь орлов беркут самый красивый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Самый гордый и самый крутой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У него богатырская сил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И характер почти золото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На вершине всегда беспристрастен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А в полёте – свободен, как серб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внодушный к богатству и власти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Он вдруг взял и уселся на герб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2362320" y="228600"/>
            <a:ext cx="41907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еркут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27" name="" descr="&amp;Bcy;&amp;iecy;&amp;rcy;&amp;kcy;&amp;ucy;&amp;tcy;"/>
          <p:cNvPicPr/>
          <p:nvPr/>
        </p:nvPicPr>
        <p:blipFill>
          <a:blip r:embed="rId1"/>
          <a:stretch/>
        </p:blipFill>
        <p:spPr>
          <a:xfrm>
            <a:off x="457200" y="2057400"/>
            <a:ext cx="4114800" cy="34290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914400" y="56386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рлом комара не травя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838080" y="838080"/>
            <a:ext cx="792180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тицы – это настоящие небесные цве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ни способны приносить только праздни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Берегите их и они ответят вам любовью 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ветлой радостью в душ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. Дубрав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685800" y="3809880"/>
            <a:ext cx="7162920" cy="24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пасибо за внимание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648320" y="2438280"/>
            <a:ext cx="4038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Я недавно прочёл в чьей-то книжке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«Воробьишка – амбарный воришка!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И обидно мне стало за автора –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Вот узнать бы, давно ли он завтракал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Ведь ему каждый день на тарелочк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Плов несут, пирожки или греночки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Он взглянул бы хоть раз за окошко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Поделился бы с птичками крошкам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И не стал бы седой воробьишк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Из амбара таскать, как воришка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438280" y="304920"/>
            <a:ext cx="41148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оробей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3581280" cy="312408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1066680" y="54864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оробей, не роб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иница не выдас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648320" y="2437920"/>
            <a:ext cx="4038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Грач – не врач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отому, что он чёрны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Но наденьте халат на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грача –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не найдёте вы лучше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рач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2971800" y="304920"/>
            <a:ext cx="28954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рач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3886200" cy="3429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990720" y="55227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сякая птиц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воим пером красует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648320" y="1904760"/>
            <a:ext cx="40384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От него не дождётесь вы свиста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Только дробь раздаётся окрест –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Он с упорством лесного радист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Шлёт весне незатейливый текст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И не ждёт подаянья, как нищий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Только солнце на сосны легло –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Он уже ворожит над жилищем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Чтобы в мае вселиться в дупло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А каким обладает он слухом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Ловит даже неслышимый плач –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Это вам не знахарка – старух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Дятел – просто отличнейший врач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Ждут его прихворнувшие ели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Ждёт сосна, потерявши покой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И стучит он в лесной колыбел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День-деньской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День-деньской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День-деньской…           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2514600" y="304920"/>
            <a:ext cx="3733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ятел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3429000" cy="32004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066680" y="54864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сякая птиц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воим носом сы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Я в такое чудо влип –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В ельнике за городом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Слышу крики: « Гипп! Гипп! Гипп!...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Я с дороги в сторон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Притаился под кусто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Тройку жду удалую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Вижу – с вилочкой-хвосто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Скачет птичка мала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Слышу – снова трель в кустах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Гиканье и посвисты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Вдруг ещё десяток пта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Выпорхнули россыпью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Ну, видать, цыганский род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Ёлки все обчистил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И ушли по речке вбр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С трелями и свистами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2514600" y="304920"/>
            <a:ext cx="4114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Еловик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3505320" cy="30481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1219320" y="5334120"/>
            <a:ext cx="212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 каждой пташ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вои замаш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4648320" y="2057400"/>
            <a:ext cx="403848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Журавли – благородные птицы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Африканское любят тепло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Но по зову природы гнездитьс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Прилетают в родное село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А живут журавли. Как и люди –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Только парами. Только вдвоё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И по-русски отчаянно любя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Отчий край и болото своё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А настанет минута отлёта –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Соберутся все пары в арте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И потянуться клином далёким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Оглашая курлыканьем степь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Соловьиная трель всем известна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Но над ширью родимых поле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Ничего нет прекраснее песн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Улетающих вдаль журавлей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3733920" cy="335268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1981080" y="304920"/>
            <a:ext cx="5029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Журавль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38080" y="53341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олго журавль летае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 мозолей не натира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Красногрудая вертуш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Чуть заря – уже поёт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То сорвёт с сосны ватрушку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То с берёзы сыр сорвёт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То отправится на рынок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Чтоб успеть в начале дн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Незаметно с бабьих крыно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Сливки вкусненькие снять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С виду – ветреная птичка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Но, пустой заметив до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И сиротское яичко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Зарыдает над гнездо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Высидит, хоть как ни трудно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Выкормит чужих птенц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По завету красногруды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Своих дедов и отц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3657600" cy="32004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2286000" y="304920"/>
            <a:ext cx="4572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рянка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90720" y="5410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тица не сеет, не жнё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 сыта живё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5-12-13T18:09:42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