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0B3-7B6B-4BB9-B769-BCF1C6E2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5C5-EA10-49BB-97F0-9F1B9E8B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F0E-B087-44DA-82B6-C572F87C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8A1-0D45-4EB4-AE81-8120F979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708B-0049-4B13-9762-15FCF4F7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5E31-BCC2-4F3E-AC27-F95B84A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B3C-DDCB-4FB5-9D90-72271DAB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E7F-6C29-4382-BB35-B927157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7DF8-424B-41FE-A35D-C7EC27C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28B4-6309-41D9-A4C4-6B43A0E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612F-996D-4CC7-A907-17116A4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96A-2CDD-45F2-BB88-872E4983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8CD-D0A1-41A7-8288-C72705D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69AC-465C-4DB9-9EE4-01AA4EC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31EF-D93C-421B-A43B-009C978A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1BC-D943-4DD1-94D5-06EC97A9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931-E2C8-45F0-8EEB-9DFE89F6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429A-C0E0-44AC-9251-1B3B73AB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A3F3-4A47-404D-8EB4-D3FF96B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7AD5-BDB6-48D3-8FA6-028A6CD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AA31-DD3C-4F92-B719-155FECD8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D81C-5BCE-420D-9AAA-CE9BC8A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F29-1429-4E8F-AD6C-157BE021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9584-7C36-4DF6-B199-3CB034E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F742-8FBD-428C-A156-E0F7A00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57D5-4050-48B6-8243-5259671D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9B79-DB3F-4F07-A3CE-07675F8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ED6B-636A-446F-93AD-BB0994F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3C4B-EB8A-4C1B-A2A5-FD4BD294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7EA1-5CCA-49CD-B236-0AB03DA4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CAFA-5CAF-4092-9D36-974D2E83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1299-35AC-4B2A-9855-99A09DF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9E96-559A-4348-B579-DA86272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943-0D6C-4DB0-B525-F8DB810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A71E-C603-4A7A-9CBB-0A27A648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1807-3229-44E7-B211-1D9AF720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C392-BD49-45DF-9CDB-DA0E49F7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56E5-0B75-4828-B2BA-602B07A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8DB4-E071-48C1-AF41-CD5BA61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9672-E836-4877-895D-C1D5424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6AFF-8A97-4560-8A1D-18E37CFD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ECC8-C0FF-4811-967C-94B87ED7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39E9-A91F-4D1E-B11A-D9D7FDCA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F6694-272A-463C-96B2-184D863B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224-6C1B-4626-BEEE-65E97EA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8AF4-0B77-43C4-A6AA-110BA020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DE74-B980-4D8F-8268-CB0405D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A0175-581C-445B-960E-661887D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7E96-5BE3-492A-A503-67FEC7A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8ED3-B895-4695-A8CC-34FF3A7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005F-F851-49CC-8F07-2A5535B8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3A5F-3268-42B5-B9F1-2FA0F48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AF35-8D91-46CC-85A3-7D0ECF8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8797-4951-49F2-A47E-A03D6E35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2ACA-156C-41F1-8AAA-F36F0A98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35F-9F1B-469D-9AC2-8DFF75F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1D9B-B621-4887-8313-FDF6CE08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9C4-3346-420F-8522-96F350F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CE1-4C18-43F4-B0D4-9DBE38E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4DE-E835-49DA-B9E5-C8A560E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232-35BC-44EE-9054-0B15B6AD1E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9AE-EBD3-4C85-B784-3119B6B88F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3F4-F8B1-40D3-8FCC-6F79AFE630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CCF-5A51-4113-BB91-0796EE77A4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90E-AFC6-4D2B-9511-36A5915E17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2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2533c"/>
                </a:solidFill>
                <a:latin typeface="Arial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-6480" y="404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метно-развивающая среда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–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оны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игров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интеллектуальная (учебная)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двигательн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творческая;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293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бытов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2709720" y="333360"/>
            <a:ext cx="35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Игров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3760" y="1125360"/>
            <a:ext cx="91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удовлетворение потребности детей в привлекательном виде деятельности; способствовать рациональному использованию времен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073320" y="2325600"/>
            <a:ext cx="6070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217800" y="555480"/>
            <a:ext cx="87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Интеллектуальная (учебная)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700360" y="2573280"/>
            <a:ext cx="6443640" cy="4284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2320" y="1309680"/>
            <a:ext cx="91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361240" y="47628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3926"/>
                </a:solidFill>
                <a:uFillTx/>
                <a:latin typeface="Arial"/>
              </a:rPr>
              <a:t>Двигательн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7000" y="141300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реализация потребности детей в движении, снятие физического напряж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305080" y="2243160"/>
            <a:ext cx="6586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302560" y="404640"/>
            <a:ext cx="44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f0"/>
                </a:solidFill>
                <a:uFillTx/>
                <a:latin typeface="Arial"/>
                <a:ea typeface="Arial"/>
              </a:rPr>
              <a:t>Творческ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556080" y="2708280"/>
            <a:ext cx="5587920" cy="41734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179280" y="1444680"/>
            <a:ext cx="91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развитие творческих способностей, реализация потребностей самовыраж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2419920" y="488880"/>
            <a:ext cx="37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Бытовая зон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708360" y="2787480"/>
            <a:ext cx="5426280" cy="40705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5732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Цель:</a:t>
            </a:r>
            <a:r>
              <a:rPr b="0" i="1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  <a:ea typeface="Arial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20:52:28Z</dcterms:created>
  <dc:creator>Екатерина Нуриева</dc:creator>
  <dc:description/>
  <dc:language>en-US</dc:language>
  <cp:lastModifiedBy>Екатерина Нуриева</cp:lastModifiedBy>
  <dcterms:modified xsi:type="dcterms:W3CDTF">2017-05-11T22:23:54Z</dcterms:modified>
  <cp:revision>11</cp:revision>
  <dc:subject/>
  <dc:title>Презентация PowerPoint</dc:title>
</cp:coreProperties>
</file>