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AC-7896-4124-AEE7-2B22BD5A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01E-81B0-49A5-BC09-72F53CDD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E45-F197-49CB-BE4B-E99C3ADD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EED-4158-46CA-B1EC-C703C6EA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6BB-A384-40E1-9494-FEA2660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368-7B65-4BC2-AD94-39E08BE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412-88A5-4FE4-94B5-BA10080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4891-6B24-46C2-887D-8BB799A7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169-9BC9-4497-B184-E4BFDEED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A23-0E25-4080-B0D7-D27199F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D29A-52EF-49E7-90F1-EBFCE889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484-EDDD-44AB-A716-9707E3E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8DEF-8054-4B43-8433-A582FAC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4DA-E710-401D-B215-196E3BF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D874-7088-4E95-8402-52C0680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103-E823-45B6-A08F-11E33684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1EDF-38C2-4240-8F9E-02962C1B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0A85-92B6-4744-BE0C-4E40C259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E3AA-7D0F-4838-8563-45942CC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DA86-5A8D-403D-8D40-A742378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7EF5-E44B-4AA9-80AA-DD3A8B4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73B7-1943-46C9-8E43-68869D84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4E2-35C3-43FC-A54E-B0CB901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C5F6-CD89-41E3-937B-51E0F07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F757-B32A-46C2-953A-BE390A2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C905-F5A6-4689-9222-606E6A3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2BE3-1C06-4568-A93B-549D8DF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FF79-356A-4F82-B189-094141B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3967-04EB-43DC-AEFB-8B4E6945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58B6-8AE5-45E5-AB6E-EE933E29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41F8-0512-45CE-9C1D-2B8168E1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DFE1-BF83-4C87-AAAC-F955DFA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0E8D-5199-4E60-8194-3F578A8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75D-8158-4CC7-8F54-31342A28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80F9-32D0-4660-85E6-18B4EFC3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391A-E195-4F70-9CDA-C1299816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3203-57A0-4CBE-97E9-D1314C88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79D3-04B9-4179-B8B1-B10B0F01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D1C7-0FF7-47C3-9B05-3956001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2B18-159A-447B-AB62-F01A63C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1A54-C922-4549-94DE-1B0C85C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6C82-7398-4528-8018-B5D94788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CCFA-C6AE-4B1C-87C5-9B991783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462F-6DE9-42EE-A996-9C800115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4BC-3E54-4E75-8C7F-A1CDB08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A34F-8A9E-446C-A7B6-9A135229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5A0D-9F88-4E7C-9B6E-7275A02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1C847-E7F0-4090-AF49-699F6FA1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CA4C-EE95-43F5-AABE-ED92D533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C654-815D-4EE2-A3EF-DB079CFB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9CC4-8A6F-45C3-AD9E-D60EE1B7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9ACB-AFB3-4482-AAB8-0C50561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7F8B-42FD-49A7-94C7-4032C25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07D2-A3E7-43AA-8BD8-D0AE41AF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1537-9E21-4FB3-8594-6B754BCA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4CF-70D7-44DB-BA5C-C193733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87EB-03D9-4675-9582-18A963D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E8E-4677-4BC2-864F-7909778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D72-8E72-4050-9DE1-B313C7B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FF1-D69A-485C-99DC-F5C7FE15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41C9-AA78-4B3F-B22A-6B325B3EC3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1D62-567A-40DC-8629-0A37DD3D95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F6D-0A90-4D99-A56B-0DA452F877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B847-0703-47E4-8961-0851E0EF36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620C-BB76-43BB-BC23-86FE14BA50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2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2533c"/>
                </a:solidFill>
                <a:latin typeface="Arial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-6480" y="404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метно-развивающая среда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–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оны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игров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интеллектуальная (учебная)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двигательн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творческ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бытов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2709720" y="333360"/>
            <a:ext cx="35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Игров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3760" y="1125360"/>
            <a:ext cx="91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удовлетворение потребности детей в привлекательном виде деятельности; способствовать рациональному использованию времен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073320" y="2325600"/>
            <a:ext cx="6070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217800" y="555480"/>
            <a:ext cx="87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Интеллектуальная (учебная)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700360" y="2573280"/>
            <a:ext cx="6443640" cy="4284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2320" y="1309680"/>
            <a:ext cx="91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361240" y="47628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3926"/>
                </a:solidFill>
                <a:uFillTx/>
                <a:latin typeface="Arial"/>
              </a:rPr>
              <a:t>Двигательн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7000" y="141300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реализация потребности детей в движении, снятие физического напряж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305080" y="2243160"/>
            <a:ext cx="6586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302560" y="404640"/>
            <a:ext cx="44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f0"/>
                </a:solidFill>
                <a:uFillTx/>
                <a:latin typeface="Arial"/>
                <a:ea typeface="Arial"/>
              </a:rPr>
              <a:t>Творческ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56080" y="2708280"/>
            <a:ext cx="5587920" cy="41734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179280" y="1444680"/>
            <a:ext cx="91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развитие творческих способностей, реализация потребностей самовыраж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2419920" y="488880"/>
            <a:ext cx="37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Бытов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708360" y="2787480"/>
            <a:ext cx="5426280" cy="40705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5732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i="1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20:52:28Z</dcterms:created>
  <dc:creator>Екатерина Нуриева</dc:creator>
  <dc:description/>
  <dc:language>en-US</dc:language>
  <cp:lastModifiedBy>Екатерина Нуриева</cp:lastModifiedBy>
  <dcterms:modified xsi:type="dcterms:W3CDTF">2017-05-11T22:23:54Z</dcterms:modified>
  <cp:revision>11</cp:revision>
  <dc:subject/>
  <dc:title>Презентация PowerPoint</dc:title>
</cp:coreProperties>
</file>