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121-1612-4DBF-9F5F-18144B9D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DDE-6959-44ED-990E-750D0BA8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C0D-DBE1-4C97-B0BD-BE40A8E9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490-F73A-43FD-BCF6-37655163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BFA2-1DB1-4A16-ACEE-8E458326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DBE-92A9-4EE6-99FE-6C15178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E24-733E-4BB7-9714-7A11AE65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73A2-717B-4B75-9DEA-EED5F65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1EBF-38B2-4523-8B43-E14226E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94E-FF56-4B00-97A2-2DC2EB8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95D5-EA04-4D7E-8A05-C00148F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4A0-D8CB-4FB1-A3B2-82C6DA4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B6D3-5DBF-466A-B9B5-07836A1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78A-D45A-4139-9315-ED119C6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B058-7E7F-46DF-9FD8-66D5217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B49-A1DE-49EA-BA32-D24FE8F2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A75F-05B6-4FE4-A4CF-2DB80E7E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8418-0E72-4E1A-90C2-466A17DA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79AA-0A02-44A5-B2F9-63145E3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2A42-78FA-4C53-9B11-968A54A3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42F8-A9F3-4ACD-95EB-88F5BEB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9A0B-E65B-4A00-80A8-B9567FA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86C-46DD-43EB-9350-BEC56BF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F4DD-B674-485C-9FE5-84DE5A1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BB83-6114-4569-B19A-1140EB2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07F9-3D2E-4A61-A8A9-2BA83B8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B5C2-8EBF-47D9-B183-E1196AD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8E0D-22D3-4FDC-ADF1-A7733429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4063-C537-4FE1-8974-4F90A3AA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B0D4-36CC-4FBA-A1AB-F5E041E3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EA9B-9F72-4955-BCF6-CC46C33A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23E4-BA58-41A7-B402-93881C5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89D6-E463-4824-A757-403CB3E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D73-ADD4-404F-907D-2EA76CB7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0289-4A95-4147-B0E7-FAD35F3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6926-89AB-44F0-9900-8CC8C4D7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4FA2-C2C9-4961-81B8-D24A784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08F8-3D92-4839-AB0E-962D20D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C425-C1ED-4A92-93CD-7BD7454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285F-2E13-4BCD-BB7F-CF9FC6F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D4CC-0E4C-4B67-98B9-2E05B72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D984-9191-4CD7-85C1-CF2C4D0B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493B-659E-4AEA-A9F9-C03265E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D87-7F29-4257-90C3-FA0C54F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9E0-2F25-4A85-9A4A-909A7F2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0CC-9779-4D9C-BBC1-D44D689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1ED-B968-4297-B3DB-2A02CFD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DDC-8DF4-4589-A2C2-D255B5D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0F1-8912-462D-8D01-E0AF64E38FE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6A7-FC4C-47C8-9B94-6BA01A6A98F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5D59-BD20-4248-997E-FF28754ADFE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DFC0-E6D5-4BB4-9D16-C259E99394F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6" descr=""/>
          <p:cNvPicPr/>
          <p:nvPr/>
        </p:nvPicPr>
        <p:blipFill>
          <a:blip r:embed="rId1"/>
          <a:stretch/>
        </p:blipFill>
        <p:spPr>
          <a:xfrm>
            <a:off x="785880" y="426960"/>
            <a:ext cx="7602480" cy="123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468360" y="2645640"/>
            <a:ext cx="827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Региональный семинар-практикум для педагогов дошкольных образовательных учреждений на т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«Применение инновационных технологий при организации театрализованной деятельности дошкольников в условиях реализации ФГОС ДО в современном ДО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Мастер класс по работе с родителями на т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«В гости сказка к нам спеши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468360" y="5877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Calibri"/>
              </a:rPr>
              <a:t>Воспитатель первой кв.категорий: Хамзина А.М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s://pp.userapi.com/c837130/v837130399/29dff/wMkLwdx1ZiI.jpg"/>
          <p:cNvPicPr/>
          <p:nvPr/>
        </p:nvPicPr>
        <p:blipFill>
          <a:blip r:embed="rId1"/>
          <a:stretch/>
        </p:blipFill>
        <p:spPr>
          <a:xfrm>
            <a:off x="250920" y="333360"/>
            <a:ext cx="5545080" cy="3117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s://pp.userapi.com/c837130/v837130399/29e13/EE0mjiS_VRo.jpg"/>
          <p:cNvPicPr/>
          <p:nvPr/>
        </p:nvPicPr>
        <p:blipFill>
          <a:blip r:embed="rId2"/>
          <a:stretch/>
        </p:blipFill>
        <p:spPr>
          <a:xfrm>
            <a:off x="2149560" y="2997360"/>
            <a:ext cx="6400800" cy="36003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5940360" y="98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раматизация сказки «Кошкин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s://pp.userapi.com/c837130/v837130399/29e6d/Xz0RASeRyRw.jpg"/>
          <p:cNvPicPr/>
          <p:nvPr/>
        </p:nvPicPr>
        <p:blipFill>
          <a:blip r:embed="rId1"/>
          <a:stretch/>
        </p:blipFill>
        <p:spPr>
          <a:xfrm>
            <a:off x="250920" y="333360"/>
            <a:ext cx="6192720" cy="3483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G:\дети\20161028_101654.jpg"/>
          <p:cNvPicPr/>
          <p:nvPr/>
        </p:nvPicPr>
        <p:blipFill>
          <a:blip r:embed="rId2"/>
          <a:srcRect l="0" t="0" r="14496" b="0"/>
          <a:stretch/>
        </p:blipFill>
        <p:spPr>
          <a:xfrm>
            <a:off x="2987640" y="3500280"/>
            <a:ext cx="424980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E:\театр\DSCF7239.JPG"/>
          <p:cNvPicPr/>
          <p:nvPr/>
        </p:nvPicPr>
        <p:blipFill>
          <a:blip r:embed="rId1"/>
          <a:stretch/>
        </p:blipFill>
        <p:spPr>
          <a:xfrm>
            <a:off x="826920" y="836640"/>
            <a:ext cx="419904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E:\театр\SAM_1667.JPG"/>
          <p:cNvPicPr/>
          <p:nvPr/>
        </p:nvPicPr>
        <p:blipFill>
          <a:blip r:embed="rId2"/>
          <a:stretch/>
        </p:blipFill>
        <p:spPr>
          <a:xfrm>
            <a:off x="3203640" y="3814920"/>
            <a:ext cx="4348080" cy="257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CIM\114_FUJI\DSCF4727.JPG"/>
          <p:cNvPicPr/>
          <p:nvPr/>
        </p:nvPicPr>
        <p:blipFill>
          <a:blip r:embed="rId1"/>
          <a:stretch/>
        </p:blipFill>
        <p:spPr>
          <a:xfrm>
            <a:off x="3708360" y="1268280"/>
            <a:ext cx="4213440" cy="3144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DCIM\115_FUJI\DSCF5673.JPG"/>
          <p:cNvPicPr/>
          <p:nvPr/>
        </p:nvPicPr>
        <p:blipFill>
          <a:blip r:embed="rId2"/>
          <a:stretch/>
        </p:blipFill>
        <p:spPr>
          <a:xfrm>
            <a:off x="225360" y="3645000"/>
            <a:ext cx="3970440" cy="2965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50920" y="40464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с удовольствием принимают участие в играх-драматизациях по содержанию литературн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Алсу\Desktop\фото кмо\DSCF6896.jpg"/>
          <p:cNvPicPr/>
          <p:nvPr/>
        </p:nvPicPr>
        <p:blipFill>
          <a:blip r:embed="rId1"/>
          <a:stretch/>
        </p:blipFill>
        <p:spPr>
          <a:xfrm>
            <a:off x="468360" y="2781360"/>
            <a:ext cx="4000320" cy="3214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Алсу\Desktop\фото кмо\DSCF6899.jpg"/>
          <p:cNvPicPr/>
          <p:nvPr/>
        </p:nvPicPr>
        <p:blipFill>
          <a:blip r:embed="rId2"/>
          <a:stretch/>
        </p:blipFill>
        <p:spPr>
          <a:xfrm>
            <a:off x="464328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99880" y="356760"/>
            <a:ext cx="85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частие родителей на театрализованных постанов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G:\DCIM\117_FUJI\DSCF7096.JPG"/>
          <p:cNvPicPr/>
          <p:nvPr/>
        </p:nvPicPr>
        <p:blipFill>
          <a:blip r:embed="rId1"/>
          <a:stretch/>
        </p:blipFill>
        <p:spPr>
          <a:xfrm>
            <a:off x="4859280" y="620640"/>
            <a:ext cx="4105440" cy="28796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G:\DCIM\117_FUJI\DSCF7093.JPG"/>
          <p:cNvPicPr/>
          <p:nvPr/>
        </p:nvPicPr>
        <p:blipFill>
          <a:blip r:embed="rId2"/>
          <a:stretch/>
        </p:blipFill>
        <p:spPr>
          <a:xfrm>
            <a:off x="2343240" y="364500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Алсу\Desktop\фото кмо\SDC10372.JPG"/>
          <p:cNvPicPr/>
          <p:nvPr/>
        </p:nvPicPr>
        <p:blipFill>
          <a:blip r:embed="rId3"/>
          <a:stretch/>
        </p:blipFill>
        <p:spPr>
          <a:xfrm>
            <a:off x="250920" y="620640"/>
            <a:ext cx="42210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3:49:00Z</dcterms:created>
  <dc:creator>User</dc:creator>
  <dc:description/>
  <dc:language>en-US</dc:language>
  <cp:lastModifiedBy>админ</cp:lastModifiedBy>
  <dcterms:modified xsi:type="dcterms:W3CDTF">2017-05-11T15:02:16Z</dcterms:modified>
  <cp:revision>73</cp:revision>
  <dc:subject/>
  <dc:title>Слайд 1</dc:title>
</cp:coreProperties>
</file>