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F41-FD4C-4686-BC4A-05029494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4DF-CB9C-44AA-81D0-1AB9186A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6FB-CA5E-4160-A90D-E3086231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5B7-9865-47D3-A364-852CF125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29BD-A4F3-449C-90E6-8FCB98A8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EC90-EDF7-4ED5-A5E6-23A792A6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9EE-9941-4EAE-A7CC-3BD8599D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8430-A3C5-4DA1-A4EC-C0D52297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1B74-676C-4ADE-81CE-281D1F7C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67D8-4818-4F7C-BB69-6B1BB334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DF5E-CE65-4F5D-AAF0-8A9D185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61F-E20A-4310-B5ED-8273B469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B5FB-049E-4B9F-947F-EAC590E6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9981-7C04-4865-9CB7-0F847246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DC0C-09B2-481D-B9DF-43F20618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6108-1942-4C4C-8DF6-3B22FDDA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EB49-561A-431C-8CF8-AF95382B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F5E74-8990-4841-AD6A-7503289E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C36E-3E82-42E8-B735-1517A3D6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50A8-3C7F-42D9-9427-AED57A97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573B-7592-4BFF-BBEA-1A251523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B626-4336-4392-B6B5-9D94CB2D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AA5-AB77-4299-8C0C-30D950D4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29C1-485E-4C3B-B3A2-27980A2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2161-26D8-4B8F-942B-F05A6AA8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B996-3E15-4406-9C08-E419DBD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247FC-9572-4F12-8193-514D337F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219E-A7D0-4931-B62F-4E7B9BA4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FB4C6-FEEE-4D76-AA5C-084883B7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ADC4-4753-44A5-B91E-6CCEC559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15EF6-863A-47EF-9742-D4DE1691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4600-6F43-4AFC-8F8E-3A221657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2D61-224B-47E7-855D-1022C82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C7D-5536-4E39-864D-C79E4A6B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3D15-ECD1-42DC-A0A4-46E465BF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7192-6E38-4F03-B927-288756F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43BEB-965B-4B0F-B16E-2A67650A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F548-B63F-4BF1-BAA9-3E23BD4D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07E0-398D-4E4B-857D-CEC40A63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8F6C5-F70F-4569-BFF4-2F3797D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6FF2-18D9-4B12-8588-826FBE64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8A76C-849C-417D-A5DB-779B3BE8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B68E-6348-42C3-BBF3-45FAACDC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2BB-E5F9-4601-8540-330C14A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C18-3B27-423C-ACAE-090DC3A7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A87-B264-4C47-ADE9-4268B52A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3CE-67E1-4E5B-9682-05746B8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437-B7B0-4F82-838C-6C6EBBF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4ED0-6E84-4FAE-8068-13E9DB2A267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B905-1999-4A4A-941C-0BCCADD806C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51CC-119F-48C3-9793-01CAE3F7597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9CF4-49F1-4863-9E72-4776C5EC0713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6" descr=""/>
          <p:cNvPicPr/>
          <p:nvPr/>
        </p:nvPicPr>
        <p:blipFill>
          <a:blip r:embed="rId1"/>
          <a:stretch/>
        </p:blipFill>
        <p:spPr>
          <a:xfrm>
            <a:off x="785880" y="426960"/>
            <a:ext cx="7602480" cy="123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468360" y="2645640"/>
            <a:ext cx="827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Региональный семинар-практикум для педагогов дошкольных образовательных учреждений на т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«Применение инновационных технологий при организации театрализованной деятельности дошкольников в условиях реализации ФГОС ДО в современном ДО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Мастер класс по работе с родителями на т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«В гости сказка к нам спеши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7"/>
          <p:cNvSpPr/>
          <p:nvPr/>
        </p:nvSpPr>
        <p:spPr>
          <a:xfrm>
            <a:off x="468360" y="58770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Calibri"/>
              </a:rPr>
              <a:t>Воспитатель первой кв.категорий: Хамзина А.М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s://pp.userapi.com/c837130/v837130399/29dff/wMkLwdx1ZiI.jpg"/>
          <p:cNvPicPr/>
          <p:nvPr/>
        </p:nvPicPr>
        <p:blipFill>
          <a:blip r:embed="rId1"/>
          <a:stretch/>
        </p:blipFill>
        <p:spPr>
          <a:xfrm>
            <a:off x="250920" y="333360"/>
            <a:ext cx="5545080" cy="3117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s://pp.userapi.com/c837130/v837130399/29e13/EE0mjiS_VRo.jpg"/>
          <p:cNvPicPr/>
          <p:nvPr/>
        </p:nvPicPr>
        <p:blipFill>
          <a:blip r:embed="rId2"/>
          <a:stretch/>
        </p:blipFill>
        <p:spPr>
          <a:xfrm>
            <a:off x="2149560" y="2997360"/>
            <a:ext cx="6400800" cy="36003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5940360" y="98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раматизация сказки «Кошкин д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s://pp.userapi.com/c837130/v837130399/29e6d/Xz0RASeRyRw.jpg"/>
          <p:cNvPicPr/>
          <p:nvPr/>
        </p:nvPicPr>
        <p:blipFill>
          <a:blip r:embed="rId1"/>
          <a:stretch/>
        </p:blipFill>
        <p:spPr>
          <a:xfrm>
            <a:off x="250920" y="333360"/>
            <a:ext cx="6192720" cy="34830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G:\дети\20161028_101654.jpg"/>
          <p:cNvPicPr/>
          <p:nvPr/>
        </p:nvPicPr>
        <p:blipFill>
          <a:blip r:embed="rId2"/>
          <a:srcRect l="0" t="0" r="14496" b="0"/>
          <a:stretch/>
        </p:blipFill>
        <p:spPr>
          <a:xfrm>
            <a:off x="2987640" y="3500280"/>
            <a:ext cx="424980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E:\театр\DSCF7239.JPG"/>
          <p:cNvPicPr/>
          <p:nvPr/>
        </p:nvPicPr>
        <p:blipFill>
          <a:blip r:embed="rId1"/>
          <a:stretch/>
        </p:blipFill>
        <p:spPr>
          <a:xfrm>
            <a:off x="826920" y="836640"/>
            <a:ext cx="4199040" cy="29527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E:\театр\SAM_1667.JPG"/>
          <p:cNvPicPr/>
          <p:nvPr/>
        </p:nvPicPr>
        <p:blipFill>
          <a:blip r:embed="rId2"/>
          <a:stretch/>
        </p:blipFill>
        <p:spPr>
          <a:xfrm>
            <a:off x="3203640" y="3814920"/>
            <a:ext cx="4348080" cy="257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:\DCIM\114_FUJI\DSCF4727.JPG"/>
          <p:cNvPicPr/>
          <p:nvPr/>
        </p:nvPicPr>
        <p:blipFill>
          <a:blip r:embed="rId1"/>
          <a:stretch/>
        </p:blipFill>
        <p:spPr>
          <a:xfrm>
            <a:off x="3708360" y="1268280"/>
            <a:ext cx="4213440" cy="3144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:\DCIM\115_FUJI\DSCF5673.JPG"/>
          <p:cNvPicPr/>
          <p:nvPr/>
        </p:nvPicPr>
        <p:blipFill>
          <a:blip r:embed="rId2"/>
          <a:stretch/>
        </p:blipFill>
        <p:spPr>
          <a:xfrm>
            <a:off x="225360" y="3645000"/>
            <a:ext cx="3970440" cy="2965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250920" y="40464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и с удовольствием принимают участие в играх-драматизациях по содержанию литературных произ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Users\Алсу\Desktop\фото кмо\DSCF6896.jpg"/>
          <p:cNvPicPr/>
          <p:nvPr/>
        </p:nvPicPr>
        <p:blipFill>
          <a:blip r:embed="rId1"/>
          <a:stretch/>
        </p:blipFill>
        <p:spPr>
          <a:xfrm>
            <a:off x="468360" y="2781360"/>
            <a:ext cx="4000320" cy="3214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Алсу\Desktop\фото кмо\DSCF6899.jpg"/>
          <p:cNvPicPr/>
          <p:nvPr/>
        </p:nvPicPr>
        <p:blipFill>
          <a:blip r:embed="rId2"/>
          <a:stretch/>
        </p:blipFill>
        <p:spPr>
          <a:xfrm>
            <a:off x="4643280" y="836640"/>
            <a:ext cx="428652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299880" y="356760"/>
            <a:ext cx="85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частие родителей на театрализованных постанов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G:\DCIM\117_FUJI\DSCF7096.JPG"/>
          <p:cNvPicPr/>
          <p:nvPr/>
        </p:nvPicPr>
        <p:blipFill>
          <a:blip r:embed="rId1"/>
          <a:stretch/>
        </p:blipFill>
        <p:spPr>
          <a:xfrm>
            <a:off x="4859280" y="620640"/>
            <a:ext cx="4105440" cy="28796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G:\DCIM\117_FUJI\DSCF7093.JPG"/>
          <p:cNvPicPr/>
          <p:nvPr/>
        </p:nvPicPr>
        <p:blipFill>
          <a:blip r:embed="rId2"/>
          <a:stretch/>
        </p:blipFill>
        <p:spPr>
          <a:xfrm>
            <a:off x="2343240" y="364500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Алсу\Desktop\фото кмо\SDC10372.JPG"/>
          <p:cNvPicPr/>
          <p:nvPr/>
        </p:nvPicPr>
        <p:blipFill>
          <a:blip r:embed="rId3"/>
          <a:stretch/>
        </p:blipFill>
        <p:spPr>
          <a:xfrm>
            <a:off x="250920" y="620640"/>
            <a:ext cx="42210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3:49:00Z</dcterms:created>
  <dc:creator>User</dc:creator>
  <dc:description/>
  <dc:language>en-US</dc:language>
  <cp:lastModifiedBy>админ</cp:lastModifiedBy>
  <dcterms:modified xsi:type="dcterms:W3CDTF">2017-05-11T15:02:16Z</dcterms:modified>
  <cp:revision>73</cp:revision>
  <dc:subject/>
  <dc:title>Слайд 1</dc:title>
</cp:coreProperties>
</file>