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3.png" ContentType="image/png"/>
  <Override PartName="/ppt/media/image7.jpeg" ContentType="image/jpeg"/>
  <Override PartName="/ppt/media/image11.png" ContentType="image/png"/>
  <Override PartName="/ppt/media/image12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e0ef">
            <a:alpha val="2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449000" y="417600"/>
            <a:ext cx="7443720" cy="25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5400" spc="-1" strike="noStrike">
                <a:solidFill>
                  <a:srgbClr val="44609e"/>
                </a:solidFill>
                <a:latin typeface="Calibri"/>
                <a:ea typeface="Arial"/>
              </a:rPr>
              <a:t>Учебно-методический комплект «Школа России»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223960" y="5886360"/>
            <a:ext cx="4681800" cy="16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ru-RU" sz="2400" spc="-1" strike="noStrike">
              <a:solidFill>
                <a:srgbClr val="44609e"/>
              </a:solidFill>
              <a:latin typeface="Calibri"/>
            </a:endParaRPr>
          </a:p>
        </p:txBody>
      </p:sp>
      <p:pic>
        <p:nvPicPr>
          <p:cNvPr id="400" name="Picture 2" descr="http://svoyputcentr.ru/uploads/images/metodichka.png"/>
          <p:cNvPicPr/>
          <p:nvPr/>
        </p:nvPicPr>
        <p:blipFill>
          <a:blip r:embed="rId1"/>
          <a:stretch/>
        </p:blipFill>
        <p:spPr>
          <a:xfrm>
            <a:off x="-341280" y="2417760"/>
            <a:ext cx="586728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Рисунок 1" descr=""/>
          <p:cNvPicPr/>
          <p:nvPr/>
        </p:nvPicPr>
        <p:blipFill>
          <a:blip r:embed="rId1"/>
          <a:srcRect l="0" t="7899" r="0" b="0"/>
          <a:stretch/>
        </p:blipFill>
        <p:spPr>
          <a:xfrm>
            <a:off x="-50760" y="0"/>
            <a:ext cx="995688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Прямоугольник 1"/>
          <p:cNvSpPr/>
          <p:nvPr/>
        </p:nvSpPr>
        <p:spPr>
          <a:xfrm>
            <a:off x="0" y="0"/>
            <a:ext cx="96836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рабочих программах определены цели начального обучения по всем предметным линиям; рассмотрены подходы к структурированию учебного материала и к организации деятельности учащихся; представлены результаты изучения предметов, основное содержание курсов, тематическое планирование с характеристикой основных видов деятельности учащихся; дано описание материально-технического обеспече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2" name="Picture 4" descr="http://900igr.net/datai/literatura/Uchebniki-po-literaturnomu-chteniju/0001-001-Federalnyj-gosudarstvennyj-obrazovatelnyj-standart-nachalnogo.png"/>
          <p:cNvPicPr/>
          <p:nvPr/>
        </p:nvPicPr>
        <p:blipFill>
          <a:blip r:embed="rId1"/>
          <a:stretch/>
        </p:blipFill>
        <p:spPr>
          <a:xfrm>
            <a:off x="4673520" y="2378160"/>
            <a:ext cx="5010120" cy="43671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Прямоугольник 2"/>
          <p:cNvSpPr/>
          <p:nvPr/>
        </p:nvSpPr>
        <p:spPr>
          <a:xfrm>
            <a:off x="104760" y="0"/>
            <a:ext cx="9801360" cy="67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цепц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им из наиболее известных в стране проектов издательства «Просвещение» является учебно-методический комплекс (УМК) для начальных классов «Школа России». УМК «Школа России» построен на единых для всех учебных предметов основополагающих принципах, имеет полное программно-методическое сопровождение и гарантирует преемственность с дошкольным образование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дущая целевая установка и основные средства ее реализации, заложенные в основу УМК «Школа России», направлены на обеспечение современного образования младшего школьника в контексте требований ФГОС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щным образовательным ресурсом является информационно-образовательная среда УМК «Школа России» включающая: концепцию, рабочие программы, систему учебников, составляющих ядро ИОС, а также мощную методическую оболочку, разнообразные электронные и интернет-ресурс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Picture 2" descr="http://school615.ucoz.ru/dla/schoolrussia.png"/>
          <p:cNvPicPr/>
          <p:nvPr/>
        </p:nvPicPr>
        <p:blipFill>
          <a:blip r:embed="rId1"/>
          <a:stretch/>
        </p:blipFill>
        <p:spPr>
          <a:xfrm>
            <a:off x="444600" y="-42840"/>
            <a:ext cx="9091440" cy="69008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Прямоугольник 1"/>
          <p:cNvSpPr/>
          <p:nvPr/>
        </p:nvSpPr>
        <p:spPr>
          <a:xfrm>
            <a:off x="0" y="-117360"/>
            <a:ext cx="9761400" cy="676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</a:t>
            </a:r>
            <a:r>
              <a:rPr b="1" lang="ru-RU" sz="23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Русский язык.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збука. Авторы: Горецкий В.Г., Кирюшкин В.А., Виноградская Л.А. и др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сский язык. Авторы: Канакина В.П., Горецкий В.Г.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- Литературное чтение. 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ры: Климанова Л.Ф., Горецкий В.Г., Голованова М.В. и др.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Математика.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Авторы: Моро М.И., Волкова С.И., Степанова С.В., Бантова М.А., Бельтюкова Г.В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Информатика 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3-4 классы). Авторы: Семенов А.Л., Рудченко Т.А. 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ружающий мир. 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р: Плешаков А.А., Крючкова Е.А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Изобразительное искусство. 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ры: Неменская Л.А., Коротеева Е.И., Горяева Н.А., Питерских А.С. и др.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Музыка. 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ры: Критская Е.Д., Сергеева Г.П., Шмагина Т.С. (Учебники могут использоваться в составе систем учебников «Перспектива» и «Школа России»).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Технология. Авторы: Лутцева Е.А., Зуева Т.П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Физическая культура. Автор: Лях В.И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Физическая культура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Авторы: Винер И.А., Горбулина Н.М., Цыганкова О.Д. (Учебники могут использоваться в составе систем учебников «Школа России» и «Перспектива»).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Прямоугольник 1"/>
          <p:cNvSpPr/>
          <p:nvPr/>
        </p:nvSpPr>
        <p:spPr>
          <a:xfrm>
            <a:off x="182520" y="235080"/>
            <a:ext cx="97236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d0d0d"/>
                </a:solidFill>
                <a:uFillTx/>
                <a:latin typeface="Times New Roman"/>
                <a:ea typeface="Times New Roman"/>
              </a:rPr>
              <a:t>- Основы религиозных культур и светской этики (ОРКСЭ) (4 класс)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Учебники могут использоваться в составе систем учебников «Школа России» и «Перспектива»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КСЭ. Основы православной культуры. Автор: Кураев А.В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КСЭ. Основы исламской культуры. Авторы: Латышина Д.И., Муртазин М.Ф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КСЭ. Основы иудейской культуры. Авторы: Членов М.А., Миндрина Г.А., Глоцер А.В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КСЭ. Основы буддийской культуры. Автор: Чимитдоржиев В.Л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КСЭ. Основы мировых религиозных культур. Авторы: Беглов А.Л., Саплина Е.В., Токарева Е.С. и др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КСЭ. Основы светской этики. Автор: Шемшурина А.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Прямоугольник 1"/>
          <p:cNvSpPr/>
          <p:nvPr/>
        </p:nvSpPr>
        <p:spPr>
          <a:xfrm>
            <a:off x="92160" y="55440"/>
            <a:ext cx="9221760" cy="67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учебники программы «Школа России», не вошедшие в новый перечень, входили в Федеральные перечни учебников, рекомендованных или допущенных Минобрнауки России к использованию в образовательном процессе в общеобразовательных учреждениях, на 2013/2014 учебный год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d0d0d"/>
                </a:solidFill>
                <a:latin typeface="Calibri"/>
              </a:rPr>
              <a:t>Изучение иностранных языков по следующим УМК издательства «Просвещение»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- Английский язык «Английский в фокусе»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(«Spotlight») (1-4 классы). Авторы: Быкова Н.И., Дули Д., Поспелова М.Д., Эванс В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- Английский язык «Звездный английский»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(«Starlight») (углубленное изучение: 1-4 классы). Авторы: Баранова К.М., Дули Д., Копылова В.В., Мильруд Р.П., Эванс В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- Английский язык (2-4 классы).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Авторы: Кузовлев В.П., Перегудова Э.Ш., Пастухова С.А., Лапа Н.М., Костина И.П., Дуванова О.В.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- Английский язык (углубленное изучение: 2-4 классы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). Авторы: Верещагина И.Н., Бондаренко К.А., Притыкина Т.А., Афанасьева О.В.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- Немецкий язык (2-4 классы).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Авторы: Бим И.Л., Рыжова Л.И., Фомичева Л.М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- Французский язык «Твой друг французский язык» (2-4 классы).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Авторы: Кулигина А.С., Кирьянова М.Г.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- Французский язык «Французский в перспективе» (углубленное изучение: 2-4 классы).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Авторы: Касаткина Н.М., Белосельская Т.В., Гусева А.В., Береговская Э.М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- Испанский язык.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Авторы: Воинова А.А., Бухарова Ю.А., Морено К.В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Прямоугольник 1"/>
          <p:cNvSpPr/>
          <p:nvPr/>
        </p:nvSpPr>
        <p:spPr>
          <a:xfrm>
            <a:off x="0" y="0"/>
            <a:ext cx="569592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ополагающие принципы УМК «Школа России»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цип воспитания гражданина России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цип ценностных ориентиров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цип экоадекватного характера образования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цип обучения в деятельности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цип работы на результат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цип синтеза традиций и инноваций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цип глобальной ориентации образования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цип вариативност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9" name="Picture 2" descr="https://pp.vk.me/c618130/v618130172/db46/V07Pahh6xX0.jpg"/>
          <p:cNvPicPr/>
          <p:nvPr/>
        </p:nvPicPr>
        <p:blipFill>
          <a:blip r:embed="rId1"/>
          <a:stretch/>
        </p:blipFill>
        <p:spPr>
          <a:xfrm>
            <a:off x="5667480" y="182520"/>
            <a:ext cx="4048200" cy="57531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Прямоугольник 1"/>
          <p:cNvSpPr/>
          <p:nvPr/>
        </p:nvSpPr>
        <p:spPr>
          <a:xfrm>
            <a:off x="69840" y="0"/>
            <a:ext cx="98362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бно-методический комплекс «Школа России» сегодня - это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щный потенциал для духовно-нравственного развития и воспитания личности гражданина России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льная возможность достижения личностных, метапредметных и предметных результатов, соответствующих задачам современного образования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ффективное сочетание лучших традиций российского образования и проверенных практиками образовательного процесса инноваций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оянно обновляющаяся, наиболее востребованная и понятная учителю образовательная система для начальной школ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2-06T18:43:33Z</dcterms:created>
  <dc:creator/>
  <dc:description/>
  <dc:language>en-US</dc:language>
  <cp:lastModifiedBy/>
  <dcterms:modified xsi:type="dcterms:W3CDTF">2017-05-03T17:54:57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19AC5EAA778EFE4AB81F53BA0C48C9BB</vt:lpwstr>
  </property>
  <property fmtid="{D5CDD505-2E9C-101B-9397-08002B2CF9AE}" pid="3" name="_ip_UnifiedCompliancePolicyProperties">
    <vt:lpwstr/>
  </property>
  <property fmtid="{D5CDD505-2E9C-101B-9397-08002B2CF9AE}" pid="4" name="_ip_UnifiedCompliancePolicyUIAction">
    <vt:lpwstr/>
  </property>
</Properties>
</file>